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BD1-959F-4CB1-9AD5-4A039655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248-00EE-43CB-83C0-0D5803D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921-0B5E-41F0-AB6F-1C782009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0F1-0F73-4916-8075-D29C6F32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43FE-FF6A-4CD0-8A70-D6C10895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A7BB-F1E5-4532-97D2-019D42A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B92-8EBD-4D30-A5D2-40101D47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349C-4B1F-4DEF-9E1E-832983D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A873-A25C-49A0-81E7-942F514E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1D38-B7E7-4207-9D17-DE18F74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E02-E62F-4A15-A698-22105E6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6E1-633E-42A1-B344-AE38509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E73F-8EA2-4650-A1BB-6AC16F8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75D3-6904-4295-A13A-77DC9AB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BCC9-D31E-41AC-9458-DA5FA586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E70D-6973-4160-8F10-06EEB14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2B45-4D58-48D8-BAE2-2268161F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768-FCDF-4E3A-95DF-84DCEA1C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E0-0ED7-4643-A839-08E843EC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274-9DEA-495C-A6BA-CD05AB9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CD2-D014-4B1B-BED4-21D0F7B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95-B674-4D06-A165-618B430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17A-4D3A-4981-89A7-2378596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CFB-7213-4284-B002-AA4E6DF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344-0F0C-4809-8558-6A052E2466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9ECC-384C-4B4A-A6A2-B91400409F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90236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ладимир – город-меч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полняла ученица 9 класса Боброва Елизаве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итель Белякова Светлана Анатол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Монумент в честь 850-летия Владими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IMG_0436"/>
          <p:cNvPicPr/>
          <p:nvPr/>
        </p:nvPicPr>
        <p:blipFill>
          <a:blip r:embed="rId1"/>
          <a:stretch/>
        </p:blipFill>
        <p:spPr>
          <a:xfrm>
            <a:off x="1332000" y="1989000"/>
            <a:ext cx="70596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Конец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т и подошёл конец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ладимир – замечательный , красивый , чистый город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десь масса архитектурных произведений 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десь можно найти всё что бы расширить свой кругозор в области искусств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 советую всем посетить этот замечательный город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ВЛАДИМИР-город мечта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6" descr="Золотые ворота во Владимире"/>
          <p:cNvPicPr/>
          <p:nvPr/>
        </p:nvPicPr>
        <p:blipFill>
          <a:blip r:embed="rId1"/>
          <a:stretch/>
        </p:blipFill>
        <p:spPr>
          <a:xfrm>
            <a:off x="900000" y="1844640"/>
            <a:ext cx="65534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Tahoma"/>
              </a:rPr>
              <a:t>Золотые воро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10" descr="300px-Vladimir_gate_04_08_2005"/>
          <p:cNvPicPr/>
          <p:nvPr/>
        </p:nvPicPr>
        <p:blipFill>
          <a:blip r:embed="rId1"/>
          <a:stretch/>
        </p:blipFill>
        <p:spPr>
          <a:xfrm>
            <a:off x="250920" y="1773360"/>
            <a:ext cx="3960720" cy="3456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4427640" y="1910880"/>
            <a:ext cx="460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Золотые ворота (1164 г.)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- редчайший памятник русского военного зодчества времени возвышения Владимирского княжества при Андрее Боголюбском и роста стольного города Владимира. Золотые ворота включались в западную линию городских валов, сооруженных в 1158-1164 гг. княжескими градодельцами. Валы, примыкавшие с боков к массиву ворот, были рассыпаны в XVIII в. для устройства объездов; по углам ворот появились круглые ложноготические башни с пристройками между ними, свод ворот и церковь над ним тогда же были переложены. Однако и теперь ясно ощущаются первоначальные формы и величие архитектуры Золотых ворот.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Подобные Золотым белокаменные Серебряные ворота стояли на противоположном восточном конце крепости. Они отмечали главную ось городского ансамбля – продольную улицу. Остальные семь ворот-башен города были деревянные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Tahoma"/>
              </a:rPr>
              <a:t>Успенский собор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Picture 5" descr="Успенский собор во Владимире"/>
          <p:cNvPicPr/>
          <p:nvPr/>
        </p:nvPicPr>
        <p:blipFill>
          <a:blip r:embed="rId1"/>
          <a:stretch/>
        </p:blipFill>
        <p:spPr>
          <a:xfrm>
            <a:off x="250920" y="2565360"/>
            <a:ext cx="3706560" cy="295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873600" y="1805040"/>
            <a:ext cx="52704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Успенский собор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, расположенный на высоком краю городского холма над рекой, был крупнейшей постройкой и центром архитектурного ансамбля древнего Владимира, становящегося с 1158 г. центром сильного княжества, вступившего в борьбу за господство на русской земле. Обстраивая свою столицу, князь Андрей Боголюбский стремился соперничать со славой «матери градов русских» - Киева. Он всячески подчеркивал общерусское значение нового храма. Успенский собор был выше киевского Софийского собора. Первоначальное здание собора (1158-1160 гг.) пострадало от пожара в 1185 г. и было обстроено с трех сторон галереями. Старый собор оказался внутри нового. Его фасады с украшенным фресками колончатым поясом и стройными щелевидными окнами видны изнутри галерей. Некоторые из сохранившихся резных камней с его фасадов были перенесены на стены галереи. Собор был одноглавым с обширными хорами в западной части. Его интерьер, сверкавший драгоценной утварью и красочной росписью, был богато освещен и праздничен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Tahoma"/>
              </a:rPr>
              <a:t>Дмитриевский собо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4" descr="Дмитриевский собор во Владимире"/>
          <p:cNvPicPr/>
          <p:nvPr/>
        </p:nvPicPr>
        <p:blipFill>
          <a:blip r:embed="rId1"/>
          <a:stretch/>
        </p:blipFill>
        <p:spPr>
          <a:xfrm>
            <a:off x="971640" y="191628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5076720" y="1733760"/>
            <a:ext cx="3770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митриевский собо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1193-1197 гг.) был центральным зданием не сохранившегося до наших дней ансамбля дворца князя Всеволода Большое Гнездо, располагавшегося на высокой южной кромке городского холма. Первоначально собор опоясывали галереи, а к углам примыкали пристройки в виде башен с лестницей для входа на хоры и переходы к дворцу.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сводах, под хорами собора, сохранились замечательные фрагменты фресковой росписи XII в. («Страшный суд»), исполненной большой артелью живописцев во главе с выдающимся греческим мастером и его даровитым русским учеником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Водонапорная башн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Водонапорная башня во Владимире"/>
          <p:cNvPicPr/>
          <p:nvPr/>
        </p:nvPicPr>
        <p:blipFill>
          <a:blip r:embed="rId1"/>
          <a:stretch/>
        </p:blipFill>
        <p:spPr>
          <a:xfrm>
            <a:off x="900000" y="2060640"/>
            <a:ext cx="2880000" cy="3672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081320" y="1912320"/>
            <a:ext cx="50626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Водонапорная башня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расположенная на древнем валу вблизи Золотых ворот была построена в 1912 году. Это интересное здание, построенное из красного кирпича в псевдоготическом стиле - один из примеров городской хозяйственной постройки, характерной для градостроительства конца XIX века. В середине 50-х годов прошлого века, в связи с реконструкцией водонапорной системы города Владимира, башня утратила свое утилитарное назначение. В 1975 году здание водонапорной башни было реконструировано и приспособлено под музей. В настоящее время здесь действует музейная экспозиция «Старый Владимир». Наверху башни, где помещался резервуар, устроена смотровая площадка с невысоким шатром. Со смотровой площадки открывается великолепный вид на панораму города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Торговые ряды во Владимир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4" descr="Торговые ряды во Владимире"/>
          <p:cNvPicPr/>
          <p:nvPr/>
        </p:nvPicPr>
        <p:blipFill>
          <a:blip r:embed="rId1"/>
          <a:stretch/>
        </p:blipFill>
        <p:spPr>
          <a:xfrm>
            <a:off x="971640" y="2276640"/>
            <a:ext cx="3827520" cy="3384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788000" y="2090520"/>
            <a:ext cx="3900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Строительство торговых рядов во Владимире было начато в 1787 году на средства владимирских купцов. Им была придана форма замкнутого четырехугольника с большой открытой хозяйственной площадью внутри. Снаружи ряды представляли собой крытые галереи в виде аркады, за которой находились торговые помещения. До наших дней сохранилась только южная линия, причем в перестроенном виде. В декабре 2006 года был открыт торговый комплекс Северные торговые ряды. Четыре этажа общей площадью 30 тысяч квадратных метров, стеклянная крыша, паркинг на 750 мест, в том числе и подземный. Комплекс открыт каждый день с 10 утра до 10 вечера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Владимирский центра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Picture 4" descr="Владимирский централ"/>
          <p:cNvPicPr/>
          <p:nvPr/>
        </p:nvPicPr>
        <p:blipFill>
          <a:blip r:embed="rId1"/>
          <a:stretch/>
        </p:blipFill>
        <p:spPr>
          <a:xfrm>
            <a:off x="826920" y="242100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572000" y="1780200"/>
            <a:ext cx="426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ладимирский централ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- знаменитая на всю Россию тюрьма с богатой историей. Тюрьма построена в 1783 году по указу Екатерины II. Централом (центральной тюрьмой) она стала называться в 1906 году. В настоящее время в ней отбывают наказание особо опасные преступники. Не менее известна в стране и песня «Владимирский централ» в исполнении Михаила Круга. В 1996 году на территории тюрьмы открыт музей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Первая городская больница Владими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Первая городская больница Владимира"/>
          <p:cNvPicPr/>
          <p:nvPr/>
        </p:nvPicPr>
        <p:blipFill>
          <a:blip r:embed="rId1"/>
          <a:stretch/>
        </p:blipFill>
        <p:spPr>
          <a:xfrm>
            <a:off x="1332000" y="1989000"/>
            <a:ext cx="3311280" cy="468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788000" y="1732320"/>
            <a:ext cx="3806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ание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вой городской больниц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о Владимире, являющееся памятником архитектуры, было заложено 26 сентября 1913 года. Построено по проекту архитектора Л.М. Шерера, на средства Владимирского отделения Красного Креста и добровольные пожертвования. Больница была открыта 14 ноября 1914 года. Во время Первой Мировой войны, а также Гражданской, в здании располагался военный госпиталь, а в годы Великой Отечественной войны - эвакогоспиталь. В настоящее время здание используется, как хирургическое отделение клинической больницы скор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11:49Z</dcterms:created>
  <dc:creator>Admin</dc:creator>
  <dc:description/>
  <dc:language>en-US</dc:language>
  <cp:lastModifiedBy>1</cp:lastModifiedBy>
  <dcterms:modified xsi:type="dcterms:W3CDTF">2013-04-29T13:32:11Z</dcterms:modified>
  <cp:revision>4</cp:revision>
  <dc:subject/>
  <dc:title>ВЛАДИМИР-город мечта.</dc:title>
</cp:coreProperties>
</file>