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D06D-F1DA-4AF9-9B3C-CC8CE77B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354-DDE1-46A0-B758-83A0304F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EF4-0122-4ABA-83CD-5B7FD461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70E-88C2-4831-BFB6-241EB056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BA63-C67D-40CE-9952-095337ED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BFBE-5726-4229-9290-EDFCFB2C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9698-7900-4931-989D-7A27C5EC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8B0E-461C-448F-9A70-3DB597E8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524D-AAC5-4FAD-9CE3-57CA9646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421E-4A84-4DC8-AA2B-257D263F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EB36-49B2-4561-AD4F-4A684698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74C-2EF7-45F3-BF87-04A9BC10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9638-B7DF-4200-9E0D-27D78926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B779-36B2-4B2D-9930-E936C785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61D7-8B29-4A6D-9AAB-4EF59828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1176-FBAA-4752-AB84-0D1FCC44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41AC-06FB-47BE-AA18-DCDD1034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8C9-70BC-45D5-9DF5-280BB124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D96-AECD-4CF3-93E4-DB9DA8DB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840-FB38-4ADC-88F9-5E5F2FB9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A83-E012-41FB-99B2-51D781E6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C47-58BD-4B0C-8F91-DEED44D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B43-60E4-449D-AC04-4634A662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239-9A99-4F72-88C8-D171842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D1D9-3C8E-4958-BD52-C555227B62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320E-78C1-43AD-9690-8BFDBFF1C9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902360" cy="266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Владимир – город-мечт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полняла ученица 9 класса Боброва Елизаве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уководитель Белякова Светлана Анатольев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ahoma"/>
              </a:rPr>
              <a:t>Монумент в честь 850-летия Владимир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5" descr="IMG_0436"/>
          <p:cNvPicPr/>
          <p:nvPr/>
        </p:nvPicPr>
        <p:blipFill>
          <a:blip r:embed="rId1"/>
          <a:stretch/>
        </p:blipFill>
        <p:spPr>
          <a:xfrm>
            <a:off x="1332000" y="1989000"/>
            <a:ext cx="70596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aeaea"/>
                </a:solidFill>
                <a:latin typeface="Tahoma"/>
              </a:rPr>
              <a:t>Конец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от и подошёл конец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Владимир – замечательный , красивый , чистый город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Здесь масса архитектурных произведений 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здесь можно найти всё что бы расширить свой кругозор в области искусства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Я советую всем посетить этот замечательный город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3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4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8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8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6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ВЛАДИМИР-город мечта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2" name="Picture 6" descr="Золотые ворота во Владимире"/>
          <p:cNvPicPr/>
          <p:nvPr/>
        </p:nvPicPr>
        <p:blipFill>
          <a:blip r:embed="rId1"/>
          <a:stretch/>
        </p:blipFill>
        <p:spPr>
          <a:xfrm>
            <a:off x="900000" y="1844640"/>
            <a:ext cx="655344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ff"/>
                </a:solidFill>
                <a:latin typeface="Tahoma"/>
              </a:rPr>
              <a:t>Золотые ворот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10" descr="300px-Vladimir_gate_04_08_2005"/>
          <p:cNvPicPr/>
          <p:nvPr/>
        </p:nvPicPr>
        <p:blipFill>
          <a:blip r:embed="rId1"/>
          <a:stretch/>
        </p:blipFill>
        <p:spPr>
          <a:xfrm>
            <a:off x="250920" y="1773360"/>
            <a:ext cx="3960720" cy="3456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1"/>
          <p:cNvSpPr/>
          <p:nvPr/>
        </p:nvSpPr>
        <p:spPr>
          <a:xfrm>
            <a:off x="4427640" y="1910880"/>
            <a:ext cx="46083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Золотые ворота (1164 г.)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- редчайший памятник русского военного зодчества времени возвышения Владимирского княжества при Андрее Боголюбском и роста стольного города Владимира. Золотые ворота включались в западную линию городских валов, сооруженных в 1158-1164 гг. княжескими градодельцами. Валы, примыкавшие с боков к массиву ворот, были рассыпаны в XVIII в. для устройства объездов; по углам ворот появились круглые ложноготические башни с пристройками между ними, свод ворот и церковь над ним тогда же были переложены. Однако и теперь ясно ощущаются первоначальные формы и величие архитектуры Золотых ворот.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Подобные Золотым белокаменные Серебряные ворота стояли на противоположном восточном конце крепости. Они отмечали главную ось городского ансамбля – продольную улицу. Остальные семь ворот-башен города были деревянные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i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ff"/>
                </a:solidFill>
                <a:latin typeface="Tahoma"/>
              </a:rPr>
              <a:t>Успенский собор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Picture 5" descr="Успенский собор во Владимире"/>
          <p:cNvPicPr/>
          <p:nvPr/>
        </p:nvPicPr>
        <p:blipFill>
          <a:blip r:embed="rId1"/>
          <a:stretch/>
        </p:blipFill>
        <p:spPr>
          <a:xfrm>
            <a:off x="250920" y="2565360"/>
            <a:ext cx="3706560" cy="2951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3873600" y="1805040"/>
            <a:ext cx="52704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Успенский собор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, расположенный на высоком краю городского холма над рекой, был крупнейшей постройкой и центром архитектурного ансамбля древнего Владимира, становящегося с 1158 г. центром сильного княжества, вступившего в борьбу за господство на русской земле. Обстраивая свою столицу, князь Андрей Боголюбский стремился соперничать со славой «матери градов русских» - Киева. Он всячески подчеркивал общерусское значение нового храма. Успенский собор был выше киевского Софийского собора. Первоначальное здание собора (1158-1160 гг.) пострадало от пожара в 1185 г. и было обстроено с трех сторон галереями. Старый собор оказался внутри нового. Его фасады с украшенным фресками колончатым поясом и стройными щелевидными окнами видны изнутри галерей. Некоторые из сохранившихся резных камней с его фасадов были перенесены на стены галереи. Собор был одноглавым с обширными хорами в западной части. Его интерьер, сверкавший драгоценной утварью и красочной росписью, был богато освещен и праздничен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ff"/>
                </a:solidFill>
                <a:latin typeface="Tahoma"/>
              </a:rPr>
              <a:t>Дмитриевский собор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0" name="Picture 4" descr="Дмитриевский собор во Владимире"/>
          <p:cNvPicPr/>
          <p:nvPr/>
        </p:nvPicPr>
        <p:blipFill>
          <a:blip r:embed="rId1"/>
          <a:stretch/>
        </p:blipFill>
        <p:spPr>
          <a:xfrm>
            <a:off x="971640" y="1916280"/>
            <a:ext cx="313524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5076720" y="1733760"/>
            <a:ext cx="37702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митриевский собор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1193-1197 гг.) был центральным зданием не сохранившегося до наших дней ансамбля дворца князя Всеволода Большое Гнездо, располагавшегося на высокой южной кромке городского холма. Первоначально собор опоясывали галереи, а к углам примыкали пристройки в виде башен с лестницей для входа на хоры и переходы к дворцу.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сводах, под хорами собора, сохранились замечательные фрагменты фресковой росписи XII в. («Страшный суд»), исполненной большой артелью живописцев во главе с выдающимся греческим мастером и его даровитым русским учеником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ahoma"/>
              </a:rPr>
              <a:t>Водонапорная башня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5" descr="Водонапорная башня во Владимире"/>
          <p:cNvPicPr/>
          <p:nvPr/>
        </p:nvPicPr>
        <p:blipFill>
          <a:blip r:embed="rId1"/>
          <a:stretch/>
        </p:blipFill>
        <p:spPr>
          <a:xfrm>
            <a:off x="900000" y="2060640"/>
            <a:ext cx="2880000" cy="3672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4081320" y="1912320"/>
            <a:ext cx="50626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Водонапорная башня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расположенная на древнем валу вблизи Золотых ворот была построена в 1912 году. Это интересное здание, построенное из красного кирпича в псевдоготическом стиле - один из примеров городской хозяйственной постройки, характерной для градостроительства конца XIX века. В середине 50-х годов прошлого века, в связи с реконструкцией водонапорной системы города Владимира, башня утратила свое утилитарное назначение. В 1975 году здание водонапорной башни было реконструировано и приспособлено под музей. В настоящее время здесь действует музейная экспозиция «Старый Владимир». Наверху башни, где помещался резервуар, устроена смотровая площадка с невысоким шатром. Со смотровой площадки открывается великолепный вид на панораму города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ahoma"/>
              </a:rPr>
              <a:t>Торговые ряды во Владимир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4" descr="Торговые ряды во Владимире"/>
          <p:cNvPicPr/>
          <p:nvPr/>
        </p:nvPicPr>
        <p:blipFill>
          <a:blip r:embed="rId1"/>
          <a:stretch/>
        </p:blipFill>
        <p:spPr>
          <a:xfrm>
            <a:off x="971640" y="2276640"/>
            <a:ext cx="3827520" cy="3384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4788000" y="2090520"/>
            <a:ext cx="39002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Строительство торговых рядов во Владимире было начато в 1787 году на средства владимирских купцов. Им была придана форма замкнутого четырехугольника с большой открытой хозяйственной площадью внутри. Снаружи ряды представляли собой крытые галереи в виде аркады, за которой находились торговые помещения. До наших дней сохранилась только южная линия, причем в перестроенном виде. В декабре 2006 года был открыт торговый комплекс Северные торговые ряды. Четыре этажа общей площадью 30 тысяч квадратных метров, стеклянная крыша, паркинг на 750 мест, в том числе и подземный. Комплекс открыт каждый день с 10 утра до 10 вечера </a:t>
            </a:r>
            <a:endParaRPr b="0" i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ahoma"/>
              </a:rPr>
              <a:t>Владимирский центра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9" name="Picture 4" descr="Владимирский централ"/>
          <p:cNvPicPr/>
          <p:nvPr/>
        </p:nvPicPr>
        <p:blipFill>
          <a:blip r:embed="rId1"/>
          <a:stretch/>
        </p:blipFill>
        <p:spPr>
          <a:xfrm>
            <a:off x="826920" y="242100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4572000" y="1780200"/>
            <a:ext cx="4268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Владимирский централ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- знаменитая на всю Россию тюрьма с богатой историей. Тюрьма построена в 1783 году по указу Екатерины II. Централом (центральной тюрьмой) она стала называться в 1906 году. В настоящее время в ней отбывают наказание особо опасные преступники. Не менее известна в стране и песня «Владимирский централ» в исполнении Михаила Круга. В 1996 году на территории тюрьмы открыт музей 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1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ahoma"/>
              </a:rPr>
              <a:t>Первая городская больница Владимир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4" descr="Первая городская больница Владимира"/>
          <p:cNvPicPr/>
          <p:nvPr/>
        </p:nvPicPr>
        <p:blipFill>
          <a:blip r:embed="rId1"/>
          <a:stretch/>
        </p:blipFill>
        <p:spPr>
          <a:xfrm>
            <a:off x="1332000" y="1989000"/>
            <a:ext cx="3311280" cy="4680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4788000" y="1732320"/>
            <a:ext cx="38066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дание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ервой городской больниц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о Владимире, являющееся памятником архитектуры, было заложено 26 сентября 1913 года. Построено по проекту архитектора Л.М. Шерера, на средства Владимирского отделения Красного Креста и добровольные пожертвования. Больница была открыта 14 ноября 1914 года. Во время Первой Мировой войны, а также Гражданской, в здании располагался военный госпиталь, а в годы Великой Отечественной войны - эвакогоспиталь. В настоящее время здание используется, как хирургическое отделение клинической больницы скорой помощ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0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5:11:49Z</dcterms:created>
  <dc:creator>Admin</dc:creator>
  <dc:description/>
  <dc:language>en-US</dc:language>
  <cp:lastModifiedBy>1</cp:lastModifiedBy>
  <dcterms:modified xsi:type="dcterms:W3CDTF">2013-04-29T13:32:11Z</dcterms:modified>
  <cp:revision>4</cp:revision>
  <dc:subject/>
  <dc:title>ВЛАДИМИР-город мечта.</dc:title>
</cp:coreProperties>
</file>