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.gif" ContentType="image/gif"/>
  <Override PartName="/ppt/media/image13.png" ContentType="image/png"/>
  <Override PartName="/ppt/media/image8.png" ContentType="image/png"/>
  <Override PartName="/ppt/media/image18.jpeg" ContentType="image/jpeg"/>
  <Override PartName="/ppt/media/image7.wmf" ContentType="image/x-wmf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9.jpeg" ContentType="image/jpeg"/>
  <Override PartName="/ppt/media/image5.wmf" ContentType="image/x-wmf"/>
  <Override PartName="/ppt/media/image6.wmf" ContentType="image/x-wmf"/>
  <Override PartName="/ppt/media/image11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1D7-CBA8-48D9-B0F0-5A531A48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990-99F4-420D-A147-2CA09DDB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385-143A-4365-BF20-E66FD9BC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990-2336-481B-88C8-59E9E943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A7B9-334C-4636-8BCB-EA53C8E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99F-7A72-45B7-BEAD-7CAD2B82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D7D-80FB-4A41-83ED-D5032921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A22-90A1-4BB1-8E23-5CBCB4A3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E3F-CEA7-4AF2-BF6E-36912073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E35-1819-43E6-8E66-FDCD3A5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93A-1CE3-4268-9C64-F51E94B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B43-C67C-4797-9EEE-DB2E581E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FF93-9672-4794-AD42-5812A4572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:\картиночки\картинки\ARROWS4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ласть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её ви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КОУ СОШ п. Снеж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гова Л.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D:\картиночки\картинки\AG00037_.GIF"/>
          <p:cNvPicPr/>
          <p:nvPr/>
        </p:nvPicPr>
        <p:blipFill>
          <a:blip r:embed="rId2"/>
          <a:stretch/>
        </p:blipFill>
        <p:spPr>
          <a:xfrm>
            <a:off x="5929200" y="4643280"/>
            <a:ext cx="108612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D:\картиночки\картинки\AGREE.WMF"/>
          <p:cNvPicPr/>
          <p:nvPr/>
        </p:nvPicPr>
        <p:blipFill>
          <a:blip r:embed="rId3"/>
          <a:stretch/>
        </p:blipFill>
        <p:spPr>
          <a:xfrm>
            <a:off x="3357720" y="5000760"/>
            <a:ext cx="1887480" cy="1447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D:\картиночки\картинки\AMBUSY.WMF"/>
          <p:cNvPicPr/>
          <p:nvPr/>
        </p:nvPicPr>
        <p:blipFill>
          <a:blip r:embed="rId4"/>
          <a:stretch/>
        </p:blipFill>
        <p:spPr>
          <a:xfrm>
            <a:off x="1403280" y="4292640"/>
            <a:ext cx="1251000" cy="1536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:\картиночки\картинки\AMDIRECT.WMF"/>
          <p:cNvPicPr/>
          <p:nvPr/>
        </p:nvPicPr>
        <p:blipFill>
          <a:blip r:embed="rId5"/>
          <a:stretch/>
        </p:blipFill>
        <p:spPr>
          <a:xfrm>
            <a:off x="857160" y="2071800"/>
            <a:ext cx="1355760" cy="165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D:\картиночки\картинки\AMMONEY.WMF"/>
          <p:cNvPicPr/>
          <p:nvPr/>
        </p:nvPicPr>
        <p:blipFill>
          <a:blip r:embed="rId6"/>
          <a:stretch/>
        </p:blipFill>
        <p:spPr>
          <a:xfrm>
            <a:off x="6715080" y="2928960"/>
            <a:ext cx="1971720" cy="1395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:\картиночки\картинки\EXAMINE.WMF"/>
          <p:cNvPicPr/>
          <p:nvPr/>
        </p:nvPicPr>
        <p:blipFill>
          <a:blip r:embed="rId7"/>
          <a:stretch/>
        </p:blipFill>
        <p:spPr>
          <a:xfrm>
            <a:off x="6786720" y="1428840"/>
            <a:ext cx="1047600" cy="112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Часть первая"/>
          <p:cNvPicPr/>
          <p:nvPr/>
        </p:nvPicPr>
        <p:blipFill>
          <a:blip r:embed="rId8"/>
          <a:stretch/>
        </p:blipFill>
        <p:spPr>
          <a:xfrm>
            <a:off x="155520" y="-1012680"/>
            <a:ext cx="1571760" cy="211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Штандарт президента Российской Федерации"/>
          <p:cNvPicPr/>
          <p:nvPr/>
        </p:nvPicPr>
        <p:blipFill>
          <a:blip r:embed="rId9"/>
          <a:srcRect l="14173" t="0" r="19744" b="0"/>
          <a:stretch/>
        </p:blipFill>
        <p:spPr>
          <a:xfrm>
            <a:off x="4429080" y="428760"/>
            <a:ext cx="1000080" cy="930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Герб Российской Федерации. Фото: © РИА Новости."/>
          <p:cNvPicPr/>
          <p:nvPr/>
        </p:nvPicPr>
        <p:blipFill>
          <a:blip r:embed="rId10"/>
          <a:srcRect l="18451" t="0" r="21581" b="0"/>
          <a:stretch/>
        </p:blipFill>
        <p:spPr>
          <a:xfrm>
            <a:off x="2071800" y="785880"/>
            <a:ext cx="9284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Фирдаус\Desktop\мои документы\ффк\обществознание\политич. власть\структура власти в РФ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7"/>
          <p:cNvSpPr/>
          <p:nvPr/>
        </p:nvSpPr>
        <p:spPr>
          <a:xfrm>
            <a:off x="285840" y="3643200"/>
            <a:ext cx="8572320" cy="3071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подготовка 1"/>
          <p:cNvSpPr/>
          <p:nvPr/>
        </p:nvSpPr>
        <p:spPr>
          <a:xfrm>
            <a:off x="1643040" y="214200"/>
            <a:ext cx="5214960" cy="612720"/>
          </a:xfrm>
          <a:prstGeom prst="flowChartPreparation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ель  разделения  вла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подготовка 2"/>
          <p:cNvSpPr/>
          <p:nvPr/>
        </p:nvSpPr>
        <p:spPr>
          <a:xfrm>
            <a:off x="2286000" y="3714840"/>
            <a:ext cx="4714920" cy="612720"/>
          </a:xfrm>
          <a:prstGeom prst="flowChartPreparation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зделение властей и их основны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подготовка 3"/>
          <p:cNvSpPr/>
          <p:nvPr/>
        </p:nvSpPr>
        <p:spPr>
          <a:xfrm>
            <a:off x="357120" y="2500200"/>
            <a:ext cx="8429760" cy="928800"/>
          </a:xfrm>
          <a:prstGeom prst="flowChartPreparation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Теория  разделения  вла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Дж. Локк,  Ш. Монтескь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Гамильтон,  Д. Мэдис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285840" y="857160"/>
            <a:ext cx="857232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отвратить  возвышение   одной  из  властей  над  другими,  утверждение  авторитаризма  и  диктаторского  режима  в  обществе;  предусмотреть  систему  «сдержек  и  противовесов»,  направленную  на  то,  чтобы  свести  к  минимуму  возможные  ошибки  в  управлоен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571680" y="4429080"/>
            <a:ext cx="1857240" cy="1271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одательная (парламен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едставляет интересы граждан, издаёт зако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3786120" y="4429080"/>
            <a:ext cx="1857600" cy="13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полнительная (правительств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правляет государственными де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6858000" y="4357800"/>
            <a:ext cx="1857240" cy="1571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удебная (судьи всех уровн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ледит за исполнением законов органами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>
            <a:off x="571680" y="4929120"/>
            <a:ext cx="1857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12"/>
          <p:cNvSpPr/>
          <p:nvPr/>
        </p:nvSpPr>
        <p:spPr>
          <a:xfrm>
            <a:off x="3786120" y="5000760"/>
            <a:ext cx="1857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3"/>
          <p:cNvSpPr/>
          <p:nvPr/>
        </p:nvSpPr>
        <p:spPr>
          <a:xfrm>
            <a:off x="6858000" y="5000760"/>
            <a:ext cx="18572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4"/>
          <p:cNvSpPr/>
          <p:nvPr/>
        </p:nvSpPr>
        <p:spPr>
          <a:xfrm>
            <a:off x="3357720" y="5943600"/>
            <a:ext cx="2643120" cy="55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6"/>
          <p:cNvCxnSpPr>
            <a:stCxn id="107" idx="0"/>
            <a:endCxn id="108" idx="2"/>
          </p:cNvCxnSpPr>
          <p:nvPr/>
        </p:nvCxnSpPr>
        <p:spPr>
          <a:xfrm flipV="1">
            <a:off x="4570560" y="2071440"/>
            <a:ext cx="360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4"/>
          <p:cNvSpPr/>
          <p:nvPr/>
        </p:nvSpPr>
        <p:spPr>
          <a:xfrm>
            <a:off x="2857680" y="214200"/>
            <a:ext cx="28573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точник 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2857680" y="928800"/>
            <a:ext cx="2857320" cy="1214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итет, сила, закон, богатство, знание, харизма, престиж, тайна, интерес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Скругленный прямоугольник 6" descr=""/>
          <p:cNvPicPr/>
          <p:nvPr/>
        </p:nvPicPr>
        <p:blipFill>
          <a:blip r:embed="rId1"/>
          <a:stretch/>
        </p:blipFill>
        <p:spPr>
          <a:xfrm>
            <a:off x="268200" y="2554200"/>
            <a:ext cx="1536840" cy="3249720"/>
          </a:xfrm>
          <a:prstGeom prst="rect">
            <a:avLst/>
          </a:prstGeom>
          <a:ln w="0">
            <a:noFill/>
          </a:ln>
        </p:spPr>
      </p:pic>
      <p:pic>
        <p:nvPicPr>
          <p:cNvPr id="56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2054160" y="2766960"/>
            <a:ext cx="1463760" cy="2322720"/>
          </a:xfrm>
          <a:prstGeom prst="rect">
            <a:avLst/>
          </a:prstGeom>
          <a:ln w="0">
            <a:noFill/>
          </a:ln>
        </p:spPr>
      </p:pic>
      <p:pic>
        <p:nvPicPr>
          <p:cNvPr id="57" name="Скругленный прямоугольник 8" descr=""/>
          <p:cNvPicPr/>
          <p:nvPr/>
        </p:nvPicPr>
        <p:blipFill>
          <a:blip r:embed="rId3"/>
          <a:stretch/>
        </p:blipFill>
        <p:spPr>
          <a:xfrm>
            <a:off x="4127400" y="2766960"/>
            <a:ext cx="1749600" cy="2822760"/>
          </a:xfrm>
          <a:prstGeom prst="rect">
            <a:avLst/>
          </a:prstGeom>
          <a:ln w="0">
            <a:noFill/>
          </a:ln>
        </p:spPr>
      </p:pic>
      <p:pic>
        <p:nvPicPr>
          <p:cNvPr id="58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6626160" y="2840040"/>
            <a:ext cx="1463760" cy="17510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12"/>
          <p:cNvSpPr/>
          <p:nvPr/>
        </p:nvSpPr>
        <p:spPr>
          <a:xfrm flipH="1">
            <a:off x="1357200" y="1285920"/>
            <a:ext cx="1500480" cy="12859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4"/>
          <p:cNvSpPr/>
          <p:nvPr/>
        </p:nvSpPr>
        <p:spPr>
          <a:xfrm>
            <a:off x="1785960" y="3286080"/>
            <a:ext cx="28584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6"/>
          <p:cNvSpPr/>
          <p:nvPr/>
        </p:nvSpPr>
        <p:spPr>
          <a:xfrm>
            <a:off x="5786280" y="1285920"/>
            <a:ext cx="1571760" cy="1571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8"/>
          <p:cNvSpPr/>
          <p:nvPr/>
        </p:nvSpPr>
        <p:spPr>
          <a:xfrm>
            <a:off x="5857920" y="3214800"/>
            <a:ext cx="71424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0"/>
          <p:cNvSpPr/>
          <p:nvPr/>
        </p:nvSpPr>
        <p:spPr>
          <a:xfrm>
            <a:off x="500040" y="2071800"/>
            <a:ext cx="11286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убъект в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1"/>
          <p:cNvSpPr/>
          <p:nvPr/>
        </p:nvSpPr>
        <p:spPr>
          <a:xfrm>
            <a:off x="2214720" y="2286000"/>
            <a:ext cx="11286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Функции в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2"/>
          <p:cNvSpPr/>
          <p:nvPr/>
        </p:nvSpPr>
        <p:spPr>
          <a:xfrm>
            <a:off x="4429080" y="2286000"/>
            <a:ext cx="11286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редства вла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3"/>
          <p:cNvSpPr/>
          <p:nvPr/>
        </p:nvSpPr>
        <p:spPr>
          <a:xfrm>
            <a:off x="6715080" y="2357280"/>
            <a:ext cx="1128600" cy="500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бъект вла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6"/>
          <p:cNvSpPr/>
          <p:nvPr/>
        </p:nvSpPr>
        <p:spPr>
          <a:xfrm>
            <a:off x="1928880" y="5715000"/>
            <a:ext cx="66438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Власть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– это организованная сила, обеспечивающая способность определённой социальной общности – рода, класса, народа – подчинять своей воле людей, используя  разные методы, в том числе и прину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8"/>
          <p:cNvSpPr/>
          <p:nvPr/>
        </p:nvSpPr>
        <p:spPr>
          <a:xfrm flipH="1">
            <a:off x="2784600" y="5073480"/>
            <a:ext cx="144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30"/>
          <p:cNvSpPr/>
          <p:nvPr/>
        </p:nvSpPr>
        <p:spPr>
          <a:xfrm flipH="1">
            <a:off x="3784680" y="2143080"/>
            <a:ext cx="1440" cy="35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2"/>
          <p:cNvSpPr/>
          <p:nvPr/>
        </p:nvSpPr>
        <p:spPr>
          <a:xfrm flipH="1">
            <a:off x="5000760" y="5573880"/>
            <a:ext cx="1440" cy="14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4"/>
          <p:cNvSpPr/>
          <p:nvPr/>
        </p:nvSpPr>
        <p:spPr>
          <a:xfrm flipH="1">
            <a:off x="7429680" y="4572000"/>
            <a:ext cx="144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36"/>
          <p:cNvSpPr/>
          <p:nvPr/>
        </p:nvSpPr>
        <p:spPr>
          <a:xfrm>
            <a:off x="1034280" y="5786280"/>
            <a:ext cx="893880" cy="5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Загнутый угол 1"/>
          <p:cNvSpPr/>
          <p:nvPr/>
        </p:nvSpPr>
        <p:spPr>
          <a:xfrm>
            <a:off x="3500280" y="357120"/>
            <a:ext cx="2143440" cy="91440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иды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нутый угол 2"/>
          <p:cNvSpPr/>
          <p:nvPr/>
        </p:nvSpPr>
        <p:spPr>
          <a:xfrm>
            <a:off x="500040" y="1643040"/>
            <a:ext cx="2143080" cy="278604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олитическ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ность и умение реализовывать функцию обществен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нутый угол 3"/>
          <p:cNvSpPr/>
          <p:nvPr/>
        </p:nvSpPr>
        <p:spPr>
          <a:xfrm>
            <a:off x="3571920" y="1643040"/>
            <a:ext cx="2143080" cy="278604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Экономическ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 над экономическими ресурсами, собственность на различного рода материальные ц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нутый угол 4"/>
          <p:cNvSpPr/>
          <p:nvPr/>
        </p:nvSpPr>
        <p:spPr>
          <a:xfrm>
            <a:off x="1428840" y="4643280"/>
            <a:ext cx="2714400" cy="192888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ринудительн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 над людьми с помощью применения или угрозы применения физическо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нутый угол 5"/>
          <p:cNvSpPr/>
          <p:nvPr/>
        </p:nvSpPr>
        <p:spPr>
          <a:xfrm>
            <a:off x="6643800" y="1571760"/>
            <a:ext cx="2143080" cy="271440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Социальн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 над распределением статусов, должностей, льгот и привиле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нутый угол 6"/>
          <p:cNvSpPr/>
          <p:nvPr/>
        </p:nvSpPr>
        <p:spPr>
          <a:xfrm>
            <a:off x="5214960" y="4500720"/>
            <a:ext cx="2714760" cy="2071440"/>
          </a:xfrm>
          <a:prstGeom prst="foldedCorner">
            <a:avLst>
              <a:gd name="adj" fmla="val 16666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ультурно-информационна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роль над людьми с помощью информации и средств её распрост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8"/>
          <p:cNvCxnSpPr/>
          <p:nvPr/>
        </p:nvCxnSpPr>
        <p:spPr>
          <a:xfrm flipH="1">
            <a:off x="1571040" y="713160"/>
            <a:ext cx="178668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0"/>
          <p:cNvCxnSpPr>
            <a:stCxn id="73" idx="2"/>
          </p:cNvCxnSpPr>
          <p:nvPr/>
        </p:nvCxnSpPr>
        <p:spPr>
          <a:xfrm flipH="1">
            <a:off x="4570200" y="1271520"/>
            <a:ext cx="3600" cy="300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2"/>
          <p:cNvCxnSpPr/>
          <p:nvPr/>
        </p:nvCxnSpPr>
        <p:spPr>
          <a:xfrm>
            <a:off x="5785920" y="713880"/>
            <a:ext cx="135828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4"/>
          <p:cNvCxnSpPr/>
          <p:nvPr/>
        </p:nvCxnSpPr>
        <p:spPr>
          <a:xfrm flipH="1">
            <a:off x="2999520" y="1285920"/>
            <a:ext cx="500760" cy="3215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3" name="Прямая со стрелкой 16"/>
          <p:cNvCxnSpPr/>
          <p:nvPr/>
        </p:nvCxnSpPr>
        <p:spPr>
          <a:xfrm>
            <a:off x="5715000" y="1214280"/>
            <a:ext cx="572400" cy="3215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Блок-схема: внутренняя память 1"/>
          <p:cNvSpPr/>
          <p:nvPr/>
        </p:nvSpPr>
        <p:spPr>
          <a:xfrm>
            <a:off x="2714760" y="357120"/>
            <a:ext cx="3357360" cy="612720"/>
          </a:xfrm>
          <a:prstGeom prst="flowChartInternalStorag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лас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внутренняя память 2"/>
          <p:cNvSpPr/>
          <p:nvPr/>
        </p:nvSpPr>
        <p:spPr>
          <a:xfrm>
            <a:off x="428760" y="1857240"/>
            <a:ext cx="2643120" cy="2928960"/>
          </a:xfrm>
          <a:prstGeom prst="flowChartInternalStorag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олевое воздейст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 людей со стороны субъекта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внутренняя память 3"/>
          <p:cNvSpPr/>
          <p:nvPr/>
        </p:nvSpPr>
        <p:spPr>
          <a:xfrm>
            <a:off x="3357720" y="1857240"/>
            <a:ext cx="3071520" cy="3071880"/>
          </a:xfrm>
          <a:prstGeom prst="flowChartInternalStorag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пособность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одной стороны (индивида или группы)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влиять на поведени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ругой стороны вне зависимости от того, готова ли эта последняя к сотрудничеству ил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внутренняя память 4"/>
          <p:cNvSpPr/>
          <p:nvPr/>
        </p:nvSpPr>
        <p:spPr>
          <a:xfrm>
            <a:off x="6643800" y="2000160"/>
            <a:ext cx="2286000" cy="2643120"/>
          </a:xfrm>
          <a:prstGeom prst="flowChartInternalStorag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ханизм организации и регулир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Прямая со стрелкой 6"/>
          <p:cNvCxnSpPr>
            <a:stCxn id="84" idx="2"/>
          </p:cNvCxnSpPr>
          <p:nvPr/>
        </p:nvCxnSpPr>
        <p:spPr>
          <a:xfrm flipH="1">
            <a:off x="2071080" y="969480"/>
            <a:ext cx="2321640" cy="8168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8"/>
          <p:cNvCxnSpPr>
            <a:stCxn id="84" idx="2"/>
          </p:cNvCxnSpPr>
          <p:nvPr/>
        </p:nvCxnSpPr>
        <p:spPr>
          <a:xfrm>
            <a:off x="4391640" y="969480"/>
            <a:ext cx="37080" cy="888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0"/>
          <p:cNvCxnSpPr>
            <a:stCxn id="84" idx="2"/>
          </p:cNvCxnSpPr>
          <p:nvPr/>
        </p:nvCxnSpPr>
        <p:spPr>
          <a:xfrm>
            <a:off x="4391640" y="969840"/>
            <a:ext cx="3251880" cy="959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91" name="Скругленный прямоугольник 11"/>
          <p:cNvGrpSpPr/>
          <p:nvPr/>
        </p:nvGrpSpPr>
        <p:grpSpPr>
          <a:xfrm>
            <a:off x="907920" y="5218200"/>
            <a:ext cx="7974000" cy="1243080"/>
            <a:chOff x="907920" y="5218200"/>
            <a:chExt cx="7974000" cy="1243080"/>
          </a:xfrm>
        </p:grpSpPr>
        <p:pic>
          <p:nvPicPr>
            <p:cNvPr id="92" name="Скругленный прямоугольник 11" descr=""/>
            <p:cNvPicPr/>
            <p:nvPr/>
          </p:nvPicPr>
          <p:blipFill>
            <a:blip r:embed="rId1"/>
            <a:stretch/>
          </p:blipFill>
          <p:spPr>
            <a:xfrm>
              <a:off x="907920" y="5218200"/>
              <a:ext cx="79740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116000" y="5402160"/>
              <a:ext cx="755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Calibri"/>
                </a:rPr>
                <a:t>Политическая власть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-  это право, способность и возможность отстаивать и претворять в жизнь определённые политические взгляды, установки и ц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хема 1" descr=""/>
          <p:cNvPicPr/>
          <p:nvPr/>
        </p:nvPicPr>
        <p:blipFill>
          <a:blip r:embed="rId1"/>
          <a:stretch/>
        </p:blipFill>
        <p:spPr>
          <a:xfrm>
            <a:off x="695160" y="2322360"/>
            <a:ext cx="7686720" cy="4121280"/>
          </a:xfrm>
          <a:prstGeom prst="rect">
            <a:avLst/>
          </a:prstGeom>
          <a:ln w="0">
            <a:noFill/>
          </a:ln>
        </p:spPr>
      </p:pic>
      <p:sp>
        <p:nvSpPr>
          <p:cNvPr id="95" name="Горизонтальный свиток 2"/>
          <p:cNvSpPr/>
          <p:nvPr/>
        </p:nvSpPr>
        <p:spPr>
          <a:xfrm>
            <a:off x="2714760" y="1143000"/>
            <a:ext cx="4214520" cy="10335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итической 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357120" y="214200"/>
            <a:ext cx="7929720" cy="7146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пространя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 всё обществ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на всех проживающих на территории  данного 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71680" y="357120"/>
          <a:ext cx="8001000" cy="614376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 классифик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видности политической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6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 точки зрения своего предназнач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аконодательная, исполнительная, судеб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По месту в структуре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Центральная,  региональная,  мест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6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По основному субъек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Монархическая,  республикан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нципы устойчивости политической вл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егитим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общественное признание власти, политических решений, лидеров, партий, организаций и дв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ив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степень выполнения тех функций, которые возлагают на власть участники политических отно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вл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аризматическая вла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управление страной осуществляется выдающейся личностью, способной авторитетом воздействовать на общество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адиционная вла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держится на обычаях, традициях, вере в надежность и непоколебимость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егальная вла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узаконенная, основанная на юридических нормах, которые необходимо выполня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Фирдаус\Desktop\мои документы\ффк\обществознание\политич. власть\11.гос. власть в РФ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2:30:32Z</dcterms:created>
  <dc:creator>Лариса Степановна</dc:creator>
  <dc:description/>
  <dc:language>en-US</dc:language>
  <cp:lastModifiedBy>Гыук</cp:lastModifiedBy>
  <dcterms:modified xsi:type="dcterms:W3CDTF">2013-04-29T11:05:58Z</dcterms:modified>
  <cp:revision>25</cp:revision>
  <dc:subject/>
  <dc:title>Власть и её виды</dc:title>
</cp:coreProperties>
</file>