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8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E2EB-F1CA-45A8-97EE-2E343985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3E92-099C-4584-9B16-53501522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72F4-7591-441B-A029-6BF60B03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8741-861C-43C4-9978-E370669E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1634-3343-467C-A460-E5B5D089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D656-D826-4382-8983-AC6EF56F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670F-E39F-4472-B0C2-0324CDCB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93C8-EAA3-42A6-8141-40037CFF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5502-CB3B-48ED-B0FC-499AC25A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8F2E-9A3A-427F-9157-A114630D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C28B-058F-4500-97A4-A9262510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597D-355E-4C55-9412-D0CBBB53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8C96-ACBA-47ED-9B2B-E27C49DF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38C7-FDFC-4C3B-B159-3C8E54C7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03E2-FF91-4F72-A7D0-A669A895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1C10-E0FC-4E11-8A0D-BC65F966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B9DB-00E9-472D-817F-44997C2C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0801-AEBA-412C-BDA1-682A1F69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F6B9-0474-432C-BCB6-A3FB8C64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1FC9-7F11-477C-9906-79E205EB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C74C-8C4D-43DA-8DEC-ACA799EA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2800-AF6D-4796-BF11-6817D9F5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237A-496D-4E07-A1C9-F46C7274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ADBC-0D6C-4CA2-A0D3-49C43392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C5CD-9297-403A-ADA3-2111CF8D147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3861-3698-4E40-A85F-11BB1C7A301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«Александр Николаевич Радищев.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Настоящий сын Отечества»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2133720" y="2028960"/>
            <a:ext cx="6019560" cy="467676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В 1790г. в своей книге «Путешествие из Петербурга в Москву» писатель с небывалой смелостью выступил  против самодержавно-крепостнического строя. Печатая книгу, он готов был к любым испытаниям. Напечатал ее в собственной типограф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Екатерина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, прочитав книгу, сказала: «Злодей хуже Пугачева»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довал арест, заключен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етропавловскую крепость, угроза смертн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зни. После вынес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ертного приговор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катерин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менила смертный приговор ссылкой в Сибирь в Илимский острог «на десятилетнее безысходное пребывание»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.к. боялась потерять в Европ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мя просвещенной императрицы. Ссылка не сломила духа Радищева. Он говорил: «Потомство отомстит за меня!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5105520" cy="4525920"/>
          </a:xfrm>
          <a:prstGeom prst="rect">
            <a:avLst/>
          </a:prstGeom>
          <a:ln w="0">
            <a:noFill/>
          </a:ln>
        </p:spPr>
      </p:pic>
    </p:spTree>
  </p:cSld>
  <p:transition>
    <p:plus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ои революционные убеждения Радищев пронес через всю жизнь. Вернувшись из ссылки, работал в законодательной комиссии Александр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 составил ряд законопроектов, которые предусматривали уничтожение крепостного права и предоставление народным массам демократических свобод. Реакционеры стали грозить «вольнодумцу» новой ссылкой. Затравленный своими недругами, в 1802г. А.Н.Радищев покончил жизнь самоубийством. Его смерть явилась своеобразным политическим протест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Свою главную книгу писатель создал в жанре </a:t>
            </a:r>
            <a:r>
              <a:rPr b="1" i="1" lang="ru-RU" sz="3200" spc="-1" strike="noStrike">
                <a:solidFill>
                  <a:srgbClr val="ffffcc"/>
                </a:solidFill>
                <a:latin typeface="Tahoma"/>
              </a:rPr>
              <a:t>литературного путешествия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бор жанра не был случайным для автора, который полагал, что путевые записки дают возможность показать современную ему действительность во всей её полноте и сложности. «Много можно узнать,- писал он,- если бы сыскался или житель столицы, или житель в губернии, или путешествователь, довольно имеющий твердости духа, любящий отечество и правду, а сверх того находяся в независимости своей в особенности, не имел нужды бояться мщения сильных, сделал бы картину  преступающих в злоупотреблении властей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А.Н. Радищев, как этого 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требовал жанровый канон,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открывал книгу 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посвящением другу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– товарищу детства и юности Алексею Михайловичу Кутузову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ведение Радищева – полемический отклик на книгу немецкого писателя Г.В. Бериша «Путешествие добродетели», переведенную на русский язык А.М. Кутузовым, одним из руководителей русского масонств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4038480" cy="505944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 начале произведения писатели, как правило,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бъясняли причины создания и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публикации книги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едуя традиции путевых записок, Радищев писал, обращаясь к Кутузову: «Мой друг! Воспрянул я от уныния моего, в которое повергли меня чувсвительность и сострадание; я почувствовал, что возможно всякому соучастником быть во благоденствии себе подобных. Се мысль, побудившая меня начертать, что читать будешь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дея обретения счастья в борьбе за честь и свободу народа стала новым словом в отечественной этик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исатель ставил перед собой цель – разбудить дремлющие силы «сочувственников», сделать их единомышленниками в борьбе за счастье народа, привлечь на свою сторону колеблющихся, заставить задуматься равнодушных, бросить вызов «жестокосердным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p:transition>
    <p:push dir="l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едки писател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д его, Афанасий Прокофьевич Радищев, один из потешных Петра Великого , дослужился до бригадирского чина и дал своему сыну Николаю хорошее по тому времени воспитание: Николай Афанасьевич знал несколько иностранных языков, был знаком с историей и богословием, любил сельское хозяйство и много читал. Он был очень любим крестьянами, так что во время Пугачевского бунта, когда он со старшими детьми спрятался в лесу (жил он в Кузнецком уезде Саратовской губернии), а младших детей отдал на руки крестьянам, никто не выдал ег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етство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рший сын , Александр, любимец матери, родился 20 августа 1749 г. Русской грамоте он выучился по часослову и псалтырю. Когда ему было 6 лет, к нему был приставлен учитель француз, но выбор оказался неудачный: учитель, как потом узнали, был беглый солда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гда отец решил отправить мальчика в Москву. Здесь Радищев был помещен у родственника своей матери, М.Ф. Аргамакова, человека умного и просвещенного. Радищев был поручен заботам очень хорошего француза-гувернера, бывшего советника руанского парламента, бежавшего от преследований правительства Людовика XV. Очевидно, от него Радищев узнал впервые некоторые положения философии просвещения. Аргамаков, по связям своим с Московским университетом (другой Аргамаков, А. М., был первым директором университета), доставил Радищеву возможность пользоваться уроками профессор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3 лет (в 1762г.) Александр поступил в Петербургский пажеский корпус. Пажи во дворце видели расточительство и роскошь, привилегии дворян; учебные заведения были открыты только для аристократ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4267080" y="1600200"/>
            <a:ext cx="4419720" cy="449568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числе лучших учеников в 1766г. Радищев был послан в Лейпцигский ун-т для изучения юриспруденции. Там увлекся трудами французских философов Дени Дидро, Жан Жака Руссо, Вольтера. Вернувшись в Россию, поступил на службу в Сенат, затем перевелся в коммерц-коллегию. Здесь снискал репутацию безупречно честного и талантливого юриста. Он пользовался большим расположением своего начальника, либерально настроенного вельможи А.Р.Воронцо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4038480" y="380880"/>
            <a:ext cx="5105520" cy="5745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 Радищевым открывалась блестящая карьера. Но он менее всего был озабочен личной судьбой, мучительно думая, как помочь страдающему народу. Свое литературно-публицистическое творчество он посвятил решению наболевших социальных вопрос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800600" y="457200"/>
            <a:ext cx="4038480" cy="533412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789г. в ж. «Беседующий гражданин» публикует ст. «Беседа о том, что есть настоящий сын Отечества»: «Не все достойны звания патриота, им не могут быть униженные рабы и угнетатели. Лишь тот может быть назван сыном Отечества, кто не страшится трудностей, преодолевает препятствия, помогает несчастным, избавляет от опасностей заблуждения и пороков, и ежели уверен в том, что смерть его принесет крепость и славу отечеству, то не страшится пожертвовать жизнью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я дальнейшая деятельность Радищева показала, что он являлся именно таким сыном Отечества, подлинным патриот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2-10-03T13:35:4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