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8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F98-24D5-4910-AF4A-5ABDEB64B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FDA-B025-48D7-96BA-A53B998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3AB-CA31-4DB0-9C30-DFA0B950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BE2-2936-4037-AB19-D1B3059C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BAE1-5B42-427C-A265-6ADF26E4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912E-6830-4893-B3C9-3AC6B4D7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9BD4-EF4F-4FB7-A195-8FA8920F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A405-AE84-4027-A2E1-0624EBB9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64EF-8413-4F17-A73C-63D51EAD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2E6E-38C4-4360-A9B7-6A3F85F7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3FBE-7BC8-4B65-88C5-900DAEDA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169-CFC6-44FA-A2BA-FD692F5E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0BA2-94CF-4313-890C-5FBB7960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E225-9F16-4012-9784-5D554F1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3DF5-63AE-433F-B631-E5D7CF68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D544-99C4-4425-AA4C-1E91B6F4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13C4-09E9-49AE-8032-3EA6D95D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740-F5D9-4BBD-B3DF-E741CCEC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648-244D-4DA7-845C-05093057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544-4004-43EE-A431-41DE2654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9FF-85BC-4AEA-8CF5-30172AC6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67A-E9FB-4273-9B29-44593F95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749-78A4-4B58-8FE6-B29CA30B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5A02-A0F5-4144-A567-B47548AE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21A1-F435-4CF7-82BD-A76AA303AB0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1E40-6B1F-4574-BDEE-1A83DE1328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«Александр Николаевич Радищев.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Настоящий сын Отечества»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133720" y="2028960"/>
            <a:ext cx="601956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В 1790г. в своей книге «Путешествие из Петербурга в Москву» писатель с небывалой смелостью выступил  против самодержавно-крепостнического строя. Печатая книгу, он готов был к любым испытаниям. Напечатал ее в собственной типограф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катерина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, прочитав книгу, сказала: «Злодей хуже Пугачева»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довал арест, заключ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етропавловскую крепость, угроза смерт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зни. После вынес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ертного приговор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менила смертный приговор ссылкой в Сибирь в Илимский острог «на десятилетнее безысходное пребывание»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.к. боялась потерять в Евро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я просвещенной императрицы. Ссылка не сломила духа Радищева. Он говорил: «Потомство отомстит за меня!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5105520" cy="45259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и революционные убеждения Радищев пронес через всю жизнь. Вернувшись из ссылки, работал в законодательной комиссии Александр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 составил ряд законопроектов, которые предусматривали уничтожение крепостного права и предоставление народным массам демократических свобод. Реакционеры стали грозить «вольнодумцу» новой ссылкой. Затравленный своими недругами, в 1802г. А.Н.Радищев покончил жизнь самоубийством. Его смерть явилась своеобразным политическим протест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Свою главную книгу писатель создал в жанре </a:t>
            </a: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литературного путешествия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бор жанра не был случайным для автора, который полагал, что путевые записки дают возможность показать современную ему действительность во всей её полноте и сложности. «Много можно узнать,- писал он,- если бы сыскался или житель столицы, или житель в губернии, или путешествователь, довольно имеющий твердости духа, любящий отечество и правду, а сверх того находяся в независимости своей в особенности, не имел нужды бояться мщения сильных, сделал бы картину  преступающих в злоупотреблении властей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А.Н. Радищев, как этого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требовал жанровый канон,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открывал книгу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посвящением другу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– товарищу детства и юности Алексею Михайловичу Кутузову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е Радищева – полемический отклик на книгу немецкого писателя Г.В. Бериша «Путешествие добродетели», переведенную на русский язык А.М. Кутузовым, одним из руководителей русского масонств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505944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 начале произведения писатели, как правило,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бъясняли причины создания 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публикации книги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едуя традиции путевых записок, Радищев писал, обращаясь к Кутузову: «Мой друг! Воспрянул я от уныния моего, в которое повергли меня чувсвительность и сострадание; я почувствовал, что возможно всякому соучастником быть во благоденствии себе подобных. Се мысль, побудившая меня начертать, что читать будешь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дея обретения счастья в борьбе за честь и свободу народа стала новым словом в отечественной эти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исатель ставил перед собой цель – разбудить дремлющие силы «сочувственников», сделать их единомышленниками в борьбе за счастье народа, привлечь на свою сторону колеблющихся, заставить задуматься равнодушных, бросить вызов «жестокосердным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едки писател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д его, Афанасий Прокофьевич Радищев, один из потешных Петра Великого , дослужился до бригадирского чина и дал своему сыну Николаю хорошее по тому времени воспитание: Николай Афанасьевич знал несколько иностранных языков, был знаком с историей и богословием, любил сельское хозяйство и много читал. Он был очень любим крестьянами, так что во время Пугачевского бунта, когда он со старшими детьми спрятался в лесу (жил он в Кузнецком уезде Саратовской губернии), а младших детей отдал на руки крестьянам, никто не выдал е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етство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ший сын , Александр, любимец матери, родился 20 августа 1749 г. Русской грамоте он выучился по часослову и псалтырю. Когда ему было 6 лет, к нему был приставлен учитель француз, но выбор оказался неудачный: учитель, как потом узнали, был беглый солда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гда отец решил отправить мальчика в Москву. Здесь Радищев был помещен у родственника своей матери, М.Ф. Аргамакова, человека умного и просвещенного. Радищев был поручен заботам очень хорошего француза-гувернера, бывшего советника руанского парламента, бежавшего от преследований правительства Людовика XV. Очевидно, от него Радищев узнал впервые некоторые положения философии просвещения. Аргамаков, по связям своим с Московским университетом (другой Аргамаков, А. М., был первым директором университета), доставил Радищеву возможность пользоваться уроками профессо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3 лет (в 1762г.) Александр поступил в Петербургский пажеский корпус. Пажи во дворце видели расточительство и роскошь, привилегии дворян; учебные заведения были открыты только для аристокра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267080" y="1600200"/>
            <a:ext cx="4419720" cy="449568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числе лучших учеников в 1766г. Радищев был послан в Лейпцигский ун-т для изучения юриспруденции. Там увлекся трудами французских философов Дени Дидро, Жан Жака Руссо, Вольтера. Вернувшись в Россию, поступил на службу в Сенат, затем перевелся в коммерц-коллегию. Здесь снискал репутацию безупречно честного и талантливого юриста. Он пользовался большим расположением своего начальника, либерально настроенного вельможи А.Р.Воронцо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4038480" y="380880"/>
            <a:ext cx="5105520" cy="5745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Радищевым открывалась блестящая карьера. Но он менее всего был озабочен личной судьбой, мучительно думая, как помочь страдающему народу. Свое литературно-публицистическое творчество он посвятил решению наболевших социальных вопрос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4038480" cy="53341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89г. в ж. «Беседующий гражданин» публикует ст. «Беседа о том, что есть настоящий сын Отечества»: «Не все достойны звания патриота, им не могут быть униженные рабы и угнетатели. Лишь тот может быть назван сыном Отечества, кто не страшится трудностей, преодолевает препятствия, помогает несчастным, избавляет от опасностей заблуждения и пороков, и ежели уверен в том, что смерть его принесет крепость и славу отечеству, то не страшится пожертвовать жизнью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я дальнейшая деятельность Радищева показала, что он являлся именно таким сыном Отечества, подлинным патриот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2-10-03T13:35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