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C3923-C0F4-4329-99BD-C151BEE4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FAAD-4B68-44C5-BA4A-55DA2499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FC8C-2F19-48DE-A03A-5EA67A3B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5632D-A2AA-4A9B-B548-D47DDEAA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2EB2-B22F-4415-8DF4-212605F7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9C28-C890-4C79-873F-61FBF9EB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6A14-FB8F-44D7-BA1E-37DA9CC9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4E77-ED52-42A3-87EE-F4050F7E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C77B-D7F5-4B0C-9443-5144231F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D165-AFA5-49D3-A3B4-88F4BE21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6482-DE35-4288-9E4E-585A9015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D007-40FA-4EF9-851E-9690655F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2F49-4283-4013-9ED2-A02BEFA3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9582-65A2-4E2B-9C7E-38F4F4F1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BCD1-91EE-4427-AB49-DA7AF83B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029A-9D54-47DF-BF58-10E06E8A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74B2-94DD-4989-9F0F-75473809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4287-8570-4B0B-815F-A2DD8718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5B24D-D4D1-4AA9-AB20-24BF586B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DF2C3-3A25-4161-A129-BB465F13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2D6B-5F21-44B8-AB5E-4AF50CD3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6172A-046A-4035-84D7-A759783F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2CDBB-D05E-4392-B820-A5B5B28C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AF2A-D176-4E66-8F36-9B806BB0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453E-6FBD-48B9-8A17-D973966358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35BC-AA0D-4C1A-8300-0B114503A2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oard.rt.mipt.ru/?read=7297811" TargetMode="External"/><Relationship Id="rId2" Type="http://schemas.openxmlformats.org/officeDocument/2006/relationships/hyperlink" Target="http://nn.susanin.pro/news/2012/10/10/391026?month=08&amp;year=2011" TargetMode="External"/><Relationship Id="rId3" Type="http://schemas.openxmlformats.org/officeDocument/2006/relationships/hyperlink" Target="http://www.xboxland.net/forum/index.php?s=b56b8038468469b9ed44f3a0bd6ba09f&amp;showtopic=44778&amp;st=2760" TargetMode="External"/><Relationship Id="rId4" Type="http://schemas.openxmlformats.org/officeDocument/2006/relationships/hyperlink" Target="http://www2.newsanons.ru/news/9538/" TargetMode="External"/><Relationship Id="rId5" Type="http://schemas.openxmlformats.org/officeDocument/2006/relationships/hyperlink" Target="http://www.catsmob.com/photo/430-fotopodborka-46-68-foto.html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99cc"/>
                </a:solidFill>
                <a:latin typeface="Arial"/>
              </a:rPr>
              <a:t>Адрес на конверте</a:t>
            </a:r>
            <a:br>
              <a:rPr sz="5000"/>
            </a:br>
            <a:r>
              <a:rPr b="0" lang="en-US" sz="5000" spc="-1" strike="noStrike">
                <a:solidFill>
                  <a:srgbClr val="9999cc"/>
                </a:solidFill>
                <a:latin typeface="Arial"/>
              </a:rPr>
              <a:t>5 класс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БС(К)ОУ школа-интернат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ницы Медведовско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рмик Людмила Александровна, учитель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исьма, чтения и развития реч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почт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745080" cy="2508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81480" y="928080"/>
            <a:ext cx="18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дому невели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летают пти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точки, при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несут по св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ись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564000" y="4581360"/>
            <a:ext cx="2376360" cy="1656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227640" y="4581360"/>
            <a:ext cx="2305080" cy="1716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00000" y="4581360"/>
            <a:ext cx="244800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Мы получаем чаще письма в конвертах.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Как они будут называться?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2665440" cy="3095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533760" y="1700280"/>
            <a:ext cx="507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Arial"/>
              </a:rPr>
              <a:t>Закрытые письма быв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Простые, их называют фотографией души.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Заказные - повестка в суд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Ценные -пересылаются паспорта, дипломы, рукописи и прочие ценные бумаги и доку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3357720"/>
            <a:ext cx="748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ПИСАНИЕ АДРЕСА НА КОНВЕ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чего начинается адр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 инд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 поступить, если не знаешь индек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знать в отделении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ля чего он нуж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84360" y="4292640"/>
            <a:ext cx="4608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М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конверт, найти место адреса получателя, отправ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исать фамилию и имя получателя, его адр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исать индекс по образ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исать по образцу адрес отправ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куратно сложить письмо, положить его в конве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ить, правильно ли подписан конверт,  заклеить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устить письмо в ближайший почтовый ящ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64000" y="0"/>
            <a:ext cx="378000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верхнем углу письма пишут (чт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щение обычно пишут (где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онце письма следует (что сделать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я оставлять (можно, нужно, не обязатель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рк должен быть (каким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сать карандашом (можно, нельз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тый неизмятый конверт подписывать (как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у учились 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32400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ованный матери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board.rt.mipt.ru/?read=72978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nn.susanin.pr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xboxland.ne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www2.newsanons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catsmob.c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figvam.ne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thekonst.ne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dayoflife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diecast43.dreamwidth.or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7:25:56Z</dcterms:created>
  <dc:creator>Комп</dc:creator>
  <dc:description/>
  <dc:language>en-US</dc:language>
  <cp:lastModifiedBy>Комп</cp:lastModifiedBy>
  <dcterms:modified xsi:type="dcterms:W3CDTF">2013-04-22T16:29:49Z</dcterms:modified>
  <cp:revision>3</cp:revision>
  <dc:subject/>
  <dc:title>Адрес на конверте</dc:title>
</cp:coreProperties>
</file>