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C5CA-793D-4535-86F0-4CA552FF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8EF7-AB8B-42E1-8B15-9E430B0B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73E3-A12C-441E-9E60-C6A24034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BBCC2-EB99-49FF-BB74-233AAB00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BB83-870E-4E65-89FA-4A8B33EC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7082-D26F-4EC8-8FBA-912E939B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015E-EAB2-4E66-B9E9-7FF43385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3C93-582A-46FF-8CCA-B0A207A1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624F-2FF2-42E1-92FB-278D8E44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6DDF-0DDD-4F92-AF8C-7801568B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B2A8-45E2-49A4-A0E1-9424406E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25372-ACC3-4E22-BC68-77AC51EB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CACA-EF83-4F3B-B54A-6BC5D0D7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A609-D355-4B2F-ADF1-A6213C8D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B032-4ABE-4258-9053-762B3047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997B-6BCC-4641-B62C-080AE57A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6B99-93A7-40BD-849E-94A82971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8A7C-B330-41AC-A5D8-E1497E76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CBB5-8979-4C59-9B0B-E3F65F69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C658-1612-4F7D-97AB-2E463915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E6940-2821-4622-9FAC-7EEF543C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9EAAE-B22A-4DB2-BFB0-F02B4E8F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47B8A-833C-4F5B-AF9D-296473AC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0D767-B359-43D7-8A6A-94897117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0D3B-45CA-40AE-A523-6F4730C481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D0CF-1855-4BAC-B41B-02E29E36C1F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oard.rt.mipt.ru/?read=7297811" TargetMode="External"/><Relationship Id="rId2" Type="http://schemas.openxmlformats.org/officeDocument/2006/relationships/hyperlink" Target="http://nn.susanin.pro/news/2012/10/10/391026?month=08&amp;year=2011" TargetMode="External"/><Relationship Id="rId3" Type="http://schemas.openxmlformats.org/officeDocument/2006/relationships/hyperlink" Target="http://www.xboxland.net/forum/index.php?s=b56b8038468469b9ed44f3a0bd6ba09f&amp;showtopic=44778&amp;st=2760" TargetMode="External"/><Relationship Id="rId4" Type="http://schemas.openxmlformats.org/officeDocument/2006/relationships/hyperlink" Target="http://www2.newsanons.ru/news/9538/" TargetMode="External"/><Relationship Id="rId5" Type="http://schemas.openxmlformats.org/officeDocument/2006/relationships/hyperlink" Target="http://www.catsmob.com/photo/430-fotopodborka-46-68-foto.html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99cc"/>
                </a:solidFill>
                <a:latin typeface="Arial"/>
              </a:rPr>
              <a:t>Адрес на конверте</a:t>
            </a:r>
            <a:br>
              <a:rPr sz="5000"/>
            </a:br>
            <a:r>
              <a:rPr b="0" lang="en-US" sz="5000" spc="-1" strike="noStrike">
                <a:solidFill>
                  <a:srgbClr val="9999cc"/>
                </a:solidFill>
                <a:latin typeface="Arial"/>
              </a:rPr>
              <a:t>5 класс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БС(К)ОУ школа-интернат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ницы Медведовско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рмик Людмила Александровна, учител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исьма, чтения и развития реч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почт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745080" cy="2508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81480" y="928080"/>
            <a:ext cx="18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дому невели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летают пти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точки, при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есут по св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ис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564000" y="4581360"/>
            <a:ext cx="2376360" cy="165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227640" y="4581360"/>
            <a:ext cx="2305080" cy="1716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00000" y="4581360"/>
            <a:ext cx="244800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Мы получаем чаще письма в конвертах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Как они будут называться?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2665440" cy="3095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533760" y="1700280"/>
            <a:ext cx="507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Arial"/>
              </a:rPr>
              <a:t>Закрытые письма быв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Простые, их называют фотографией души.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Заказные - повестка в суд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Ценные -пересылаются паспорта, дипломы, рукописи и прочие ценные бумаги и доку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3357720"/>
            <a:ext cx="748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ПИСАНИЕ АДРЕСА НА КОНВЕ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чего начинается адр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 инд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 поступить, если не знаешь индек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знать в отделении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ля чего он нуж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84360" y="4292640"/>
            <a:ext cx="4608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М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конверт, найти место адреса получателя, отправ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исать фамилию и имя получателя, его адр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исать индекс по образ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исать по образцу адрес отправ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куратно сложить письмо, положить его в конве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ить, правильно ли подписан конверт,  заклеить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устить письмо в ближайший почтовый ящ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64000" y="0"/>
            <a:ext cx="378000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верхнем углу письма пишут (чт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щение обычно пишут (где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нце письма следует (что сделать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я оставлять (можно, нужно, не обязатель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рк должен быть (каким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ать карандашом (можно, нельз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тый неизмятый конверт подписывать (как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у учились 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32400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ованный матери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board.rt.mipt.ru/?read=72978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nn.susanin.pr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xboxland.ne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ww2.newsanons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catsmob.c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figvam.ne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thekonst.ne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dayoflife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diecast43.dreamwidth.or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7:25:56Z</dcterms:created>
  <dc:creator>Комп</dc:creator>
  <dc:description/>
  <dc:language>en-US</dc:language>
  <cp:lastModifiedBy>Комп</cp:lastModifiedBy>
  <dcterms:modified xsi:type="dcterms:W3CDTF">2013-04-22T16:29:49Z</dcterms:modified>
  <cp:revision>3</cp:revision>
  <dc:subject/>
  <dc:title>Адрес на конверте</dc:title>
</cp:coreProperties>
</file>