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jpeg" ContentType="image/jpeg"/>
  <Override PartName="/ppt/media/image12.png" ContentType="image/png"/>
  <Override PartName="/ppt/media/image21.jpeg" ContentType="image/jpeg"/>
  <Override PartName="/ppt/media/image32.wmf" ContentType="image/x-wmf"/>
  <Override PartName="/ppt/media/image19.wmf" ContentType="image/x-wmf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5.wmf" ContentType="image/x-wmf"/>
  <Override PartName="/ppt/media/image38.wmf" ContentType="image/x-wmf"/>
  <Override PartName="/ppt/media/image30.gif" ContentType="image/gif"/>
  <Override PartName="/ppt/media/image8.png" ContentType="image/png"/>
  <Override PartName="/ppt/media/image40.jpeg" ContentType="image/jpeg"/>
  <Override PartName="/ppt/media/image44.jpeg" ContentType="image/jpeg"/>
  <Override PartName="/ppt/media/image31.jpeg" ContentType="image/jpeg"/>
  <Override PartName="/ppt/media/image41.png" ContentType="image/png"/>
  <Override PartName="/ppt/media/image42.jpeg" ContentType="image/jpeg"/>
  <Override PartName="/ppt/media/image43.wmf" ContentType="image/x-wmf"/>
  <Override PartName="/ppt/media/image13.png" ContentType="image/png"/>
  <Override PartName="/ppt/media/image36.wmf" ContentType="image/x-wmf"/>
  <Override PartName="/ppt/media/image45.jpeg" ContentType="image/jpeg"/>
  <Override PartName="/ppt/media/image20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E46-42D7-46D4-A11A-74B70ED6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D3E-EC65-4617-A268-3FCC1CAE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2C544-20FE-4FDC-B88D-61A75965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7CD90-3566-47DC-A1F8-17D7EFFA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997FA-2BF2-4A6C-ADD9-B2475934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701B2-F07B-4C40-95EF-9D6EF1FE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F2008-5447-477C-818D-FB087643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689DC-5332-4977-B222-F56F2FCB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4AFA6-60C6-4768-A4CD-91AE999A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9A9A5-9587-4F31-A5D1-411F957E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F403A-E9C5-4D7D-A824-636AD11D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859A3-4269-4394-97F4-F53F9A34C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392-D207-4AB6-8C98-F120D1D6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45BAB-345B-45DF-B2B7-CC21EFA3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90727-8786-4934-905B-3C8F7C20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030E8-5031-4A15-BFE7-3D542518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94D1A-2AF2-4BED-A624-A49476B5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F7CC4-7904-4C4F-BC6C-CEDE92E3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2DEC2-BEE3-4954-9672-87777F25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B8F68-0BDB-4F12-B18A-E1725954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4095F-04FE-428E-80A2-5CDA209D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3608D-BE86-4F0D-B77C-D9E6162E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A71CD-F183-452D-8FE1-A6D3DA8D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6D2-8E04-4884-A196-75C8525E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C78E0-1C70-46B9-B8A7-508E2705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7D1E-EB15-4FC0-9748-93AEACA0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FBCF-4A9B-4A7B-87FC-B3822EF2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46ED-D917-4009-B047-43579F4B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2728-F8C3-4BD4-ABCE-242A8C20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3B1A-4C8C-43A0-8E7A-C8EA6F58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CD59-C753-43DF-906A-A2A1F8F4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7B1D-491A-4370-9A81-9AC469D0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F7B-A0D8-41F8-B9B6-6ECB3798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731C-A9F8-4B5D-BB85-04BCEAA0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98DE-C7BE-42AA-9182-8E8AB140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88E3-88E4-4302-ABBD-B374B8A6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8601-6320-4942-B8A9-FDFCA38F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3075-F709-4CE5-B79D-846F310D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C3A8-C211-40D4-A7AA-1D639564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4509B-F778-4A5A-BC5A-99554E27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719D1-A29A-453D-978B-14E8A5E4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D0167-028D-4CCC-A29F-6EAA60FC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4C1C-89C7-4C34-A349-376BA99E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E29-88D1-47DD-99AC-B4657BA9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305C-71DC-4D84-BCD1-7AA2E86C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828D-5A5B-417B-9188-318B3EDB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9809-91FE-443D-8AEA-B321F611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418F-1CA1-4377-987A-0726A337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AB48A-D57E-4518-A739-1E0BE43F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4FA2B-5A93-4AA2-B48A-43E6538C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147A-7527-411D-B44E-CBD6BF89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6619-8B31-4964-BC0F-62B869A2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13F1C-B7D9-4A53-A4EB-318720D7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526C3-8E6A-4A43-A804-C689F091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B81-7E1A-4F99-A257-D5CA2B0E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499A2-ED6C-46C2-9C8A-1E2C3935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26FC5-B6DA-4516-AC6A-694C2F9B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863B-A9AF-4D79-B95C-A3A1C651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6CEA1-7B14-4AA5-9EE6-8BE55D3B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B9E1-3A09-4C5B-8F7C-982E9FDE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C1157-E688-40CE-A5F6-B3DF134D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AE7C5-A14B-4014-94F2-DDFCE2E0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68DF1-6EDB-4413-868E-A0AAC2F1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6D5E-8958-421D-BF07-6B693BE5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F620A-9FC1-4A86-AADA-14B1FFB2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22B-BAD2-492A-8226-7BFEB40C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AAFED-A8E0-429B-968E-BC50B1F3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2BA3C-410F-4235-9CAC-1F1E5D8A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D977-9933-4724-9385-2A2BB40A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8C029-73E9-4294-94AF-D73CCCB0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96C5B-1C98-42AF-8759-DF2D7BB4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92484-8EF1-46CC-9871-D04FD7D6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C97D5-7B44-43DC-A641-B86930D7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71E51-00C0-4B90-92DA-27659346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766AD-731F-47F0-A322-F78BB8C4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4A04E-2C1D-4D77-AD25-9930EEE7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714-9353-4362-9BB8-01A0E8C0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EE8DE-90CE-446D-8F10-F9880666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CEC9B-D9EA-4481-AEB2-17252020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0289D-FEC1-42A6-AB6F-478CD6A4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8993F-8CEE-4429-AF55-2CA1A0F8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74C45-9A5B-4217-BE7D-01C3DD13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100D6-78F0-4C46-8DD2-567D18B6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07F2F-6106-4A03-80C0-AACBD9E6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40DB7-CA6A-4AF2-AD57-889E7C02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2ECEA-8700-469E-9ABA-ED41C1FF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9700E-6B9E-4784-8564-BBF1F0A6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BDB-37B7-4D5C-9804-1CB00EDA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38CF5-1D17-4182-A17D-465AA397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C50B9-7024-446F-8F70-D2BB5D9D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2A1BA-6DDB-444C-A44B-FB896C39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A3FAA-EDFA-4A79-9C9B-2E4B4630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C016F-15AE-4349-A1FE-23BE614A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50398-F390-45C3-9796-2F0AAB39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27498-B1F9-4F1D-93FF-0E90FA5D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1FCD9-C362-4D1C-86CB-41B82F18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0E468-D547-490E-9246-E3E58C8F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80019-D8B6-45CB-BE41-ADAB63F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9CB-D372-4FF7-95A4-44F71CF0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CC029-4708-4B63-A0B8-A448A48C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AF3CE-D60B-464D-AA63-39532E03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566C0-9AAB-40AD-8DE9-B56A91AB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77E17-B397-424F-BF83-6E722329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E9036-8131-47A9-B829-534E2DD8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61851-D135-4331-8AF0-75935CE3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D0408-2558-4B8D-B69F-06996329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EF1A8-E886-420B-81D8-677D02D4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9D8BF-A781-489A-A210-C3179837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76E4A-D679-406D-A07C-7B8B1A68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63F-4EE5-40F4-85F1-5B4A5112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47799-AE81-49BD-A353-D9BB3DA8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43FDB-D4A7-40A2-BD29-2C8394DE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3B68D-F3DD-4F70-B19B-4372847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C9EAD-2E6D-43F4-A1E0-9A14F1F1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E5F99-3971-4621-BAB5-E3AC78EF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19B83-FCBB-4163-9E72-BF841550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A5436-40C5-4B41-A584-63B4B54D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A5003-9B08-4FF1-A60C-448416A1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0698E-8FB9-4FF4-B7A1-8F6C85D5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5E5B7-FA70-4F5A-BFF6-810FEE8F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03DA-45C5-4913-A8A2-FAB67A2FFA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7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"/>
            <p:cNvSpPr/>
            <p:nvPr/>
          </p:nvSpPr>
          <p:spPr>
            <a:xfrm>
              <a:off x="609480" y="1523880"/>
              <a:ext cx="228600" cy="1449360"/>
            </a:xfrm>
            <a:prstGeom prst="pi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"/>
            <p:cNvSpPr/>
            <p:nvPr/>
          </p:nvSpPr>
          <p:spPr>
            <a:xfrm>
              <a:off x="7848720" y="1209600"/>
              <a:ext cx="261720" cy="1371600"/>
            </a:xfrm>
            <a:prstGeom prst="pie">
              <a:avLst/>
            </a:pr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218F-5F80-4359-814F-5388BBF194F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7CAF-A1C8-4FE9-A703-5401C25BAC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838080" y="561960"/>
            <a:ext cx="152640" cy="1066680"/>
          </a:xfrm>
          <a:prstGeom prst="pi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8263080" y="270000"/>
            <a:ext cx="152280" cy="1073160"/>
          </a:xfrm>
          <a:prstGeom prst="pie">
            <a:avLst/>
          </a:pr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6DC2-E05E-4167-9D87-2E0941D43C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4CEC-55D5-4220-9820-17121DEC82C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8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9F46-BB46-42C2-9741-D25C79873A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36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40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65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F281-2098-4B7E-B787-DE765F431B8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14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18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43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43C4-BEE3-44D6-B4C1-88F3F11425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BB11-0FAD-4BD7-ACB9-8473AED9D9D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0B12-8AAA-4B38-864E-4D2C072E94A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" Target="slide1.xml"/><Relationship Id="rId4" Type="http://schemas.openxmlformats.org/officeDocument/2006/relationships/image" Target="../media/image27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9.wmf"/><Relationship Id="rId20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image" Target="../media/image25.jpeg"/><Relationship Id="rId7" Type="http://schemas.openxmlformats.org/officeDocument/2006/relationships/image" Target="../media/image26.wmf"/><Relationship Id="rId8" Type="http://schemas.openxmlformats.org/officeDocument/2006/relationships/image" Target="../media/image26.wmf"/><Relationship Id="rId9" Type="http://schemas.openxmlformats.org/officeDocument/2006/relationships/image" Target="../media/image26.wmf"/><Relationship Id="rId10" Type="http://schemas.openxmlformats.org/officeDocument/2006/relationships/image" Target="../media/image26.wmf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27.png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dic0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523" name="Picture 6" descr=""/>
          <p:cNvPicPr/>
          <p:nvPr/>
        </p:nvPicPr>
        <p:blipFill>
          <a:blip r:embed="rId2"/>
          <a:stretch/>
        </p:blipFill>
        <p:spPr>
          <a:xfrm rot="21172200">
            <a:off x="395280" y="2923920"/>
            <a:ext cx="2017800" cy="13446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524" name="Picture 7" descr=""/>
          <p:cNvPicPr/>
          <p:nvPr/>
        </p:nvPicPr>
        <p:blipFill>
          <a:blip r:embed="rId3"/>
          <a:stretch/>
        </p:blipFill>
        <p:spPr>
          <a:xfrm rot="684600">
            <a:off x="395280" y="4869000"/>
            <a:ext cx="2160720" cy="151272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525" name="Picture 8" descr=""/>
          <p:cNvPicPr/>
          <p:nvPr/>
        </p:nvPicPr>
        <p:blipFill>
          <a:blip r:embed="rId4"/>
          <a:stretch/>
        </p:blipFill>
        <p:spPr>
          <a:xfrm>
            <a:off x="3635280" y="5084640"/>
            <a:ext cx="1938600" cy="1440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526" name="Picture 9" descr=""/>
          <p:cNvPicPr/>
          <p:nvPr/>
        </p:nvPicPr>
        <p:blipFill>
          <a:blip r:embed="rId5"/>
          <a:stretch/>
        </p:blipFill>
        <p:spPr>
          <a:xfrm rot="20657400">
            <a:off x="6659640" y="549360"/>
            <a:ext cx="2016000" cy="149364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527" name="Picture 10" descr=""/>
          <p:cNvPicPr/>
          <p:nvPr/>
        </p:nvPicPr>
        <p:blipFill>
          <a:blip r:embed="rId6"/>
          <a:stretch/>
        </p:blipFill>
        <p:spPr>
          <a:xfrm rot="863400">
            <a:off x="6803640" y="2924280"/>
            <a:ext cx="2016000" cy="140976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pic>
        <p:nvPicPr>
          <p:cNvPr id="528" name="Picture 12" descr=""/>
          <p:cNvPicPr/>
          <p:nvPr/>
        </p:nvPicPr>
        <p:blipFill>
          <a:blip r:embed="rId7"/>
          <a:stretch/>
        </p:blipFill>
        <p:spPr>
          <a:xfrm rot="1180800">
            <a:off x="468000" y="549360"/>
            <a:ext cx="2066760" cy="154296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sp>
        <p:nvSpPr>
          <p:cNvPr id="529" name="WordArt 14"/>
          <p:cNvSpPr txBox="1"/>
          <p:nvPr/>
        </p:nvSpPr>
        <p:spPr>
          <a:xfrm>
            <a:off x="2771640" y="907920"/>
            <a:ext cx="3529080" cy="33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УДЕС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ЕТА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0" name="Picture 15" descr=""/>
          <p:cNvPicPr/>
          <p:nvPr/>
        </p:nvPicPr>
        <p:blipFill>
          <a:blip r:embed="rId14"/>
          <a:stretch/>
        </p:blipFill>
        <p:spPr>
          <a:xfrm rot="21168000">
            <a:off x="6588000" y="4941720"/>
            <a:ext cx="2067120" cy="1440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sp>
        <p:nvSpPr>
          <p:cNvPr id="531" name=""/>
          <p:cNvSpPr/>
          <p:nvPr/>
        </p:nvSpPr>
        <p:spPr>
          <a:xfrm>
            <a:off x="5940360" y="649116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ель Кальянова М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50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Times New Roman"/>
              </a:rPr>
              <a:t>Колос Родосский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615" name="Object 3"/>
          <p:cNvGraphicFramePr/>
          <p:nvPr/>
        </p:nvGraphicFramePr>
        <p:xfrm>
          <a:off x="6300720" y="1484280"/>
          <a:ext cx="2448000" cy="49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484280"/>
                    <a:ext cx="2448000" cy="4984920"/>
                  </a:xfrm>
                  <a:prstGeom prst="rect">
                    <a:avLst/>
                  </a:prstGeom>
                  <a:ln w="57240">
                    <a:solidFill>
                      <a:srgbClr val="939852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7" name="Picture 6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1639800" cy="1944360"/>
          </a:xfrm>
          <a:prstGeom prst="rect">
            <a:avLst/>
          </a:prstGeom>
          <a:ln w="57240">
            <a:solidFill>
              <a:srgbClr val="939852"/>
            </a:solidFill>
            <a:miter/>
          </a:ln>
        </p:spPr>
      </p:pic>
      <p:grpSp>
        <p:nvGrpSpPr>
          <p:cNvPr id="618" name=""/>
          <p:cNvGrpSpPr/>
          <p:nvPr/>
        </p:nvGrpSpPr>
        <p:grpSpPr>
          <a:xfrm>
            <a:off x="539640" y="4221000"/>
            <a:ext cx="5256360" cy="2448000"/>
            <a:chOff x="539640" y="4221000"/>
            <a:chExt cx="5256360" cy="2448000"/>
          </a:xfrm>
        </p:grpSpPr>
        <p:sp>
          <p:nvSpPr>
            <p:cNvPr id="619" name="AutoShape 9"/>
            <p:cNvSpPr/>
            <p:nvPr/>
          </p:nvSpPr>
          <p:spPr>
            <a:xfrm>
              <a:off x="539640" y="4221000"/>
              <a:ext cx="5256360" cy="24480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76765e"/>
                </a:gs>
                <a:gs pos="5000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31680">
              <a:solidFill>
                <a:srgbClr val="9398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10"/>
            <p:cNvSpPr/>
            <p:nvPr/>
          </p:nvSpPr>
          <p:spPr>
            <a:xfrm>
              <a:off x="755640" y="4365720"/>
              <a:ext cx="4968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Колос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греческое слово, означающее «большая статуя». Так в совё время называли статую Гелиоса, так сегодня называют что-либо выдающееся по своей величине . Выражение </a:t>
              </a: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«колос н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глиняных ногах»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употребляется , когда хотят сказать о чем либо величественном , но не прочном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6443640" y="6656400"/>
            <a:ext cx="2700360" cy="20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3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8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3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Александрийский  маяк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623" name="Picture 4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457800" cy="4824360"/>
          </a:xfrm>
          <a:prstGeom prst="rect">
            <a:avLst/>
          </a:prstGeom>
          <a:ln w="76320">
            <a:solidFill>
              <a:srgbClr val="420000"/>
            </a:solidFill>
            <a:miter/>
          </a:ln>
        </p:spPr>
      </p:pic>
      <p:pic>
        <p:nvPicPr>
          <p:cNvPr id="624" name="Picture 7" descr=""/>
          <p:cNvPicPr/>
          <p:nvPr/>
        </p:nvPicPr>
        <p:blipFill>
          <a:blip r:embed="rId2"/>
          <a:stretch/>
        </p:blipFill>
        <p:spPr>
          <a:xfrm>
            <a:off x="3203640" y="1773360"/>
            <a:ext cx="1619280" cy="1363680"/>
          </a:xfrm>
          <a:prstGeom prst="rect">
            <a:avLst/>
          </a:prstGeom>
          <a:ln w="0">
            <a:noFill/>
          </a:ln>
        </p:spPr>
      </p:pic>
      <p:sp>
        <p:nvSpPr>
          <p:cNvPr id="625" name="AutoShape 16">
            <a:hlinkClick r:id="rId3" action="ppaction://hlinksldjump"/>
          </p:cNvPr>
          <p:cNvSpPr/>
          <p:nvPr/>
        </p:nvSpPr>
        <p:spPr>
          <a:xfrm>
            <a:off x="468360" y="6381720"/>
            <a:ext cx="358560" cy="216000"/>
          </a:xfrm>
          <a:custGeom>
            <a:avLst/>
            <a:gdLst>
              <a:gd name="textAreaLeft" fmla="*/ 13680 w 358560"/>
              <a:gd name="textAreaRight" fmla="*/ 344880 w 3585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5832" h="21600">
                <a:moveTo>
                  <a:pt x="0" y="0"/>
                </a:moveTo>
                <a:lnTo>
                  <a:pt x="35832" y="0"/>
                </a:lnTo>
                <a:lnTo>
                  <a:pt x="35832" y="21600"/>
                </a:lnTo>
                <a:lnTo>
                  <a:pt x="0" y="21600"/>
                </a:lnTo>
                <a:close/>
              </a:path>
              <a:path fill="lightenLess" w="35832" h="21600">
                <a:moveTo>
                  <a:pt x="0" y="0"/>
                </a:moveTo>
                <a:lnTo>
                  <a:pt x="35832" y="0"/>
                </a:lnTo>
                <a:lnTo>
                  <a:pt x="34432" y="1400"/>
                </a:lnTo>
                <a:lnTo>
                  <a:pt x="1400" y="1400"/>
                </a:lnTo>
                <a:close/>
              </a:path>
              <a:path fill="darken" w="35832" h="21600">
                <a:moveTo>
                  <a:pt x="35832" y="0"/>
                </a:moveTo>
                <a:lnTo>
                  <a:pt x="35832" y="21600"/>
                </a:lnTo>
                <a:lnTo>
                  <a:pt x="34432" y="20200"/>
                </a:lnTo>
                <a:lnTo>
                  <a:pt x="34432" y="1400"/>
                </a:lnTo>
                <a:close/>
              </a:path>
              <a:path fill="darkenLess" w="35832" h="21600">
                <a:moveTo>
                  <a:pt x="35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32" y="20200"/>
                </a:lnTo>
                <a:close/>
              </a:path>
              <a:path fill="lighten" w="35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32" h="21600">
                <a:moveTo>
                  <a:pt x="10910" y="7493"/>
                </a:moveTo>
                <a:lnTo>
                  <a:pt x="14417" y="7493"/>
                </a:lnTo>
                <a:lnTo>
                  <a:pt x="14417" y="12828"/>
                </a:lnTo>
                <a:cubicBezTo>
                  <a:pt x="14417" y="13751"/>
                  <a:pt x="15218" y="14482"/>
                  <a:pt x="16254" y="14482"/>
                </a:cubicBezTo>
                <a:lnTo>
                  <a:pt x="17916" y="14482"/>
                </a:lnTo>
                <a:cubicBezTo>
                  <a:pt x="18952" y="14482"/>
                  <a:pt x="19753" y="13751"/>
                  <a:pt x="19753" y="12828"/>
                </a:cubicBezTo>
                <a:lnTo>
                  <a:pt x="19753" y="7493"/>
                </a:lnTo>
                <a:lnTo>
                  <a:pt x="17916" y="7493"/>
                </a:lnTo>
                <a:lnTo>
                  <a:pt x="21424" y="3985"/>
                </a:lnTo>
                <a:lnTo>
                  <a:pt x="25097" y="7493"/>
                </a:lnTo>
                <a:lnTo>
                  <a:pt x="23260" y="7493"/>
                </a:lnTo>
                <a:lnTo>
                  <a:pt x="23260" y="12828"/>
                </a:lnTo>
                <a:cubicBezTo>
                  <a:pt x="23260" y="15596"/>
                  <a:pt x="20684" y="18155"/>
                  <a:pt x="17916" y="18155"/>
                </a:cubicBezTo>
                <a:lnTo>
                  <a:pt x="16254" y="18155"/>
                </a:lnTo>
                <a:cubicBezTo>
                  <a:pt x="13486" y="18155"/>
                  <a:pt x="10910" y="15596"/>
                  <a:pt x="10910" y="12828"/>
                </a:cubicBezTo>
                <a:close/>
              </a:path>
            </a:pathLst>
          </a:custGeom>
          <a:solidFill>
            <a:srgbClr val="e6dd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788000" y="1844640"/>
            <a:ext cx="4356000" cy="5218560"/>
            <a:chOff x="4788000" y="1844640"/>
            <a:chExt cx="4356000" cy="5218560"/>
          </a:xfrm>
        </p:grpSpPr>
        <p:grpSp>
          <p:nvGrpSpPr>
            <p:cNvPr id="627" name=""/>
            <p:cNvGrpSpPr/>
            <p:nvPr/>
          </p:nvGrpSpPr>
          <p:grpSpPr>
            <a:xfrm>
              <a:off x="4788000" y="1844640"/>
              <a:ext cx="4356000" cy="5218560"/>
              <a:chOff x="4788000" y="1844640"/>
              <a:chExt cx="4356000" cy="5218560"/>
            </a:xfrm>
          </p:grpSpPr>
          <p:pic>
            <p:nvPicPr>
              <p:cNvPr id="628" name="Picture 19" descr="Свиток"/>
              <p:cNvPicPr/>
              <p:nvPr/>
            </p:nvPicPr>
            <p:blipFill>
              <a:blip r:embed="rId4"/>
              <a:stretch/>
            </p:blipFill>
            <p:spPr>
              <a:xfrm>
                <a:off x="4788000" y="1844640"/>
                <a:ext cx="4249800" cy="482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Text Box 18"/>
              <p:cNvSpPr/>
              <p:nvPr/>
            </p:nvSpPr>
            <p:spPr>
              <a:xfrm>
                <a:off x="4932360" y="1989000"/>
                <a:ext cx="4211640" cy="507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8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В список Семи чудес входил </a:t>
                </a:r>
                <a:r>
                  <a:rPr b="1" lang="ru-RU" sz="1800" spc="-1" strike="noStrike">
                    <a:solidFill>
                      <a:srgbClr val="6352e0"/>
                    </a:solidFill>
                    <a:latin typeface="Arial"/>
                  </a:rPr>
                  <a:t>Фаросский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, или</a:t>
                </a:r>
                <a:r>
                  <a:rPr b="1" lang="ru-RU" sz="1800" spc="-1" strike="noStrike">
                    <a:solidFill>
                      <a:srgbClr val="6352e0"/>
                    </a:solidFill>
                    <a:latin typeface="Arial"/>
                  </a:rPr>
                  <a:t> Александрийский маяк,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 стоявший на острове Фарос в Александрии - отсюда произошло слово </a:t>
                </a:r>
                <a:r>
                  <a:rPr b="1" lang="ru-RU" sz="1800" spc="-1" strike="noStrike">
                    <a:solidFill>
                      <a:srgbClr val="6352e0"/>
                    </a:solidFill>
                    <a:latin typeface="Arial"/>
                  </a:rPr>
                  <a:t>«фара».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 Удивительное сооружение простояло до 14 века, но даже в уже сильно разрушенном виде высота его составляла около 30 метров. В настоящее время сохранился только цоколь маяка, встроенный в средневековую крепость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0" name="" descr=""/>
            <p:cNvPicPr/>
            <p:nvPr/>
          </p:nvPicPr>
          <p:blipFill>
            <a:blip r:embed="rId5"/>
            <a:stretch/>
          </p:blipFill>
          <p:spPr>
            <a:xfrm>
              <a:off x="6084720" y="6381720"/>
              <a:ext cx="2664000" cy="198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86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2" name="Object 16"/>
          <p:cNvGraphicFramePr/>
          <p:nvPr/>
        </p:nvGraphicFramePr>
        <p:xfrm>
          <a:off x="395280" y="1700280"/>
          <a:ext cx="144000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14400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Object 3"/>
          <p:cNvGraphicFramePr/>
          <p:nvPr/>
        </p:nvGraphicFramePr>
        <p:xfrm>
          <a:off x="2627280" y="1413000"/>
          <a:ext cx="3960720" cy="361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1413000"/>
                    <a:ext cx="39607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12"/>
          <p:cNvGraphicFramePr/>
          <p:nvPr/>
        </p:nvGraphicFramePr>
        <p:xfrm>
          <a:off x="7210440" y="3352680"/>
          <a:ext cx="1406520" cy="158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10440" y="3352680"/>
                    <a:ext cx="140652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15"/>
          <p:cNvGraphicFramePr/>
          <p:nvPr/>
        </p:nvGraphicFramePr>
        <p:xfrm>
          <a:off x="7236000" y="1700280"/>
          <a:ext cx="1403280" cy="14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6000" y="1700280"/>
                    <a:ext cx="14032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Line 7"/>
          <p:cNvSpPr/>
          <p:nvPr/>
        </p:nvSpPr>
        <p:spPr>
          <a:xfrm>
            <a:off x="3635280" y="206064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9"/>
          <p:cNvSpPr/>
          <p:nvPr/>
        </p:nvSpPr>
        <p:spPr>
          <a:xfrm>
            <a:off x="3643200" y="2071800"/>
            <a:ext cx="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0"/>
          <p:cNvSpPr/>
          <p:nvPr/>
        </p:nvSpPr>
        <p:spPr>
          <a:xfrm flipV="1">
            <a:off x="3643200" y="3068280"/>
            <a:ext cx="107316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1"/>
          <p:cNvSpPr/>
          <p:nvPr/>
        </p:nvSpPr>
        <p:spPr>
          <a:xfrm flipV="1">
            <a:off x="4714920" y="2071800"/>
            <a:ext cx="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4" name="Object 23"/>
          <p:cNvGraphicFramePr/>
          <p:nvPr/>
        </p:nvGraphicFramePr>
        <p:xfrm>
          <a:off x="395280" y="3429000"/>
          <a:ext cx="1498680" cy="154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5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3429000"/>
                    <a:ext cx="14986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25"/>
          <p:cNvGraphicFramePr/>
          <p:nvPr/>
        </p:nvGraphicFramePr>
        <p:xfrm>
          <a:off x="3851280" y="5300640"/>
          <a:ext cx="1584360" cy="14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7" name="Object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51280" y="5300640"/>
                    <a:ext cx="158436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26"/>
          <p:cNvGraphicFramePr/>
          <p:nvPr/>
        </p:nvGraphicFramePr>
        <p:xfrm>
          <a:off x="1763640" y="5013360"/>
          <a:ext cx="1338480" cy="1352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9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63640" y="5013360"/>
                    <a:ext cx="13384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27"/>
          <p:cNvGraphicFramePr/>
          <p:nvPr/>
        </p:nvGraphicFramePr>
        <p:xfrm>
          <a:off x="6084720" y="5013360"/>
          <a:ext cx="1656000" cy="1523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51" name="Object 2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84720" y="5013360"/>
                    <a:ext cx="1656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Line 29"/>
          <p:cNvSpPr/>
          <p:nvPr/>
        </p:nvSpPr>
        <p:spPr>
          <a:xfrm>
            <a:off x="1835280" y="2133720"/>
            <a:ext cx="2236680" cy="72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0"/>
          <p:cNvSpPr/>
          <p:nvPr/>
        </p:nvSpPr>
        <p:spPr>
          <a:xfrm flipV="1">
            <a:off x="1979640" y="2928960"/>
            <a:ext cx="2663640" cy="1147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31"/>
          <p:cNvSpPr/>
          <p:nvPr/>
        </p:nvSpPr>
        <p:spPr>
          <a:xfrm flipV="1">
            <a:off x="3143160" y="2357280"/>
            <a:ext cx="1071720" cy="28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2"/>
          <p:cNvSpPr/>
          <p:nvPr/>
        </p:nvSpPr>
        <p:spPr>
          <a:xfrm flipH="1" flipV="1">
            <a:off x="4214880" y="2428560"/>
            <a:ext cx="357120" cy="2800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33"/>
          <p:cNvSpPr/>
          <p:nvPr/>
        </p:nvSpPr>
        <p:spPr>
          <a:xfrm flipH="1">
            <a:off x="3995640" y="2276640"/>
            <a:ext cx="3168720" cy="57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4"/>
          <p:cNvSpPr/>
          <p:nvPr/>
        </p:nvSpPr>
        <p:spPr>
          <a:xfrm flipH="1" flipV="1">
            <a:off x="4214880" y="2357280"/>
            <a:ext cx="3093840" cy="1503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5"/>
          <p:cNvSpPr/>
          <p:nvPr/>
        </p:nvSpPr>
        <p:spPr>
          <a:xfrm flipH="1" flipV="1">
            <a:off x="4428720" y="2499840"/>
            <a:ext cx="2158920" cy="251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36"/>
          <p:cNvSpPr txBox="1"/>
          <p:nvPr/>
        </p:nvSpPr>
        <p:spPr>
          <a:xfrm>
            <a:off x="1042920" y="18900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асположение чудес света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9"/>
          <a:stretch/>
        </p:blipFill>
        <p:spPr>
          <a:xfrm>
            <a:off x="179280" y="5878440"/>
            <a:ext cx="1224000" cy="9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3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6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1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6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7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1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3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7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9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389240" cy="4957920"/>
          </a:xfrm>
          <a:prstGeom prst="rect">
            <a:avLst/>
          </a:prstGeom>
          <a:ln w="57240">
            <a:solidFill>
              <a:srgbClr val="008080"/>
            </a:solidFill>
            <a:miter/>
          </a:ln>
        </p:spPr>
      </p:pic>
      <p:pic>
        <p:nvPicPr>
          <p:cNvPr id="562" name="Picture 7" descr=""/>
          <p:cNvPicPr/>
          <p:nvPr/>
        </p:nvPicPr>
        <p:blipFill>
          <a:blip r:embed="rId2"/>
          <a:stretch/>
        </p:blipFill>
        <p:spPr>
          <a:xfrm>
            <a:off x="0" y="3330720"/>
            <a:ext cx="9144000" cy="3527280"/>
          </a:xfrm>
          <a:prstGeom prst="rect">
            <a:avLst/>
          </a:prstGeom>
          <a:ln w="57240">
            <a:solidFill>
              <a:srgbClr val="008080"/>
            </a:solidFill>
            <a:miter/>
          </a:ln>
        </p:spPr>
      </p:pic>
      <p:sp>
        <p:nvSpPr>
          <p:cNvPr id="563" name="AutoShape 11"/>
          <p:cNvSpPr/>
          <p:nvPr/>
        </p:nvSpPr>
        <p:spPr>
          <a:xfrm rot="16200000">
            <a:off x="5634000" y="1358640"/>
            <a:ext cx="1800360" cy="521964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13"/>
          <p:cNvSpPr txBox="1"/>
          <p:nvPr/>
        </p:nvSpPr>
        <p:spPr>
          <a:xfrm>
            <a:off x="1979640" y="260280"/>
            <a:ext cx="626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ликая пирамид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 Гиз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4356000" y="3141720"/>
            <a:ext cx="446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Фараон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царь в Древнем Егип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умия- тело специально обработанное перед захоронением . Мумии сохраняются в течение многих тысяч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50000">
              <a:srgbClr val="ffffff"/>
            </a:gs>
            <a:gs pos="100000">
              <a:srgbClr val="cc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WordArt 7"/>
          <p:cNvSpPr txBox="1"/>
          <p:nvPr/>
        </p:nvSpPr>
        <p:spPr>
          <a:xfrm>
            <a:off x="1619280" y="476280"/>
            <a:ext cx="662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исячие са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авил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0" y="6356520"/>
            <a:ext cx="611280" cy="501480"/>
          </a:xfrm>
          <a:prstGeom prst="rect">
            <a:avLst/>
          </a:prstGeom>
          <a:ln w="0">
            <a:noFill/>
          </a:ln>
        </p:spPr>
      </p:pic>
      <p:grpSp>
        <p:nvGrpSpPr>
          <p:cNvPr id="568" name=""/>
          <p:cNvGrpSpPr/>
          <p:nvPr/>
        </p:nvGrpSpPr>
        <p:grpSpPr>
          <a:xfrm>
            <a:off x="2700360" y="2060640"/>
            <a:ext cx="5761080" cy="3744720"/>
            <a:chOff x="2700360" y="2060640"/>
            <a:chExt cx="5761080" cy="3744720"/>
          </a:xfrm>
        </p:grpSpPr>
        <p:pic>
          <p:nvPicPr>
            <p:cNvPr id="569" name="Picture 4" descr=""/>
            <p:cNvPicPr/>
            <p:nvPr/>
          </p:nvPicPr>
          <p:blipFill>
            <a:blip r:embed="rId6"/>
            <a:stretch/>
          </p:blipFill>
          <p:spPr>
            <a:xfrm>
              <a:off x="2845080" y="2205000"/>
              <a:ext cx="5532480" cy="34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7"/>
            <a:stretch/>
          </p:blipFill>
          <p:spPr>
            <a:xfrm>
              <a:off x="2845080" y="5661000"/>
              <a:ext cx="5506920" cy="14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8"/>
            <a:stretch/>
          </p:blipFill>
          <p:spPr>
            <a:xfrm>
              <a:off x="2845080" y="2060640"/>
              <a:ext cx="550692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9"/>
            <a:stretch/>
          </p:blipFill>
          <p:spPr>
            <a:xfrm rot="16200000">
              <a:off x="6516720" y="3860640"/>
              <a:ext cx="374472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10"/>
            <a:stretch/>
          </p:blipFill>
          <p:spPr>
            <a:xfrm rot="16200000">
              <a:off x="900360" y="3860640"/>
              <a:ext cx="3744720" cy="14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"/>
          <p:cNvGrpSpPr/>
          <p:nvPr/>
        </p:nvGrpSpPr>
        <p:grpSpPr>
          <a:xfrm>
            <a:off x="1547640" y="4797360"/>
            <a:ext cx="4392720" cy="1440000"/>
            <a:chOff x="1547640" y="4797360"/>
            <a:chExt cx="4392720" cy="1440000"/>
          </a:xfrm>
        </p:grpSpPr>
        <p:pic>
          <p:nvPicPr>
            <p:cNvPr id="575" name="Picture 19" descr="Свиток"/>
            <p:cNvPicPr/>
            <p:nvPr/>
          </p:nvPicPr>
          <p:blipFill>
            <a:blip r:embed="rId11"/>
            <a:stretch/>
          </p:blipFill>
          <p:spPr>
            <a:xfrm>
              <a:off x="1547640" y="4797360"/>
              <a:ext cx="43927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Text Box 10"/>
            <p:cNvSpPr/>
            <p:nvPr/>
          </p:nvSpPr>
          <p:spPr>
            <a:xfrm>
              <a:off x="1835280" y="494172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3300"/>
                  </a:solidFill>
                  <a:latin typeface="Arial"/>
                </a:rPr>
                <a:t>Стены Вавилона были облицованы голубой плиткой и украшены изображениями животных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fb3"/>
            </a:gs>
            <a:gs pos="50000">
              <a:srgbClr val="ffe18b"/>
            </a:gs>
            <a:gs pos="100000">
              <a:srgbClr val="b3ffb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"/>
          <p:cNvPicPr/>
          <p:nvPr/>
        </p:nvPicPr>
        <p:blipFill>
          <a:blip r:embed="rId1"/>
          <a:stretch/>
        </p:blipFill>
        <p:spPr>
          <a:xfrm>
            <a:off x="1231920" y="2203560"/>
            <a:ext cx="5226120" cy="36590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  <p:pic>
        <p:nvPicPr>
          <p:cNvPr id="578" name="Picture 7" descr=""/>
          <p:cNvPicPr/>
          <p:nvPr/>
        </p:nvPicPr>
        <p:blipFill>
          <a:blip r:embed="rId2"/>
          <a:stretch/>
        </p:blipFill>
        <p:spPr>
          <a:xfrm>
            <a:off x="7451640" y="2133720"/>
            <a:ext cx="1184400" cy="280332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  <p:sp>
        <p:nvSpPr>
          <p:cNvPr id="579" name="WordArt 15"/>
          <p:cNvSpPr txBox="1"/>
          <p:nvPr/>
        </p:nvSpPr>
        <p:spPr>
          <a:xfrm>
            <a:off x="1476360" y="404640"/>
            <a:ext cx="73454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Храм Артеммид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 Эфес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116000" y="5229360"/>
            <a:ext cx="8028000" cy="1631160"/>
            <a:chOff x="1116000" y="5229360"/>
            <a:chExt cx="8028000" cy="1631160"/>
          </a:xfrm>
        </p:grpSpPr>
        <p:sp>
          <p:nvSpPr>
            <p:cNvPr id="581" name="AutoShape 16"/>
            <p:cNvSpPr/>
            <p:nvPr/>
          </p:nvSpPr>
          <p:spPr>
            <a:xfrm>
              <a:off x="1116000" y="5229360"/>
              <a:ext cx="8028000" cy="162864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e6ddd2">
                    <a:alpha val="90196"/>
                  </a:srgbClr>
                </a:gs>
                <a:gs pos="100000">
                  <a:srgbClr val="6a6661"/>
                </a:gs>
              </a:gsLst>
              <a:lin ang="5400000"/>
            </a:gra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1403280" y="5362560"/>
              <a:ext cx="7201080" cy="149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8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Гигантский </a:t>
              </a:r>
              <a:r>
                <a:rPr b="1" lang="en-US" sz="1800" spc="-1" strike="noStrike">
                  <a:solidFill>
                    <a:srgbClr val="ea3c51"/>
                  </a:solidFill>
                  <a:latin typeface="Arial"/>
                </a:rPr>
                <a:t>храм</a:t>
              </a:r>
              <a:r>
                <a:rPr b="1" lang="en-US" sz="1800" spc="-1" strike="noStrike">
                  <a:solidFill>
                    <a:srgbClr val="f1415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богини охоты </a:t>
              </a:r>
              <a:r>
                <a:rPr b="1" lang="en-US" sz="1800" spc="-1" strike="noStrike">
                  <a:solidFill>
                    <a:srgbClr val="ea3c51"/>
                  </a:solidFill>
                  <a:latin typeface="Arial"/>
                </a:rPr>
                <a:t>Артемиды</a:t>
              </a: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 в городе Эфесе в Малой Азии. Он был построен в 6 веке до нашей эры, но был сожжен. Храм поражал великолепием и громадными размерами</a:t>
              </a:r>
              <a:r>
                <a:rPr b="0" lang="en-US" sz="1800" spc="-1" strike="noStrike">
                  <a:solidFill>
                    <a:srgbClr val="292929"/>
                  </a:solidFill>
                  <a:latin typeface="Arial"/>
                </a:rPr>
                <a:t>. </a:t>
              </a: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Почти </a:t>
              </a:r>
              <a:r>
                <a:rPr b="1" lang="en-US" sz="1800" spc="-1" strike="noStrike">
                  <a:solidFill>
                    <a:srgbClr val="ea3c51"/>
                  </a:solidFill>
                  <a:latin typeface="Arial"/>
                </a:rPr>
                <a:t>200 лет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292929"/>
                  </a:solidFill>
                  <a:latin typeface="Arial"/>
                </a:rPr>
                <a:t>простоял храм в Эфес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" descr=""/>
          <p:cNvPicPr/>
          <p:nvPr/>
        </p:nvPicPr>
        <p:blipFill>
          <a:blip r:embed="rId3"/>
          <a:stretch/>
        </p:blipFill>
        <p:spPr>
          <a:xfrm>
            <a:off x="0" y="6076800"/>
            <a:ext cx="847800" cy="781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7056360" cy="424800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sp>
        <p:nvSpPr>
          <p:cNvPr id="585" name="WordArt 7"/>
          <p:cNvSpPr txBox="1"/>
          <p:nvPr/>
        </p:nvSpPr>
        <p:spPr>
          <a:xfrm>
            <a:off x="1332000" y="692280"/>
            <a:ext cx="6769080" cy="14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0076"/>
                    </a:gs>
                    <a:gs pos="100000">
                      <a:srgbClr val="0000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Храм Артемиды в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0076"/>
                  </a:gs>
                  <a:gs pos="100000">
                    <a:srgbClr val="0000ff"/>
                  </a:gs>
                </a:gsLst>
                <a:lin ang="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0076"/>
                    </a:gs>
                    <a:gs pos="100000">
                      <a:srgbClr val="0000ff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ши дн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0076"/>
                  </a:gs>
                  <a:gs pos="100000">
                    <a:srgbClr val="0000ff"/>
                  </a:gs>
                </a:gsLst>
                <a:lin ang="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 flipH="1">
            <a:off x="0" y="5872320"/>
            <a:ext cx="1008000" cy="98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WordArt 7"/>
          <p:cNvSpPr txBox="1"/>
          <p:nvPr/>
        </p:nvSpPr>
        <p:spPr>
          <a:xfrm rot="573000">
            <a:off x="971280" y="0"/>
            <a:ext cx="6696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30000"/>
                </a:gradFill>
                <a:latin typeface="Impact"/>
              </a:rPr>
              <a:t>Статуя Зев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3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30000"/>
                </a:gradFill>
                <a:latin typeface="Impact"/>
              </a:rPr>
              <a:t>в Олимп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30000"/>
              </a:gradFill>
              <a:latin typeface="Impact"/>
              <a:ea typeface="Impact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68360" y="1413000"/>
            <a:ext cx="4114800" cy="5445000"/>
            <a:chOff x="468360" y="1413000"/>
            <a:chExt cx="4114800" cy="5445000"/>
          </a:xfrm>
        </p:grpSpPr>
        <p:pic>
          <p:nvPicPr>
            <p:cNvPr id="589" name="Picture 4" descr=""/>
            <p:cNvPicPr/>
            <p:nvPr/>
          </p:nvPicPr>
          <p:blipFill>
            <a:blip r:embed="rId2"/>
            <a:stretch/>
          </p:blipFill>
          <p:spPr>
            <a:xfrm>
              <a:off x="540000" y="1484280"/>
              <a:ext cx="3960720" cy="5373720"/>
            </a:xfrm>
            <a:prstGeom prst="rect">
              <a:avLst/>
            </a:prstGeom>
            <a:ln w="66600">
              <a:solidFill>
                <a:srgbClr val="43294d"/>
              </a:solidFill>
              <a:miter/>
            </a:ln>
          </p:spPr>
        </p:pic>
        <p:pic>
          <p:nvPicPr>
            <p:cNvPr id="590" name="" descr=""/>
            <p:cNvPicPr/>
            <p:nvPr/>
          </p:nvPicPr>
          <p:blipFill>
            <a:blip r:embed="rId3"/>
            <a:stretch/>
          </p:blipFill>
          <p:spPr>
            <a:xfrm>
              <a:off x="468360" y="1413000"/>
              <a:ext cx="4103640" cy="1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4"/>
            <a:stretch/>
          </p:blipFill>
          <p:spPr>
            <a:xfrm>
              <a:off x="468360" y="6659640"/>
              <a:ext cx="4103640" cy="19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5"/>
            <a:stretch/>
          </p:blipFill>
          <p:spPr>
            <a:xfrm rot="5400000">
              <a:off x="-2110320" y="4062960"/>
              <a:ext cx="537372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6"/>
            <a:stretch/>
          </p:blipFill>
          <p:spPr>
            <a:xfrm rot="5400000">
              <a:off x="1819080" y="4094280"/>
              <a:ext cx="5300640" cy="22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"/>
          <p:cNvGrpSpPr/>
          <p:nvPr/>
        </p:nvGrpSpPr>
        <p:grpSpPr>
          <a:xfrm>
            <a:off x="5076720" y="1628640"/>
            <a:ext cx="3889440" cy="5496840"/>
            <a:chOff x="5076720" y="1628640"/>
            <a:chExt cx="3889440" cy="5496840"/>
          </a:xfrm>
        </p:grpSpPr>
        <p:grpSp>
          <p:nvGrpSpPr>
            <p:cNvPr id="595" name=""/>
            <p:cNvGrpSpPr/>
            <p:nvPr/>
          </p:nvGrpSpPr>
          <p:grpSpPr>
            <a:xfrm>
              <a:off x="5076720" y="1628640"/>
              <a:ext cx="3889440" cy="5496840"/>
              <a:chOff x="5076720" y="1628640"/>
              <a:chExt cx="3889440" cy="5496840"/>
            </a:xfrm>
          </p:grpSpPr>
          <p:pic>
            <p:nvPicPr>
              <p:cNvPr id="596" name="Picture 19" descr="Свиток"/>
              <p:cNvPicPr/>
              <p:nvPr/>
            </p:nvPicPr>
            <p:blipFill>
              <a:blip r:embed="rId7"/>
              <a:stretch/>
            </p:blipFill>
            <p:spPr>
              <a:xfrm>
                <a:off x="5076720" y="1628640"/>
                <a:ext cx="3816360" cy="522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9"/>
              <p:cNvSpPr/>
              <p:nvPr/>
            </p:nvSpPr>
            <p:spPr>
              <a:xfrm>
                <a:off x="5292720" y="1700280"/>
                <a:ext cx="3673440" cy="542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8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Среди семи чудес света и прославленная в древности </a:t>
                </a: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статуя царя богов Зевс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в храме в Олимпии работы великого </a:t>
                </a:r>
                <a:r>
                  <a:rPr b="1" lang="en-US" sz="1800" spc="-1" strike="noStrike">
                    <a:solidFill>
                      <a:srgbClr val="ff6600"/>
                    </a:solidFill>
                    <a:latin typeface="Arial"/>
                  </a:rPr>
                  <a:t>греческого скульптора Фидия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Эту статую скульптор исполнил в особой технике: открытые части тела были выложены пластинами слоновой кости, одеяния — отлиты из золота, основа скульптуры была деревянной. Высота ее достигала 17 метров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8" name="" descr=""/>
            <p:cNvPicPr/>
            <p:nvPr/>
          </p:nvPicPr>
          <p:blipFill>
            <a:blip r:embed="rId8"/>
            <a:stretch/>
          </p:blipFill>
          <p:spPr>
            <a:xfrm>
              <a:off x="5435640" y="6669000"/>
              <a:ext cx="3457440" cy="189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ae5e"/>
            </a:gs>
            <a:gs pos="50000">
              <a:srgbClr val="ffffe1"/>
            </a:gs>
            <a:gs pos="100000">
              <a:srgbClr val="b0ae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9" name="Object 7"/>
          <p:cNvGraphicFramePr/>
          <p:nvPr/>
        </p:nvGraphicFramePr>
        <p:xfrm>
          <a:off x="395280" y="1628640"/>
          <a:ext cx="8086680" cy="44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8086680" cy="4464360"/>
                  </a:xfrm>
                  <a:prstGeom prst="rect">
                    <a:avLst/>
                  </a:prstGeom>
                  <a:ln w="76320">
                    <a:solidFill>
                      <a:srgbClr val="43294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1" name="WordArt 8"/>
          <p:cNvSpPr txBox="1"/>
          <p:nvPr/>
        </p:nvSpPr>
        <p:spPr>
          <a:xfrm>
            <a:off x="1042920" y="189000"/>
            <a:ext cx="6913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dcebf5">
                        <a:alpha val="50196"/>
                      </a:srgbClr>
                    </a:gs>
                    <a:gs pos="50000">
                      <a:srgbClr val="55261c"/>
                    </a:gs>
                    <a:gs pos="100000">
                      <a:srgbClr val="dcebf5">
                        <a:alpha val="50196"/>
                      </a:srgbClr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рам Зевса в </a:t>
            </a:r>
            <a:endParaRPr b="0" lang="en-US" sz="1800" spc="1" strike="noStrike">
              <a:ln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dcebf5">
                      <a:alpha val="50196"/>
                    </a:srgbClr>
                  </a:gs>
                  <a:gs pos="50000">
                    <a:srgbClr val="55261c"/>
                  </a:gs>
                  <a:gs pos="100000">
                    <a:srgbClr val="dcebf5">
                      <a:alpha val="50196"/>
                    </a:srgbClr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dcebf5">
                        <a:alpha val="50196"/>
                      </a:srgbClr>
                    </a:gs>
                    <a:gs pos="50000">
                      <a:srgbClr val="55261c"/>
                    </a:gs>
                    <a:gs pos="100000">
                      <a:srgbClr val="dcebf5">
                        <a:alpha val="50196"/>
                      </a:srgbClr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лимпии в наши дни</a:t>
            </a:r>
            <a:endParaRPr b="0" lang="en-US" sz="1800" spc="1" strike="noStrike">
              <a:ln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dcebf5">
                      <a:alpha val="50196"/>
                    </a:srgbClr>
                  </a:gs>
                  <a:gs pos="50000">
                    <a:srgbClr val="55261c"/>
                  </a:gs>
                  <a:gs pos="100000">
                    <a:srgbClr val="dcebf5">
                      <a:alpha val="50196"/>
                    </a:srgbClr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7493040" y="0"/>
            <a:ext cx="1650960" cy="15336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4"/>
          <a:stretch/>
        </p:blipFill>
        <p:spPr>
          <a:xfrm rot="5400000">
            <a:off x="7725960" y="5440320"/>
            <a:ext cx="1359000" cy="147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Object 4"/>
          <p:cNvGraphicFramePr/>
          <p:nvPr/>
        </p:nvGraphicFramePr>
        <p:xfrm>
          <a:off x="611280" y="1773360"/>
          <a:ext cx="3687840" cy="38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73360"/>
                    <a:ext cx="3687840" cy="3895560"/>
                  </a:xfrm>
                  <a:prstGeom prst="rect">
                    <a:avLst/>
                  </a:prstGeom>
                  <a:ln w="76320">
                    <a:solidFill>
                      <a:srgbClr val="6633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06" name="Picture 7" descr=""/>
          <p:cNvPicPr/>
          <p:nvPr/>
        </p:nvPicPr>
        <p:blipFill>
          <a:blip r:embed="rId4"/>
          <a:stretch/>
        </p:blipFill>
        <p:spPr>
          <a:xfrm>
            <a:off x="4140360" y="1700280"/>
            <a:ext cx="787320" cy="19936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607" name="WordArt 11"/>
          <p:cNvSpPr txBox="1"/>
          <p:nvPr/>
        </p:nvSpPr>
        <p:spPr>
          <a:xfrm>
            <a:off x="1476360" y="404640"/>
            <a:ext cx="67676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аликарнасский мавзолей</a:t>
            </a:r>
            <a:endParaRPr b="0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826920" y="5589720"/>
            <a:ext cx="3816360" cy="1079280"/>
            <a:chOff x="826920" y="5589720"/>
            <a:chExt cx="3816360" cy="1079280"/>
          </a:xfrm>
        </p:grpSpPr>
        <p:sp>
          <p:nvSpPr>
            <p:cNvPr id="609" name="AutoShape 10"/>
            <p:cNvSpPr/>
            <p:nvPr/>
          </p:nvSpPr>
          <p:spPr>
            <a:xfrm>
              <a:off x="826920" y="5589720"/>
              <a:ext cx="3816360" cy="1079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76765e"/>
                </a:gs>
                <a:gs pos="50000">
                  <a:srgbClr val="ffffcc"/>
                </a:gs>
                <a:gs pos="100000">
                  <a:srgbClr val="76765e"/>
                </a:gs>
              </a:gsLst>
              <a:lin ang="18900000"/>
            </a:gra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 Box 12"/>
            <p:cNvSpPr/>
            <p:nvPr/>
          </p:nvSpPr>
          <p:spPr>
            <a:xfrm>
              <a:off x="1187280" y="5661000"/>
              <a:ext cx="338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егодня </a:t>
              </a: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мавзолеем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зывают любую величественную фигу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003640" y="1989000"/>
            <a:ext cx="3961080" cy="4877280"/>
            <a:chOff x="5003640" y="1989000"/>
            <a:chExt cx="3961080" cy="4877280"/>
          </a:xfrm>
        </p:grpSpPr>
        <p:sp>
          <p:nvSpPr>
            <p:cNvPr id="612" name="AutoShape 13"/>
            <p:cNvSpPr/>
            <p:nvPr/>
          </p:nvSpPr>
          <p:spPr>
            <a:xfrm>
              <a:off x="5003640" y="1989000"/>
              <a:ext cx="3961080" cy="45817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76765e"/>
                </a:gs>
                <a:gs pos="100000">
                  <a:srgbClr val="ffffcc"/>
                </a:gs>
              </a:gsLst>
              <a:lin ang="18900000"/>
            </a:gra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14"/>
            <p:cNvSpPr/>
            <p:nvPr/>
          </p:nvSpPr>
          <p:spPr>
            <a:xfrm>
              <a:off x="5003640" y="2143080"/>
              <a:ext cx="3888000" cy="47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8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оло 1800 лет назад там же, в Малой Азии, простоял другой великий памятник —</a:t>
              </a:r>
              <a:r>
                <a:rPr b="0" lang="ru-RU" sz="1800" spc="-1" strike="noStrike">
                  <a:solidFill>
                    <a:srgbClr val="800000"/>
                  </a:solidFill>
                  <a:latin typeface="Arial"/>
                </a:rPr>
                <a:t> усыпальница царя Мавсол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отсюда слово «Мавзолей») в Галикарнасе. В 15 веке мавзолей был разобран крестоносцами, укрепившими его плитами свою крепость. Именно в стенах крепости и окрестных домов были обнаружены в 1857 году рельефы с гробницы, статуи Мавсола и его жены Артемиси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8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" nodeType="afterEffect" fill="hold" presetClass="entr" presetID="8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3:11:44Z</dcterms:created>
  <dc:creator>Рома</dc:creator>
  <dc:description/>
  <dc:language>en-US</dc:language>
  <cp:lastModifiedBy>Рома</cp:lastModifiedBy>
  <dcterms:modified xsi:type="dcterms:W3CDTF">2009-04-26T14:26:03Z</dcterms:modified>
  <cp:revision>42</cp:revision>
  <dc:subject/>
  <dc:title>Слайд 1</dc:title>
</cp:coreProperties>
</file>