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170-B360-46AC-B5E3-5B1E8C1B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598-264A-41D7-A41A-9C791860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EED-117C-441A-88A6-020EF8EC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DB9-AA8D-46A8-81E1-177B6391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849-03EB-4ADD-B887-81074465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6B9-3EF1-4839-8E96-27CEA2E8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959-8F39-41CD-89BF-9E04AB40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752-4967-4427-99DC-9DB21C96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672-4D52-4EE6-9101-C0EA2B47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BDE-289A-4B07-9364-87F653C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771-927A-4290-9B2D-F1739CE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70A-70AB-433D-93FE-19CF1F8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387B-3E95-4463-ADAD-A99605F05A3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600" y="3429000"/>
            <a:ext cx="7745400" cy="235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2b2b2"/>
                </a:solidFill>
                <a:latin typeface="Arial"/>
              </a:rPr>
              <a:t>Чуткая </a:t>
            </a:r>
            <a:r>
              <a:rPr b="0" lang="ru-RU" sz="7200" spc="-1" strike="noStrike">
                <a:solidFill>
                  <a:srgbClr val="b2b2b2"/>
                </a:solidFill>
                <a:latin typeface="Arial"/>
              </a:rPr>
              <a:t>Субарктика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57120" y="35712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26920" y="2071800"/>
            <a:ext cx="774576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2b2b2"/>
                </a:solidFill>
                <a:latin typeface="Arial"/>
              </a:rPr>
              <a:t>Растительное сообществ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3348000" y="5057640"/>
            <a:ext cx="3095640" cy="1800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одный ветер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ого Ледовит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2556000" y="4941720"/>
            <a:ext cx="576000" cy="505080"/>
            <a:chOff x="2556000" y="4941720"/>
            <a:chExt cx="576000" cy="505080"/>
          </a:xfrm>
        </p:grpSpPr>
        <p:sp>
          <p:nvSpPr>
            <p:cNvPr id="108" name="Line 12"/>
            <p:cNvSpPr/>
            <p:nvPr/>
          </p:nvSpPr>
          <p:spPr>
            <a:xfrm>
              <a:off x="2556000" y="5171400"/>
              <a:ext cx="5760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2844000" y="4941720"/>
              <a:ext cx="0" cy="5050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Oval 5"/>
          <p:cNvSpPr/>
          <p:nvPr/>
        </p:nvSpPr>
        <p:spPr>
          <a:xfrm>
            <a:off x="0" y="3284640"/>
            <a:ext cx="3095640" cy="18000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ольшой снеж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6372360" y="4724280"/>
            <a:ext cx="576000" cy="505080"/>
            <a:chOff x="6372360" y="4724280"/>
            <a:chExt cx="576000" cy="505080"/>
          </a:xfrm>
        </p:grpSpPr>
        <p:sp>
          <p:nvSpPr>
            <p:cNvPr id="112" name="Line 9"/>
            <p:cNvSpPr/>
            <p:nvPr/>
          </p:nvSpPr>
          <p:spPr>
            <a:xfrm>
              <a:off x="6372360" y="4953960"/>
              <a:ext cx="5760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6660360" y="4724280"/>
              <a:ext cx="0" cy="5050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Oval 6"/>
          <p:cNvSpPr/>
          <p:nvPr/>
        </p:nvSpPr>
        <p:spPr>
          <a:xfrm>
            <a:off x="5724360" y="3141720"/>
            <a:ext cx="2951280" cy="15825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ровая з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rot="16200000">
            <a:off x="3961440" y="3751560"/>
            <a:ext cx="1366920" cy="7207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2627280" y="2205000"/>
            <a:ext cx="3457440" cy="2089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я тунд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зкоросл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жаты к зем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 защище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ежным покров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 ветра и моро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30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DSC01672"/>
          <p:cNvPicPr/>
          <p:nvPr/>
        </p:nvPicPr>
        <p:blipFill>
          <a:blip r:embed="rId1"/>
          <a:srcRect l="5881" t="5229" r="3923" b="34641"/>
          <a:stretch/>
        </p:blipFill>
        <p:spPr>
          <a:xfrm>
            <a:off x="0" y="2243160"/>
            <a:ext cx="9144000" cy="46148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971640" y="260280"/>
            <a:ext cx="7115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вотные – обитатели тунд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роме северных оленей, в тундре распространены мелкие грызуны – лемминги, за которыми охотятся песцы, волки и полярные совы. Летом в тундру прилетают огромные стаи перелетных птиц. На многочисленных тундровых озерах кормятся и гнездятся водоплавающие птицы: полярные гуси, лебеди, различные виды уток. Заходит в тундру и властелин Арктики – полярный (белый) медведь. В зоне тундр для охраны животного мира создано несколько заповедников, самый крупный из которых – Таймырск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826920" y="2071800"/>
            <a:ext cx="774576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2b2b2"/>
                </a:solidFill>
                <a:latin typeface="Arial"/>
              </a:rPr>
              <a:t>Животное сообществ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2987640" y="5057640"/>
            <a:ext cx="3095640" cy="1800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одный ветер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ого Ледовит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2124000" y="5950080"/>
            <a:ext cx="576360" cy="503280"/>
            <a:chOff x="2124000" y="5950080"/>
            <a:chExt cx="576360" cy="503280"/>
          </a:xfrm>
        </p:grpSpPr>
        <p:sp>
          <p:nvSpPr>
            <p:cNvPr id="124" name="Line 10"/>
            <p:cNvSpPr/>
            <p:nvPr/>
          </p:nvSpPr>
          <p:spPr>
            <a:xfrm>
              <a:off x="2124000" y="6178680"/>
              <a:ext cx="57636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1"/>
            <p:cNvSpPr/>
            <p:nvPr/>
          </p:nvSpPr>
          <p:spPr>
            <a:xfrm>
              <a:off x="2412000" y="5950080"/>
              <a:ext cx="0" cy="5032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Oval 4"/>
          <p:cNvSpPr/>
          <p:nvPr/>
        </p:nvSpPr>
        <p:spPr>
          <a:xfrm>
            <a:off x="0" y="4653000"/>
            <a:ext cx="2590920" cy="1484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ровая з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6156360" y="5877000"/>
            <a:ext cx="576360" cy="503280"/>
            <a:chOff x="6156360" y="5877000"/>
            <a:chExt cx="576360" cy="503280"/>
          </a:xfrm>
        </p:grpSpPr>
        <p:sp>
          <p:nvSpPr>
            <p:cNvPr id="128" name="Line 10"/>
            <p:cNvSpPr/>
            <p:nvPr/>
          </p:nvSpPr>
          <p:spPr>
            <a:xfrm>
              <a:off x="6156360" y="6105600"/>
              <a:ext cx="57636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444360" y="5877000"/>
              <a:ext cx="0" cy="5032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Oval 8"/>
          <p:cNvSpPr/>
          <p:nvPr/>
        </p:nvSpPr>
        <p:spPr>
          <a:xfrm>
            <a:off x="6478560" y="4653000"/>
            <a:ext cx="2665440" cy="158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еж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4140360" y="4653000"/>
            <a:ext cx="649080" cy="503280"/>
            <a:chOff x="4140360" y="4653000"/>
            <a:chExt cx="649080" cy="503280"/>
          </a:xfrm>
        </p:grpSpPr>
        <p:sp>
          <p:nvSpPr>
            <p:cNvPr id="132" name="Line 10"/>
            <p:cNvSpPr/>
            <p:nvPr/>
          </p:nvSpPr>
          <p:spPr>
            <a:xfrm>
              <a:off x="4140360" y="4881600"/>
              <a:ext cx="649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4464720" y="4653000"/>
              <a:ext cx="0" cy="5032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Oval 4"/>
          <p:cNvSpPr/>
          <p:nvPr/>
        </p:nvSpPr>
        <p:spPr>
          <a:xfrm>
            <a:off x="1619280" y="3429000"/>
            <a:ext cx="2590920" cy="1484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у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4390920" y="2421000"/>
            <a:ext cx="4753080" cy="1728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ый слой жи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стой ме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тное опе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чевание, линь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ровный окр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 rot="17923200">
            <a:off x="5402160" y="4326840"/>
            <a:ext cx="1306440" cy="5191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0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3132000" y="2924280"/>
            <a:ext cx="3024360" cy="1296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3203640" y="2997360"/>
            <a:ext cx="2736720" cy="10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ундры 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есотундры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2556000" y="260280"/>
            <a:ext cx="3959280" cy="2138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Прохладное короткое ле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Суровая холодная зи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Избыточное увлажн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Сильные ве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5581800" y="1413000"/>
            <a:ext cx="3562200" cy="2138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0" y="1557360"/>
            <a:ext cx="3562200" cy="2138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6"/>
          <p:cNvSpPr/>
          <p:nvPr/>
        </p:nvSpPr>
        <p:spPr>
          <a:xfrm>
            <a:off x="539640" y="3933720"/>
            <a:ext cx="3562560" cy="2138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7"/>
          <p:cNvSpPr/>
          <p:nvPr/>
        </p:nvSpPr>
        <p:spPr>
          <a:xfrm>
            <a:off x="4932360" y="4005360"/>
            <a:ext cx="3562200" cy="2138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18"/>
          <p:cNvSpPr txBox="1"/>
          <p:nvPr/>
        </p:nvSpPr>
        <p:spPr>
          <a:xfrm>
            <a:off x="3276720" y="260280"/>
            <a:ext cx="252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убарктический климат</a:t>
            </a:r>
            <a:endParaRPr b="1" i="1" lang="en-US" sz="16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5724360" y="1700280"/>
            <a:ext cx="35640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Тундрово-глеев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Недостаток кисл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Чётко выраженный глеевый горизон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Переувлажнение и заболоч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Малое содержание гуму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21"/>
          <p:cNvSpPr txBox="1"/>
          <p:nvPr/>
        </p:nvSpPr>
        <p:spPr>
          <a:xfrm rot="21448800">
            <a:off x="755640" y="155700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67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елове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67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395280" y="2060640"/>
            <a:ext cx="26654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Кочевой образ жизни</a:t>
            </a: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Оленевод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Рыболов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Ох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508720" y="4508640"/>
            <a:ext cx="287964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Мохово-лишайниковый пок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Многолетние раст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Подушкообраз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Стелющие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Кустар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5435640" y="4076640"/>
            <a:ext cx="244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тительное сообщество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1403280" y="4292640"/>
            <a:ext cx="323856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Кочующее жильё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Перелётные птиц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Покровный окрас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Запас жи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Тёплый мех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Линьк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WordArt 28"/>
          <p:cNvSpPr txBox="1"/>
          <p:nvPr/>
        </p:nvSpPr>
        <p:spPr>
          <a:xfrm>
            <a:off x="1116000" y="3933720"/>
            <a:ext cx="244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вотное сообщество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31"/>
          <p:cNvSpPr txBox="1"/>
          <p:nvPr/>
        </p:nvSpPr>
        <p:spPr>
          <a:xfrm>
            <a:off x="6732720" y="1413000"/>
            <a:ext cx="129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чвы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Цель проведения интегрированного </a:t>
            </a: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урок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ть взаимосвязь живых организмов с   неживыми компонентами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учать умению предвидеть последствия изменений любой части сист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ять знания в новой проблемн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762120" y="56386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ктические пусты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2120" y="6172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она тунд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0" y="5638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ласти высотной поя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419720" y="5638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она тайг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28600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она лесотунд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419720" y="6019920"/>
            <a:ext cx="2133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она               смешанных            ле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791320" y="563868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556f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ироколиственные ле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791320" y="6248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состеп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8077320" y="5638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п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746748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пусты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2" descr="DSC01667"/>
          <p:cNvPicPr/>
          <p:nvPr/>
        </p:nvPicPr>
        <p:blipFill>
          <a:blip r:embed="rId1"/>
          <a:srcRect l="1943" t="5177" r="2912" b="17153"/>
          <a:stretch/>
        </p:blipFill>
        <p:spPr>
          <a:xfrm>
            <a:off x="0" y="0"/>
            <a:ext cx="9144000" cy="559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395280" y="620640"/>
            <a:ext cx="856944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Природная зона тундры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соответствует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субарктическому  климатическому поясу.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Границы тундровой зоны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приблизительно повторяют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контуры береговой линии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5435640" y="404640"/>
            <a:ext cx="3166920" cy="1656000"/>
          </a:xfrm>
          <a:prstGeom prst="ellipse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барктиче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лим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571920" y="5000760"/>
            <a:ext cx="1792080" cy="15001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ч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611280" y="5143680"/>
            <a:ext cx="2303280" cy="13096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д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00-400мм в го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6500880" y="3000240"/>
            <a:ext cx="2392200" cy="1214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увлаж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539640" y="1643040"/>
            <a:ext cx="2448000" cy="1214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й уг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ния солнеч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916360" y="2928960"/>
            <a:ext cx="3095640" cy="16430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одный ветер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ого Ледовит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250920" y="3214800"/>
            <a:ext cx="2590560" cy="11937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ровая з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6012000" y="5013360"/>
            <a:ext cx="2376360" cy="15001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е испар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692360" y="28526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1500120" y="4429080"/>
            <a:ext cx="50760" cy="72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 flipV="1">
            <a:off x="2928960" y="5785920"/>
            <a:ext cx="642960" cy="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 flipV="1">
            <a:off x="5357880" y="5715000"/>
            <a:ext cx="57132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V="1">
            <a:off x="7358040" y="4214880"/>
            <a:ext cx="192240" cy="71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1"/>
          <p:cNvGrpSpPr/>
          <p:nvPr/>
        </p:nvGrpSpPr>
        <p:grpSpPr>
          <a:xfrm>
            <a:off x="6084720" y="3573360"/>
            <a:ext cx="360360" cy="360360"/>
            <a:chOff x="6084720" y="3573360"/>
            <a:chExt cx="360360" cy="360360"/>
          </a:xfrm>
        </p:grpSpPr>
        <p:sp>
          <p:nvSpPr>
            <p:cNvPr id="80" name="Line 19"/>
            <p:cNvSpPr/>
            <p:nvPr/>
          </p:nvSpPr>
          <p:spPr>
            <a:xfrm>
              <a:off x="6084720" y="3737160"/>
              <a:ext cx="360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>
              <a:off x="6264720" y="357336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AutoShape 24"/>
          <p:cNvSpPr/>
          <p:nvPr/>
        </p:nvSpPr>
        <p:spPr>
          <a:xfrm rot="2168400">
            <a:off x="5194440" y="1663200"/>
            <a:ext cx="514080" cy="1471680"/>
          </a:xfrm>
          <a:prstGeom prst="upArrow">
            <a:avLst>
              <a:gd name="adj1" fmla="val 28815"/>
              <a:gd name="adj2" fmla="val 820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349200" y="149400"/>
            <a:ext cx="3583080" cy="12157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та 66,5° с.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1763640" y="1341360"/>
            <a:ext cx="214560" cy="357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2124000" y="4365720"/>
            <a:ext cx="1571760" cy="100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411280" y="4221000"/>
            <a:ext cx="3714840" cy="1071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24000" y="2349360"/>
            <a:ext cx="86626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b2b2b2"/>
                </a:solidFill>
                <a:latin typeface="Arial"/>
              </a:rPr>
              <a:t>Почв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755640" y="5373720"/>
            <a:ext cx="2857680" cy="10000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ч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364000" y="5157720"/>
            <a:ext cx="2857680" cy="13669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к теп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1979640" y="4724280"/>
            <a:ext cx="500040" cy="447840"/>
            <a:chOff x="1979640" y="4724280"/>
            <a:chExt cx="500040" cy="447840"/>
          </a:xfrm>
        </p:grpSpPr>
        <p:sp>
          <p:nvSpPr>
            <p:cNvPr id="91" name="Line 8"/>
            <p:cNvSpPr/>
            <p:nvPr/>
          </p:nvSpPr>
          <p:spPr>
            <a:xfrm>
              <a:off x="1979640" y="4927680"/>
              <a:ext cx="500040" cy="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2229480" y="4724280"/>
              <a:ext cx="0" cy="44784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Oval 5"/>
          <p:cNvSpPr/>
          <p:nvPr/>
        </p:nvSpPr>
        <p:spPr>
          <a:xfrm>
            <a:off x="900000" y="3213000"/>
            <a:ext cx="2857680" cy="13669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к теп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4211640" y="5661000"/>
            <a:ext cx="500040" cy="479520"/>
            <a:chOff x="4211640" y="5661000"/>
            <a:chExt cx="500040" cy="479520"/>
          </a:xfrm>
        </p:grpSpPr>
        <p:sp>
          <p:nvSpPr>
            <p:cNvPr id="95" name="Line 8"/>
            <p:cNvSpPr/>
            <p:nvPr/>
          </p:nvSpPr>
          <p:spPr>
            <a:xfrm>
              <a:off x="4211640" y="5878800"/>
              <a:ext cx="500040" cy="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4461480" y="5661000"/>
              <a:ext cx="0" cy="47952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6516720" y="4653000"/>
            <a:ext cx="436680" cy="379440"/>
            <a:chOff x="6516720" y="4653000"/>
            <a:chExt cx="436680" cy="379440"/>
          </a:xfrm>
        </p:grpSpPr>
        <p:sp>
          <p:nvSpPr>
            <p:cNvPr id="98" name="Line 8"/>
            <p:cNvSpPr/>
            <p:nvPr/>
          </p:nvSpPr>
          <p:spPr>
            <a:xfrm>
              <a:off x="6516720" y="4825440"/>
              <a:ext cx="436680" cy="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6734880" y="4653000"/>
              <a:ext cx="0" cy="37944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Oval 6"/>
          <p:cNvSpPr/>
          <p:nvPr/>
        </p:nvSpPr>
        <p:spPr>
          <a:xfrm>
            <a:off x="5364000" y="3213000"/>
            <a:ext cx="2808360" cy="1295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увлаж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 rot="16200000">
            <a:off x="3744000" y="4472640"/>
            <a:ext cx="1440000" cy="647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11280" y="1557360"/>
            <a:ext cx="2643120" cy="14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большие озе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2843280" y="1773360"/>
            <a:ext cx="3600360" cy="201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ндрово-глее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вы мало плодор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изким содержанием гуму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543640" y="1268280"/>
            <a:ext cx="360036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мокарстовые пониж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озобойные трещ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игональные гру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гры пуч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3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3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3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3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3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3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8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8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300"/>
                            </p:stCondLst>
                            <p:childTnLst>
                              <p:par>
                                <p:cTn id="25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5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34:23Z</dcterms:created>
  <dc:creator>biblioteka</dc:creator>
  <dc:description/>
  <dc:language>en-US</dc:language>
  <cp:lastModifiedBy>Наташа</cp:lastModifiedBy>
  <dcterms:modified xsi:type="dcterms:W3CDTF">2013-04-30T04:25:56Z</dcterms:modified>
  <cp:revision>39</cp:revision>
  <dc:subject/>
  <dc:title>Тундра и лесотундра</dc:title>
</cp:coreProperties>
</file>