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5.png" ContentType="image/png"/>
  <Override PartName="/ppt/media/image10.jpeg" ContentType="image/jpeg"/>
  <Override PartName="/ppt/media/click.wav" ContentType="audio/x-wav"/>
  <Override PartName="/ppt/media/image7.png" ContentType="image/png"/>
  <Override PartName="/ppt/media/applause.wav" ContentType="audio/x-wav"/>
  <Override PartName="/ppt/media/image6.jpeg" ContentType="image/jpeg"/>
  <Override PartName="/ppt/media/image4.jpeg" ContentType="image/jpeg"/>
  <Override PartName="/ppt/media/suction.wav" ContentType="audio/x-wav"/>
  <Override PartName="/ppt/media/laser.wav" ContentType="audio/x-wav"/>
  <Override PartName="/ppt/media/image3.png" ContentType="image/png"/>
  <Override PartName="/ppt/media/type.wav" ContentType="audio/x-wav"/>
  <Override PartName="/ppt/media/image2.jpeg" ContentType="image/jpeg"/>
  <Override PartName="/ppt/media/push.wav" ContentType="audio/x-wav"/>
  <Override PartName="/ppt/media/image15.png" ContentType="image/png"/>
  <Override PartName="/ppt/media/image14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explode.wav" ContentType="audio/x-wav"/>
  <Override PartName="/ppt/media/image9.png" ContentType="image/png"/>
  <Override PartName="/ppt/media/chimes.wav" ContentType="audio/x-wav"/>
  <Override PartName="/ppt/media/wind.wav" ContentType="audio/x-wav"/>
  <Override PartName="/ppt/media/image16.jpeg" ContentType="image/jpeg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68C9-9FCC-4436-A906-5B84C7F81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7E89-DBCE-4FB9-87EB-8B4B779D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9F45-C024-423A-A74B-0D8A7ADD1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8453-6BEC-4F74-8FB1-00E1F030A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73A2-5D8E-4A96-99C4-199D4FB8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6CB8-FAB1-4167-89E5-BC9389C6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E194-C251-44CA-8161-C2789C07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C7AC-AB40-4DC7-B393-5D482244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0F46-7C2F-4C3E-ACBA-1B950DA4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FFA8-442F-4306-BB7E-D416CF27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A4BD-E3E1-41C3-92FB-26DF5472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C7B3-BF6A-438E-9E76-DBF48851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B32E-B583-4131-87C1-4DF15956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D514-1FC1-4D3B-81C6-E17AA213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AFC0-9C42-4556-A1BC-03E36C57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A8DA-7C88-4697-BA52-D5738250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29A6-D548-4999-AF54-C66A15EE3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6220-6CE7-48F6-9F2E-A0B1232E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F585-5F68-4121-B977-3084ADF6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08B0-C12A-4F27-9063-5D964F70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30F0-373E-4C96-955B-532E6BF6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B853-12F8-46B2-8007-998FB546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CA7C-6E57-4F36-8EB9-13602A78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9507-3D18-430A-865B-E57C92EF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6CD2-F0DE-40D3-9D9D-B72EEB844B1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6C5D-EB9E-4FCF-945B-4706364CB5CC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hyperlink" Target="http://ru.wikipedia.org/wiki/&#1051;&#1086;&#1085;&#1076;&#1086;&#1085;" TargetMode="External"/><Relationship Id="rId4" Type="http://schemas.openxmlformats.org/officeDocument/2006/relationships/hyperlink" Target="http://ru.wikipedia.org/wiki/&#1042;&#1077;&#1089;&#1090;&#1084;&#1080;&#1085;&#1089;&#1090;&#1077;&#1088;&#1089;&#1082;&#1080;&#1081;_&#1076;&#1074;&#1086;&#1088;&#1077;&#1094;" TargetMode="External"/><Relationship Id="rId5" Type="http://schemas.openxmlformats.org/officeDocument/2006/relationships/image" Target="../media/image4.jpeg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hyperlink" Target="http://ru.wikipedia.org/wiki/&#1058;&#1077;&#1084;&#1079;&#1072;" TargetMode="External"/><Relationship Id="rId4" Type="http://schemas.openxmlformats.org/officeDocument/2006/relationships/hyperlink" Target="http://ru.wikipedia.org/wiki/&#1051;&#1086;&#1085;&#1076;&#1086;&#1085;" TargetMode="External"/><Relationship Id="rId5" Type="http://schemas.openxmlformats.org/officeDocument/2006/relationships/hyperlink" Target="http://ru.wikipedia.org/wiki/&#1042;&#1077;&#1089;&#1090;&#1084;&#1080;&#1085;&#1089;&#1090;&#1077;&#1088;" TargetMode="External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4360" y="47242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Достопримечательности                         Англии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25892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3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250560" y="1981080"/>
            <a:ext cx="87138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lnSpc>
                <a:spcPct val="100000"/>
              </a:lnSpc>
              <a:spcBef>
                <a:spcPts val="11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Проект подготовил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188640" indent="-188640">
              <a:lnSpc>
                <a:spcPct val="100000"/>
              </a:lnSpc>
              <a:spcBef>
                <a:spcPts val="11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Ученик ГОУ ЦО № 1481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188640" indent="-188640">
              <a:lnSpc>
                <a:spcPct val="100000"/>
              </a:lnSpc>
              <a:spcBef>
                <a:spcPts val="11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Малышев Денис</a:t>
            </a: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188640" indent="-188640">
              <a:lnSpc>
                <a:spcPct val="100000"/>
              </a:lnSpc>
              <a:spcBef>
                <a:spcPts val="11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Учитель – Бабылина И.В.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188640" indent="-188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188640" indent="-1886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6000">
    <p:comb dir="vert"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682560" y="158760"/>
            <a:ext cx="7785000" cy="16095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336115438"/>
          <p:cNvPicPr/>
          <p:nvPr/>
        </p:nvPicPr>
        <p:blipFill>
          <a:blip r:embed="rId2"/>
          <a:stretch/>
        </p:blipFill>
        <p:spPr>
          <a:xfrm>
            <a:off x="685800" y="2138400"/>
            <a:ext cx="3814920" cy="35352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Тауэр, на протяжении девятисотлетней истории был крепостью, которая являлась резиденцией королей, оружейным складом и казной, а также тюрьмой и местом казни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Rectangle 2" descr=""/>
          <p:cNvPicPr/>
          <p:nvPr/>
        </p:nvPicPr>
        <p:blipFill>
          <a:blip r:embed="rId1"/>
          <a:stretch/>
        </p:blipFill>
        <p:spPr>
          <a:xfrm>
            <a:off x="682560" y="158760"/>
            <a:ext cx="7785000" cy="160956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Биг-Бен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(</a:t>
            </a:r>
            <a:r>
              <a:rPr b="0" lang="ru-RU" sz="20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англ.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i="1" lang="ru-RU" sz="2000" spc="-1" strike="noStrike">
                <a:solidFill>
                  <a:srgbClr val="ffcc00"/>
                </a:solidFill>
                <a:latin typeface="Arial Black"/>
              </a:rPr>
              <a:t>Big Ben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) — колокольная башня в </a:t>
            </a:r>
            <a:r>
              <a:rPr b="0" lang="ru-RU" sz="20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Лондоне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, часть архитектурного комплекса </a:t>
            </a:r>
            <a:r>
              <a:rPr b="0" lang="ru-RU" sz="20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Вестминстерского дворца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. Официальное наименование — «Часовая башня Вестминстерского дворца», также её называют «Башней Св. Стефана». Собственно «Биг-Бен» — само здание и часы вместе с колоколом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Picture 6" descr="Big_Ben_and_London_Eye"/>
          <p:cNvPicPr/>
          <p:nvPr/>
        </p:nvPicPr>
        <p:blipFill>
          <a:blip r:embed="rId5"/>
          <a:stretch/>
        </p:blipFill>
        <p:spPr>
          <a:xfrm>
            <a:off x="5010120" y="19810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98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Rectangle 2" descr=""/>
          <p:cNvPicPr/>
          <p:nvPr/>
        </p:nvPicPr>
        <p:blipFill>
          <a:blip r:embed="rId1"/>
          <a:stretch/>
        </p:blipFill>
        <p:spPr>
          <a:xfrm>
            <a:off x="682560" y="158760"/>
            <a:ext cx="7785000" cy="28893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Palace_of_Westminster,_London_-_Feb_2007"/>
          <p:cNvPicPr/>
          <p:nvPr/>
        </p:nvPicPr>
        <p:blipFill>
          <a:blip r:embed="rId2"/>
          <a:stretch/>
        </p:blipFill>
        <p:spPr>
          <a:xfrm>
            <a:off x="1332000" y="1981080"/>
            <a:ext cx="6553080" cy="198144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 Black"/>
              </a:rPr>
              <a:t>Вестминстерский дворец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(</a:t>
            </a:r>
            <a:r>
              <a:rPr b="0" i="1" lang="ru-RU" sz="2000" spc="-1" strike="noStrike">
                <a:solidFill>
                  <a:srgbClr val="ffcc00"/>
                </a:solidFill>
                <a:latin typeface="Arial Black"/>
              </a:rPr>
              <a:t>Palace of Westminster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) — здание на берегу </a:t>
            </a:r>
            <a:r>
              <a:rPr b="0" lang="ru-RU" sz="20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Темзы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в </a:t>
            </a:r>
            <a:r>
              <a:rPr b="0" lang="ru-RU" sz="20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лондонском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районе </a:t>
            </a:r>
            <a:r>
              <a:rPr b="0" lang="ru-RU" sz="2000" spc="-1" strike="noStrike" u="sng">
                <a:solidFill>
                  <a:srgbClr val="ff3399"/>
                </a:solidFill>
                <a:uFillTx/>
                <a:latin typeface="Arial Black"/>
                <a:hlinkClick r:id="rId5"/>
              </a:rPr>
              <a:t>Вестминстер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, где проходят заседания Британского парламента. Соединяется с Трафальгарской площадью улицей Уайтхолл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Заголовок 1" descr=""/>
          <p:cNvPicPr/>
          <p:nvPr/>
        </p:nvPicPr>
        <p:blipFill>
          <a:blip r:embed="rId1"/>
          <a:stretch/>
        </p:blipFill>
        <p:spPr>
          <a:xfrm>
            <a:off x="396720" y="158760"/>
            <a:ext cx="8070840" cy="1609560"/>
          </a:xfrm>
          <a:prstGeom prst="rect">
            <a:avLst/>
          </a:prstGeom>
          <a:ln w="0">
            <a:noFill/>
          </a:ln>
        </p:spPr>
      </p:pic>
      <p:pic>
        <p:nvPicPr>
          <p:cNvPr id="362" name="Содержимое 4" descr="lond3.jpg"/>
          <p:cNvPicPr/>
          <p:nvPr/>
        </p:nvPicPr>
        <p:blipFill>
          <a:blip r:embed="rId2"/>
          <a:stretch/>
        </p:blipFill>
        <p:spPr>
          <a:xfrm>
            <a:off x="5000760" y="1928880"/>
            <a:ext cx="3643200" cy="421488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642960" y="1999800"/>
            <a:ext cx="392904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 Black"/>
              </a:rPr>
              <a:t>БАКИНГЕМСКИЙ ДВОРЕЦ,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лондонская резиденция британских монархов (с 1837). Расположен с западной стороны Сент-Джеймсского парка. Построен сэром Джорджем Горингом (позднее герцогом Нориджским) при Якове I, перестраивался в 1674 и 1703 Джоном Шеффилдом, маркизом Нормандским, позднее получившим титул герцога Бакингемского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19000">
    <p:dissolve/>
    <p:sndAc>
      <p:stSnd>
        <p:snd r:embed="rId3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Заголовок 1" descr=""/>
          <p:cNvPicPr/>
          <p:nvPr/>
        </p:nvPicPr>
        <p:blipFill>
          <a:blip r:embed="rId1"/>
          <a:stretch/>
        </p:blipFill>
        <p:spPr>
          <a:xfrm>
            <a:off x="396720" y="-176040"/>
            <a:ext cx="8466120" cy="1944360"/>
          </a:xfrm>
          <a:prstGeom prst="rect">
            <a:avLst/>
          </a:prstGeom>
          <a:ln w="0">
            <a:noFill/>
          </a:ln>
        </p:spPr>
      </p:pic>
      <p:pic>
        <p:nvPicPr>
          <p:cNvPr id="365" name="Содержимое 6" descr="sights4762579ab3560.jpg"/>
          <p:cNvPicPr/>
          <p:nvPr/>
        </p:nvPicPr>
        <p:blipFill>
          <a:blip r:embed="rId2"/>
          <a:stretch/>
        </p:blipFill>
        <p:spPr>
          <a:xfrm>
            <a:off x="428760" y="1643040"/>
            <a:ext cx="4000320" cy="464364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4500360" y="1999800"/>
            <a:ext cx="395748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Высотой в 135 метров и весящий больше, чем 250 двухъярусных автобусов, Лондонский Глаз является наиболее зрелищной достопримечательностью, появившейся в городе за последнее время. Сверху открываются потрясающие виды на основные значимые места Лондона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17000">
    <p:wheel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Заголовок 1" descr=""/>
          <p:cNvPicPr/>
          <p:nvPr/>
        </p:nvPicPr>
        <p:blipFill>
          <a:blip r:embed="rId1"/>
          <a:stretch/>
        </p:blipFill>
        <p:spPr>
          <a:xfrm>
            <a:off x="682560" y="-255600"/>
            <a:ext cx="7785000" cy="2023920"/>
          </a:xfrm>
          <a:prstGeom prst="rect">
            <a:avLst/>
          </a:prstGeom>
          <a:ln w="0">
            <a:noFill/>
          </a:ln>
        </p:spPr>
      </p:pic>
      <p:pic>
        <p:nvPicPr>
          <p:cNvPr id="368" name="Содержимое 4" descr="АПРКЕР.jpg"/>
          <p:cNvPicPr/>
          <p:nvPr/>
        </p:nvPicPr>
        <p:blipFill>
          <a:blip r:embed="rId2"/>
          <a:stretch/>
        </p:blipFill>
        <p:spPr>
          <a:xfrm>
            <a:off x="714240" y="2000160"/>
            <a:ext cx="4000680" cy="4286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714920" y="1999800"/>
            <a:ext cx="374328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Британский музей – один из крупнейший и важнейших музеев человеческой истории и культуры в мире. Музей был основан в 1753 году на базе коллекции врача и учёного Сэра Ганса Слоана. Впервые музей открылся для широкой публики 15 января 1759 года в доме Монтегю в Блумсбери, там, где сейчас располагается современный музей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19000">
    <p:newsflash/>
    <p:sndAc>
      <p:stSnd>
        <p:snd r:embed="rId3" name="suction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82560" y="-49320"/>
            <a:ext cx="7785000" cy="1817640"/>
          </a:xfrm>
          <a:prstGeom prst="rect">
            <a:avLst/>
          </a:prstGeom>
          <a:ln w="0">
            <a:noFill/>
          </a:ln>
        </p:spPr>
      </p:pic>
      <p:pic>
        <p:nvPicPr>
          <p:cNvPr id="371" name="Содержимое 4" descr="20060911_005.JPG"/>
          <p:cNvPicPr/>
          <p:nvPr/>
        </p:nvPicPr>
        <p:blipFill>
          <a:blip r:embed="rId2"/>
          <a:stretch/>
        </p:blipFill>
        <p:spPr>
          <a:xfrm>
            <a:off x="4786200" y="1857240"/>
            <a:ext cx="3571920" cy="450072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685440" y="1714680"/>
            <a:ext cx="381492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Великолепный купол Собора Св.Павла на протяжении веков был заметным и значимым объектом на лондонском небосклоне. Построенный в 1673 сэром Кристофером Реном после того, как первоначальный собор сгорел во время большого лондонского пожара, это самый знаменитый из всех храмов, посвящённый Святому Павлу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18000">
    <p:plus/>
    <p:sndAc>
      <p:stSnd>
        <p:snd r:embed="rId3" name="push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682560" y="-384120"/>
            <a:ext cx="7785000" cy="2152440"/>
          </a:xfrm>
          <a:prstGeom prst="rect">
            <a:avLst/>
          </a:prstGeom>
          <a:ln w="0">
            <a:noFill/>
          </a:ln>
        </p:spPr>
      </p:pic>
      <p:pic>
        <p:nvPicPr>
          <p:cNvPr id="374" name="Содержимое 4" descr="2228-original.jpg"/>
          <p:cNvPicPr/>
          <p:nvPr/>
        </p:nvPicPr>
        <p:blipFill>
          <a:blip r:embed="rId2"/>
          <a:stretch/>
        </p:blipFill>
        <p:spPr>
          <a:xfrm>
            <a:off x="4500720" y="2000160"/>
            <a:ext cx="3857400" cy="428652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685440" y="2000160"/>
            <a:ext cx="360036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Можно провести целый день, изучая одну из самых больших и лучших коллекций западноевропейской живописи, и так и не успеть посмотреть и насладиться всем до конца. Трудно поверить, что национальная коллекция началась всего с 38 полотен в доме состоятельного банкира на Полл-Молле 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 advTm="16000">
    <p:wheel spokes="8"/>
    <p:sndAc>
      <p:stSnd>
        <p:snd r:embed="rId3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6:41:42Z</dcterms:created>
  <dc:creator>Спартак</dc:creator>
  <dc:description/>
  <dc:language>en-US</dc:language>
  <cp:lastModifiedBy>Admin</cp:lastModifiedBy>
  <dcterms:modified xsi:type="dcterms:W3CDTF">2010-02-21T01:36:34Z</dcterms:modified>
  <cp:revision>12</cp:revision>
  <dc:subject/>
  <dc:title>Достопримечательности Англии </dc:title>
</cp:coreProperties>
</file>