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click.wav" ContentType="audio/x-wav"/>
  <Override PartName="/ppt/media/image7.png" ContentType="image/png"/>
  <Override PartName="/ppt/media/applause.wav" ContentType="audio/x-wav"/>
  <Override PartName="/ppt/media/image6.jpeg" ContentType="image/jpeg"/>
  <Override PartName="/ppt/media/image4.jpeg" ContentType="image/jpeg"/>
  <Override PartName="/ppt/media/suction.wav" ContentType="audio/x-wav"/>
  <Override PartName="/ppt/media/laser.wav" ContentType="audio/x-wav"/>
  <Override PartName="/ppt/media/image3.png" ContentType="image/png"/>
  <Override PartName="/ppt/media/type.wav" ContentType="audio/x-wav"/>
  <Override PartName="/ppt/media/image2.jpeg" ContentType="image/jpeg"/>
  <Override PartName="/ppt/media/push.wav" ContentType="audio/x-wav"/>
  <Override PartName="/ppt/media/image15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explode.wav" ContentType="audio/x-wav"/>
  <Override PartName="/ppt/media/image9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6E8-CE06-4109-92B2-C28FAA74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C5D-E8D4-4680-82A0-E6A7CF3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365-5D2D-48B0-A057-6398164A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7F6-4548-421A-BEDC-90356BC8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7D37-57B1-421C-BBF4-CC777629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C4A5-A2DB-4F4F-B874-4EA076A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C1B-C970-4050-A16F-FE63D2E8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0867-1D00-4BBD-928E-20E426D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AFE2-1351-4443-B720-47C6804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57A1-A0C1-4300-A85C-F13FCBE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A88-158B-443C-B462-EA1A903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A63-A4E6-47DF-8F0B-BD570F14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19D9-600C-41D3-B3D5-6D42D74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F2F3-0BA0-404E-9F43-7BD44B0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F22-1BFC-4DA9-A000-3E37EDD5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3F86-640D-4842-A42B-43D438C4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20D-5CC0-4A0C-8C61-221C8FC3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B71-2B43-431B-AC8B-4ECE071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063-406F-4DA2-AB1F-C25FB1D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682-1367-4CEF-ACC4-1D011D7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99C-C370-47D8-AFB6-4D0942F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6FC-36F1-4FEB-A689-7CC2866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8F6-BF2A-4067-85EA-4FEF8B2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BDC-A2A9-4716-BDEB-248351A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CB1-BC40-46F7-AC18-6BEB0CDDC1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D9EF-CAAE-49FF-9A87-16089AAEA60D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1;&#1086;&#1085;&#1076;&#1086;&#1085;" TargetMode="External"/><Relationship Id="rId4" Type="http://schemas.openxmlformats.org/officeDocument/2006/relationships/hyperlink" Target="http://ru.wikipedia.org/wiki/&#1042;&#1077;&#1089;&#1090;&#1084;&#1080;&#1085;&#1089;&#1090;&#1077;&#1088;&#1089;&#1082;&#1080;&#1081;_&#1076;&#1074;&#1086;&#1088;&#1077;&#1094;" TargetMode="External"/><Relationship Id="rId5" Type="http://schemas.openxmlformats.org/officeDocument/2006/relationships/image" Target="../media/image4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58;&#1077;&#1084;&#1079;&#1072;" TargetMode="External"/><Relationship Id="rId4" Type="http://schemas.openxmlformats.org/officeDocument/2006/relationships/hyperlink" Target="http://ru.wikipedia.org/wiki/&#1051;&#1086;&#1085;&#1076;&#1086;&#1085;" TargetMode="External"/><Relationship Id="rId5" Type="http://schemas.openxmlformats.org/officeDocument/2006/relationships/hyperlink" Target="http://ru.wikipedia.org/wiki/&#1042;&#1077;&#1089;&#1090;&#1084;&#1080;&#1085;&#1089;&#1090;&#1077;&#1088;" TargetMode="External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Достопримечательности                         Англи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0560" y="1981080"/>
            <a:ext cx="871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Проект подготовил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Ученик ГОУ ЦО № 148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Малышев Денис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Учитель – Бабылина И.В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6000">
    <p:comb dir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1609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336115438"/>
          <p:cNvPicPr/>
          <p:nvPr/>
        </p:nvPicPr>
        <p:blipFill>
          <a:blip r:embed="rId2"/>
          <a:stretch/>
        </p:blipFill>
        <p:spPr>
          <a:xfrm>
            <a:off x="685800" y="2138400"/>
            <a:ext cx="3814920" cy="35352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ауэр, на протяжении девятисотлетней истории был крепостью, которая являлась резиденцией королей, оружейным складом и казной, а также тюрьмой и местом казн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16095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Биг-Бе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Big Ben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 — колокольная башня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Лондон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часть архитектурного комплекс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Вестминстерского дворца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Официальное наименование — «Часовая башня Вестминстерского дворца», также её называют «Башней Св. Стефана». Собственно «Биг-Бен» — само здание и часы вместе с колокол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6" descr="Big_Ben_and_London_Eye"/>
          <p:cNvPicPr/>
          <p:nvPr/>
        </p:nvPicPr>
        <p:blipFill>
          <a:blip r:embed="rId5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288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Palace_of_Westminster,_London_-_Feb_2007"/>
          <p:cNvPicPr/>
          <p:nvPr/>
        </p:nvPicPr>
        <p:blipFill>
          <a:blip r:embed="rId2"/>
          <a:stretch/>
        </p:blipFill>
        <p:spPr>
          <a:xfrm>
            <a:off x="1332000" y="1981080"/>
            <a:ext cx="6553080" cy="1981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естминстерский дворец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Palace of Westminster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 — здание на берегу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Темз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лондонском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районе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Вестминстер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где проходят заседания Британского парламента. Соединяется с Трафальгарской площадью улицей Уайтхол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96720" y="158760"/>
            <a:ext cx="8070840" cy="160956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4" descr="lond3.jpg"/>
          <p:cNvPicPr/>
          <p:nvPr/>
        </p:nvPicPr>
        <p:blipFill>
          <a:blip r:embed="rId2"/>
          <a:stretch/>
        </p:blipFill>
        <p:spPr>
          <a:xfrm>
            <a:off x="5000760" y="1928880"/>
            <a:ext cx="3643200" cy="42148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42960" y="1999800"/>
            <a:ext cx="39290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БАКИНГЕМСКИЙ ДВОРЕЦ,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ондонская резиденция британских монархов (с 1837). Расположен с западной стороны Сент-Джеймсского парка. Построен сэром Джорджем Горингом (позднее герцогом Нориджским) при Якове I, перестраивался в 1674 и 1703 Джоном Шеффилдом, маркизом Нормандским, позднее получившим титул герцога Бакингемског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9000">
    <p:dissolve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396720" y="-176040"/>
            <a:ext cx="8466120" cy="194436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6" descr="sights4762579ab3560.jpg"/>
          <p:cNvPicPr/>
          <p:nvPr/>
        </p:nvPicPr>
        <p:blipFill>
          <a:blip r:embed="rId2"/>
          <a:stretch/>
        </p:blipFill>
        <p:spPr>
          <a:xfrm>
            <a:off x="428760" y="1643040"/>
            <a:ext cx="4000320" cy="4643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00360" y="1999800"/>
            <a:ext cx="39574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сотой в 135 метров и весящий больше, чем 250 двухъярусных автобусов, Лондонский Глаз является наиболее зрелищной достопримечательностью, появившейся в городе за последнее время. Сверху открываются потрясающие виды на основные значимые места Лондо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7000">
    <p:wheel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682560" y="-255600"/>
            <a:ext cx="7785000" cy="202392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4" descr="АПРКЕР.jpg"/>
          <p:cNvPicPr/>
          <p:nvPr/>
        </p:nvPicPr>
        <p:blipFill>
          <a:blip r:embed="rId2"/>
          <a:stretch/>
        </p:blipFill>
        <p:spPr>
          <a:xfrm>
            <a:off x="714240" y="2000160"/>
            <a:ext cx="4000680" cy="4286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714920" y="1999800"/>
            <a:ext cx="37432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ританский музей – один из крупнейший и важнейших музеев человеческой истории и культуры в мире. Музей был основан в 1753 году на базе коллекции врача и учёного Сэра Ганса Слоана. Впервые музей открылся для широкой публики 15 января 1759 года в доме Монтегю в Блумсбери, там, где сейчас располагается современный музе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9000">
    <p:newsflash/>
    <p:sndAc>
      <p:stSnd>
        <p:snd r:embed="rId3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-49320"/>
            <a:ext cx="7785000" cy="1817640"/>
          </a:xfrm>
          <a:prstGeom prst="rect">
            <a:avLst/>
          </a:prstGeom>
          <a:ln w="0">
            <a:noFill/>
          </a:ln>
        </p:spPr>
      </p:pic>
      <p:pic>
        <p:nvPicPr>
          <p:cNvPr id="371" name="Содержимое 4" descr="20060911_005.JPG"/>
          <p:cNvPicPr/>
          <p:nvPr/>
        </p:nvPicPr>
        <p:blipFill>
          <a:blip r:embed="rId2"/>
          <a:stretch/>
        </p:blipFill>
        <p:spPr>
          <a:xfrm>
            <a:off x="4786200" y="185724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440" y="1714680"/>
            <a:ext cx="38149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еликолепный купол Собора Св.Павла на протяжении веков был заметным и значимым объектом на лондонском небосклоне. Построенный в 1673 сэром Кристофером Реном после того, как первоначальный собор сгорел во время большого лондонского пожара, это самый знаменитый из всех храмов, посвящённый Святому Павл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8000">
    <p:plus/>
    <p:sndAc>
      <p:stSnd>
        <p:snd r:embed="rId3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82560" y="-384120"/>
            <a:ext cx="7785000" cy="215244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4" descr="2228-original.jpg"/>
          <p:cNvPicPr/>
          <p:nvPr/>
        </p:nvPicPr>
        <p:blipFill>
          <a:blip r:embed="rId2"/>
          <a:stretch/>
        </p:blipFill>
        <p:spPr>
          <a:xfrm>
            <a:off x="4500720" y="2000160"/>
            <a:ext cx="3857400" cy="4286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440" y="2000160"/>
            <a:ext cx="3600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ожно провести целый день, изучая одну из самых больших и лучших коллекций западноевропейской живописи, и так и не успеть посмотреть и насладиться всем до конца. Трудно поверить, что национальная коллекция началась всего с 38 полотен в доме состоятельного банкира на Полл-Молле 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6000">
    <p:wheel spokes="8"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41:42Z</dcterms:created>
  <dc:creator>Спартак</dc:creator>
  <dc:description/>
  <dc:language>en-US</dc:language>
  <cp:lastModifiedBy>Admin</cp:lastModifiedBy>
  <dcterms:modified xsi:type="dcterms:W3CDTF">2010-02-21T01:36:34Z</dcterms:modified>
  <cp:revision>12</cp:revision>
  <dc:subject/>
  <dc:title>Достопримечательности Англии </dc:title>
</cp:coreProperties>
</file>