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2B1B-46E3-4056-A125-7B80DD4909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3C30-6105-4C89-B8DA-82F346B50E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AA6-7A2C-4C9E-ABEB-5E1DA07F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C5B-421F-4A6B-8E3B-8C89EF9C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802-628A-4B99-BD24-72BF1ABA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61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61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A09-71A3-4D4D-B041-4BD26238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EEA-7FA5-4001-908E-B794E55B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154-2BAC-4560-A8FD-F14F82DC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473-EDC2-490D-A8DB-DB7A89B5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AA8-871B-48D9-AF95-5BE2B23B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285840"/>
            <a:ext cx="82152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BE8C-EB8B-42B1-8A36-F284BBB1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11B-0F2D-40DD-B7EE-71D72327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56CA-4BEF-4682-B9D8-90DA45DC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618-FB95-42B3-A612-9D7406C2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5C15-C253-4ECB-9749-B8BB0E9C6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2"/>
          <a:stretch/>
        </p:blipFill>
        <p:spPr>
          <a:xfrm>
            <a:off x="1139760" y="-433440"/>
            <a:ext cx="6797880" cy="2036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Datei:Babisnauer Pappel Blick auf Dresden.jpg"/>
          <p:cNvPicPr/>
          <p:nvPr/>
        </p:nvPicPr>
        <p:blipFill>
          <a:blip r:embed="rId3"/>
          <a:stretch/>
        </p:blipFill>
        <p:spPr>
          <a:xfrm>
            <a:off x="0" y="2305080"/>
            <a:ext cx="7315200" cy="4552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Файл:Dresden Stadtwappen.svg"/>
          <p:cNvPicPr/>
          <p:nvPr/>
        </p:nvPicPr>
        <p:blipFill>
          <a:blip r:embed="rId4"/>
          <a:stretch/>
        </p:blipFill>
        <p:spPr>
          <a:xfrm>
            <a:off x="6145200" y="990720"/>
            <a:ext cx="299880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2152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d0d0d"/>
                </a:solidFill>
                <a:latin typeface="Segoe Script"/>
              </a:rPr>
              <a:t>Dresden ist die sch</a:t>
            </a:r>
            <a:r>
              <a:rPr b="1" i="1" lang="en-US" sz="3600" spc="-1" strike="noStrike">
                <a:solidFill>
                  <a:srgbClr val="0d0d0d"/>
                </a:solidFill>
                <a:latin typeface="Segoe Script"/>
                <a:ea typeface="Times New Roman"/>
              </a:rPr>
              <a:t>önste Stadt Deutschlands. Sie liegt beiderseits der Elbe. Man nennt Dresden das Elbflorenz.</a:t>
            </a:r>
            <a:r>
              <a:rPr b="1" i="1" lang="en-US" sz="2800" spc="-1" strike="noStrike">
                <a:solidFill>
                  <a:srgbClr val="0d0d0d"/>
                </a:solidFill>
                <a:latin typeface="Segoe Script"/>
                <a:ea typeface="Times New Roman"/>
              </a:rPr>
              <a:t>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52" name="Picture 7" descr="Datei:Elbe River at Dresden.jpg"/>
          <p:cNvPicPr/>
          <p:nvPr/>
        </p:nvPicPr>
        <p:blipFill>
          <a:blip r:embed="rId3"/>
          <a:stretch/>
        </p:blipFill>
        <p:spPr>
          <a:xfrm>
            <a:off x="0" y="2597040"/>
            <a:ext cx="883908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d0d0d"/>
                </a:solidFill>
                <a:latin typeface="Segoe Script"/>
              </a:rPr>
              <a:t>Millionen Besucher besichtigen  die Semper-Oper, das Schloss Pillnitz, die weltberümte Sammlung der Dresdener Gemäldegalerie. 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54" name="Picture 9" descr="Картинка 1 из 19"/>
          <p:cNvPicPr/>
          <p:nvPr/>
        </p:nvPicPr>
        <p:blipFill>
          <a:blip r:embed="rId3"/>
          <a:stretch/>
        </p:blipFill>
        <p:spPr>
          <a:xfrm>
            <a:off x="304920" y="2400480"/>
            <a:ext cx="8610480" cy="35874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"/>
          <p:cNvSpPr/>
          <p:nvPr/>
        </p:nvSpPr>
        <p:spPr>
          <a:xfrm>
            <a:off x="2209680" y="5943600"/>
            <a:ext cx="42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Rage Italic"/>
                <a:ea typeface="Segoe UI"/>
              </a:rPr>
              <a:t>Semper-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62120" y="-36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d0d0d"/>
                </a:solidFill>
                <a:latin typeface="Segoe Script"/>
              </a:rPr>
              <a:t>das Schloss Pillnitz</a:t>
            </a:r>
            <a:endParaRPr b="0" lang="en-US" sz="44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57" name="Picture 15" descr="012505-dresden"/>
          <p:cNvPicPr/>
          <p:nvPr/>
        </p:nvPicPr>
        <p:blipFill>
          <a:blip r:embed="rId3"/>
          <a:stretch/>
        </p:blipFill>
        <p:spPr>
          <a:xfrm>
            <a:off x="0" y="304812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Картинка 135 из 349"/>
          <p:cNvPicPr/>
          <p:nvPr/>
        </p:nvPicPr>
        <p:blipFill>
          <a:blip r:embed="rId4"/>
          <a:stretch/>
        </p:blipFill>
        <p:spPr>
          <a:xfrm>
            <a:off x="4495680" y="533520"/>
            <a:ext cx="464832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42960" y="-36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d0d0d"/>
                </a:solidFill>
                <a:latin typeface="Segoe Script"/>
              </a:rPr>
              <a:t>das Schloss Pillnitz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60" name="Picture 9" descr="repphoto_3864_7235"/>
          <p:cNvPicPr/>
          <p:nvPr/>
        </p:nvPicPr>
        <p:blipFill>
          <a:blip r:embed="rId3"/>
          <a:stretch/>
        </p:blipFill>
        <p:spPr>
          <a:xfrm>
            <a:off x="3429000" y="305100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schloss-pillnitz_19717"/>
          <p:cNvPicPr/>
          <p:nvPr/>
        </p:nvPicPr>
        <p:blipFill>
          <a:blip r:embed="rId4"/>
          <a:stretch/>
        </p:blipFill>
        <p:spPr>
          <a:xfrm>
            <a:off x="0" y="642960"/>
            <a:ext cx="80773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biser"/>
          <p:cNvPicPr/>
          <p:nvPr/>
        </p:nvPicPr>
        <p:blipFill>
          <a:blip r:embed="rId2"/>
          <a:stretch/>
        </p:blipFill>
        <p:spPr>
          <a:xfrm>
            <a:off x="642960" y="120024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d0d0d"/>
                </a:solidFill>
                <a:latin typeface="Segoe Script"/>
              </a:rPr>
              <a:t>Die Dresdener Gemäldegalerie befindet sich im Zwinger.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1180a67390f5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2" descr=""/>
          <p:cNvPicPr/>
          <p:nvPr/>
        </p:nvPicPr>
        <p:blipFill>
          <a:blip r:embed="rId2"/>
          <a:stretch/>
        </p:blipFill>
        <p:spPr>
          <a:xfrm>
            <a:off x="-311040" y="6138720"/>
            <a:ext cx="3822480" cy="7257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15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Segoe Script"/>
              </a:rPr>
              <a:t>In der Dresdener Gemäldegalerie befinden sich die Werke deutscher, italienischer, franz</a:t>
            </a:r>
            <a:r>
              <a:rPr b="1" i="1" lang="en-US" sz="2800" spc="-1" strike="noStrike">
                <a:solidFill>
                  <a:srgbClr val="0d0d0d"/>
                </a:solidFill>
                <a:latin typeface="Segoe Script"/>
                <a:ea typeface="Times New Roman"/>
              </a:rPr>
              <a:t>ösischer spanischer, englischer und anderer europäischer Meister: die Bilder von Dürer, Raffael,           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Segoe Script"/>
                <a:ea typeface="Times New Roman"/>
              </a:rPr>
              <a:t>                  </a:t>
            </a:r>
            <a:r>
              <a:rPr b="1" i="1" lang="en-US" sz="2800" spc="-1" strike="noStrike">
                <a:solidFill>
                  <a:srgbClr val="0d0d0d"/>
                </a:solidFill>
                <a:latin typeface="Segoe Script"/>
                <a:ea typeface="Times New Roman"/>
              </a:rPr>
              <a:t>Rembrandt, Rubens.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67" name="Picture 6" descr="Картинка 11 из 927"/>
          <p:cNvPicPr/>
          <p:nvPr/>
        </p:nvPicPr>
        <p:blipFill>
          <a:blip r:embed="rId4"/>
          <a:stretch/>
        </p:blipFill>
        <p:spPr>
          <a:xfrm>
            <a:off x="152280" y="2786040"/>
            <a:ext cx="3070440" cy="3443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dresden60_b"/>
          <p:cNvPicPr/>
          <p:nvPr/>
        </p:nvPicPr>
        <p:blipFill>
          <a:blip r:embed="rId5"/>
          <a:stretch/>
        </p:blipFill>
        <p:spPr>
          <a:xfrm>
            <a:off x="342900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8760" y="0"/>
            <a:ext cx="8215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Rage Italic"/>
              </a:rPr>
              <a:t>Dresden ist heute eine Stadt der Wissenschaft, der Kunst und der Musik. Dort gibt es die Technische Universität, verschiedene Hochschulen, bedeutende Bibliotheken. Die Staatstheater Dresdens sind sehr populär.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0" name="Picture 4" descr="TyDresden20050921i0636.jpg"/>
          <p:cNvPicPr/>
          <p:nvPr/>
        </p:nvPicPr>
        <p:blipFill>
          <a:blip r:embed="rId3"/>
          <a:stretch/>
        </p:blipFill>
        <p:spPr>
          <a:xfrm>
            <a:off x="-49320" y="4214880"/>
            <a:ext cx="919332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4:52:19Z</dcterms:created>
  <dc:creator>Пользователь</dc:creator>
  <dc:description/>
  <cp:keywords/>
  <dc:language>en-US</dc:language>
  <cp:lastModifiedBy>User</cp:lastModifiedBy>
  <dcterms:modified xsi:type="dcterms:W3CDTF">2012-03-11T09:26:31Z</dcterms:modified>
  <cp:revision>5</cp:revision>
  <dc:subject/>
  <dc:title>Слайд 1</dc:title>
</cp:coreProperties>
</file>