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7AF-8F39-42DA-B356-E2CAAC57A5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F7E-FB4C-4F09-981A-064EDCC69E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CA8-1223-49B1-AC34-B94B134C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EFF-F4C1-44C6-939E-194FEF6B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FD3-5E1C-4F29-B8FB-E6A99473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C2F-0F53-465F-B5D3-0CC8D8A7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468-7875-4FC7-8D42-88523679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8F83-B44A-4EEE-AD81-C48FF28B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181B-1B7D-455C-A725-ED35B02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5F4C-5C0C-4797-B402-381BB1ED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4E9-61B0-47FE-A5CB-6D10CF44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7041-18A3-4AFC-B06D-22ABE85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D0E-A4C2-480C-8236-1A5987D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984-8BE7-47E4-A885-703DB29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C602-A5A7-47FE-86A6-6FC5359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177-E33A-4BEB-A491-AB02884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C9D0-CB72-420D-9093-E2DA5DC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8D1F-7C55-4701-BB92-5118430C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6B3C-642B-4F4E-BCE9-CC6115D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B4B-3543-43A0-8DC8-2286364B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8BD-7781-471D-BCFE-9602ED7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0CF-BA9F-4864-877C-8DC9EF1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F7E-9E7E-4249-914E-E6AC55A7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830-B5F6-4E51-8B7D-FF8733F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C5D-7AA7-44B3-8B01-2BE06C4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BC8-663F-48FA-AC0C-24AF4F8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07C-0AFC-4A30-809C-4963C86EAB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0A5-6446-4ACD-AF2C-B9769E0F17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91;&#1083;&#1105;&#1074;&#1086;_(&#1078;&#1077;&#1083;&#1077;&#1079;&#1085;&#1086;&#1076;&#1086;&#1088;&#1086;&#1078;&#1085;&#1072;&#1103;_&#1089;&#1090;&#1072;&#1085;&#1094;&#1080;&#1103;)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858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ы 2 «Г»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У г. Омска «Средня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образовательная школа № 63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алясниковой Ольги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: Кучковская Светла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11280" y="620640"/>
            <a:ext cx="8075520" cy="202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Город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Ликино́-Дулёво</a:t>
            </a:r>
            <a:br>
              <a:rPr sz="4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езентация проекта «Города России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6" descr="i?id=593376633-70-72&amp;n=21"/>
          <p:cNvPicPr/>
          <p:nvPr/>
        </p:nvPicPr>
        <p:blipFill>
          <a:blip r:embed="rId1"/>
          <a:stretch/>
        </p:blipFill>
        <p:spPr>
          <a:xfrm>
            <a:off x="684360" y="620640"/>
            <a:ext cx="11808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од Ликино-Дулево находится в Орехово-Зуевском районе Подмосковья. В черте города —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железнодо-рожная станция Дулё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Близлежащие населённые пункты: д. Кабаново, д. Кудыкино, д. Коротково, д. Ионов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 31,0 тыс. жит. (2010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не хотелось бы рассказать сегодня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о городе Ликино-Дулёво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Этот город знаменит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Дулёвским фарфоровым заводом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5" descr="i?id=100911060-26-72&amp;n=21"/>
          <p:cNvPicPr/>
          <p:nvPr/>
        </p:nvPicPr>
        <p:blipFill>
          <a:blip r:embed="rId2"/>
          <a:stretch/>
        </p:blipFill>
        <p:spPr>
          <a:xfrm>
            <a:off x="179280" y="115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i?id=709454303-65-72&amp;n=21"/>
          <p:cNvPicPr/>
          <p:nvPr/>
        </p:nvPicPr>
        <p:blipFill>
          <a:blip r:embed="rId3"/>
          <a:stretch/>
        </p:blipFill>
        <p:spPr>
          <a:xfrm>
            <a:off x="179280" y="443700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i?id=23836632-22-72&amp;n=21"/>
          <p:cNvPicPr/>
          <p:nvPr/>
        </p:nvPicPr>
        <p:blipFill>
          <a:blip r:embed="rId4"/>
          <a:stretch/>
        </p:blipFill>
        <p:spPr>
          <a:xfrm>
            <a:off x="3059280" y="4508640"/>
            <a:ext cx="2233440" cy="1726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i?id=709797432-42-72&amp;n=21"/>
          <p:cNvPicPr/>
          <p:nvPr/>
        </p:nvPicPr>
        <p:blipFill>
          <a:blip r:embed="rId5"/>
          <a:stretch/>
        </p:blipFill>
        <p:spPr>
          <a:xfrm>
            <a:off x="5940360" y="443700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явление деревень Ликино и Дулёво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связывают со временами Ивана Грозного.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другим источникам, деревня Ликина впервые упоминается в переписных книгах церковных земель Владимирского уезда в 1637 году. Тогда в деревеньке было всего 4 двора. Название «Ликино» учёные связывают со словами «икона, ли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32 году разбогатевший крестьянин Гжельской волости Терентий Кузнецов купил землю на пустоши Дулёво близ деревни Ликино. Кузнецов основал на этом месте фарфоровый зав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декабря 1937 года Ликино-Дулёво получил статус го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i?id=31744429-52-72&amp;n=21"/>
          <p:cNvPicPr/>
          <p:nvPr/>
        </p:nvPicPr>
        <p:blipFill>
          <a:blip r:embed="rId1"/>
          <a:stretch/>
        </p:blipFill>
        <p:spPr>
          <a:xfrm>
            <a:off x="395280" y="189000"/>
            <a:ext cx="167796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За более чем 170-летнюю историю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Дулёвского фарфорового завод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многое изменилось. Но он по прежнему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является одним из крупнейших заводов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Европы, специализирующийся н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выпуске высококачественного фарфор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для самых широких слоев населения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я подмосковных масте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отмечены многочис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миями и награ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ура А. Г. Сотникова "Сокол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вшая золотую медаль и "Гран-при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58 году на всемирной выстав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рюсселе, стала символом заво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ее графическое изображени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рговой маркой предпри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i?id=338329578-61-72&amp;n=21"/>
          <p:cNvPicPr/>
          <p:nvPr/>
        </p:nvPicPr>
        <p:blipFill>
          <a:blip r:embed="rId1"/>
          <a:stretch/>
        </p:blipFill>
        <p:spPr>
          <a:xfrm>
            <a:off x="324000" y="189000"/>
            <a:ext cx="2374920" cy="178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?id=241730753-29-72&amp;n=21"/>
          <p:cNvPicPr/>
          <p:nvPr/>
        </p:nvPicPr>
        <p:blipFill>
          <a:blip r:embed="rId2"/>
          <a:stretch/>
        </p:blipFill>
        <p:spPr>
          <a:xfrm>
            <a:off x="6588000" y="357336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делия заводских художник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крашают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музеи и картинные галереи страны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пользуются спросом у коллекционеров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сего мир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К "Дулевский фарфор"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кратным дипломантом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100 лучших товаров России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i?id=76705910-59-72&amp;n=21"/>
          <p:cNvPicPr/>
          <p:nvPr/>
        </p:nvPicPr>
        <p:blipFill>
          <a:blip r:embed="rId1"/>
          <a:stretch/>
        </p:blipFill>
        <p:spPr>
          <a:xfrm>
            <a:off x="108000" y="189000"/>
            <a:ext cx="2305080" cy="178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i?id=72253056-37-72&amp;n=21"/>
          <p:cNvPicPr/>
          <p:nvPr/>
        </p:nvPicPr>
        <p:blipFill>
          <a:blip r:embed="rId2"/>
          <a:stretch/>
        </p:blipFill>
        <p:spPr>
          <a:xfrm>
            <a:off x="6300720" y="1700280"/>
            <a:ext cx="2735280" cy="1825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?id=159653403-20-72&amp;n=21"/>
          <p:cNvPicPr/>
          <p:nvPr/>
        </p:nvPicPr>
        <p:blipFill>
          <a:blip r:embed="rId3"/>
          <a:stretch/>
        </p:blipFill>
        <p:spPr>
          <a:xfrm>
            <a:off x="179280" y="4149720"/>
            <a:ext cx="3311640" cy="2198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i?id=221600685-10-72&amp;n=21"/>
          <p:cNvPicPr/>
          <p:nvPr/>
        </p:nvPicPr>
        <p:blipFill>
          <a:blip r:embed="rId4"/>
          <a:stretch/>
        </p:blipFill>
        <p:spPr>
          <a:xfrm>
            <a:off x="6012000" y="4076640"/>
            <a:ext cx="3024000" cy="2252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i?id=162124810-30-72&amp;n=21"/>
          <p:cNvPicPr/>
          <p:nvPr/>
        </p:nvPicPr>
        <p:blipFill>
          <a:blip r:embed="rId5"/>
          <a:stretch/>
        </p:blipFill>
        <p:spPr>
          <a:xfrm>
            <a:off x="3851280" y="450864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Завод представляет работы художников которые, сохраняя исторические традиции дулевского фарфора, создают работы, достойные самого широкого признания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i?id=398452357-31-72&amp;n=21"/>
          <p:cNvPicPr/>
          <p:nvPr/>
        </p:nvPicPr>
        <p:blipFill>
          <a:blip r:embed="rId1"/>
          <a:stretch/>
        </p:blipFill>
        <p:spPr>
          <a:xfrm>
            <a:off x="395280" y="2565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?id=277426770-31-72&amp;n=21"/>
          <p:cNvPicPr/>
          <p:nvPr/>
        </p:nvPicPr>
        <p:blipFill>
          <a:blip r:embed="rId2"/>
          <a:stretch/>
        </p:blipFill>
        <p:spPr>
          <a:xfrm>
            <a:off x="108000" y="4797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i?id=337351583-47-72&amp;n=21"/>
          <p:cNvPicPr/>
          <p:nvPr/>
        </p:nvPicPr>
        <p:blipFill>
          <a:blip r:embed="rId3"/>
          <a:stretch/>
        </p:blipFill>
        <p:spPr>
          <a:xfrm>
            <a:off x="6732720" y="2565360"/>
            <a:ext cx="2087280" cy="177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i?id=256810202-19-72&amp;n=21"/>
          <p:cNvPicPr/>
          <p:nvPr/>
        </p:nvPicPr>
        <p:blipFill>
          <a:blip r:embed="rId4"/>
          <a:stretch/>
        </p:blipFill>
        <p:spPr>
          <a:xfrm>
            <a:off x="2771640" y="2565360"/>
            <a:ext cx="1513080" cy="194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i?id=379213245-34-72&amp;n=21"/>
          <p:cNvPicPr/>
          <p:nvPr/>
        </p:nvPicPr>
        <p:blipFill>
          <a:blip r:embed="rId5"/>
          <a:stretch/>
        </p:blipFill>
        <p:spPr>
          <a:xfrm>
            <a:off x="4500720" y="2565360"/>
            <a:ext cx="2016000" cy="1843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i?id=206213184-58-72&amp;n=21"/>
          <p:cNvPicPr/>
          <p:nvPr/>
        </p:nvPicPr>
        <p:blipFill>
          <a:blip r:embed="rId6"/>
          <a:stretch/>
        </p:blipFill>
        <p:spPr>
          <a:xfrm>
            <a:off x="6227640" y="4724280"/>
            <a:ext cx="2665440" cy="1779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i?id=384717769-12-72&amp;n=21"/>
          <p:cNvPicPr/>
          <p:nvPr/>
        </p:nvPicPr>
        <p:blipFill>
          <a:blip r:embed="rId7"/>
          <a:stretch/>
        </p:blipFill>
        <p:spPr>
          <a:xfrm>
            <a:off x="3203640" y="4797360"/>
            <a:ext cx="23763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улёвский фарфоровый завод выпускает все виды столового и чайного ассортимент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11" descr="1-suveniryi_posuda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2073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i?id=77635713-48-72&amp;n=21"/>
          <p:cNvPicPr/>
          <p:nvPr/>
        </p:nvPicPr>
        <p:blipFill>
          <a:blip r:embed="rId2"/>
          <a:stretch/>
        </p:blipFill>
        <p:spPr>
          <a:xfrm>
            <a:off x="25092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i?id=313326441-07-72&amp;n=21"/>
          <p:cNvPicPr/>
          <p:nvPr/>
        </p:nvPicPr>
        <p:blipFill>
          <a:blip r:embed="rId3"/>
          <a:stretch/>
        </p:blipFill>
        <p:spPr>
          <a:xfrm>
            <a:off x="3276720" y="1916280"/>
            <a:ext cx="2520720" cy="1682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2010_Farforovij_zavod_3"/>
          <p:cNvPicPr/>
          <p:nvPr/>
        </p:nvPicPr>
        <p:blipFill>
          <a:blip r:embed="rId4"/>
          <a:stretch/>
        </p:blipFill>
        <p:spPr>
          <a:xfrm>
            <a:off x="179280" y="3933720"/>
            <a:ext cx="3959280" cy="2637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i?id=61568360-00-72&amp;n=21"/>
          <p:cNvPicPr/>
          <p:nvPr/>
        </p:nvPicPr>
        <p:blipFill>
          <a:blip r:embed="rId5"/>
          <a:stretch/>
        </p:blipFill>
        <p:spPr>
          <a:xfrm>
            <a:off x="5003640" y="4076640"/>
            <a:ext cx="38163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не нравятся статуэтки, которы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пускаются на этом заводе. И наша посуда, которой мы пользуемся дома, тоже была сделана на Дулевском фарфоровом завод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95280" y="4763520"/>
            <a:ext cx="824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http://www.dulevo.ru Дулевский фарфоровый за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http://ru.wikipedia.org  Ликино-Дулё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http://images.yandex.ru  Дулевский фарфоровый за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i?id=300452922-12-72&amp;n=21"/>
          <p:cNvPicPr/>
          <p:nvPr/>
        </p:nvPicPr>
        <p:blipFill>
          <a:blip r:embed="rId1"/>
          <a:stretch/>
        </p:blipFill>
        <p:spPr>
          <a:xfrm>
            <a:off x="108000" y="1700280"/>
            <a:ext cx="1414440" cy="1657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i?id=422926586-19-72&amp;n=21"/>
          <p:cNvPicPr/>
          <p:nvPr/>
        </p:nvPicPr>
        <p:blipFill>
          <a:blip r:embed="rId2"/>
          <a:stretch/>
        </p:blipFill>
        <p:spPr>
          <a:xfrm>
            <a:off x="7667640" y="1700280"/>
            <a:ext cx="1266840" cy="1728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07680247-53-72&amp;n=21"/>
          <p:cNvPicPr/>
          <p:nvPr/>
        </p:nvPicPr>
        <p:blipFill>
          <a:blip r:embed="rId3"/>
          <a:stretch/>
        </p:blipFill>
        <p:spPr>
          <a:xfrm>
            <a:off x="2124000" y="1773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i?id=108212976-70-72&amp;n=21"/>
          <p:cNvPicPr/>
          <p:nvPr/>
        </p:nvPicPr>
        <p:blipFill>
          <a:blip r:embed="rId4"/>
          <a:stretch/>
        </p:blipFill>
        <p:spPr>
          <a:xfrm>
            <a:off x="5867280" y="1773360"/>
            <a:ext cx="15210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?id=117096331-62-72&amp;n=21"/>
          <p:cNvPicPr/>
          <p:nvPr/>
        </p:nvPicPr>
        <p:blipFill>
          <a:blip r:embed="rId5"/>
          <a:stretch/>
        </p:blipFill>
        <p:spPr>
          <a:xfrm>
            <a:off x="370836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4:41:25Z</dcterms:created>
  <dc:creator>DOM</dc:creator>
  <dc:description/>
  <dc:language>en-US</dc:language>
  <cp:lastModifiedBy>Макс</cp:lastModifiedBy>
  <dcterms:modified xsi:type="dcterms:W3CDTF">2013-04-28T13:56:44Z</dcterms:modified>
  <cp:revision>11</cp:revision>
  <dc:subject/>
  <dc:title>Слайд 1</dc:title>
</cp:coreProperties>
</file>