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0B66-FDEC-4799-B139-5A417BEB9E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D491-BB15-4F34-A542-4236171C9C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0C27-263B-4179-9C3E-B5CDA408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B5F-4381-4957-8706-3E300DBB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5B56-6F75-4414-A1BD-9D278ABA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127-D80A-4DE6-8800-17B61D20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087C-3686-4CCD-B5FA-D4BC162C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98E3-BAD4-4791-8485-6CBA871D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D935-6BF9-4975-A816-FA4FD7C3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826D-4FFA-4B5F-B2AD-D1123671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A7A8-0645-49B7-AFC7-02165CBB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62F7-7F2B-4653-B4BF-D17BE5A4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E106-DBAD-4A3D-BE13-A9705D65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2B31-5B73-40A6-9E4B-13F2E096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E062-9CEA-41F2-85DE-A1B701B7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5B7F-8C29-40B3-857D-F6F96A1F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D152-F85E-4592-A5AB-825D6745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87CB-B5F7-458C-BFC6-A461DF5D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FE90-EBE6-4FCD-9D21-5186E592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120-D979-4087-8A95-8809CC7D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5CFE-6A96-4938-B484-526ACD01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CF9-5482-4E07-8BA5-C09602F6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1E7D-9B02-45C8-9904-039CE9DD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60BD-CF02-41B1-AA58-6465BE2A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F34-91A7-4142-8B1C-990169DA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73A-CEBB-470A-9380-E362A635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5F55-6A46-4CFE-8D40-E5D7A08961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AB6C-1298-4049-AD34-755C767FF1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91;&#1083;&#1105;&#1074;&#1086;_(&#1078;&#1077;&#1083;&#1077;&#1079;&#1085;&#1086;&#1076;&#1086;&#1088;&#1086;&#1078;&#1085;&#1072;&#1103;_&#1089;&#1090;&#1072;&#1085;&#1094;&#1080;&#1103;)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858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ницы 2 «Г»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У г. Омска «Средня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образовательная школа № 63»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Балясниковой Ольги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: Кучковская Светлана Михайл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013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611280" y="620640"/>
            <a:ext cx="8075520" cy="2022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Город </a:t>
            </a: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Ликино́-Дулёво</a:t>
            </a:r>
            <a:br>
              <a:rPr sz="4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Презентация проекта «Города России»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6" descr="i?id=593376633-70-72&amp;n=21"/>
          <p:cNvPicPr/>
          <p:nvPr/>
        </p:nvPicPr>
        <p:blipFill>
          <a:blip r:embed="rId1"/>
          <a:stretch/>
        </p:blipFill>
        <p:spPr>
          <a:xfrm>
            <a:off x="684360" y="620640"/>
            <a:ext cx="11808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род Ликино-Дулево находится в Орехово-Зуевском районе Подмосковья. В черте города —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железнодо-рожная станция Дулёв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Близлежащие населённые пункты: д. Кабаново, д. Кудыкино, д. Коротково, д. Ионово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еление 31,0 тыс. жит. (2010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6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Мне хотелось бы рассказать сегодня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  о городе Ликино-Дулёво.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Этот город знаменит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        Дулёвским фарфоровым заводом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15" descr="i?id=100911060-26-72&amp;n=21"/>
          <p:cNvPicPr/>
          <p:nvPr/>
        </p:nvPicPr>
        <p:blipFill>
          <a:blip r:embed="rId2"/>
          <a:stretch/>
        </p:blipFill>
        <p:spPr>
          <a:xfrm>
            <a:off x="179280" y="11592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i?id=709454303-65-72&amp;n=21"/>
          <p:cNvPicPr/>
          <p:nvPr/>
        </p:nvPicPr>
        <p:blipFill>
          <a:blip r:embed="rId3"/>
          <a:stretch/>
        </p:blipFill>
        <p:spPr>
          <a:xfrm>
            <a:off x="179280" y="443700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7" descr="i?id=23836632-22-72&amp;n=21"/>
          <p:cNvPicPr/>
          <p:nvPr/>
        </p:nvPicPr>
        <p:blipFill>
          <a:blip r:embed="rId4"/>
          <a:stretch/>
        </p:blipFill>
        <p:spPr>
          <a:xfrm>
            <a:off x="3059280" y="4508640"/>
            <a:ext cx="2233440" cy="1726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8" descr="i?id=709797432-42-72&amp;n=21"/>
          <p:cNvPicPr/>
          <p:nvPr/>
        </p:nvPicPr>
        <p:blipFill>
          <a:blip r:embed="rId5"/>
          <a:stretch/>
        </p:blipFill>
        <p:spPr>
          <a:xfrm>
            <a:off x="5940360" y="4437000"/>
            <a:ext cx="2376720" cy="17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Появление деревень Ликино и Дулёво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связывают со временами Ивана Грозного.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другим источникам, деревня Ликина впервые упоминается в переписных книгах церковных земель Владимирского уезда в 1637 году. Тогда в деревеньке было всего 4 двора. Название «Ликино» учёные связывают со словами «икона, лик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32 году разбогатевший крестьянин Гжельской волости Терентий Кузнецов купил землю на пустоши Дулёво близ деревни Ликино. Кузнецов основал на этом месте фарфоровый заво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декабря 1937 года Ликино-Дулёво получил статус гор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i?id=31744429-52-72&amp;n=21"/>
          <p:cNvPicPr/>
          <p:nvPr/>
        </p:nvPicPr>
        <p:blipFill>
          <a:blip r:embed="rId1"/>
          <a:stretch/>
        </p:blipFill>
        <p:spPr>
          <a:xfrm>
            <a:off x="395280" y="189000"/>
            <a:ext cx="167796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За более чем 170-летнюю историю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Дулёвского фарфорового завода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     многое изменилось. Но он по прежнему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     является одним из крупнейших заводов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Европы, специализирующийся на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    выпуске высококачественного фарфора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 для самых широких слоев населения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делия подмосковных мастер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ли отмечены многочисленн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миями и наград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ульптура А. Г. Сотникова "Сокол"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ившая золотую медаль и "Гран-при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58 году на всемирной выстав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Брюсселе, стала символом завод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ее графическое изображение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рговой маркой предприят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i?id=338329578-61-72&amp;n=21"/>
          <p:cNvPicPr/>
          <p:nvPr/>
        </p:nvPicPr>
        <p:blipFill>
          <a:blip r:embed="rId1"/>
          <a:stretch/>
        </p:blipFill>
        <p:spPr>
          <a:xfrm>
            <a:off x="324000" y="189000"/>
            <a:ext cx="2374920" cy="178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i?id=241730753-29-72&amp;n=21"/>
          <p:cNvPicPr/>
          <p:nvPr/>
        </p:nvPicPr>
        <p:blipFill>
          <a:blip r:embed="rId2"/>
          <a:stretch/>
        </p:blipFill>
        <p:spPr>
          <a:xfrm>
            <a:off x="6588000" y="3573360"/>
            <a:ext cx="23767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 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Изделия заводских художнико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украшают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музеи и картинные галереи страны,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               пользуются спросом у коллекционеров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сего мира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К "Дулевский фарфор" явля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огократным дипломантом програм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100 лучших товаров России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i?id=76705910-59-72&amp;n=21"/>
          <p:cNvPicPr/>
          <p:nvPr/>
        </p:nvPicPr>
        <p:blipFill>
          <a:blip r:embed="rId1"/>
          <a:stretch/>
        </p:blipFill>
        <p:spPr>
          <a:xfrm>
            <a:off x="108000" y="189000"/>
            <a:ext cx="2305080" cy="1780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i?id=72253056-37-72&amp;n=21"/>
          <p:cNvPicPr/>
          <p:nvPr/>
        </p:nvPicPr>
        <p:blipFill>
          <a:blip r:embed="rId2"/>
          <a:stretch/>
        </p:blipFill>
        <p:spPr>
          <a:xfrm>
            <a:off x="6300720" y="1700280"/>
            <a:ext cx="2735280" cy="1825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i?id=159653403-20-72&amp;n=21"/>
          <p:cNvPicPr/>
          <p:nvPr/>
        </p:nvPicPr>
        <p:blipFill>
          <a:blip r:embed="rId3"/>
          <a:stretch/>
        </p:blipFill>
        <p:spPr>
          <a:xfrm>
            <a:off x="179280" y="4149720"/>
            <a:ext cx="3311640" cy="2198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i?id=221600685-10-72&amp;n=21"/>
          <p:cNvPicPr/>
          <p:nvPr/>
        </p:nvPicPr>
        <p:blipFill>
          <a:blip r:embed="rId4"/>
          <a:stretch/>
        </p:blipFill>
        <p:spPr>
          <a:xfrm>
            <a:off x="6012000" y="4076640"/>
            <a:ext cx="3024000" cy="2252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i?id=162124810-30-72&amp;n=21"/>
          <p:cNvPicPr/>
          <p:nvPr/>
        </p:nvPicPr>
        <p:blipFill>
          <a:blip r:embed="rId5"/>
          <a:stretch/>
        </p:blipFill>
        <p:spPr>
          <a:xfrm>
            <a:off x="3851280" y="450864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Завод представляет работы художников которые, сохраняя исторические традиции дулевского фарфора, создают работы, достойные самого широкого признания.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Picture 4" descr="i?id=398452357-31-72&amp;n=21"/>
          <p:cNvPicPr/>
          <p:nvPr/>
        </p:nvPicPr>
        <p:blipFill>
          <a:blip r:embed="rId1"/>
          <a:stretch/>
        </p:blipFill>
        <p:spPr>
          <a:xfrm>
            <a:off x="395280" y="2565360"/>
            <a:ext cx="1873080" cy="1873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i?id=277426770-31-72&amp;n=21"/>
          <p:cNvPicPr/>
          <p:nvPr/>
        </p:nvPicPr>
        <p:blipFill>
          <a:blip r:embed="rId2"/>
          <a:stretch/>
        </p:blipFill>
        <p:spPr>
          <a:xfrm>
            <a:off x="108000" y="4797360"/>
            <a:ext cx="2303280" cy="172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i?id=337351583-47-72&amp;n=21"/>
          <p:cNvPicPr/>
          <p:nvPr/>
        </p:nvPicPr>
        <p:blipFill>
          <a:blip r:embed="rId3"/>
          <a:stretch/>
        </p:blipFill>
        <p:spPr>
          <a:xfrm>
            <a:off x="6732720" y="2565360"/>
            <a:ext cx="2087280" cy="1779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i?id=256810202-19-72&amp;n=21"/>
          <p:cNvPicPr/>
          <p:nvPr/>
        </p:nvPicPr>
        <p:blipFill>
          <a:blip r:embed="rId4"/>
          <a:stretch/>
        </p:blipFill>
        <p:spPr>
          <a:xfrm>
            <a:off x="2771640" y="2565360"/>
            <a:ext cx="1513080" cy="1944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i?id=379213245-34-72&amp;n=21"/>
          <p:cNvPicPr/>
          <p:nvPr/>
        </p:nvPicPr>
        <p:blipFill>
          <a:blip r:embed="rId5"/>
          <a:stretch/>
        </p:blipFill>
        <p:spPr>
          <a:xfrm>
            <a:off x="4500720" y="2565360"/>
            <a:ext cx="2016000" cy="1843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i?id=206213184-58-72&amp;n=21"/>
          <p:cNvPicPr/>
          <p:nvPr/>
        </p:nvPicPr>
        <p:blipFill>
          <a:blip r:embed="rId6"/>
          <a:stretch/>
        </p:blipFill>
        <p:spPr>
          <a:xfrm>
            <a:off x="6227640" y="4724280"/>
            <a:ext cx="2665440" cy="1779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i?id=384717769-12-72&amp;n=21"/>
          <p:cNvPicPr/>
          <p:nvPr/>
        </p:nvPicPr>
        <p:blipFill>
          <a:blip r:embed="rId7"/>
          <a:stretch/>
        </p:blipFill>
        <p:spPr>
          <a:xfrm>
            <a:off x="3203640" y="4797360"/>
            <a:ext cx="2376360" cy="17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Дулёвский фарфоровый завод выпускает все виды столового и чайного ассортимента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Picture 11" descr="1-suveniryi_posuda"/>
          <p:cNvPicPr/>
          <p:nvPr/>
        </p:nvPicPr>
        <p:blipFill>
          <a:blip r:embed="rId1"/>
          <a:stretch/>
        </p:blipFill>
        <p:spPr>
          <a:xfrm>
            <a:off x="6300720" y="1700280"/>
            <a:ext cx="2664000" cy="2073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2" descr="i?id=77635713-48-72&amp;n=21"/>
          <p:cNvPicPr/>
          <p:nvPr/>
        </p:nvPicPr>
        <p:blipFill>
          <a:blip r:embed="rId2"/>
          <a:stretch/>
        </p:blipFill>
        <p:spPr>
          <a:xfrm>
            <a:off x="250920" y="148428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3" descr="i?id=313326441-07-72&amp;n=21"/>
          <p:cNvPicPr/>
          <p:nvPr/>
        </p:nvPicPr>
        <p:blipFill>
          <a:blip r:embed="rId3"/>
          <a:stretch/>
        </p:blipFill>
        <p:spPr>
          <a:xfrm>
            <a:off x="3276720" y="1916280"/>
            <a:ext cx="2520720" cy="1682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5" descr="2010_Farforovij_zavod_3"/>
          <p:cNvPicPr/>
          <p:nvPr/>
        </p:nvPicPr>
        <p:blipFill>
          <a:blip r:embed="rId4"/>
          <a:stretch/>
        </p:blipFill>
        <p:spPr>
          <a:xfrm>
            <a:off x="179280" y="3933720"/>
            <a:ext cx="3959280" cy="2637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6" descr="i?id=61568360-00-72&amp;n=21"/>
          <p:cNvPicPr/>
          <p:nvPr/>
        </p:nvPicPr>
        <p:blipFill>
          <a:blip r:embed="rId5"/>
          <a:stretch/>
        </p:blipFill>
        <p:spPr>
          <a:xfrm>
            <a:off x="5003640" y="4076640"/>
            <a:ext cx="3816360" cy="25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Мне нравятся статуэтки, которые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выпускаются на этом заводе. И наша посуда, которой мы пользуемся дома, тоже была сделана на Дулевском фарфоровом заводе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95280" y="4763520"/>
            <a:ext cx="824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http://www.dulevo.ru Дулевский фарфоровый зав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http://ru.wikipedia.org  Ликино-Дулё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http://images.yandex.ru  Дулевский фарфоровый зав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i?id=300452922-12-72&amp;n=21"/>
          <p:cNvPicPr/>
          <p:nvPr/>
        </p:nvPicPr>
        <p:blipFill>
          <a:blip r:embed="rId1"/>
          <a:stretch/>
        </p:blipFill>
        <p:spPr>
          <a:xfrm>
            <a:off x="108000" y="1700280"/>
            <a:ext cx="1414440" cy="1657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i?id=422926586-19-72&amp;n=21"/>
          <p:cNvPicPr/>
          <p:nvPr/>
        </p:nvPicPr>
        <p:blipFill>
          <a:blip r:embed="rId2"/>
          <a:stretch/>
        </p:blipFill>
        <p:spPr>
          <a:xfrm>
            <a:off x="7667640" y="1700280"/>
            <a:ext cx="1266840" cy="1728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i?id=307680247-53-72&amp;n=21"/>
          <p:cNvPicPr/>
          <p:nvPr/>
        </p:nvPicPr>
        <p:blipFill>
          <a:blip r:embed="rId3"/>
          <a:stretch/>
        </p:blipFill>
        <p:spPr>
          <a:xfrm>
            <a:off x="2124000" y="177336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i?id=108212976-70-72&amp;n=21"/>
          <p:cNvPicPr/>
          <p:nvPr/>
        </p:nvPicPr>
        <p:blipFill>
          <a:blip r:embed="rId4"/>
          <a:stretch/>
        </p:blipFill>
        <p:spPr>
          <a:xfrm>
            <a:off x="5867280" y="1773360"/>
            <a:ext cx="1521000" cy="1584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i?id=117096331-62-72&amp;n=21"/>
          <p:cNvPicPr/>
          <p:nvPr/>
        </p:nvPicPr>
        <p:blipFill>
          <a:blip r:embed="rId5"/>
          <a:stretch/>
        </p:blipFill>
        <p:spPr>
          <a:xfrm>
            <a:off x="3708360" y="191628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1T14:41:25Z</dcterms:created>
  <dc:creator>DOM</dc:creator>
  <dc:description/>
  <dc:language>en-US</dc:language>
  <cp:lastModifiedBy>Макс</cp:lastModifiedBy>
  <dcterms:modified xsi:type="dcterms:W3CDTF">2013-04-28T13:56:44Z</dcterms:modified>
  <cp:revision>11</cp:revision>
  <dc:subject/>
  <dc:title>Слайд 1</dc:title>
</cp:coreProperties>
</file>