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BE6-1CA5-4548-A9A4-C9D13258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2AF-F96C-4315-9ADE-32C29300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6C4-7A44-4999-96B7-5A5A8786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0F3-20BA-430F-9394-02B2CFEB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AFED-CF4E-463D-AB09-F3E0E117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CC26-EA27-43D4-B469-382637AF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03EA-2338-4EDB-BB16-D194C62C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E340-D043-4010-BFAE-45784273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7BA-EFAE-40AB-A100-6595F85F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21BB-025B-4FF0-9CD7-74D19AB2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30BD-08BC-41D9-8F5F-2EE7057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00F-8344-4B2F-B362-CA5FD827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DE04-7D51-44AA-923A-FAD6010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6C78-975E-457F-BF8D-0259249F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F161-E97B-405A-BAE9-923E6D6E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D831-2A19-4D77-A729-EB5C99B1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19FA-F8F9-4FEF-B6E2-E8130DA1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C80-8FC0-4C3A-A335-16B779F2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71C-C4CC-4B0E-B6B1-26431AA9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60F-EDAD-454E-83D2-0F786F42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CF1-D921-4D9B-92E9-B93C9EF9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85C-9D09-465E-8DCE-47CC77F9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FC5-2733-4AD7-9650-CA4353D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A82-F364-4AA3-9BE3-FA37548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F557-3C33-4E8A-BDEB-68204FFAB9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49DE-6E89-4283-9A62-AE78321FAD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72000" y="972000"/>
            <a:ext cx="75042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ван Андреевич Крылов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сня «Ворона и Лисица»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4005000"/>
            <a:ext cx="769320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БС(К)ОУ обшеобразовательная школа-интерна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II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а станицы Медвёдовск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ь чтения и развития речи Эрмик Л.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ван Андреевич Кры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еликий русский баснописец. Его любит и знает весь наш народ. С его баснями мы знакомимся с раннего детст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3529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РОНА И ЛИСИЦ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ж столько раз твердили миру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лесть гнуса, вредна; но только всё не впрок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 в сердце льстец всегда отыщет угол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Мораль басн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Лес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ложная хвала, с целью извлечь выго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Гнусн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вызывает отвращени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згромоздясь – взобраться и устроиться с трудом на чём – нибуд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744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ты понимаешь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Плутовк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хитра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Пленил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покорил, очаров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Вещунья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предсказательниц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Дыханье спёрло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задержалос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Вертит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хвостом -заискивает, хитри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7447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ЕНИЕ И ОБСУЖДЕНИЕ БАСН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чему автор называет Лисицу плутовкой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читайте, какие похвалы говорила Лисица Ворон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 басня подтверждает слова автора о льстец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ашла ли лесть Лисицы «уголок» в сердце Вороны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ак это случилось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7447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тог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Что высмеивает и чему учит автор в этой басн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1:44:32Z</dcterms:created>
  <dc:creator>Комп</dc:creator>
  <dc:description/>
  <dc:language>en-US</dc:language>
  <cp:lastModifiedBy>Комп</cp:lastModifiedBy>
  <dcterms:modified xsi:type="dcterms:W3CDTF">2013-04-26T12:24:14Z</dcterms:modified>
  <cp:revision>2</cp:revision>
  <dc:subject/>
  <dc:title>Слайд 1</dc:title>
</cp:coreProperties>
</file>