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40B-0FDD-44A0-B552-7F2BC1D7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08D-F52C-48FE-B674-655E1BCA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2C6-3FC3-4FED-A9D5-D4A55CB9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94B-BC6B-4F4B-A5BA-AFA9F382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00E3-39AE-494A-A41A-68449703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487D-9619-4DEE-90DD-E3619BA2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378C-4745-4591-8093-2EEA2A2C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8EDE-B506-4593-9472-AC209D80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31B-E9B9-45CC-A485-E8C51710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1A6D-4369-454B-B65B-3C48DA71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3601-6069-4B01-8AD0-433CAE53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AF8-409B-495F-8430-95374DE5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D23E-68F0-4943-8E85-49B3A1C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6726-F3FE-4958-A30C-9A4E1385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1FA3-E89C-41E7-BF86-5AB92DC6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B33-C14A-4C6D-A3C4-24299133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4B02-3659-450F-83C6-0E31C2C6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5D2-E1E3-4689-942C-D15891ED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E92-BC1F-4D97-9580-F0E9C92C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25E-AD9A-4227-88BA-E9E4D97C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F91-426B-4EAA-9978-7CCE7B2F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248-7106-4772-B81F-AC9FA1B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849-47DB-4AF5-A7A7-C249B11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689-A53C-492D-9D00-576D819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5303-0E96-4A8E-B6A6-684BF71D013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B060-C599-4FAD-AC54-04E352CA0B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72000" y="972000"/>
            <a:ext cx="75042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ван Андреевич Крылов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сня «Ворона и Лисица»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4005000"/>
            <a:ext cx="7693200" cy="20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БС(К)ОУ обшеобразовательная школа-интерна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II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да станицы Медвёдовск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ь чтения и развития речи Эрмик Л.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ван Андреевич Кры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еликий русский баснописец. Его любит и знает весь наш народ. С его баснями мы знакомимся с раннего детств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529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ОРОНА И ЛИСИЦ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Уж столько раз твердили миру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лесть гнуса, вредна; но только всё не впрок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 в сердце льстец всегда отыщет уголо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Мораль басн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ловарь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Лест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- ложная хвала, с целью извлечь выго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Гнусн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вызывает отвращени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згромоздясь – взобраться и устроиться с трудом на чём – нибуд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3744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ак ты понимаешь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лутовк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хитра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Пленил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покорил, очаров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Вещунья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предсказательниц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Дыханье спёрло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задержалос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Вертит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хвостом -заискивает, хитрит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7447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ЕНИЕ И ОБСУЖДЕНИЕ БАСН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чему автор называет Лисицу плутовкой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очитайте, какие похвалы говорила Лисица Ворон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ак басня подтверждает слова автора о льстеца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21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ашла ли лесть Лисицы «уголок» в сердце Вороны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Как это случилось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37447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тог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Что высмеивает и чему учит автор в этой басн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1:44:32Z</dcterms:created>
  <dc:creator>Комп</dc:creator>
  <dc:description/>
  <dc:language>en-US</dc:language>
  <cp:lastModifiedBy>Комп</cp:lastModifiedBy>
  <dcterms:modified xsi:type="dcterms:W3CDTF">2013-04-26T12:24:14Z</dcterms:modified>
  <cp:revision>2</cp:revision>
  <dc:subject/>
  <dc:title>Слайд 1</dc:title>
</cp:coreProperties>
</file>