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FD8B-C391-4DAB-B03C-88DAB971D9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C31F-D5F9-40E2-830A-E8A6FCE77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546-BC03-4DDB-A254-04017684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66C-D1CC-473F-92FF-80CFB04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0C7-DE49-4D0A-8696-52B527D8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D4F-2C45-47FC-9E60-28A22209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C2E5-9E61-49C3-B064-A1E61CEC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A3F8-8471-473E-A196-F1A228CA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A3ED-E3A8-48E5-A417-C544521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4823-C99C-4148-96DE-28D41EA7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22FE-CB64-4E6D-991C-A27CB2F3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ACDA-F71E-48CC-8949-79A475A3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9B98-CF06-4ECE-BEA3-ED0C47B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477-AAE0-4D72-985E-9FB4DB89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75B3-659E-4444-979A-A532CB4C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A83F-06E7-4C21-B321-2E6D5A97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0A46-2D95-41F6-B6FC-CF0C8A31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D25C-C64F-42BC-99FD-7BD0DFE2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F227-0619-4155-952D-81D7A73B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260-8A39-4235-8841-CE409FF6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979-1B96-4C48-BE40-35AD7372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B08-C566-45C4-8F38-7867E9E1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6BF-0949-497F-AEA1-FCAB1C10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0BB-E28D-49FC-BB69-50FDE7CF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163-53E4-4275-9453-A68019A9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AE7-DC89-4FBB-98FB-82E2EE10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9003-6199-45A8-9A12-05DA3F7BBF63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F19E-0FB2-45EA-950F-9AE1BBA20ECA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WordArt 740"/>
          <p:cNvSpPr txBox="1"/>
          <p:nvPr/>
        </p:nvSpPr>
        <p:spPr>
          <a:xfrm>
            <a:off x="611280" y="1413000"/>
            <a:ext cx="813600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Rectangle 741"/>
          <p:cNvSpPr/>
          <p:nvPr/>
        </p:nvSpPr>
        <p:spPr>
          <a:xfrm>
            <a:off x="684360" y="898560"/>
            <a:ext cx="755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Художественная культура России </a:t>
            </a:r>
            <a:endParaRPr b="0" lang="en-US" sz="4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на рубеже 19 – 20 веков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873000" y="4005360"/>
            <a:ext cx="6597720" cy="15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БОУ Сухо-Сарматская СОШ</a:t>
            </a:r>
            <a:endParaRPr b="0" lang="en-US" sz="105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ыполнила: Калачева Анастасия</a:t>
            </a:r>
            <a:endParaRPr b="0" lang="en-US" sz="105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hsl" dir="cw">
                                      <p:cBhvr>
                                        <p:cTn id="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Script MT Bold"/>
              </a:rPr>
              <a:t>Творчество Врубеля ярче других отразило противоречия и мучительные метания рубежной эпохи.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Picture 4" descr="vrubel9"/>
          <p:cNvPicPr/>
          <p:nvPr/>
        </p:nvPicPr>
        <p:blipFill>
          <a:blip r:embed="rId1"/>
          <a:stretch/>
        </p:blipFill>
        <p:spPr>
          <a:xfrm>
            <a:off x="500040" y="1285920"/>
            <a:ext cx="3743280" cy="5257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vrubel3"/>
          <p:cNvPicPr/>
          <p:nvPr/>
        </p:nvPicPr>
        <p:blipFill>
          <a:blip r:embed="rId2"/>
          <a:stretch/>
        </p:blipFill>
        <p:spPr>
          <a:xfrm>
            <a:off x="4932360" y="1341360"/>
            <a:ext cx="3743280" cy="5248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714240" y="5856840"/>
            <a:ext cx="35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d717"/>
                </a:solidFill>
                <a:latin typeface="Times New Roman"/>
              </a:rPr>
              <a:t>«Гадалка», 1895г</a:t>
            </a:r>
            <a:r>
              <a:rPr b="1" lang="ru-RU" sz="2400" spc="-1" strike="noStrike">
                <a:solidFill>
                  <a:srgbClr val="20d717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076720" y="5589360"/>
            <a:ext cx="361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d717"/>
                </a:solidFill>
                <a:latin typeface="Times New Roman"/>
              </a:rPr>
              <a:t>«Царевна Лебедь»,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d717"/>
                </a:solidFill>
                <a:latin typeface="Times New Roman"/>
              </a:rPr>
              <a:t>1900г</a:t>
            </a:r>
            <a:r>
              <a:rPr b="0" lang="ru-RU" sz="2800" spc="-1" strike="noStrike">
                <a:solidFill>
                  <a:srgbClr val="20d717"/>
                </a:solidFill>
                <a:latin typeface="Script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124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6239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240"/>
                            </p:stCondLst>
                            <p:childTnLst>
                              <p:par>
                                <p:cTn id="13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vrubel2"/>
          <p:cNvPicPr/>
          <p:nvPr/>
        </p:nvPicPr>
        <p:blipFill>
          <a:blip r:embed="rId1"/>
          <a:stretch/>
        </p:blipFill>
        <p:spPr>
          <a:xfrm>
            <a:off x="322200" y="642960"/>
            <a:ext cx="3962520" cy="4829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vrubel4"/>
          <p:cNvPicPr/>
          <p:nvPr/>
        </p:nvPicPr>
        <p:blipFill>
          <a:blip r:embed="rId2"/>
          <a:stretch/>
        </p:blipFill>
        <p:spPr>
          <a:xfrm>
            <a:off x="4546440" y="1413000"/>
            <a:ext cx="4276800" cy="4733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5219640" y="7639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«Богатырь», 1898г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54880" y="5515200"/>
            <a:ext cx="39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«Шестикрылый серафим»,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1904г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5"/>
          <p:cNvSpPr txBox="1"/>
          <p:nvPr/>
        </p:nvSpPr>
        <p:spPr>
          <a:xfrm>
            <a:off x="1428840" y="642960"/>
            <a:ext cx="6248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тины Виктора Борисова-Мусатова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357120" y="157176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художника протекало под влиянием французского импрессионизма.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а утонченная , чуть приглушенная красочная гамма, близкая пастели.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ы нарочито отгорожены от реальности, от жизни.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я исполнены таинственной символикой, словно пребывают вне времени и пространства.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Автопортрет с сестрой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7" name="Picture 4" descr="Автопортрет с сестрой"/>
          <p:cNvPicPr/>
          <p:nvPr/>
        </p:nvPicPr>
        <p:blipFill>
          <a:blip r:embed="rId1"/>
          <a:stretch/>
        </p:blipFill>
        <p:spPr>
          <a:xfrm>
            <a:off x="928800" y="857160"/>
            <a:ext cx="70149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Водоём», 1902 г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9" name="Picture 4" descr="45,74 КБ"/>
          <p:cNvPicPr/>
          <p:nvPr/>
        </p:nvPicPr>
        <p:blipFill>
          <a:blip r:embed="rId1"/>
          <a:stretch/>
        </p:blipFill>
        <p:spPr>
          <a:xfrm>
            <a:off x="785880" y="107172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Гобелен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1" name="Picture 4" descr=" (699x515, 83Kb)"/>
          <p:cNvPicPr/>
          <p:nvPr/>
        </p:nvPicPr>
        <p:blipFill>
          <a:blip r:embed="rId1"/>
          <a:stretch/>
        </p:blipFill>
        <p:spPr>
          <a:xfrm>
            <a:off x="714240" y="857160"/>
            <a:ext cx="772956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142920" y="6215040"/>
            <a:ext cx="558648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Крымский дворик в лунную ночь», 1895г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Picture 4" descr="Крымский дворик в лунную ночь. Этюд. 1895"/>
          <p:cNvPicPr/>
          <p:nvPr/>
        </p:nvPicPr>
        <p:blipFill>
          <a:blip r:embed="rId1"/>
          <a:stretch/>
        </p:blipFill>
        <p:spPr>
          <a:xfrm>
            <a:off x="357120" y="285840"/>
            <a:ext cx="4357800" cy="571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Мальчик в шляпе"/>
          <p:cNvPicPr/>
          <p:nvPr/>
        </p:nvPicPr>
        <p:blipFill>
          <a:blip r:embed="rId2"/>
          <a:stretch/>
        </p:blipFill>
        <p:spPr>
          <a:xfrm>
            <a:off x="5357880" y="357120"/>
            <a:ext cx="3254400" cy="557208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5072040" y="6072120"/>
            <a:ext cx="4071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Мальчик в шляпе», 1895г.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286200" y="6072120"/>
            <a:ext cx="508644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Осенний мотив», 1901г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Picture 6" descr="Осенний мотив. 1901"/>
          <p:cNvPicPr/>
          <p:nvPr/>
        </p:nvPicPr>
        <p:blipFill>
          <a:blip r:embed="rId1"/>
          <a:stretch/>
        </p:blipFill>
        <p:spPr>
          <a:xfrm>
            <a:off x="357120" y="357120"/>
            <a:ext cx="4006800" cy="557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За вышиванием. 1901"/>
          <p:cNvPicPr/>
          <p:nvPr/>
        </p:nvPicPr>
        <p:blipFill>
          <a:blip r:embed="rId2"/>
          <a:stretch/>
        </p:blipFill>
        <p:spPr>
          <a:xfrm>
            <a:off x="4791240" y="357120"/>
            <a:ext cx="3714480" cy="5572080"/>
          </a:xfrm>
          <a:prstGeom prst="rect">
            <a:avLst/>
          </a:prstGeom>
          <a:ln w="0">
            <a:noFill/>
          </a:ln>
        </p:spPr>
      </p:pic>
      <p:sp>
        <p:nvSpPr>
          <p:cNvPr id="139" name="Заголовок 1"/>
          <p:cNvSpPr/>
          <p:nvPr/>
        </p:nvSpPr>
        <p:spPr>
          <a:xfrm>
            <a:off x="4643280" y="6072120"/>
            <a:ext cx="45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За вышиванием», 1901г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572040" y="6072120"/>
            <a:ext cx="50007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Гармония», 1900г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Picture 4" descr="Гармония. 1900"/>
          <p:cNvPicPr/>
          <p:nvPr/>
        </p:nvPicPr>
        <p:blipFill>
          <a:blip r:embed="rId1"/>
          <a:stretch/>
        </p:blipFill>
        <p:spPr>
          <a:xfrm>
            <a:off x="357120" y="428760"/>
            <a:ext cx="3071880" cy="5730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Девушка на балконе. 1900"/>
          <p:cNvPicPr/>
          <p:nvPr/>
        </p:nvPicPr>
        <p:blipFill>
          <a:blip r:embed="rId2"/>
          <a:stretch/>
        </p:blipFill>
        <p:spPr>
          <a:xfrm>
            <a:off x="4929120" y="477720"/>
            <a:ext cx="3408480" cy="566604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286160" y="6143760"/>
            <a:ext cx="4857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Девушка на балконе», 1900г.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14560" y="6071760"/>
            <a:ext cx="51577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Портрет дамы», 1902 г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5" name="Picture 4" descr="Портрет дамы. 1902"/>
          <p:cNvPicPr/>
          <p:nvPr/>
        </p:nvPicPr>
        <p:blipFill>
          <a:blip r:embed="rId1"/>
          <a:stretch/>
        </p:blipFill>
        <p:spPr>
          <a:xfrm>
            <a:off x="285840" y="428760"/>
            <a:ext cx="4111560" cy="5572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Девушка в ожерелье. 1904"/>
          <p:cNvPicPr/>
          <p:nvPr/>
        </p:nvPicPr>
        <p:blipFill>
          <a:blip r:embed="rId2"/>
          <a:stretch/>
        </p:blipFill>
        <p:spPr>
          <a:xfrm>
            <a:off x="4889520" y="428760"/>
            <a:ext cx="4033800" cy="557208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4429080" y="6000840"/>
            <a:ext cx="4857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Девушка в ожерелье»,1904г.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Rockwell Extra Bold"/>
              </a:rPr>
              <a:t>Границы : от начала 90 – х гг. 19 века до 1917 г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928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hruti"/>
              </a:rPr>
              <a:t>Определение </a:t>
            </a:r>
            <a:r>
              <a:rPr b="1" i="1" lang="ru-RU" sz="2800" spc="-1" strike="noStrike">
                <a:solidFill>
                  <a:srgbClr val="ff33cc"/>
                </a:solidFill>
                <a:latin typeface="Shruti"/>
              </a:rPr>
              <a:t>«серебряный век»</a:t>
            </a:r>
            <a:r>
              <a:rPr b="1" i="1" lang="ru-RU" sz="2800" spc="-1" strike="noStrike">
                <a:solidFill>
                  <a:srgbClr val="000000"/>
                </a:solidFill>
                <a:latin typeface="Shruti"/>
              </a:rPr>
              <a:t> ввел С.К. Маяковский, основатель и редактор литературного журнала «Аполлон»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Shruti"/>
              </a:rPr>
              <a:t>«Русский духовно-культурный ренессанс»</a:t>
            </a:r>
            <a:r>
              <a:rPr b="1" i="1" lang="ru-RU" sz="2800" spc="-1" strike="noStrike">
                <a:solidFill>
                  <a:srgbClr val="000000"/>
                </a:solidFill>
                <a:latin typeface="Shruti"/>
              </a:rPr>
              <a:t> - этот термин определял статус художественной культуры России, в которой есть «серебряное отражение» предыдущих «золотых»времен, и возрождение утраченных реалистическим искусством духовно-религиозных нача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6071760"/>
            <a:ext cx="76579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 На террасе», 1904 г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Picture 4" descr="На террасе. 1904"/>
          <p:cNvPicPr/>
          <p:nvPr/>
        </p:nvPicPr>
        <p:blipFill>
          <a:blip r:embed="rId1"/>
          <a:stretch/>
        </p:blipFill>
        <p:spPr>
          <a:xfrm>
            <a:off x="1143000" y="428760"/>
            <a:ext cx="700092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Летняя мелодия», 1905 г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1" name="Picture 4" descr="Летняя мелодия. 1905"/>
          <p:cNvPicPr/>
          <p:nvPr/>
        </p:nvPicPr>
        <p:blipFill>
          <a:blip r:embed="rId1"/>
          <a:stretch/>
        </p:blipFill>
        <p:spPr>
          <a:xfrm>
            <a:off x="428760" y="642960"/>
            <a:ext cx="82198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692360" y="620640"/>
            <a:ext cx="590400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эты-символист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24000" y="2492280"/>
            <a:ext cx="28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первой волны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. Н. Гиппиус,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. Д. Бальмонт,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. К. Сологуб.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708360" y="2492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эты-«младосимволисты»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. Белый, А. А. Блок,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. Я. Брюсов,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яч. Иванов.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9" name="Line 9"/>
          <p:cNvSpPr/>
          <p:nvPr/>
        </p:nvSpPr>
        <p:spPr>
          <a:xfrm flipH="1">
            <a:off x="2555640" y="177336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5003640" y="1700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539640" y="42156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этический символизм стал основой развития новой художественной образности, вдохновляя на творческие поиски многих одаренных русских мастеров – музыкантов, живописцев, драматургов.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итературе акмеизм (Н. Гумилев, О. Мандельштам, А. Ахматова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туризм (В. Хлебников, В. Маяковский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живописи кубизм, абстракционизм, примитивизм (П. Кончаловский, В. Кандинский, К. Малевич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музыке неоклассицизм, неофольклоризм, кубофутуризм (С. Прокофьев)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476360" y="907920"/>
            <a:ext cx="63374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удожественные теч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rebuchet MS"/>
              </a:rPr>
              <a:t>Михаил Александрович Врубель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лавился живописными и графическими произведениями в жанре пейзажа, портрета, книжной иллюстрации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50920" y="34700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 Демона - центральная фигура всего  творчества художника, его основная тема.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24000" y="47210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мон Врубеля – это существо страдающее, страдание превалирует над злом.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Script MT Bold"/>
              </a:rPr>
              <a:t>«Демон летящий», 1899г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9" name="Picture 4" descr="img107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img108"/>
          <p:cNvPicPr/>
          <p:nvPr/>
        </p:nvPicPr>
        <p:blipFill>
          <a:blip r:embed="rId1"/>
          <a:stretch/>
        </p:blipFill>
        <p:spPr>
          <a:xfrm>
            <a:off x="1763640" y="189000"/>
            <a:ext cx="490536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vrubel5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269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288720" y="428040"/>
            <a:ext cx="42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Демон сидящий», 1890г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Script MT Bold"/>
              </a:rPr>
              <a:t>«Демон поверженный», 1902г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4" name="Picture 4" descr="vrubel90"/>
          <p:cNvPicPr/>
          <p:nvPr/>
        </p:nvPicPr>
        <p:blipFill>
          <a:blip r:embed="rId1"/>
          <a:stretch/>
        </p:blipFill>
        <p:spPr>
          <a:xfrm>
            <a:off x="357120" y="1500120"/>
            <a:ext cx="8496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9:23:01Z</dcterms:created>
  <dc:creator>galas</dc:creator>
  <dc:description/>
  <dc:language>en-US</dc:language>
  <cp:lastModifiedBy>pc</cp:lastModifiedBy>
  <dcterms:modified xsi:type="dcterms:W3CDTF">2013-04-19T11:06:03Z</dcterms:modified>
  <cp:revision>25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11049</vt:lpwstr>
  </property>
</Properties>
</file>