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C3D7-7B36-4A92-979C-99B581D68F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AF0F-500D-4BC5-BF27-860D945213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49A7-BD9B-4D0F-9BD1-2A69BC8EA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37D1-1B27-47E9-9E65-BB9A5E41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500B-F9E2-46CC-8CC8-CC62A1B1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E2AA-6381-4F4F-987F-CB6D3B889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E498-E1F4-49E7-93E2-383208ECC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E8FF-0888-42D6-80A2-B7FB3726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9C0B-125C-4497-9868-A200AB91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A82B-9FC3-4BD8-9F90-418ED030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98BB-1D4A-49EF-8B44-61FE86B7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6EF3-2A04-40F8-8916-CD4415EA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BE9C-9A55-42A7-92E4-96BF4A6D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69A0-EAA0-482A-8A35-EA2875D6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9BE3-7DE9-4399-AD7A-242D81D0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4F0E-6A9D-4BC0-88C2-7321CBCB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1DB7-4C27-4F40-A7C5-64AB7D51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E4F7-C823-4D3D-89B7-2DDA0FACE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9075-2BE9-4955-995F-1A8CFC018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C4D6-52FF-41BB-A330-2FEB4E44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574E-B986-45B8-AB39-A5223136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2F6B-14FA-4BA7-82C2-92B7AAD7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E745-D5BE-4BD2-B044-2A4950B3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C431-41F2-40ED-9972-869EFDCA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EAEA-618E-4213-ABC0-45BD0E35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2920-857C-414C-BA6B-59EA741A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A44F-C467-4A6F-8C0E-ABB6353102B1}" type="slidenum">
              <a:rPr b="0" lang="ru-RU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AAA2-2461-45D6-8733-BA6DDD3BBA39}" type="slidenum">
              <a:rPr b="0" lang="ru-RU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95280" y="30477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WordArt 740"/>
          <p:cNvSpPr txBox="1"/>
          <p:nvPr/>
        </p:nvSpPr>
        <p:spPr>
          <a:xfrm>
            <a:off x="611280" y="1413000"/>
            <a:ext cx="8136000" cy="18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2" name="Rectangle 741"/>
          <p:cNvSpPr/>
          <p:nvPr/>
        </p:nvSpPr>
        <p:spPr>
          <a:xfrm>
            <a:off x="684360" y="898560"/>
            <a:ext cx="7554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Comic Sans MS"/>
              </a:rPr>
              <a:t>Художественная культура России </a:t>
            </a:r>
            <a:endParaRPr b="0" lang="en-US" sz="4400" spc="-1" strike="noStrike">
              <a:solidFill>
                <a:srgbClr val="000000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Comic Sans MS"/>
              </a:rPr>
              <a:t>на рубеже 19 – 20 веков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93" name="WordArt 4"/>
          <p:cNvSpPr txBox="1"/>
          <p:nvPr/>
        </p:nvSpPr>
        <p:spPr>
          <a:xfrm>
            <a:off x="873000" y="4005360"/>
            <a:ext cx="6597720" cy="158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БОУ Сухо-Сарматская СОШ</a:t>
            </a:r>
            <a:endParaRPr b="0" lang="en-US" sz="105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ыполнила: Калачева Анастасия</a:t>
            </a:r>
            <a:endParaRPr b="0" lang="en-US" sz="105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hsl" dir="cw">
                                      <p:cBhvr>
                                        <p:cTn id="6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5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Script MT Bold"/>
              </a:rPr>
              <a:t>Творчество Врубеля ярче других отразило противоречия и мучительные метания рубежной эпохи.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6" name="Picture 4" descr="vrubel9"/>
          <p:cNvPicPr/>
          <p:nvPr/>
        </p:nvPicPr>
        <p:blipFill>
          <a:blip r:embed="rId1"/>
          <a:stretch/>
        </p:blipFill>
        <p:spPr>
          <a:xfrm>
            <a:off x="500040" y="1285920"/>
            <a:ext cx="3743280" cy="5257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vrubel3"/>
          <p:cNvPicPr/>
          <p:nvPr/>
        </p:nvPicPr>
        <p:blipFill>
          <a:blip r:embed="rId2"/>
          <a:stretch/>
        </p:blipFill>
        <p:spPr>
          <a:xfrm>
            <a:off x="4932360" y="1341360"/>
            <a:ext cx="3743280" cy="52484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714240" y="5856840"/>
            <a:ext cx="351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d717"/>
                </a:solidFill>
                <a:latin typeface="Times New Roman"/>
              </a:rPr>
              <a:t>«Гадалка», 1895г</a:t>
            </a:r>
            <a:r>
              <a:rPr b="1" lang="ru-RU" sz="2400" spc="-1" strike="noStrike">
                <a:solidFill>
                  <a:srgbClr val="20d717"/>
                </a:solidFill>
                <a:latin typeface="Script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5076720" y="5589360"/>
            <a:ext cx="361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d717"/>
                </a:solidFill>
                <a:latin typeface="Times New Roman"/>
              </a:rPr>
              <a:t>«Царевна Лебедь»,</a:t>
            </a:r>
            <a:endParaRPr b="0" lang="en-US" sz="2800" spc="-1" strike="noStrike">
              <a:solidFill>
                <a:srgbClr val="000000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d717"/>
                </a:solidFill>
                <a:latin typeface="Times New Roman"/>
              </a:rPr>
              <a:t>1900г</a:t>
            </a:r>
            <a:r>
              <a:rPr b="0" lang="ru-RU" sz="2800" spc="-1" strike="noStrike">
                <a:solidFill>
                  <a:srgbClr val="20d717"/>
                </a:solidFill>
                <a:latin typeface="Script MT 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24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8240"/>
                            </p:stCondLst>
                            <p:childTnLst>
                              <p:par>
                                <p:cTn id="12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124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6239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1240"/>
                            </p:stCondLst>
                            <p:childTnLst>
                              <p:par>
                                <p:cTn id="13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vrubel2"/>
          <p:cNvPicPr/>
          <p:nvPr/>
        </p:nvPicPr>
        <p:blipFill>
          <a:blip r:embed="rId1"/>
          <a:stretch/>
        </p:blipFill>
        <p:spPr>
          <a:xfrm>
            <a:off x="322200" y="642960"/>
            <a:ext cx="3962520" cy="4829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vrubel4"/>
          <p:cNvPicPr/>
          <p:nvPr/>
        </p:nvPicPr>
        <p:blipFill>
          <a:blip r:embed="rId2"/>
          <a:stretch/>
        </p:blipFill>
        <p:spPr>
          <a:xfrm>
            <a:off x="4546440" y="1413000"/>
            <a:ext cx="4276800" cy="47336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6"/>
          <p:cNvSpPr/>
          <p:nvPr/>
        </p:nvSpPr>
        <p:spPr>
          <a:xfrm>
            <a:off x="5219640" y="7639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«Богатырь», 1898г </a:t>
            </a:r>
            <a:endParaRPr b="0" lang="en-US" sz="24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54880" y="5515200"/>
            <a:ext cx="392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«Шестикрылый серафим»,</a:t>
            </a:r>
            <a:endParaRPr b="0" lang="en-US" sz="2400" spc="-1" strike="noStrike">
              <a:solidFill>
                <a:srgbClr val="000000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1904г </a:t>
            </a:r>
            <a:endParaRPr b="0" lang="en-US" sz="24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5"/>
          <p:cNvSpPr txBox="1"/>
          <p:nvPr/>
        </p:nvSpPr>
        <p:spPr>
          <a:xfrm>
            <a:off x="1428840" y="642960"/>
            <a:ext cx="6248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ртины Виктора Борисова-Мусатова</a:t>
            </a:r>
            <a:endParaRPr b="0" lang="en-US" sz="1800" spc="1" strike="noStrike">
              <a:ln w="0">
                <a:noFill/>
              </a:ln>
              <a:solidFill>
                <a:srgbClr val="00c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357120" y="1571760"/>
            <a:ext cx="8358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ление художника протекало под влиянием французского импрессионизма. </a:t>
            </a:r>
            <a:endParaRPr b="0" lang="en-US" sz="2400" spc="-1" strike="noStrike">
              <a:solidFill>
                <a:srgbClr val="000000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на утонченная , чуть приглушенная красочная гамма, близкая пастели. </a:t>
            </a:r>
            <a:endParaRPr b="0" lang="en-US" sz="2400" spc="-1" strike="noStrike">
              <a:solidFill>
                <a:srgbClr val="000000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ы нарочито отгорожены от реальности, от жизни.</a:t>
            </a:r>
            <a:endParaRPr b="0" lang="en-US" sz="2400" spc="-1" strike="noStrike">
              <a:solidFill>
                <a:srgbClr val="000000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жения исполнены таинственной символикой, словно пребывают вне времени и пространства.</a:t>
            </a:r>
            <a:endParaRPr b="0" lang="en-US" sz="24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«Автопортрет с сестрой»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7" name="Picture 4" descr="Автопортрет с сестрой"/>
          <p:cNvPicPr/>
          <p:nvPr/>
        </p:nvPicPr>
        <p:blipFill>
          <a:blip r:embed="rId1"/>
          <a:stretch/>
        </p:blipFill>
        <p:spPr>
          <a:xfrm>
            <a:off x="928800" y="857160"/>
            <a:ext cx="701496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«Водоём», 1902 г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9" name="Picture 4" descr="45,74 КБ"/>
          <p:cNvPicPr/>
          <p:nvPr/>
        </p:nvPicPr>
        <p:blipFill>
          <a:blip r:embed="rId1"/>
          <a:stretch/>
        </p:blipFill>
        <p:spPr>
          <a:xfrm>
            <a:off x="785880" y="1071720"/>
            <a:ext cx="74293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«Гобелен»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1" name="Picture 4" descr=" (699x515, 83Kb)"/>
          <p:cNvPicPr/>
          <p:nvPr/>
        </p:nvPicPr>
        <p:blipFill>
          <a:blip r:embed="rId1"/>
          <a:stretch/>
        </p:blipFill>
        <p:spPr>
          <a:xfrm>
            <a:off x="714240" y="857160"/>
            <a:ext cx="7729560" cy="57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142920" y="6215040"/>
            <a:ext cx="558648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«Крымский дворик в лунную ночь», 1895г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Picture 4" descr="Крымский дворик в лунную ночь. Этюд. 1895"/>
          <p:cNvPicPr/>
          <p:nvPr/>
        </p:nvPicPr>
        <p:blipFill>
          <a:blip r:embed="rId1"/>
          <a:stretch/>
        </p:blipFill>
        <p:spPr>
          <a:xfrm>
            <a:off x="357120" y="285840"/>
            <a:ext cx="4357800" cy="5715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Мальчик в шляпе"/>
          <p:cNvPicPr/>
          <p:nvPr/>
        </p:nvPicPr>
        <p:blipFill>
          <a:blip r:embed="rId2"/>
          <a:stretch/>
        </p:blipFill>
        <p:spPr>
          <a:xfrm>
            <a:off x="5357880" y="357120"/>
            <a:ext cx="3254400" cy="5572080"/>
          </a:xfrm>
          <a:prstGeom prst="rect">
            <a:avLst/>
          </a:prstGeom>
          <a:ln w="0">
            <a:noFill/>
          </a:ln>
        </p:spPr>
      </p:pic>
      <p:sp>
        <p:nvSpPr>
          <p:cNvPr id="135" name="Заголовок 1"/>
          <p:cNvSpPr/>
          <p:nvPr/>
        </p:nvSpPr>
        <p:spPr>
          <a:xfrm>
            <a:off x="5072040" y="6072120"/>
            <a:ext cx="4071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«Мальчик в шляпе», 1895г. </a:t>
            </a:r>
            <a:endParaRPr b="0" lang="en-US" sz="24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286200" y="6072120"/>
            <a:ext cx="508644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«Осенний мотив», 1901г</a:t>
            </a:r>
            <a:r>
              <a:rPr b="0" lang="ru-RU" sz="3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Picture 6" descr="Осенний мотив. 1901"/>
          <p:cNvPicPr/>
          <p:nvPr/>
        </p:nvPicPr>
        <p:blipFill>
          <a:blip r:embed="rId1"/>
          <a:stretch/>
        </p:blipFill>
        <p:spPr>
          <a:xfrm>
            <a:off x="357120" y="357120"/>
            <a:ext cx="4006800" cy="557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За вышиванием. 1901"/>
          <p:cNvPicPr/>
          <p:nvPr/>
        </p:nvPicPr>
        <p:blipFill>
          <a:blip r:embed="rId2"/>
          <a:stretch/>
        </p:blipFill>
        <p:spPr>
          <a:xfrm>
            <a:off x="4791240" y="357120"/>
            <a:ext cx="3714480" cy="5572080"/>
          </a:xfrm>
          <a:prstGeom prst="rect">
            <a:avLst/>
          </a:prstGeom>
          <a:ln w="0">
            <a:noFill/>
          </a:ln>
        </p:spPr>
      </p:pic>
      <p:sp>
        <p:nvSpPr>
          <p:cNvPr id="139" name="Заголовок 1"/>
          <p:cNvSpPr/>
          <p:nvPr/>
        </p:nvSpPr>
        <p:spPr>
          <a:xfrm>
            <a:off x="4643280" y="6072120"/>
            <a:ext cx="4500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«За вышиванием», 1901г</a:t>
            </a:r>
            <a:r>
              <a:rPr b="0" lang="ru-RU" sz="3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572040" y="6072120"/>
            <a:ext cx="500076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«Гармония», 1900г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Picture 4" descr="Гармония. 1900"/>
          <p:cNvPicPr/>
          <p:nvPr/>
        </p:nvPicPr>
        <p:blipFill>
          <a:blip r:embed="rId1"/>
          <a:stretch/>
        </p:blipFill>
        <p:spPr>
          <a:xfrm>
            <a:off x="357120" y="428760"/>
            <a:ext cx="3071880" cy="5730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Девушка на балконе. 1900"/>
          <p:cNvPicPr/>
          <p:nvPr/>
        </p:nvPicPr>
        <p:blipFill>
          <a:blip r:embed="rId2"/>
          <a:stretch/>
        </p:blipFill>
        <p:spPr>
          <a:xfrm>
            <a:off x="4929120" y="477720"/>
            <a:ext cx="3408480" cy="5666040"/>
          </a:xfrm>
          <a:prstGeom prst="rect">
            <a:avLst/>
          </a:prstGeom>
          <a:ln w="0">
            <a:noFill/>
          </a:ln>
        </p:spPr>
      </p:pic>
      <p:sp>
        <p:nvSpPr>
          <p:cNvPr id="143" name="Заголовок 1"/>
          <p:cNvSpPr/>
          <p:nvPr/>
        </p:nvSpPr>
        <p:spPr>
          <a:xfrm>
            <a:off x="4286160" y="6143760"/>
            <a:ext cx="4857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«Девушка на балконе», 1900г. </a:t>
            </a:r>
            <a:endParaRPr b="0" lang="en-US" sz="2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214560" y="6071760"/>
            <a:ext cx="515772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«Портрет дамы», 1902 г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5" name="Picture 4" descr="Портрет дамы. 1902"/>
          <p:cNvPicPr/>
          <p:nvPr/>
        </p:nvPicPr>
        <p:blipFill>
          <a:blip r:embed="rId1"/>
          <a:stretch/>
        </p:blipFill>
        <p:spPr>
          <a:xfrm>
            <a:off x="285840" y="428760"/>
            <a:ext cx="4111560" cy="5572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Девушка в ожерелье. 1904"/>
          <p:cNvPicPr/>
          <p:nvPr/>
        </p:nvPicPr>
        <p:blipFill>
          <a:blip r:embed="rId2"/>
          <a:stretch/>
        </p:blipFill>
        <p:spPr>
          <a:xfrm>
            <a:off x="4889520" y="428760"/>
            <a:ext cx="4033800" cy="5572080"/>
          </a:xfrm>
          <a:prstGeom prst="rect">
            <a:avLst/>
          </a:prstGeom>
          <a:ln w="0">
            <a:noFill/>
          </a:ln>
        </p:spPr>
      </p:pic>
      <p:sp>
        <p:nvSpPr>
          <p:cNvPr id="147" name="Заголовок 1"/>
          <p:cNvSpPr/>
          <p:nvPr/>
        </p:nvSpPr>
        <p:spPr>
          <a:xfrm>
            <a:off x="4429080" y="6000840"/>
            <a:ext cx="48578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«Девушка в ожерелье»,1904г. </a:t>
            </a:r>
            <a:endParaRPr b="0" lang="en-US" sz="2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Rockwell Extra Bold"/>
              </a:rPr>
              <a:t>Границы : от начала 90 – х гг. 19 века до 1917 г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8000" y="1600200"/>
            <a:ext cx="8928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Shruti"/>
              </a:rPr>
              <a:t>Определение </a:t>
            </a:r>
            <a:r>
              <a:rPr b="1" i="1" lang="ru-RU" sz="2800" spc="-1" strike="noStrike">
                <a:solidFill>
                  <a:srgbClr val="ff33cc"/>
                </a:solidFill>
                <a:latin typeface="Shruti"/>
              </a:rPr>
              <a:t>«серебряный век»</a:t>
            </a:r>
            <a:r>
              <a:rPr b="1" i="1" lang="ru-RU" sz="2800" spc="-1" strike="noStrike">
                <a:solidFill>
                  <a:srgbClr val="000000"/>
                </a:solidFill>
                <a:latin typeface="Shruti"/>
              </a:rPr>
              <a:t> ввел С.К. Маяковский, основатель и редактор литературного журнала «Аполлон»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cc"/>
                </a:solidFill>
                <a:latin typeface="Shruti"/>
              </a:rPr>
              <a:t>«Русский духовно-культурный ренессанс»</a:t>
            </a:r>
            <a:r>
              <a:rPr b="1" i="1" lang="ru-RU" sz="2800" spc="-1" strike="noStrike">
                <a:solidFill>
                  <a:srgbClr val="000000"/>
                </a:solidFill>
                <a:latin typeface="Shruti"/>
              </a:rPr>
              <a:t> - этот термин определял статус художественной культуры России, в которой есть «серебряное отражение» предыдущих «золотых»времен, и возрождение утраченных реалистическим искусством духовно-религиозных начал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1720" y="6071760"/>
            <a:ext cx="76579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« На террасе», 1904 г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9" name="Picture 4" descr="На террасе. 1904"/>
          <p:cNvPicPr/>
          <p:nvPr/>
        </p:nvPicPr>
        <p:blipFill>
          <a:blip r:embed="rId1"/>
          <a:stretch/>
        </p:blipFill>
        <p:spPr>
          <a:xfrm>
            <a:off x="1143000" y="428760"/>
            <a:ext cx="700092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8760" y="5428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«Летняя мелодия», 1905 г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1" name="Picture 4" descr="Летняя мелодия. 1905"/>
          <p:cNvPicPr/>
          <p:nvPr/>
        </p:nvPicPr>
        <p:blipFill>
          <a:blip r:embed="rId1"/>
          <a:stretch/>
        </p:blipFill>
        <p:spPr>
          <a:xfrm>
            <a:off x="428760" y="642960"/>
            <a:ext cx="821988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"/>
          <p:cNvSpPr txBox="1"/>
          <p:nvPr/>
        </p:nvSpPr>
        <p:spPr>
          <a:xfrm>
            <a:off x="1692360" y="620640"/>
            <a:ext cx="5904000" cy="79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оэты-символисты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24000" y="2492280"/>
            <a:ext cx="280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«первой волны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. Н. Гиппиус, </a:t>
            </a:r>
            <a:endParaRPr b="0" lang="en-US" sz="2400" spc="-1" strike="noStrike">
              <a:solidFill>
                <a:srgbClr val="000000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. Д. Бальмонт, </a:t>
            </a:r>
            <a:endParaRPr b="0" lang="en-US" sz="2400" spc="-1" strike="noStrike">
              <a:solidFill>
                <a:srgbClr val="000000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Ф. К. Сологуб.</a:t>
            </a:r>
            <a:endParaRPr b="0" lang="en-US" sz="24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3708360" y="249228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эты-«младосимволисты»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. Белый, А. А. Блок,</a:t>
            </a:r>
            <a:endParaRPr b="0" lang="en-US" sz="2400" spc="-1" strike="noStrike">
              <a:solidFill>
                <a:srgbClr val="000000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. Я. Брюсов,</a:t>
            </a:r>
            <a:endParaRPr b="0" lang="en-US" sz="2400" spc="-1" strike="noStrike">
              <a:solidFill>
                <a:srgbClr val="000000"/>
              </a:solidFill>
              <a:latin typeface="Script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яч. Иванов. </a:t>
            </a:r>
            <a:endParaRPr b="0" lang="en-US" sz="24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99" name="Line 9"/>
          <p:cNvSpPr/>
          <p:nvPr/>
        </p:nvSpPr>
        <p:spPr>
          <a:xfrm flipH="1">
            <a:off x="2555640" y="1773360"/>
            <a:ext cx="936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5003640" y="1700280"/>
            <a:ext cx="863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539640" y="4215600"/>
            <a:ext cx="82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Поэтический символизм стал основой развития новой художественной образности, вдохновляя на творческие поиски многих одаренных русских мастеров – музыкантов, живописцев, драматургов.</a:t>
            </a:r>
            <a:endParaRPr b="0" lang="en-US" sz="24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2060640"/>
            <a:ext cx="914400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литературе акмеизм (Н. Гумилев, О. Мандельштам, А. Ахматова)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утуризм (В. Хлебников, В. Маяковский)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живописи кубизм, абстракционизм, примитивизм (П. Кончаловский, В. Кандинский, К. Малевич)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музыке неоклассицизм, неофольклоризм, кубофутуризм (С. Прокофьев),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476360" y="907920"/>
            <a:ext cx="633744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Художественные течени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ff"/>
                </a:solidFill>
                <a:latin typeface="Trebuchet MS"/>
              </a:rPr>
              <a:t>Михаил Александрович Врубель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славился живописными и графическими произведениями в жанре пейзажа, портрета, книжной иллюстрации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250920" y="347004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раз Демона - центральная фигура всего  творчества художника, его основная тема. </a:t>
            </a:r>
            <a:endParaRPr b="0" lang="en-US" sz="2800" spc="-1" strike="noStrike">
              <a:solidFill>
                <a:srgbClr val="000000"/>
              </a:solidFill>
              <a:latin typeface="Script MT Bold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324000" y="472104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мон Врубеля – это существо страдающее, страдание превалирует над злом.</a:t>
            </a:r>
            <a:endParaRPr b="0" lang="en-US" sz="2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Script MT Bold"/>
              </a:rPr>
              <a:t>«Демон летящий», 1899г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9" name="Picture 4" descr="img107"/>
          <p:cNvPicPr/>
          <p:nvPr/>
        </p:nvPicPr>
        <p:blipFill>
          <a:blip r:embed="rId1"/>
          <a:stretch/>
        </p:blipFill>
        <p:spPr>
          <a:xfrm>
            <a:off x="0" y="2071800"/>
            <a:ext cx="9144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img108"/>
          <p:cNvPicPr/>
          <p:nvPr/>
        </p:nvPicPr>
        <p:blipFill>
          <a:blip r:embed="rId1"/>
          <a:stretch/>
        </p:blipFill>
        <p:spPr>
          <a:xfrm>
            <a:off x="1763640" y="189000"/>
            <a:ext cx="4905360" cy="64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vrubel5"/>
          <p:cNvPicPr/>
          <p:nvPr/>
        </p:nvPicPr>
        <p:blipFill>
          <a:blip r:embed="rId1"/>
          <a:stretch/>
        </p:blipFill>
        <p:spPr>
          <a:xfrm>
            <a:off x="357120" y="357120"/>
            <a:ext cx="8358120" cy="62690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288720" y="428040"/>
            <a:ext cx="423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imes New Roman"/>
              </a:rPr>
              <a:t>«Демон сидящий», 1890г </a:t>
            </a:r>
            <a:endParaRPr b="0" lang="en-US" sz="2800" spc="-1" strike="noStrike">
              <a:solidFill>
                <a:srgbClr val="000000"/>
              </a:solidFill>
              <a:latin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Script MT Bold"/>
              </a:rPr>
              <a:t>«Демон поверженный», 1902г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4" name="Picture 4" descr="vrubel90"/>
          <p:cNvPicPr/>
          <p:nvPr/>
        </p:nvPicPr>
        <p:blipFill>
          <a:blip r:embed="rId1"/>
          <a:stretch/>
        </p:blipFill>
        <p:spPr>
          <a:xfrm>
            <a:off x="357120" y="1500120"/>
            <a:ext cx="849636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09:23:01Z</dcterms:created>
  <dc:creator>galas</dc:creator>
  <dc:description/>
  <dc:language>en-US</dc:language>
  <cp:lastModifiedBy>pc</cp:lastModifiedBy>
  <dcterms:modified xsi:type="dcterms:W3CDTF">2013-04-19T11:06:03Z</dcterms:modified>
  <cp:revision>25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11049</vt:lpwstr>
  </property>
</Properties>
</file>