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347-5898-4BB4-A840-4D9F04A2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F5C-726C-43E5-A9E4-7AA7C036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2D3-C05F-4413-BC27-CC5AE6BE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383-41C1-4F84-A9BE-884D0FCD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17D7-1703-4FD9-A7B7-42683219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33D-FDC8-4A48-BFF3-9FF9F40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7501-DE49-4181-B8A7-A48269C9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B944-CE6D-488F-9368-75DBF1F7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8C1-6AF2-439D-B951-891A5B9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EE76-2750-4118-B406-3029BE81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E27-2A6A-48F0-A30A-2A5C3207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4CE-358D-4B74-81DB-A22CD0B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3A4E-065E-4044-B4E9-CD7C5232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1629-E343-4B0B-9819-30346E3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E771-4A5A-4884-8E3C-7D57C15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BD96-3AD4-4604-89A9-A2D411F3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EDEC-864B-423A-B7FB-84C5E23F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39A-CE47-46A8-A795-C9F7A5D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D90-2559-444B-A445-C0C34E47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130-6ACB-46C5-BDAF-94D50302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0DF-C313-41B1-B21B-C13E837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C3A-D407-4188-9EAD-968E035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A21-8372-4883-8CCF-150AB20F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29B-E811-411A-8170-9F021653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D239-7200-4DDB-BF90-7D7E76D16A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42D-17D7-4644-A25A-2C0083E563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56840" y="856800"/>
            <a:ext cx="64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 </a:t>
            </a:r>
            <a:r>
              <a:rPr b="1" i="1" lang="ru-RU" sz="108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Курская битва  </a:t>
            </a:r>
            <a:endParaRPr b="0" lang="en-US" sz="10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352520" y="1852560"/>
            <a:ext cx="6578640" cy="3152880"/>
          </a:xfrm>
          <a:prstGeom prst="rect">
            <a:avLst/>
          </a:prstGeom>
          <a:ln w="0">
            <a:noFill/>
          </a:ln>
        </p:spPr>
      </p:pic>
    </p:spTree>
  </p:cSld>
  <p:transition advTm="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ду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кая оборонительная операция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ловская наступательная операция (операция  «Кутузов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лгородско-Харьковская операция (операция «Румянцев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и Курской би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ей ГБОУ СОШ № 2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офрагменты и хро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Заголовок 2" descr=""/>
          <p:cNvPicPr/>
          <p:nvPr/>
        </p:nvPicPr>
        <p:blipFill>
          <a:blip r:embed="rId2"/>
          <a:stretch/>
        </p:blipFill>
        <p:spPr>
          <a:xfrm>
            <a:off x="73080" y="12600"/>
            <a:ext cx="8620200" cy="1225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0480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о событиях июля-августа 1943 года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1525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казать об участниках Курской битвы. </a:t>
            </a:r>
            <a:br>
              <a:rPr sz="6100"/>
            </a:br>
            <a:r>
              <a:rPr b="0" i="1" lang="en-US" sz="6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Заголовок 2" descr=""/>
          <p:cNvPicPr/>
          <p:nvPr/>
        </p:nvPicPr>
        <p:blipFill>
          <a:blip r:embed="rId2"/>
          <a:stretch/>
        </p:blipFill>
        <p:spPr>
          <a:xfrm>
            <a:off x="73080" y="146160"/>
            <a:ext cx="862020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Воспитание  уважения  к истории нашей Родин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Патриотическое воспитание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0920" indent="-250920">
              <a:spcBef>
                <a:spcPts val="1100"/>
              </a:spcBef>
              <a:buClr>
                <a:srgbClr val="0099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Воспитание желания сохранять и умножать традиции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Заголовок 2" descr=""/>
          <p:cNvPicPr/>
          <p:nvPr/>
        </p:nvPicPr>
        <p:blipFill>
          <a:blip r:embed="rId2"/>
          <a:stretch/>
        </p:blipFill>
        <p:spPr>
          <a:xfrm>
            <a:off x="73080" y="146160"/>
            <a:ext cx="8620200" cy="1249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37:34Z</dcterms:created>
  <dc:creator>Надежда</dc:creator>
  <dc:description/>
  <dc:language>en-US</dc:language>
  <cp:lastModifiedBy>Надежда</cp:lastModifiedBy>
  <dcterms:modified xsi:type="dcterms:W3CDTF">2013-04-30T13:39:48Z</dcterms:modified>
  <cp:revision>1</cp:revision>
  <dc:subject/>
  <dc:title>Слайд 1</dc:title>
</cp:coreProperties>
</file>