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DF4-108C-4E4F-9507-13DD2FB1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8DC-E29A-41DE-8846-5713D3D7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4D72-3862-40B5-A55D-A88C5420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B8DD-FE30-463E-99BC-8DCD2B63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AA89-FD70-44A3-938C-FC688AF6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A776-882D-48BA-9F00-C7A677B4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4239-DF34-4BEB-9570-9D4D7882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D8A3-24D7-4B92-B00E-11D7D6E4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6F0F-AB31-48D4-BDFD-8AF8981F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7B45-9346-450D-B8CE-F7F483D9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8009-1DA5-4368-9D79-0676FE75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A34C-8029-4AEA-9D19-10285BA7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22FF-6E4F-40C4-BD9F-5F555F5F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5341-41B4-492D-A65C-DB5DDE8D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9A46-FFB3-4A4B-A39D-FC06D9B3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C5DB-8E87-40EB-BB84-F71BE0A8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7C89-4FE5-4937-9F5A-A3EDFAE0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43F9-16CE-448C-A4C1-1E0B7DD3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2A27-45FB-460F-9924-349ED81E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6CFE-58B5-4C1D-8973-384A9FCF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374-FE65-4EAD-BA16-5788EBB2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62D-A920-4F3A-8343-C29AF320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148-517A-497D-80B2-8CA8BBDE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80D-C62C-495D-9C59-3D244080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6EB7-75B2-48D3-9124-40D0902924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E7C7-A5CB-4279-81AB-A7E1751193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56840" y="856800"/>
            <a:ext cx="648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 </a:t>
            </a:r>
            <a:r>
              <a:rPr b="1" i="1" lang="ru-RU" sz="108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Курская битва  </a:t>
            </a:r>
            <a:endParaRPr b="0" lang="en-US" sz="10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1352520" y="1852560"/>
            <a:ext cx="6578640" cy="315288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кая ду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кая оборонительная операция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ловская наступательная операция (операция  «Кутузов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городско-Харьковская операция (операция «Румянцев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оги Курской бит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ей ГБОУ СОШ № 2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офрагменты и хрон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Заголовок 2" descr=""/>
          <p:cNvPicPr/>
          <p:nvPr/>
        </p:nvPicPr>
        <p:blipFill>
          <a:blip r:embed="rId2"/>
          <a:stretch/>
        </p:blipFill>
        <p:spPr>
          <a:xfrm>
            <a:off x="73080" y="12600"/>
            <a:ext cx="8620200" cy="1225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20480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казать о событиях июля-августа 1943 года 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1525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казать об участниках Курской битвы. </a:t>
            </a:r>
            <a:br>
              <a:rPr sz="6100"/>
            </a:br>
            <a:r>
              <a:rPr b="0" i="1" lang="en-US" sz="6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Заголовок 2" descr=""/>
          <p:cNvPicPr/>
          <p:nvPr/>
        </p:nvPicPr>
        <p:blipFill>
          <a:blip r:embed="rId2"/>
          <a:stretch/>
        </p:blipFill>
        <p:spPr>
          <a:xfrm>
            <a:off x="73080" y="146160"/>
            <a:ext cx="8620200" cy="1249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28760" y="1500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1100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Воспитание  уважения  к истории нашей Родин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50920" indent="-250920">
              <a:spcBef>
                <a:spcPts val="1100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Патриотическое воспитание 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50920" indent="-250920">
              <a:spcBef>
                <a:spcPts val="1100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Воспитание желания сохранять и умножать традиции 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Заголовок 2" descr=""/>
          <p:cNvPicPr/>
          <p:nvPr/>
        </p:nvPicPr>
        <p:blipFill>
          <a:blip r:embed="rId2"/>
          <a:stretch/>
        </p:blipFill>
        <p:spPr>
          <a:xfrm>
            <a:off x="73080" y="146160"/>
            <a:ext cx="8620200" cy="1249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3:37:34Z</dcterms:created>
  <dc:creator>Надежда</dc:creator>
  <dc:description/>
  <dc:language>en-US</dc:language>
  <cp:lastModifiedBy>Надежда</cp:lastModifiedBy>
  <dcterms:modified xsi:type="dcterms:W3CDTF">2013-04-30T13:39:48Z</dcterms:modified>
  <cp:revision>1</cp:revision>
  <dc:subject/>
  <dc:title>Слайд 1</dc:title>
</cp:coreProperties>
</file>