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40B-1A9F-4453-B6CE-63D7CA42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8EB-42F8-4100-BD9D-FD6E4A2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FA9-8937-4149-B5BA-9D9E7143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E54-E431-4D6B-AAB5-8AF60A97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94E4-2935-46AD-B483-313B36A5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498C-4A71-4207-A9B4-482716B7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A60F-8488-495D-AAEF-E31F145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CB7E-0B76-4CFC-B4D7-D8191DB9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7614-2C39-4436-9FD1-344E9C24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9CD2-A032-48FC-808C-5C4F9825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52B8-18A0-42B5-89FA-0CB7366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5DB-1780-4F5C-A7F4-A0BECE3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AE1-3BD0-4534-AD0A-2D9993AE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98BD-896D-4F98-9CB0-1E1F4FD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762F-7B39-46BB-A9CC-B4186BEE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21D0-E227-480E-82C0-362B4C63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C2B7-E723-4C2A-8B53-A72A2F9D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C09-AB6F-4BB5-835F-17E12F91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0C2-AB69-4DD2-A5A3-0F625C14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B74-4FBE-40E5-9B7D-F6D685A6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C9C-58D7-44ED-AC99-B949AB1B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534-E9A9-4DDF-8175-3ABB6E1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25B-ED0E-4799-821E-CBB7E8A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1E7-79B8-4131-A8DE-FC26802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21CD-2266-4524-BD61-D56657BAA3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7564-3528-4591-BD8D-6C3A154C19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2571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ahoma"/>
              </a:rPr>
              <a:t>Белгородско-Харьковская наступательная операция (операция «Румянцев»).</a:t>
            </a:r>
            <a:br>
              <a:rPr sz="1800"/>
            </a:b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ccff99"/>
                </a:solidFill>
                <a:latin typeface="Tahoma"/>
              </a:rPr>
              <a:t>На южном фасе контрнаступление силами Воронежского и Степного фронтов началось 3 августа. </a:t>
            </a:r>
            <a:br>
              <a:rPr sz="1900"/>
            </a:br>
            <a:endParaRPr b="0" lang="en-US" sz="19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82" name="Рисунок 2"/>
          <p:cNvGrpSpPr/>
          <p:nvPr/>
        </p:nvGrpSpPr>
        <p:grpSpPr>
          <a:xfrm>
            <a:off x="2670120" y="55440"/>
            <a:ext cx="6394680" cy="4388040"/>
            <a:chOff x="2670120" y="55440"/>
            <a:chExt cx="6394680" cy="4388040"/>
          </a:xfrm>
        </p:grpSpPr>
        <p:pic>
          <p:nvPicPr>
            <p:cNvPr id="83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670120" y="55440"/>
              <a:ext cx="6394680" cy="43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857680" y="214200"/>
              <a:ext cx="601956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480" y="442908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5 августа примерно в 18-00 был освобождён Белгород, 7 августа — Богодухов. Развивая наступление, советские войска 11 августа перерезали железную дорогу Харьков-Полтава, 23 августа овладели Харьковом. Контрудары немцев успеха не имели. 5 августа в Москве был дан первый за всю войну салют — в честь освобождения Орла и Белго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C:\Documents and Settings\OEM\Рабочий стол\363-qtabnie_uceniy_pod_krasnoyrskom.jpg"/>
          <p:cNvPicPr/>
          <p:nvPr/>
        </p:nvPicPr>
        <p:blipFill>
          <a:blip r:embed="rId3"/>
          <a:stretch/>
        </p:blipFill>
        <p:spPr>
          <a:xfrm>
            <a:off x="2620800" y="49320"/>
            <a:ext cx="6467760" cy="44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642600"/>
            <a:ext cx="82296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ru-RU" sz="3700" spc="-1" strike="noStrike">
                <a:solidFill>
                  <a:srgbClr val="c00000"/>
                </a:solidFill>
                <a:latin typeface="Tahoma"/>
              </a:rPr>
              <a:t>«Окопы»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Окопы. Дождь косой и стужа,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Шинель, прилипшая к спине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Нога, оторванная, в луже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Стоит, как памятник в войне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И девушка в простой ушанке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Тот поцелуй – полет и высь…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И вдруг команда: «Слева танки!»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И снова смерть…И снова жизнь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Борис Петерс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1133640" y="-146160"/>
            <a:ext cx="7345080" cy="785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8320" y="642960"/>
            <a:ext cx="4495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беда под Курском ознаменовала переход стратегической инициативы к Красной Армии. К моменту стабилизации фронта советские войска вышли на исходные позиции для наступления на Днепр. После окончания сражения на Курской дуге германское командование утратило возможность проводить стратегические наступате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" descr="C:\Documents and Settings\OEM\Рабочий стол\Курская битва\0_8a446_944a0250_XL.jpg"/>
          <p:cNvPicPr/>
          <p:nvPr/>
        </p:nvPicPr>
        <p:blipFill>
          <a:blip r:embed="rId3"/>
          <a:stretch/>
        </p:blipFill>
        <p:spPr>
          <a:xfrm>
            <a:off x="208080" y="781200"/>
            <a:ext cx="4510080" cy="3084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85840" y="400068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операции. Локальные массированные наступления, такие как «Вахта на Рейне» (1944) или операция на Балатоне (1945), также успеха не им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57120" y="457200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Потери сторон в битве остаются неясными. Так, советские историки, в том числе и академик АН СССР А. М. Самсонов, говорят о более чем 500 тыс. убитых, раненых и пленных, 1500 танков и свыше 3700 самолётов. Однако немецкие архивные данные свидетельствуют, что вермахт за июль-август 1943 г. на всём Восточном фронте потерял 537 533 человек. В данные цифры входят убитые, раненые, больные, пропавшие без вести (количество немецких пленных в этой операции было незначительн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47680"/>
            <a:ext cx="8229600" cy="324612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3"/>
          <a:stretch/>
        </p:blipFill>
        <p:spPr>
          <a:xfrm>
            <a:off x="365040" y="5334120"/>
            <a:ext cx="8371080" cy="59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OEM\Рабочий стол\Курская битва\i (3).jpg"/>
          <p:cNvPicPr/>
          <p:nvPr/>
        </p:nvPicPr>
        <p:blipFill>
          <a:blip r:embed="rId4"/>
          <a:stretch/>
        </p:blipFill>
        <p:spPr>
          <a:xfrm>
            <a:off x="262080" y="49320"/>
            <a:ext cx="8692920" cy="540072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2:38Z</dcterms:modified>
  <cp:revision>5</cp:revision>
  <dc:subject/>
  <dc:title>Слайд 1</dc:title>
</cp:coreProperties>
</file>