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754-F9EC-4FFF-81DC-056CDDBB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426-4303-425A-887B-F89B4819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D68-005E-4A85-A60B-743490CA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918-19D3-402E-86A7-BA89D839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EFDA-CC78-4BA5-89D2-C38B51ED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CD66-D596-4828-9D42-94075905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A169-38E2-41D8-B0DA-E71D67D0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29B-1484-4F30-88B8-CB3E811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5DD9-FB95-4B42-9C4C-B25E8D8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40CA-2469-4BA5-BECC-D676C782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9492-DBC7-4046-8463-AABF4BD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1F2-F7D2-4E71-AFEB-3CEA6059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4A44-256F-4A1A-9C3C-C5E7102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9F7E-8235-4A86-9AF2-76610968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6D8F-9BBC-46C5-AA2D-89EDDDCA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3C23-9428-4367-B449-BC9F79AF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6D78-712A-421A-9ADA-921D2F2E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840-EF09-4FD0-91E4-87AFB34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49C9-1612-40BE-BDC6-E653F266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2FC-6C97-49E3-917B-6D34853F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2B9-1BD1-4BB0-8A59-2045D1D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DE1-1FE9-4161-9A16-BC4E300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7BB-B68F-4E98-B889-FB707F3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2BC-6444-4B45-A9EC-A965DB10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CBF6-8F6B-4A8B-A6FB-F67D5E218A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46B2-6DFD-4077-BFAE-BCF047282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2571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ahoma"/>
              </a:rPr>
              <a:t>Белгородско-Харьковская наступательная операция (операция «Румянцев»).</a:t>
            </a:r>
            <a:br>
              <a:rPr sz="1800"/>
            </a:b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ccff99"/>
                </a:solidFill>
                <a:latin typeface="Tahoma"/>
              </a:rPr>
              <a:t>На южном фасе контрнаступление силами Воронежского и Степного фронтов началось 3 августа. </a:t>
            </a:r>
            <a:br>
              <a:rPr sz="1900"/>
            </a:br>
            <a:endParaRPr b="0" lang="en-US" sz="19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82" name="Рисунок 2"/>
          <p:cNvGrpSpPr/>
          <p:nvPr/>
        </p:nvGrpSpPr>
        <p:grpSpPr>
          <a:xfrm>
            <a:off x="2670120" y="55440"/>
            <a:ext cx="6394680" cy="4388040"/>
            <a:chOff x="2670120" y="55440"/>
            <a:chExt cx="6394680" cy="4388040"/>
          </a:xfrm>
        </p:grpSpPr>
        <p:pic>
          <p:nvPicPr>
            <p:cNvPr id="83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670120" y="55440"/>
              <a:ext cx="6394680" cy="43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857680" y="214200"/>
              <a:ext cx="601956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480" y="442908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5 августа примерно в 18-00 был освобождён Белгород, 7 августа — Богодухов. Развивая наступление, советские войска 11 августа перерезали железную дорогу Харьков-Полтава, 23 августа овладели Харьковом. Контрудары немцев успеха не имели. 5 августа в Москве был дан первый за всю войну салют — в честь освобождения Орла и Бел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2" descr="C:\Documents and Settings\OEM\Рабочий стол\363-qtabnie_uceniy_pod_krasnoyrskom.jpg"/>
          <p:cNvPicPr/>
          <p:nvPr/>
        </p:nvPicPr>
        <p:blipFill>
          <a:blip r:embed="rId3"/>
          <a:stretch/>
        </p:blipFill>
        <p:spPr>
          <a:xfrm>
            <a:off x="2620800" y="49320"/>
            <a:ext cx="6467760" cy="44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642600"/>
            <a:ext cx="82296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i="1" lang="ru-RU" sz="3700" spc="-1" strike="noStrike">
                <a:solidFill>
                  <a:srgbClr val="c00000"/>
                </a:solidFill>
                <a:latin typeface="Tahoma"/>
              </a:rPr>
              <a:t>«Окопы»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Окопы. Дождь косой и стужа,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Шинель, прилипшая к спин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Нога, оторванная, в луже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Стоит, как памятник в войн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девушка в простой ушанке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Тот поцелуй – полет и высь…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вдруг команда: «Слева танки!»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И снова смерть…И снова жизнь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                                       </a:t>
            </a:r>
            <a:r>
              <a:rPr b="0" i="1" lang="ru-RU" sz="3300" spc="-1" strike="noStrike">
                <a:solidFill>
                  <a:srgbClr val="ffffff"/>
                </a:solidFill>
                <a:latin typeface="Tahoma"/>
              </a:rPr>
              <a:t>Борис Петерс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1133640" y="-146160"/>
            <a:ext cx="7345080" cy="785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648320" y="642960"/>
            <a:ext cx="44956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беда под Курском ознаменовала переход стратегической инициативы к Красной Армии. К моменту стабилизации фронта советские войска вышли на исходные позиции для наступления на Днепр. После окончания сражения на Курской дуге германское командование утратило возможность проводить стратегические наступа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2" descr="C:\Documents and Settings\OEM\Рабочий стол\Курская битва\0_8a446_944a0250_XL.jpg"/>
          <p:cNvPicPr/>
          <p:nvPr/>
        </p:nvPicPr>
        <p:blipFill>
          <a:blip r:embed="rId3"/>
          <a:stretch/>
        </p:blipFill>
        <p:spPr>
          <a:xfrm>
            <a:off x="208080" y="781200"/>
            <a:ext cx="4510080" cy="3084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5"/>
          <p:cNvSpPr/>
          <p:nvPr/>
        </p:nvSpPr>
        <p:spPr>
          <a:xfrm>
            <a:off x="285840" y="400068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операции. Локальные массированные наступления, такие как «Вахта на Рейне» (1944) или операция на Балатоне (1945), также успеха не им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357120" y="457200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отери сторон в битве остаются неясными. Так, советские историки, в том числе и академик АН СССР А. М. Самсонов, говорят о более чем 500 тыс. убитых, раненых и пленных, 1500 танков и свыше 3700 самолётов. Однако немецкие архивные данные свидетельствуют, что вермахт за июль-август 1943 г. на всём Восточном фронте потерял 537 533 человек. В данные цифры входят убитые, раненые, больные, пропавшие без вести (количество немецких пленных в этой операции было незначительн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47680"/>
            <a:ext cx="8229600" cy="3246120"/>
          </a:xfrm>
          <a:prstGeom prst="rect">
            <a:avLst/>
          </a:prstGeom>
          <a:ln w="0">
            <a:noFill/>
          </a:ln>
        </p:spPr>
      </p:pic>
      <p:pic>
        <p:nvPicPr>
          <p:cNvPr id="94" name="Заголовок 1" descr=""/>
          <p:cNvPicPr/>
          <p:nvPr/>
        </p:nvPicPr>
        <p:blipFill>
          <a:blip r:embed="rId3"/>
          <a:stretch/>
        </p:blipFill>
        <p:spPr>
          <a:xfrm>
            <a:off x="365040" y="5334120"/>
            <a:ext cx="8371080" cy="59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OEM\Рабочий стол\Курская битва\i (3).jpg"/>
          <p:cNvPicPr/>
          <p:nvPr/>
        </p:nvPicPr>
        <p:blipFill>
          <a:blip r:embed="rId4"/>
          <a:stretch/>
        </p:blipFill>
        <p:spPr>
          <a:xfrm>
            <a:off x="262080" y="49320"/>
            <a:ext cx="8692920" cy="54007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2:38Z</dcterms:modified>
  <cp:revision>5</cp:revision>
  <dc:subject/>
  <dc:title>Слайд 1</dc:title>
</cp:coreProperties>
</file>