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15A-66C2-4A98-A67B-3C82A63B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5E3-CE1A-4F9A-BA4F-0AE59CEC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EEB-890F-4DD5-8FFA-7906546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30A-6FD4-45BD-AAB7-EDD4B008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694-8BBB-4284-B3F1-0313ED40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E3E-0BE1-42E5-9215-7A7B586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BD8-F116-4552-9764-7C650115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243-1398-4059-906D-3BF6A05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E355-664E-43A2-8DE3-7068B0A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B7CF-F544-46F0-88B9-A88D65D7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1E48-5F98-47DD-B839-E2C458C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500-4CC6-468A-BA14-58B5C641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5165-6307-4E6B-9C7B-315B7B6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B3C-36B2-4715-86B4-59BF53C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7175-E89E-49B0-B4EC-A988F58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AE04-A5A1-4285-8899-642CCBD3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2A90-1C7F-42BF-AC18-BFDC0F3C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45A-F3CA-42F5-8341-3030FD6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622-F76B-46D0-AD85-381519C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8B3-C92C-4FD9-92DB-FB12CCBC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158-0977-450D-8C5D-0DA4980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423-8E2F-4D51-9D15-455559C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342-DF33-4607-97F9-211C256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45B-3B19-4970-8DE7-6E290B1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829-D265-44A7-BB38-57986D2E3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B5F-E8F6-41B1-8ED5-AE0E74DE68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2" descr=""/>
          <p:cNvPicPr/>
          <p:nvPr/>
        </p:nvPicPr>
        <p:blipFill>
          <a:blip r:embed="rId2"/>
          <a:stretch/>
        </p:blipFill>
        <p:spPr>
          <a:xfrm>
            <a:off x="341280" y="633240"/>
            <a:ext cx="8442360" cy="287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04768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В нашей школе, которая расположена  в районе Лианозово есть  музей , названный</a:t>
            </a:r>
            <a:r>
              <a:rPr b="0" lang="en-GB" sz="37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Наше Отечество”.В нём есть несколько разных экспозиций, посвящённых истории района, истории школы, нашему времени и , конечно, Великой Отечественной войне.</a:t>
            </a:r>
            <a:br>
              <a:rPr sz="3300"/>
            </a:b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OEM\Рабочий стол\музейная работа\DSCF1198а.JPG"/>
          <p:cNvPicPr/>
          <p:nvPr/>
        </p:nvPicPr>
        <p:blipFill>
          <a:blip r:embed="rId2"/>
          <a:stretch/>
        </p:blipFill>
        <p:spPr>
          <a:xfrm>
            <a:off x="4956120" y="566640"/>
            <a:ext cx="3638520" cy="1168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OEM\Рабочий стол\музейная работа\DSCF1195а.jpg"/>
          <p:cNvPicPr/>
          <p:nvPr/>
        </p:nvPicPr>
        <p:blipFill>
          <a:blip r:embed="rId3"/>
          <a:stretch/>
        </p:blipFill>
        <p:spPr>
          <a:xfrm>
            <a:off x="401760" y="1689120"/>
            <a:ext cx="4303440" cy="642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5:17Z</dcterms:modified>
  <cp:revision>6</cp:revision>
  <dc:subject/>
  <dc:title>Слайд 1</dc:title>
</cp:coreProperties>
</file>