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D0C-81E0-4015-BF62-AD784706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4D2-D265-4355-9173-11A4C5AB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B3F-D695-4A0E-93B5-26F03F7F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CE5-2ED8-4C6E-8D5C-FDCB8EE2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9488-C601-4780-8BA5-2E91686E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A64F-5182-4197-A895-953487C4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0FCB-9EEC-4951-AFBD-2FF2B737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897F-573F-4FA0-A93E-D5C475C4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B844-93CB-4B37-BC33-845ADCF2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FE4C-D4B4-4995-8418-5DF237BF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E8FB-97F0-45F4-BE5B-4642A306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F18-88FB-445A-8E55-78983BE5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7170-0639-4253-ACBA-4441AA50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F4BB-F1CB-48BC-ABDC-8247B03C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2683-A2AF-423E-9201-4C562479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1A94-F19D-41EA-B03B-C00FDE51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39C8-CF99-4ED5-B3F4-EFF167A3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B7A-464E-4BC2-864D-8BD9ADCC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4331-B8B1-4F57-BC7D-EE0F78AF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FB2-96BA-415E-8BC6-3E8D0E9F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D4E-632D-451C-A849-1F40494C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E14-D868-45A7-8683-3DA13749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77D-310F-40DB-911C-26EECFD5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4D3-1EE8-46A2-B3C8-682AEB27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F28F-5691-4127-A699-3E1443F690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4B24-97A7-46DC-AB50-BE51C793F5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2" descr=""/>
          <p:cNvPicPr/>
          <p:nvPr/>
        </p:nvPicPr>
        <p:blipFill>
          <a:blip r:embed="rId2"/>
          <a:stretch/>
        </p:blipFill>
        <p:spPr>
          <a:xfrm>
            <a:off x="341280" y="633240"/>
            <a:ext cx="8442360" cy="2878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2047680"/>
            <a:ext cx="8229600" cy="40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В нашей школе, которая расположена  в районе Лианозово есть  музей , названный</a:t>
            </a:r>
            <a:r>
              <a:rPr b="0" lang="en-GB" sz="37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ru-RU" sz="3700" spc="-1" strike="noStrike">
                <a:solidFill>
                  <a:srgbClr val="ffffff"/>
                </a:solidFill>
                <a:latin typeface="Tahoma"/>
              </a:rPr>
              <a:t>Наше Отечество”.В нём есть несколько разных экспозиций, посвящённых истории района, истории школы, нашему времени и , конечно, Великой Отечественной войне.</a:t>
            </a:r>
            <a:br>
              <a:rPr sz="3300"/>
            </a:b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Documents and Settings\OEM\Рабочий стол\музейная работа\DSCF1198а.JPG"/>
          <p:cNvPicPr/>
          <p:nvPr/>
        </p:nvPicPr>
        <p:blipFill>
          <a:blip r:embed="rId2"/>
          <a:stretch/>
        </p:blipFill>
        <p:spPr>
          <a:xfrm>
            <a:off x="4956120" y="566640"/>
            <a:ext cx="3638520" cy="1168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OEM\Рабочий стол\музейная работа\DSCF1195а.jpg"/>
          <p:cNvPicPr/>
          <p:nvPr/>
        </p:nvPicPr>
        <p:blipFill>
          <a:blip r:embed="rId3"/>
          <a:stretch/>
        </p:blipFill>
        <p:spPr>
          <a:xfrm>
            <a:off x="401760" y="1689120"/>
            <a:ext cx="4303440" cy="642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3:37:34Z</dcterms:created>
  <dc:creator>Надежда</dc:creator>
  <dc:description/>
  <dc:language>en-US</dc:language>
  <cp:lastModifiedBy>Надежда</cp:lastModifiedBy>
  <dcterms:modified xsi:type="dcterms:W3CDTF">2013-04-30T16:25:17Z</dcterms:modified>
  <cp:revision>6</cp:revision>
  <dc:subject/>
  <dc:title>Слайд 1</dc:title>
</cp:coreProperties>
</file>