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723-D746-4808-A472-161EF12E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73C-4B16-46C6-A809-8F42E1A4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27C-CA3B-47A0-BE62-67BE18C4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F98-F4DA-4F03-8002-E90A1A1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65D1-3661-4673-9C11-B2D7B706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0DD4-FBEA-4A65-8ED9-D132DB4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6E7D-3F1C-43F5-9561-CCAC436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F68-25D7-4972-B43A-F2EC2EFD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D202-591B-4A0D-941E-2B6B3B54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2656-66BA-46C9-9101-3A83C773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A1A2-67A3-42FD-AA8C-24B4F7ED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8E1-5FDC-478D-AAB4-A6572CA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DC70-9A73-4443-941B-45B3F70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2DC4-AA68-4410-AB14-903C94E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65EA-1FFD-49BE-980F-ED8AE2D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79E4-7E58-469F-89F9-C7A9D22A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845A-1278-4EA5-B1B4-EA3D4DA7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644-FB86-4CC0-8308-0A0E748D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78F-B2B3-462C-BDDA-873A101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62B-868F-48FC-86BD-58EE22E9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08B-2541-4BEC-8ABD-1E96D42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825-2E03-4641-B19C-953A09B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C5-F8FB-44B1-9CCB-1F60C1D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A69-3EAA-4BA5-BED2-9CF985B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9BD3-5FA5-4E66-AF26-9AFA26A10D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433-52B5-4A45-A3F9-A3A20034F9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79800" y="1633680"/>
            <a:ext cx="4768560" cy="357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840" y="-4680"/>
            <a:ext cx="91281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В первые годы войны родители Маши Логуновой получили извещение: погиб сын. Маша, тогда семнадцатилетняя девушка, решила отомстить за брата и подала заявление с просьбой направить её на учёбу в танковую школу. Девушка – водитель танка! Ведь танкисты считают свою профессию сугубо мужской. И когда работницу свердловской области фабрики  «Уралобувь» Машу Логунову приняли в танковую школу, среди командиров это было встречено с недоумением и даже улыбкой. Но у девушки характер оказался, что называется, бронев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Летом 1943 года Маша получила боевое крещение – это было на Курской дуге. Потом участвовала в наступательных операциях на Украине.  Двенадцать раз водила машину в атаки механик  Мария Логунова . В тринадцатом бою, на берегу Днепра,  вражеский  снаряд попал в её танк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госпитале отважной девушке пришлось ампутировать обе ноги, но упорный уральский характер помог и тогда . Она научилась ходить даже без палки, вернулась в армию. Стала водить легковую машину. Мария Логунова вместе с мужем, тоже участником Великой Отечественной войны , и двумя сыновьями живет на Украине, в городе Хмельницком.»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Газета «Правда», 8 марта 1970 года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.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Заголовок 6" descr=""/>
          <p:cNvPicPr/>
          <p:nvPr/>
        </p:nvPicPr>
        <p:blipFill>
          <a:blip r:embed="rId2"/>
          <a:stretch/>
        </p:blipFill>
        <p:spPr>
          <a:xfrm>
            <a:off x="493560" y="122400"/>
            <a:ext cx="8242560" cy="523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760" y="25002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1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6:39Z</dcterms:modified>
  <cp:revision>7</cp:revision>
  <dc:subject/>
  <dc:title>Слайд 1</dc:title>
</cp:coreProperties>
</file>