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ABF-5CD2-4FFB-92FE-8661F0EE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D4A-5921-4086-82DF-F6D0FBC5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A3C-20BD-44FE-A639-11749C9A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FDD-6896-4AFC-AC91-314F06B0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CDAF-6BF0-4F27-ACE5-CECE94AF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BAB2-BF17-4C92-9309-E1D9A1B3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8CC3-4BE0-44BE-AB5C-2E8FC5A0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BDE2-2673-4FBB-A0EC-16048F38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99CD-9A63-402F-AD1F-04DEDFA4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F0E8-A76A-441A-AFFF-6BE39D55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5327-2FC7-4CE2-82DE-3A70C629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834-82F5-4289-9C79-EF69EFDC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F042-0DD0-4835-8F8E-BE5C2798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800C-F231-492E-A2E2-F295A18D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7B5A-9FF4-4E39-B9A9-7DD87798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4DAB-B326-4DD9-8943-059971DB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3545-B7A5-4521-AD2B-B853494E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BA3-78D5-48B2-82E0-0AC403AE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79A-B3F0-49EF-8F8F-78008DA7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1EF-7B6B-458F-A53E-AE8530B3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F77-BAC4-4FA4-A3C0-BAF512A9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BBF-7810-439C-B83B-D6491940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AFB-B734-4685-BFC7-2CF56276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5F2-8300-4253-B0B9-9F504266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0DB5-E096-4B76-AAD5-F3418C7B4D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D47D-455A-4243-A7B8-D539088861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179800" y="1633680"/>
            <a:ext cx="4768560" cy="3574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5840" y="-4680"/>
            <a:ext cx="912816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71388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«В первые годы войны родители Маши Логуновой получили извещение: погиб сын. Маша, тогда семнадцатилетняя девушка, решила отомстить за брата и подала заявление с просьбой направить её на учёбу в танковую школу. Девушка – водитель танка! Ведь танкисты считают свою профессию сугубо мужской. И когда работницу свердловской области фабрики  «Уралобувь» Машу Логунову приняли в танковую школу, среди командиров это было встречено с недоумением и даже улыбкой. Но у девушки характер оказался, что называется, бронев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Летом 1943 года Маша получила боевое крещение – это было на Курской дуге. Потом участвовала в наступательных операциях на Украине.  Двенадцать раз водила машину в атаки механик  Мария Логунова . В тринадцатом бою, на берегу Днепра,  вражеский  снаряд попал в её танк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000" indent="-2700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 госпитале отважной девушке пришлось ампутировать обе ноги, но упорный уральский характер помог и тогда . Она научилась ходить даже без палки, вернулась в армию. Стала водить легковую машину. Мария Логунова вместе с мужем, тоже участником Великой Отечественной войны , и двумя сыновьями живет на Украине, в городе Хмельницком.»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0000" indent="-27000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Газета «Правда», 8 марта 1970 года </a:t>
            </a: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.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Заголовок 6" descr=""/>
          <p:cNvPicPr/>
          <p:nvPr/>
        </p:nvPicPr>
        <p:blipFill>
          <a:blip r:embed="rId2"/>
          <a:stretch/>
        </p:blipFill>
        <p:spPr>
          <a:xfrm>
            <a:off x="493560" y="122400"/>
            <a:ext cx="8242560" cy="523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28760" y="250020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100" spc="-1" strike="noStrike">
                <a:solidFill>
                  <a:srgbClr val="ff0000"/>
                </a:solidFill>
                <a:latin typeface="Tahoma"/>
              </a:rPr>
              <a:t>Спасибо за внимание!</a:t>
            </a:r>
            <a:endParaRPr b="0" lang="en-US" sz="6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3:37:34Z</dcterms:created>
  <dc:creator>Надежда</dc:creator>
  <dc:description/>
  <dc:language>en-US</dc:language>
  <cp:lastModifiedBy>Надежда</cp:lastModifiedBy>
  <dcterms:modified xsi:type="dcterms:W3CDTF">2013-04-30T16:26:39Z</dcterms:modified>
  <cp:revision>7</cp:revision>
  <dc:subject/>
  <dc:title>Слайд 1</dc:title>
</cp:coreProperties>
</file>