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187-A281-47F2-9019-D473C03E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B9C-A1FE-4291-8DCD-EE26C3C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B0B-02BC-4714-846A-28D316B3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CCF-01BE-4737-B78D-7DD79517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099-9A99-42FA-A44C-484599EB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4295-C96C-4218-9130-DA372C46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C16-6F9E-46F2-B75A-0562157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233D-B1A0-412A-BC89-45558BD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CA07-DD27-4B97-8408-6C9BB47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E9DF-1969-47CD-AF83-5B29D3D8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7DFF-4E5D-42E9-AB4A-EB6C650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761-82A4-46BA-A9CE-B92099AB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E352-D2FB-428E-8E18-69ADE70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5A5D-1D21-44F8-9BA3-941D9756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B1E3-9B74-4A38-A377-5DE81B8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3F0B-D9B5-41C9-A31D-A4D3D848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B5F-F8B0-449F-B297-E3EF1E3C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8B8-60E2-459E-9676-CCE1A4AF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6AB-1C1A-49CC-9E68-3974B53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00B-26DE-4194-BB8A-64D81273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901-91A9-4B4E-BDFD-E234EA3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BB9-3A03-4FAC-9527-611F730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F14-664C-4691-B9E8-FBD773A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02B-94DB-4EB1-81CF-CBAB481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00C-F7E6-4CF5-A4AD-2F3AC3570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B27-E1D0-4172-BB1E-E169F9A5E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0800" y="-214560"/>
            <a:ext cx="31860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Курская дуга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8000" y="856800"/>
            <a:ext cx="3995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Tahoma"/>
              </a:rPr>
              <a:t>Сражение на Курской дуге продолжалось 50 дней и ночей- с 5 июля по 23 августа 1943 года. Оно включало в себя три стратегические операции советских войск: Курскую оборонительную (5-23 июля); Орловскую (12 июля-18 августа) и Белградско-Харьковскую (8-23 августа) наступательные опер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" descr="http://news.bbc.co.uk/media/images/41062000/jpg/_41062907_8.jpg"/>
          <p:cNvPicPr/>
          <p:nvPr/>
        </p:nvPicPr>
        <p:blipFill>
          <a:blip r:embed="rId2"/>
          <a:stretch/>
        </p:blipFill>
        <p:spPr>
          <a:xfrm>
            <a:off x="0" y="549360"/>
            <a:ext cx="538308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OEM\Рабочий стол\rehcrfz leu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Рисунок 2"/>
          <p:cNvGrpSpPr/>
          <p:nvPr/>
        </p:nvGrpSpPr>
        <p:grpSpPr>
          <a:xfrm>
            <a:off x="268200" y="274680"/>
            <a:ext cx="6400800" cy="5931000"/>
            <a:chOff x="268200" y="274680"/>
            <a:chExt cx="6400800" cy="5931000"/>
          </a:xfrm>
        </p:grpSpPr>
        <p:pic>
          <p:nvPicPr>
            <p:cNvPr id="86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6400800" cy="59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457200"/>
              <a:ext cx="6019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29040" y="-360"/>
            <a:ext cx="2514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25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Готовясь к летней компании 1943 года . Немецкое командование разработало план крупной наступательной операции под кодовым названием «Цитадель». Планировалось окружить и уничтожить советские войска , находящиеся на Курском выступе, и в случае успеха разгромить войска Юго-Западного фронта и создать</a:t>
            </a:r>
            <a:r>
              <a:rPr b="0" lang="en-US" sz="22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 угрозу Москв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4"/>
          <p:cNvSpPr/>
          <p:nvPr/>
        </p:nvSpPr>
        <p:spPr>
          <a:xfrm flipV="1" rot="10800000">
            <a:off x="1143000" y="5999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ецкая танковая колонна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нь 1943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C:\Documents and Settings\OEM\Рабочий стол\Bundesarchiv_Bild_101I-219-0562A-06,_Russland,_Kolonne_mit_Panzer_III.jpg"/>
          <p:cNvPicPr/>
          <p:nvPr/>
        </p:nvPicPr>
        <p:blipFill>
          <a:blip r:embed="rId3"/>
          <a:stretch/>
        </p:blipFill>
        <p:spPr>
          <a:xfrm>
            <a:off x="384120" y="384120"/>
            <a:ext cx="6162840" cy="56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259920"/>
            <a:ext cx="83628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январе-феврале 1943 года под Воронежом и Курском силами Брянского и Воронежского  фронтов была разгромлена крупная группировка вражеских войск. В результате отступления противника армии Западного, Брянского, Центрального и Воронежского фронтов в марте вышли на рубеж Киров-Думиничи-Чернышено-Ожигово-Троицкое-Городило-Красногорье-Малоархангельск-Чернь-Клинцы-Коренево-Хотень-Готня-Беломестная-Волчанск. Однако следует отметить, что ещё 8 апреля Г. К. Жуков, опираясь на данные разведывательных органов фронтов курского направления, весьма точно предсказал силу и направление немецких ударов по Курской ду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1:36Z</dcterms:modified>
  <cp:revision>3</cp:revision>
  <dc:subject/>
  <dc:title>Слайд 1</dc:title>
</cp:coreProperties>
</file>