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DB4-4799-4C85-A22E-327822D3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F2F-23FB-41F3-8790-1D8CF804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017-14B5-4108-884D-EDBF0AD2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49D-6257-4F49-968A-0E2B5966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0028-D1E1-4383-9F31-39F7C07D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19AE-008D-4FE7-81ED-67230E07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A159-B6B4-4155-A92D-C0D01B14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F518-F359-49D4-B6E6-88FC924B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545F-312D-4B63-B751-B5BD8E2C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D175-A139-474B-8163-CEB83352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1DBE-2ED7-4FCD-B703-64EC65DB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D15-82AF-4E17-8409-8A8CCD81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187D-5C14-48B1-B162-1F16DBC6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CB5B-D924-4A0F-9179-8F1153E3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482E-3B7B-4E7A-99B8-A121CE94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00E6-83A8-41DD-9846-637546FC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E876-ABF5-46EA-A756-45D8E4B0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4FB-8E8F-4FF4-98EE-0BD53BF2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06D-0A4A-4F50-869F-745556CE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359-C1A9-4476-B844-3F00E539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550-6084-4220-9937-AACF3BEE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C41-D09B-4523-8E0D-3114DB01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F3C-EB0D-430D-8928-820D4825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008-EF43-4DF0-B737-FB6AE71E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E192-EBC4-4475-BBEA-788C39D2B0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764C-FF25-4B16-A0B8-5599616F1C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0800" y="-214560"/>
            <a:ext cx="31860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ahoma"/>
              </a:rPr>
              <a:t>Курская дуга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8000" y="856800"/>
            <a:ext cx="39956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99"/>
                </a:solidFill>
                <a:latin typeface="Tahoma"/>
              </a:rPr>
              <a:t>Сражение на Курской дуге продолжалось 50 дней и ночей- с 5 июля по 23 августа 1943 года. Оно включало в себя три стратегические операции советских войск: Курскую оборонительную (5-23 июля); Орловскую (12 июля-18 августа) и Белградско-Харьковскую (8-23 августа) наступательные опер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2" descr="http://news.bbc.co.uk/media/images/41062000/jpg/_41062907_8.jpg"/>
          <p:cNvPicPr/>
          <p:nvPr/>
        </p:nvPicPr>
        <p:blipFill>
          <a:blip r:embed="rId2"/>
          <a:stretch/>
        </p:blipFill>
        <p:spPr>
          <a:xfrm>
            <a:off x="0" y="549360"/>
            <a:ext cx="5383080" cy="5613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OEM\Рабочий стол\rehcrfz leu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Рисунок 2"/>
          <p:cNvGrpSpPr/>
          <p:nvPr/>
        </p:nvGrpSpPr>
        <p:grpSpPr>
          <a:xfrm>
            <a:off x="268200" y="274680"/>
            <a:ext cx="6400800" cy="5931000"/>
            <a:chOff x="268200" y="274680"/>
            <a:chExt cx="6400800" cy="5931000"/>
          </a:xfrm>
        </p:grpSpPr>
        <p:pic>
          <p:nvPicPr>
            <p:cNvPr id="86" name="Рисунок 2" descr=""/>
            <p:cNvPicPr/>
            <p:nvPr/>
          </p:nvPicPr>
          <p:blipFill>
            <a:blip r:embed="rId2"/>
            <a:stretch/>
          </p:blipFill>
          <p:spPr>
            <a:xfrm>
              <a:off x="268200" y="274680"/>
              <a:ext cx="6400800" cy="593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7200" y="457200"/>
              <a:ext cx="601992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29040" y="-360"/>
            <a:ext cx="2514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25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Готовясь к летней компании 1943 года . Немецкое командование разработало план крупной наступательной операции под кодовым названием «Цитадель». Планировалось окружить и уничтожить советские войска , находящиеся на Курском выступе, и в случае успеха разгромить войска Юго-Западного фронта и создать</a:t>
            </a:r>
            <a:r>
              <a:rPr b="0" lang="en-US" sz="22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 угрозу Москв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оугольник 4"/>
          <p:cNvSpPr/>
          <p:nvPr/>
        </p:nvSpPr>
        <p:spPr>
          <a:xfrm flipV="1" rot="10800000">
            <a:off x="1143000" y="5999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ецкая танковая колонна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юнь 1943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C:\Documents and Settings\OEM\Рабочий стол\Bundesarchiv_Bild_101I-219-0562A-06,_Russland,_Kolonne_mit_Panzer_III.jpg"/>
          <p:cNvPicPr/>
          <p:nvPr/>
        </p:nvPicPr>
        <p:blipFill>
          <a:blip r:embed="rId3"/>
          <a:stretch/>
        </p:blipFill>
        <p:spPr>
          <a:xfrm>
            <a:off x="384120" y="384120"/>
            <a:ext cx="6162840" cy="566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24000" y="259920"/>
            <a:ext cx="836280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январе-феврале 1943 года под Воронежом и Курском силами Брянского и Воронежского  фронтов была разгромлена крупная группировка вражеских войск. В результате отступления противника армии Западного, Брянского, Центрального и Воронежского фронтов в марте вышли на рубеж Киров-Думиничи-Чернышено-Ожигово-Троицкое-Городило-Красногорье-Малоархангельск-Чернь-Клинцы-Коренево-Хотень-Готня-Беломестная-Волчанск. Однако следует отметить, что ещё 8 апреля Г. К. Жуков, опираясь на данные разведывательных органов фронтов курского направления, весьма точно предсказал силу и направление немецких ударов по Курской дуг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6:21:36Z</dcterms:modified>
  <cp:revision>3</cp:revision>
  <dc:subject/>
  <dc:title>Слайд 1</dc:title>
</cp:coreProperties>
</file>