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5ED-6721-4926-9A7E-496D656E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DF2-D52B-4F95-A4BE-68D2CA6D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29E-068B-4F04-94ED-5EA180AF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E03-54FA-4960-9A40-BDE7E43B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D38E-340F-43EC-A945-07A53EB0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B160-C333-4356-9067-0282B2A3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E7A4-EF97-4885-AD48-C933A5D2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F1D1-BFBB-4811-BAAB-66A3E81B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8BE3-1CB4-4400-A3CD-E036115A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6337-221D-4C3A-9274-C835977D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8A5C-0210-439D-8379-17366230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89A7-FAFA-457E-99CA-E97ED485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FFB1-DCA0-47DA-9C7E-C0259BDA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204E-E097-499C-9CAD-2081EBBB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092E-C98D-4B01-A0FA-A5890102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2631-3EBA-4ABE-A96E-9866F3A4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2ED3-3CCD-4821-AAC4-79B80AD3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BD9-3DF3-4488-B30E-76CC37FC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6E74-37A9-407C-9958-1D12FA6E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BF2-F528-4918-8873-24887325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311-0085-4BE9-A59A-324D54ED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56B-09F8-44D2-BAA2-4ADE60E6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88C-17F1-469A-B3CF-374C5F2C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733-DD0D-4AB7-B251-8F0E782C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3960-3DDA-4495-97B1-A2F73EF0E5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A291-6A7F-4021-AA82-4149CBEC00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860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0" y="5229000"/>
            <a:ext cx="528624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ход 4 июля 1943 года. Направления последовавших 5-15 июля ударов немецких войск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03280" y="5229360"/>
            <a:ext cx="414036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л-полковник Герман Гот и генерал-фельдмаршал Эрих фон Манштейн за обсуждением, 21 июня 1943 год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2" descr="C:\Documents and Settings\OEM\Рабочий стол\401px-Bundesarchiv_Bild_101I-022-2927-26,_Russland,_Generäle_Hoth_und_v._Manstein.jpg"/>
          <p:cNvPicPr/>
          <p:nvPr/>
        </p:nvPicPr>
        <p:blipFill>
          <a:blip r:embed="rId3"/>
          <a:stretch/>
        </p:blipFill>
        <p:spPr>
          <a:xfrm>
            <a:off x="5425920" y="1133640"/>
            <a:ext cx="3224520" cy="423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OEM\Рабочий стол\800px-Курская_дуга,_район_Белгорода,_положение_на_исход_4_июля_1943_года.png"/>
          <p:cNvPicPr/>
          <p:nvPr/>
        </p:nvPicPr>
        <p:blipFill>
          <a:blip r:embed="rId4"/>
          <a:stretch/>
        </p:blipFill>
        <p:spPr>
          <a:xfrm>
            <a:off x="214200" y="1285920"/>
            <a:ext cx="5158080" cy="371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2047680"/>
            <a:ext cx="8229600" cy="4020840"/>
          </a:xfrm>
          <a:prstGeom prst="rect">
            <a:avLst/>
          </a:prstGeom>
          <a:ln w="0">
            <a:noFill/>
          </a:ln>
        </p:spPr>
      </p:pic>
      <p:pic>
        <p:nvPicPr>
          <p:cNvPr id="87" name="Заголовок 1" descr=""/>
          <p:cNvPicPr/>
          <p:nvPr/>
        </p:nvPicPr>
        <p:blipFill>
          <a:blip r:embed="rId3"/>
          <a:stretch/>
        </p:blipFill>
        <p:spPr>
          <a:xfrm>
            <a:off x="317520" y="189000"/>
            <a:ext cx="834552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OEM\Рабочий стол\Курская битва\60311955_20090723_pantera.jpg"/>
          <p:cNvPicPr/>
          <p:nvPr/>
        </p:nvPicPr>
        <p:blipFill>
          <a:blip r:embed="rId4"/>
          <a:stretch/>
        </p:blipFill>
        <p:spPr>
          <a:xfrm>
            <a:off x="133200" y="1066680"/>
            <a:ext cx="8877600" cy="5797800"/>
          </a:xfrm>
          <a:prstGeom prst="rect">
            <a:avLst/>
          </a:prstGeom>
          <a:ln w="0">
            <a:noFill/>
          </a:ln>
        </p:spPr>
      </p:pic>
    </p:spTree>
  </p:cSld>
  <p:transition advTm="13000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57960" y="0"/>
            <a:ext cx="2571840" cy="428616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Tahoma"/>
              </a:rPr>
              <a:t>Курская оборонитель-ная операция</a:t>
            </a:r>
            <a:r>
              <a:rPr b="1" i="1" lang="ru-RU" sz="27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1" lang="ru-RU" sz="15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Германское наступление началось утром 5 июля 1943 года. Поскольку советскому командованию было точно известно время начала операции — 3 часа ночи, в 22:30 и в 2:20 по московскому времени силами двух фронтов была проведена контрартподготовка (оперережающий по началу времени вражескую артподготовку артиллерийский удар по его позициям). </a:t>
            </a:r>
            <a:endParaRPr b="0" lang="en-US" sz="1500" spc="-1" strike="noStrike">
              <a:solidFill>
                <a:srgbClr val="ccff99"/>
              </a:solidFill>
              <a:latin typeface="Tahoma"/>
            </a:endParaRPr>
          </a:p>
        </p:txBody>
      </p:sp>
      <p:grpSp>
        <p:nvGrpSpPr>
          <p:cNvPr id="90" name="Рисунок 2"/>
          <p:cNvGrpSpPr/>
          <p:nvPr/>
        </p:nvGrpSpPr>
        <p:grpSpPr>
          <a:xfrm>
            <a:off x="23760" y="55440"/>
            <a:ext cx="6400800" cy="4314960"/>
            <a:chOff x="23760" y="55440"/>
            <a:chExt cx="6400800" cy="4314960"/>
          </a:xfrm>
        </p:grpSpPr>
        <p:pic>
          <p:nvPicPr>
            <p:cNvPr id="91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3760" y="55440"/>
              <a:ext cx="6400800" cy="43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14200" y="214200"/>
              <a:ext cx="6019920" cy="40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4143240"/>
            <a:ext cx="9144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В немецких докладах отмечены значительные повреждения линий связи и незначительные потери в живой силе. Также был произведен неудачный авиационный налет силами 2-й и 17-й воздушных армий (более 400 штурмовиков и истребителей) на Харьковский и Белгородский аэроузлы противника. Перед началом наземной операции, в 6 часов утра по нашему времени, немцы также нанесли по советским оборонительным рубежам бомбовый и артиллерийский удар. Перешедшие в наступление танки сразу столкнулись с серьёзным сопротивлением. Главный удар на северном фасе был нанесен в направлении Ольховатки. Не достигнув успеха, немцы перенесли удар в направлении Понырей, но и здесь не смогли прорвать советскую оборону. Вермахт смог продвинуться лишь на 10—12 км, после чего уже с 10 июля потеряв до 2/3 танков, 9-я немецкая армия перешла к обороне. На южном фасе  удары немцев были направлены в районы Корочи и Обоян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C:\Documents and Settings\OEM\Рабочий стол\kurskaya7.jpg"/>
          <p:cNvPicPr/>
          <p:nvPr/>
        </p:nvPicPr>
        <p:blipFill>
          <a:blip r:embed="rId3"/>
          <a:stretch/>
        </p:blipFill>
        <p:spPr>
          <a:xfrm>
            <a:off x="133200" y="133200"/>
            <a:ext cx="618192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Tahoma"/>
              </a:rPr>
              <a:t>Орловская наступательная операция(операция «Кутузов»).</a:t>
            </a:r>
            <a:endParaRPr b="0" lang="en-US" sz="2700" spc="-1" strike="noStrike">
              <a:solidFill>
                <a:srgbClr val="ccff99"/>
              </a:solidFill>
              <a:latin typeface="Tahoma"/>
            </a:endParaRPr>
          </a:p>
        </p:txBody>
      </p:sp>
      <p:grpSp>
        <p:nvGrpSpPr>
          <p:cNvPr id="96" name="Рисунок 2"/>
          <p:cNvGrpSpPr/>
          <p:nvPr/>
        </p:nvGrpSpPr>
        <p:grpSpPr>
          <a:xfrm>
            <a:off x="1384200" y="712800"/>
            <a:ext cx="6394680" cy="3578040"/>
            <a:chOff x="1384200" y="712800"/>
            <a:chExt cx="6394680" cy="3578040"/>
          </a:xfrm>
        </p:grpSpPr>
        <p:pic>
          <p:nvPicPr>
            <p:cNvPr id="97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1384200" y="712800"/>
              <a:ext cx="6394680" cy="35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71760" y="857160"/>
              <a:ext cx="6019560" cy="32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57120" y="3933720"/>
            <a:ext cx="878688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12 июля Западный и Брянский фронты начали наступление против 2-й танковой и 9-й армий немцев в районе города Орла. К исходу дня 13 июля советские войска прорвали оборону противника. 26 июля немцы оставили Орловский плацдарм и начали отходить на оборонительную линию «Хаген» (восточнее Брянска). 5 августа в 05:45 советские войска полностью освободили Орёл. По советским данным в Орловской операции было уничтожено 90.000 гитлеровц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2" descr="C:\Documents and Settings\OEM\Рабочий стол\087byw9.jpg"/>
          <p:cNvPicPr/>
          <p:nvPr/>
        </p:nvPicPr>
        <p:blipFill>
          <a:blip r:embed="rId3"/>
          <a:stretch/>
        </p:blipFill>
        <p:spPr>
          <a:xfrm>
            <a:off x="689040" y="549360"/>
            <a:ext cx="7832520" cy="360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3:37:34Z</dcterms:created>
  <dc:creator>Надежда</dc:creator>
  <dc:description/>
  <dc:language>en-US</dc:language>
  <cp:lastModifiedBy>Надежда</cp:lastModifiedBy>
  <dcterms:modified xsi:type="dcterms:W3CDTF">2013-04-30T16:22:04Z</dcterms:modified>
  <cp:revision>4</cp:revision>
  <dc:subject/>
  <dc:title>Слайд 1</dc:title>
</cp:coreProperties>
</file>