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E6C-CD81-448D-9085-76EAD3AB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379-DC17-414D-BA68-07C6C5D4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56C-B351-41A7-9471-34AFE1A2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623-4D0D-42F4-94EB-A9642E5D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C9ED-1FF2-4968-8ED2-4B14B6D3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0866-7C2C-45F5-9490-5A358FF6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9BE2-2E1D-4055-AA13-C87C253E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2186-C6A0-4168-9401-952C6622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01A-102E-4A8F-AA1B-AEE7F044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166B-C07D-4E1F-89F7-E9C1DF68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4842-2005-4CEB-9358-AC93930B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A445-2FCB-4208-BE8F-5228D8AF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1E95-5E55-4840-8EC1-5C3F721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71C2-570F-4330-ADFD-CBCB885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844-518E-41C9-B68C-F2B34F2E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7382-A27C-4F5A-83DA-47AF8B45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064D-8B06-4496-B7BA-AAA00E3F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C38-6BCA-4732-B7DA-E05BC648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944-2885-42FC-AF67-559A3FDE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754-05EF-4686-8AFA-635295BB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752-CBA5-4E40-9848-02F5063B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410-4FC7-4E78-8198-67D71075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CBE-1EAE-4D69-B411-73BAE0A5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C7F-7959-4649-BAF0-6BA12EC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F5B9-55C5-4DC6-9F85-59F72CCB39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3F2-88DE-40B2-8009-48440F3866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0" y="5229000"/>
            <a:ext cx="5286240" cy="8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 4 июля 1943 года. Направления последовавших 5-15 июля ударов немецких войск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2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03280" y="5229360"/>
            <a:ext cx="4140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-полковник Герман Гот и генерал-фельдмаршал Эрих фон Манштейн за обсуждением, 21 июня 1943 год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2" descr="C:\Documents and Settings\OEM\Рабочий стол\401px-Bundesarchiv_Bild_101I-022-2927-26,_Russland,_Generäle_Hoth_und_v._Manstein.jpg"/>
          <p:cNvPicPr/>
          <p:nvPr/>
        </p:nvPicPr>
        <p:blipFill>
          <a:blip r:embed="rId3"/>
          <a:stretch/>
        </p:blipFill>
        <p:spPr>
          <a:xfrm>
            <a:off x="5425920" y="1133640"/>
            <a:ext cx="3224520" cy="423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OEM\Рабочий стол\800px-Курская_дуга,_район_Белгорода,_положение_на_исход_4_июля_1943_года.png"/>
          <p:cNvPicPr/>
          <p:nvPr/>
        </p:nvPicPr>
        <p:blipFill>
          <a:blip r:embed="rId4"/>
          <a:stretch/>
        </p:blipFill>
        <p:spPr>
          <a:xfrm>
            <a:off x="214200" y="1285920"/>
            <a:ext cx="5158080" cy="371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2047680"/>
            <a:ext cx="8229600" cy="4020840"/>
          </a:xfrm>
          <a:prstGeom prst="rect">
            <a:avLst/>
          </a:prstGeom>
          <a:ln w="0">
            <a:noFill/>
          </a:ln>
        </p:spPr>
      </p:pic>
      <p:pic>
        <p:nvPicPr>
          <p:cNvPr id="87" name="Заголовок 1" descr=""/>
          <p:cNvPicPr/>
          <p:nvPr/>
        </p:nvPicPr>
        <p:blipFill>
          <a:blip r:embed="rId3"/>
          <a:stretch/>
        </p:blipFill>
        <p:spPr>
          <a:xfrm>
            <a:off x="317520" y="189000"/>
            <a:ext cx="834552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OEM\Рабочий стол\Курская битва\60311955_20090723_pantera.jpg"/>
          <p:cNvPicPr/>
          <p:nvPr/>
        </p:nvPicPr>
        <p:blipFill>
          <a:blip r:embed="rId4"/>
          <a:stretch/>
        </p:blipFill>
        <p:spPr>
          <a:xfrm>
            <a:off x="133200" y="1066680"/>
            <a:ext cx="8877600" cy="5797800"/>
          </a:xfrm>
          <a:prstGeom prst="rect">
            <a:avLst/>
          </a:prstGeom>
          <a:ln w="0">
            <a:noFill/>
          </a:ln>
        </p:spPr>
      </p:pic>
    </p:spTree>
  </p:cSld>
  <p:transition advTm="13000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57960" y="0"/>
            <a:ext cx="2571840" cy="428616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Tahoma"/>
              </a:rPr>
              <a:t>Курская оборонитель-ная операция</a:t>
            </a:r>
            <a:r>
              <a:rPr b="1" i="1" lang="ru-RU" sz="27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1" lang="ru-RU" sz="15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Германское наступление началось утром 5 июля 1943 года. Поскольку советскому командованию было точно известно время начала операции — 3 часа ночи, в 22:30 и в 2:20 по московскому времени силами двух фронтов была проведена контрартподготовка (оперережающий по началу времени вражескую артподготовку артиллерийский удар по его позициям). </a:t>
            </a:r>
            <a:endParaRPr b="0" lang="en-US" sz="15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0" name="Рисунок 2"/>
          <p:cNvGrpSpPr/>
          <p:nvPr/>
        </p:nvGrpSpPr>
        <p:grpSpPr>
          <a:xfrm>
            <a:off x="23760" y="55440"/>
            <a:ext cx="6400800" cy="4314960"/>
            <a:chOff x="23760" y="55440"/>
            <a:chExt cx="6400800" cy="4314960"/>
          </a:xfrm>
        </p:grpSpPr>
        <p:pic>
          <p:nvPicPr>
            <p:cNvPr id="91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3760" y="55440"/>
              <a:ext cx="640080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4200" y="214200"/>
              <a:ext cx="601992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143240"/>
            <a:ext cx="9144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3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В немецких докладах отмечены значительные повреждения линий связи и незначительные потери в живой силе. Также был произведен неудачный авиационный налет силами 2-й и 17-й воздушных армий (более 400 штурмовиков и истребителей) на Харьковский и Белгородский аэроузлы противника. Перед началом наземной операции, в 6 часов утра по нашему времени, немцы также нанесли по советским оборонительным рубежам бомбовый и артиллерийский удар. Перешедшие в наступление танки сразу столкнулись с серьёзным сопротивлением. Главный удар на северном фасе был нанесен в направлении Ольховатки. Не достигнув успеха, немцы перенесли удар в направлении Понырей, но и здесь не смогли прорвать советскую оборону. Вермахт смог продвинуться лишь на 10—12 км, после чего уже с 10 июля потеряв до 2/3 танков, 9-я немецкая армия перешла к обороне. На южном фасе  удары немцев были направлены в районы Корочи и Обоян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C:\Documents and Settings\OEM\Рабочий стол\kurskaya7.jpg"/>
          <p:cNvPicPr/>
          <p:nvPr/>
        </p:nvPicPr>
        <p:blipFill>
          <a:blip r:embed="rId3"/>
          <a:stretch/>
        </p:blipFill>
        <p:spPr>
          <a:xfrm>
            <a:off x="133200" y="133200"/>
            <a:ext cx="618192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4284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00000"/>
                </a:solidFill>
                <a:latin typeface="Tahoma"/>
              </a:rPr>
              <a:t>Орловская наступательная операция(операция «Кутузов»).</a:t>
            </a:r>
            <a:endParaRPr b="0" lang="en-US" sz="27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6" name="Рисунок 2"/>
          <p:cNvGrpSpPr/>
          <p:nvPr/>
        </p:nvGrpSpPr>
        <p:grpSpPr>
          <a:xfrm>
            <a:off x="1384200" y="712800"/>
            <a:ext cx="6394680" cy="3578040"/>
            <a:chOff x="1384200" y="712800"/>
            <a:chExt cx="6394680" cy="3578040"/>
          </a:xfrm>
        </p:grpSpPr>
        <p:pic>
          <p:nvPicPr>
            <p:cNvPr id="97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1384200" y="712800"/>
              <a:ext cx="63946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71760" y="857160"/>
              <a:ext cx="6019560" cy="32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57120" y="3933720"/>
            <a:ext cx="878688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12 июля Западный и Брянский фронты начали наступление против 2-й танковой и 9-й армий немцев в районе города Орла. К исходу дня 13 июля советские войска прорвали оборону противника. 26 июля немцы оставили Орловский плацдарм и начали отходить на оборонительную линию «Хаген» (восточнее Брянска). 5 августа в 05:45 советские войска полностью освободили Орёл. По советским данным в Орловской операции было уничтожено 90.000 гитлеровце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C:\Documents and Settings\OEM\Рабочий стол\087byw9.jpg"/>
          <p:cNvPicPr/>
          <p:nvPr/>
        </p:nvPicPr>
        <p:blipFill>
          <a:blip r:embed="rId3"/>
          <a:stretch/>
        </p:blipFill>
        <p:spPr>
          <a:xfrm>
            <a:off x="689040" y="549360"/>
            <a:ext cx="7832520" cy="36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2:04Z</dcterms:modified>
  <cp:revision>4</cp:revision>
  <dc:subject/>
  <dc:title>Слайд 1</dc:title>
</cp:coreProperties>
</file>