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4C5-60F2-4139-B534-0D5D9E00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F9A-D9A2-40CC-96A1-FF66978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087-2C3C-4F71-9647-12B601A7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D46-7305-478E-B6CF-97D74C22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26A-95BD-4B0C-9769-632E3118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F2B-758A-4B72-B242-99A0685B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FB4-B72E-4A06-AB04-358ECA31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FB5-0082-4B4B-A207-4703A7B2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C39-209F-4AB2-84F8-6E26A3F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BFE-77B1-4F45-AF78-DCCF1B0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26E-B464-4106-BE18-2C4E792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9FD-98CF-4E20-B5E2-717AF2B0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7C51-A800-4DE1-B428-E7CAA3CD6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81080" y="45720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Маршрутный лист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ЗДОРОВЬЯ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4-в класса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42" name="Picture 6" descr="все фютки 313"/>
          <p:cNvPicPr/>
          <p:nvPr/>
        </p:nvPicPr>
        <p:blipFill>
          <a:blip r:embed="rId1"/>
          <a:stretch/>
        </p:blipFill>
        <p:spPr>
          <a:xfrm rot="355800">
            <a:off x="457200" y="274284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все фютки 314"/>
          <p:cNvPicPr/>
          <p:nvPr/>
        </p:nvPicPr>
        <p:blipFill>
          <a:blip r:embed="rId2"/>
          <a:stretch/>
        </p:blipFill>
        <p:spPr>
          <a:xfrm rot="20731800">
            <a:off x="5257440" y="266652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озе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 rot="20260800">
            <a:off x="3049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танция Спор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 rot="20185800">
            <a:off x="304920" y="5181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анция Вита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 rot="19170000">
            <a:off x="5277240" y="1134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ция Небол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 rot="20584200">
            <a:off x="3581280" y="4952520"/>
            <a:ext cx="50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ция Эк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ция Спорти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0880" y="1066680"/>
            <a:ext cx="403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ревнование «Вперед, выше, быстре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32004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1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рисунков о 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4956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а, мама, я – спортив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се фютки 199"/>
          <p:cNvPicPr/>
          <p:nvPr/>
        </p:nvPicPr>
        <p:blipFill>
          <a:blip r:embed="rId1"/>
          <a:stretch/>
        </p:blipFill>
        <p:spPr>
          <a:xfrm>
            <a:off x="380880" y="2209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все фютки 272"/>
          <p:cNvPicPr/>
          <p:nvPr/>
        </p:nvPicPr>
        <p:blipFill>
          <a:blip r:embed="rId2"/>
          <a:stretch/>
        </p:blipFill>
        <p:spPr>
          <a:xfrm>
            <a:off x="4572000" y="9144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все фютки 192"/>
          <p:cNvPicPr/>
          <p:nvPr/>
        </p:nvPicPr>
        <p:blipFill>
          <a:blip r:embed="rId3"/>
          <a:stretch/>
        </p:blipFill>
        <p:spPr>
          <a:xfrm>
            <a:off x="6400800" y="3886200"/>
            <a:ext cx="227664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S3010173"/>
          <p:cNvPicPr/>
          <p:nvPr/>
        </p:nvPicPr>
        <p:blipFill>
          <a:blip r:embed="rId4"/>
          <a:stretch/>
        </p:blipFill>
        <p:spPr>
          <a:xfrm>
            <a:off x="3429000" y="4191120"/>
            <a:ext cx="2362320" cy="2274840"/>
          </a:xfrm>
          <a:prstGeom prst="rect">
            <a:avLst/>
          </a:prstGeom>
          <a:ln w="0">
            <a:noFill/>
          </a:ln>
        </p:spPr>
      </p:pic>
      <p:pic>
        <p:nvPicPr>
          <p:cNvPr id="58" name="едет поезд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ция Небол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й режим – залог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657600" y="43434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доровом теле – здоровый дух. Соревнование между шко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все фютки 313"/>
          <p:cNvPicPr/>
          <p:nvPr/>
        </p:nvPicPr>
        <p:blipFill>
          <a:blip r:embed="rId1"/>
          <a:stretch/>
        </p:blipFill>
        <p:spPr>
          <a:xfrm>
            <a:off x="6324480" y="129528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G_7023"/>
          <p:cNvPicPr/>
          <p:nvPr/>
        </p:nvPicPr>
        <p:blipFill>
          <a:blip r:embed="rId2"/>
          <a:stretch/>
        </p:blipFill>
        <p:spPr>
          <a:xfrm>
            <a:off x="457200" y="320040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все фютки 204"/>
          <p:cNvPicPr/>
          <p:nvPr/>
        </p:nvPicPr>
        <p:blipFill>
          <a:blip r:embed="rId3"/>
          <a:stretch/>
        </p:blipFill>
        <p:spPr>
          <a:xfrm>
            <a:off x="3505320" y="2438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ция Вита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4495680"/>
            <a:ext cx="3505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, С, А – наши верные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62120" y="160020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ворим о правильном пит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все фютки 206"/>
          <p:cNvPicPr/>
          <p:nvPr/>
        </p:nvPicPr>
        <p:blipFill>
          <a:blip r:embed="rId1"/>
          <a:stretch/>
        </p:blipFill>
        <p:spPr>
          <a:xfrm>
            <a:off x="533520" y="35053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все фютки 314"/>
          <p:cNvPicPr/>
          <p:nvPr/>
        </p:nvPicPr>
        <p:blipFill>
          <a:blip r:embed="rId2"/>
          <a:srcRect l="0" t="0" r="0" b="18140"/>
          <a:stretch/>
        </p:blipFill>
        <p:spPr>
          <a:xfrm>
            <a:off x="4724280" y="1600200"/>
            <a:ext cx="396252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едет поезд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ция Эколог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рисунков «Планета заболе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3520" y="3886200"/>
            <a:ext cx="3733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здоров и счастлив, когда планета в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природа Кубани"/>
          <p:cNvPicPr/>
          <p:nvPr/>
        </p:nvPicPr>
        <p:blipFill>
          <a:blip r:embed="rId1"/>
          <a:stretch/>
        </p:blipFill>
        <p:spPr>
          <a:xfrm>
            <a:off x="533520" y="1219320"/>
            <a:ext cx="35812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30T01:39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