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605-5436-4E04-880E-F17F8F34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74F-5C31-4149-8319-19F6AB4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40F-8512-4CA0-A3E0-A46DE3D4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7CF-A84B-46A8-84B4-85EF04F7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80C-5D58-40E9-AD41-667A3078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680-B377-4935-A65E-347A13A0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C018-B923-4580-A460-A047647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0932-43A9-4CBB-A6A0-9BFB86B1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3E1-653F-470F-B024-4DCB8579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B33-20DE-4DF7-BA20-E196CAA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320-D69F-4D52-9A24-B2B41FA7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AA1-8368-4DB9-A525-22B532E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2C26-1A9C-4416-A299-3F385E5F1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81080" y="457200"/>
            <a:ext cx="5257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Маршрутный лист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ЗДОРОВЬЯ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9999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4-в класса</a:t>
            </a:r>
            <a:endParaRPr b="0" lang="en-US" sz="1800" spc="1" strike="noStrike">
              <a:ln w="25560">
                <a:solidFill>
                  <a:srgbClr val="009999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pic>
        <p:nvPicPr>
          <p:cNvPr id="42" name="Picture 6" descr="все фютки 313"/>
          <p:cNvPicPr/>
          <p:nvPr/>
        </p:nvPicPr>
        <p:blipFill>
          <a:blip r:embed="rId1"/>
          <a:stretch/>
        </p:blipFill>
        <p:spPr>
          <a:xfrm rot="355800">
            <a:off x="457200" y="2742840"/>
            <a:ext cx="3276720" cy="245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все фютки 314"/>
          <p:cNvPicPr/>
          <p:nvPr/>
        </p:nvPicPr>
        <p:blipFill>
          <a:blip r:embed="rId2"/>
          <a:stretch/>
        </p:blipFill>
        <p:spPr>
          <a:xfrm rot="20731800">
            <a:off x="5257440" y="2666520"/>
            <a:ext cx="2895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9" descr="озеро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 rot="20260800">
            <a:off x="304920" y="11430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анция Спор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 rot="20185800">
            <a:off x="304920" y="5181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анция Вита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 rot="19170000">
            <a:off x="5277240" y="11343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ция Небол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 rot="20584200">
            <a:off x="3581280" y="4952520"/>
            <a:ext cx="50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ция Эколог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нция Спортив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0880" y="1066680"/>
            <a:ext cx="4038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ревнование «Вперед, выше, быстре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72000" y="32004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1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рисунков о 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4956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, мама, я – спортивная 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все фютки 199"/>
          <p:cNvPicPr/>
          <p:nvPr/>
        </p:nvPicPr>
        <p:blipFill>
          <a:blip r:embed="rId1"/>
          <a:stretch/>
        </p:blipFill>
        <p:spPr>
          <a:xfrm>
            <a:off x="380880" y="22096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все фютки 272"/>
          <p:cNvPicPr/>
          <p:nvPr/>
        </p:nvPicPr>
        <p:blipFill>
          <a:blip r:embed="rId2"/>
          <a:stretch/>
        </p:blipFill>
        <p:spPr>
          <a:xfrm>
            <a:off x="4572000" y="9144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все фютки 192"/>
          <p:cNvPicPr/>
          <p:nvPr/>
        </p:nvPicPr>
        <p:blipFill>
          <a:blip r:embed="rId3"/>
          <a:stretch/>
        </p:blipFill>
        <p:spPr>
          <a:xfrm>
            <a:off x="6400800" y="3886200"/>
            <a:ext cx="2276640" cy="167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S3010173"/>
          <p:cNvPicPr/>
          <p:nvPr/>
        </p:nvPicPr>
        <p:blipFill>
          <a:blip r:embed="rId4"/>
          <a:stretch/>
        </p:blipFill>
        <p:spPr>
          <a:xfrm>
            <a:off x="3429000" y="4191120"/>
            <a:ext cx="2362320" cy="2274840"/>
          </a:xfrm>
          <a:prstGeom prst="rect">
            <a:avLst/>
          </a:prstGeom>
          <a:ln w="0">
            <a:noFill/>
          </a:ln>
        </p:spPr>
      </p:pic>
      <p:pic>
        <p:nvPicPr>
          <p:cNvPr id="58" name="едет поезд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Неболе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38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ьный режим – залог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657600" y="43434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доровом теле – здоровый дух. Соревнование между школ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все фютки 313"/>
          <p:cNvPicPr/>
          <p:nvPr/>
        </p:nvPicPr>
        <p:blipFill>
          <a:blip r:embed="rId1"/>
          <a:stretch/>
        </p:blipFill>
        <p:spPr>
          <a:xfrm>
            <a:off x="6324480" y="1295280"/>
            <a:ext cx="2276640" cy="170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IMG_7023"/>
          <p:cNvPicPr/>
          <p:nvPr/>
        </p:nvPicPr>
        <p:blipFill>
          <a:blip r:embed="rId2"/>
          <a:stretch/>
        </p:blipFill>
        <p:spPr>
          <a:xfrm>
            <a:off x="457200" y="3200400"/>
            <a:ext cx="2895480" cy="209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все фютки 204"/>
          <p:cNvPicPr/>
          <p:nvPr/>
        </p:nvPicPr>
        <p:blipFill>
          <a:blip r:embed="rId3"/>
          <a:stretch/>
        </p:blipFill>
        <p:spPr>
          <a:xfrm>
            <a:off x="3505320" y="2438280"/>
            <a:ext cx="26668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Вита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4495680"/>
            <a:ext cx="35053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8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, С, А – наши верные друз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160020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говорим о правильном пит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все фютки 206"/>
          <p:cNvPicPr/>
          <p:nvPr/>
        </p:nvPicPr>
        <p:blipFill>
          <a:blip r:embed="rId1"/>
          <a:stretch/>
        </p:blipFill>
        <p:spPr>
          <a:xfrm>
            <a:off x="533520" y="35053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все фютки 314"/>
          <p:cNvPicPr/>
          <p:nvPr/>
        </p:nvPicPr>
        <p:blipFill>
          <a:blip r:embed="rId2"/>
          <a:srcRect l="0" t="0" r="0" b="18140"/>
          <a:stretch/>
        </p:blipFill>
        <p:spPr>
          <a:xfrm>
            <a:off x="4724280" y="1600200"/>
            <a:ext cx="3962520" cy="2432160"/>
          </a:xfrm>
          <a:prstGeom prst="rect">
            <a:avLst/>
          </a:prstGeom>
          <a:ln w="0">
            <a:noFill/>
          </a:ln>
        </p:spPr>
      </p:pic>
      <p:pic>
        <p:nvPicPr>
          <p:cNvPr id="72" name="едет поезд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нция Экологиче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3886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урс рисунков «Планета заболе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33520" y="3886200"/>
            <a:ext cx="3733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здоров и счастлив, когда планета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8077320" y="60199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природа Кубани"/>
          <p:cNvPicPr/>
          <p:nvPr/>
        </p:nvPicPr>
        <p:blipFill>
          <a:blip r:embed="rId1"/>
          <a:stretch/>
        </p:blipFill>
        <p:spPr>
          <a:xfrm>
            <a:off x="533520" y="1219320"/>
            <a:ext cx="35812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30T01:39:5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