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6.png" ContentType="image/png"/>
  <Override PartName="/ppt/media/image42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51.png" ContentType="image/png"/>
  <Override PartName="/ppt/media/image4.jpeg" ContentType="image/jpe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jpeg" ContentType="image/jpeg"/>
  <Override PartName="/ppt/media/image58.png" ContentType="image/png"/>
  <Override PartName="/ppt/media/image21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5.png" ContentType="image/png"/>
  <Override PartName="/ppt/media/image19.jpeg" ContentType="image/jpeg"/>
  <Override PartName="/ppt/media/image15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17.jpeg" ContentType="image/jpeg"/>
  <Override PartName="/ppt/media/image55.jpeg" ContentType="image/jpeg"/>
  <Override PartName="/ppt/media/image10.jpeg" ContentType="image/jpeg"/>
  <Override PartName="/ppt/media/image76.png" ContentType="image/png"/>
  <Override PartName="/ppt/media/image30.jpeg" ContentType="image/jpeg"/>
  <Override PartName="/ppt/media/image27.png" ContentType="image/png"/>
  <Override PartName="/ppt/media/image75.jpeg" ContentType="image/jpeg"/>
  <Override PartName="/ppt/media/image74.png" ContentType="image/png"/>
  <Override PartName="/ppt/media/image16.jpeg" ContentType="image/jpeg"/>
  <Override PartName="/ppt/media/image70.png" ContentType="image/png"/>
  <Override PartName="/ppt/media/image7.jpeg" ContentType="image/jpeg"/>
  <Override PartName="/ppt/media/image73.jpeg" ContentType="image/jpeg"/>
  <Override PartName="/ppt/media/image24.png" ContentType="image/png"/>
  <Override PartName="/ppt/media/image68.jpeg" ContentType="image/jpeg"/>
  <Override PartName="/ppt/media/image31.png" ContentType="image/png"/>
  <Override PartName="/ppt/media/image71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62.jpeg" ContentType="image/jpeg"/>
  <Override PartName="/ppt/media/image66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64.png" ContentType="image/png"/>
  <Override PartName="/ppt/media/image60.jpeg" ContentType="image/jpeg"/>
  <Override PartName="/ppt/media/image37.jpeg" ContentType="image/jpeg"/>
  <Override PartName="/ppt/media/image14.png" ContentType="image/png"/>
  <Override PartName="/ppt/media/image2.png" ContentType="image/png"/>
  <Override PartName="/ppt/media/image72.jpeg" ContentType="image/jpeg"/>
  <Override PartName="/ppt/media/image26.jpeg" ContentType="image/jpeg"/>
  <Override PartName="/ppt/media/image5.jpeg" ContentType="image/jpeg"/>
  <Override PartName="/ppt/media/image61.png" ContentType="image/png"/>
  <Override PartName="/ppt/media/image20.jpeg" ContentType="image/jpeg"/>
  <Override PartName="/ppt/media/image29.png" ContentType="image/png"/>
  <Override PartName="/ppt/media/image63.jpeg" ContentType="image/jpeg"/>
  <Override PartName="/ppt/media/image11.jpeg" ContentType="image/jpeg"/>
  <Override PartName="/ppt/media/image28.jpeg" ContentType="image/jpeg"/>
  <Override PartName="/ppt/media/image12.png" ContentType="image/png"/>
  <Override PartName="/ppt/media/image34.jpeg" ContentType="image/jpeg"/>
  <Override PartName="/ppt/media/image35.png" ContentType="image/png"/>
  <Override PartName="/ppt/media/image43.jpeg" ContentType="image/jpeg"/>
  <Override PartName="/ppt/media/image36.jpeg" ContentType="image/jpeg"/>
  <Override PartName="/ppt/media/image57.png" ContentType="image/png"/>
  <Override PartName="/ppt/media/image40.jpeg" ContentType="image/jpeg"/>
  <Override PartName="/ppt/media/image41.png" ContentType="image/png"/>
  <Override PartName="/ppt/media/image38.png" ContentType="image/png"/>
  <Override PartName="/ppt/media/image4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5ED25-9ED0-4897-AF4B-57E9DAC4B7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16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67080"/>
            <a:ext cx="82216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9444B-BB58-4301-A709-7ACD163F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6708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426708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6B674-38D9-46CC-AF53-F556EDC5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120" y="188280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6680" y="188280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6708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120" y="426708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6680" y="426708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AF36C-D91E-4A72-966F-FC4760AD31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53069-B8C5-446E-ACE8-2539F3B6CC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168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550EA-7FDD-475D-8197-9C5F0082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168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270BC-B182-4820-80EF-20E9FA08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18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882800"/>
            <a:ext cx="40118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BDEC9-5D8C-484D-8ED5-4FC7087E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BC72B-732D-4259-905E-26882AFE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-41400"/>
            <a:ext cx="8221680" cy="93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1D5F1-9210-4FB6-8725-9B2E17BE1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920" y="1882800"/>
            <a:ext cx="40118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6708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0ADC1-9E77-49B4-8600-63D543D1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168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61E72-B8BD-456C-9F04-189A705D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18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9920" y="426708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1AABA-6717-41AC-9BCA-034DB022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992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67080"/>
            <a:ext cx="82216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218F8-57D9-4592-A115-BF50CFE2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16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67080"/>
            <a:ext cx="82216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0489C-05DD-4EE8-9A0B-51095B6C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992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6708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9920" y="426708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66CAA-15D0-441F-8FE0-E0964630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7120" y="188280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6680" y="188280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6708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7120" y="426708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6680" y="4267080"/>
            <a:ext cx="26470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C0D33-D570-4617-9DF7-9F83801E11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168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8CC24-ABD8-4839-B17E-C9036A4C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18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882800"/>
            <a:ext cx="40118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B7314-6121-4502-9DF5-AD07A57E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BB762-2FC4-4E8C-8D1A-EB070415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-41400"/>
            <a:ext cx="8221680" cy="93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22B89-30C6-4D3D-A451-EC84F6DD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882800"/>
            <a:ext cx="40118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6708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C482-A169-44D0-9C8E-66635D83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184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426708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548C7-0EFD-481E-AE17-26B27079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882800"/>
            <a:ext cx="401184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67080"/>
            <a:ext cx="8221680" cy="21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34328-8D05-424D-90D0-BF26769E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 flipH="1">
            <a:off x="6461280" y="4948200"/>
            <a:ext cx="26892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168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08360"/>
            <a:ext cx="212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415200"/>
            <a:ext cx="42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589880" y="6408360"/>
            <a:ext cx="4953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49DB03-04E2-40D6-A9EA-D67C746E0BC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 flipH="1">
            <a:off x="6461280" y="4948200"/>
            <a:ext cx="268920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41400"/>
            <a:ext cx="82216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168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4791240" y="6478560"/>
            <a:ext cx="212544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7589880" y="6481800"/>
            <a:ext cx="4953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730A32-245E-4A2F-B91D-4008F6587A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57200" y="-39600"/>
            <a:ext cx="822492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Урок по теме: «Океания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"/>
          <p:cNvGrpSpPr/>
          <p:nvPr/>
        </p:nvGrpSpPr>
        <p:grpSpPr>
          <a:xfrm>
            <a:off x="195120" y="-6480"/>
            <a:ext cx="8494920" cy="1082880"/>
            <a:chOff x="195120" y="-6480"/>
            <a:chExt cx="8494920" cy="1082880"/>
          </a:xfrm>
        </p:grpSpPr>
        <p:pic>
          <p:nvPicPr>
            <p:cNvPr id="138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-6480"/>
              <a:ext cx="8494920" cy="10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3"/>
            <p:cNvSpPr/>
            <p:nvPr/>
          </p:nvSpPr>
          <p:spPr>
            <a:xfrm>
              <a:off x="195120" y="-6480"/>
              <a:ext cx="8494920" cy="10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Text Box 4"/>
          <p:cNvSpPr/>
          <p:nvPr/>
        </p:nvSpPr>
        <p:spPr>
          <a:xfrm>
            <a:off x="0" y="857160"/>
            <a:ext cx="449568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о. Тувал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429080" y="857160"/>
            <a:ext cx="471492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Гавайские остров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0" y="1428840"/>
            <a:ext cx="4500720" cy="5429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3"/>
          <a:stretch/>
        </p:blipFill>
        <p:spPr>
          <a:xfrm>
            <a:off x="4643280" y="1428840"/>
            <a:ext cx="450072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231840" y="-115920"/>
            <a:ext cx="8458200" cy="1405080"/>
            <a:chOff x="231840" y="-115920"/>
            <a:chExt cx="8458200" cy="1405080"/>
          </a:xfrm>
        </p:grpSpPr>
        <p:pic>
          <p:nvPicPr>
            <p:cNvPr id="145" name="Picture 2" descr=""/>
            <p:cNvPicPr/>
            <p:nvPr/>
          </p:nvPicPr>
          <p:blipFill>
            <a:blip r:embed="rId1"/>
            <a:stretch/>
          </p:blipFill>
          <p:spPr>
            <a:xfrm>
              <a:off x="231840" y="-115920"/>
              <a:ext cx="8458200" cy="14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231840" y="-115920"/>
              <a:ext cx="8458200" cy="14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Text Box 4"/>
          <p:cNvSpPr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0" y="1214280"/>
            <a:ext cx="45720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кеании были открыты 6 марта 1521г. Марианские острова ("Разбойничьи острова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 марта 1521 г. в поисках Молуккских островов Магеллан открывает Филиппинские о-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апреля1521г.на о.Себу Ф. Магеллан погиб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2"/>
          <a:stretch/>
        </p:blipFill>
        <p:spPr>
          <a:xfrm>
            <a:off x="0" y="1285920"/>
            <a:ext cx="4572000" cy="55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"/>
          <p:cNvGrpSpPr/>
          <p:nvPr/>
        </p:nvGrpSpPr>
        <p:grpSpPr>
          <a:xfrm>
            <a:off x="298440" y="262080"/>
            <a:ext cx="8391600" cy="1404720"/>
            <a:chOff x="298440" y="262080"/>
            <a:chExt cx="8391600" cy="1404720"/>
          </a:xfrm>
        </p:grpSpPr>
        <p:pic>
          <p:nvPicPr>
            <p:cNvPr id="151" name="Picture 2" descr=""/>
            <p:cNvPicPr/>
            <p:nvPr/>
          </p:nvPicPr>
          <p:blipFill>
            <a:blip r:embed="rId1"/>
            <a:stretch/>
          </p:blipFill>
          <p:spPr>
            <a:xfrm>
              <a:off x="298440" y="262080"/>
              <a:ext cx="8391600" cy="14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3"/>
            <p:cNvSpPr/>
            <p:nvPr/>
          </p:nvSpPr>
          <p:spPr>
            <a:xfrm>
              <a:off x="298440" y="262080"/>
              <a:ext cx="8391600" cy="14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 Box 4"/>
          <p:cNvSpPr/>
          <p:nvPr/>
        </p:nvSpPr>
        <p:spPr>
          <a:xfrm>
            <a:off x="0" y="4857840"/>
            <a:ext cx="91440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з несколько месяцев после гибели Магеллана, корабли достигают Молуккских остров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чале сентября 1522г. единственный корабль- «Виктория»  с 18 выжившими  добирается до Испа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0" y="-214200"/>
            <a:ext cx="9140760" cy="5140080"/>
            <a:chOff x="0" y="-214200"/>
            <a:chExt cx="9140760" cy="5140080"/>
          </a:xfrm>
        </p:grpSpPr>
        <p:pic>
          <p:nvPicPr>
            <p:cNvPr id="155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-214200"/>
              <a:ext cx="9140760" cy="51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7"/>
            <p:cNvSpPr/>
            <p:nvPr/>
          </p:nvSpPr>
          <p:spPr>
            <a:xfrm>
              <a:off x="0" y="-214200"/>
              <a:ext cx="9140760" cy="51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1"/>
          <p:cNvGrpSpPr/>
          <p:nvPr/>
        </p:nvGrpSpPr>
        <p:grpSpPr>
          <a:xfrm>
            <a:off x="195120" y="-139680"/>
            <a:ext cx="8494920" cy="928800"/>
            <a:chOff x="195120" y="-139680"/>
            <a:chExt cx="8494920" cy="928800"/>
          </a:xfrm>
        </p:grpSpPr>
        <p:pic>
          <p:nvPicPr>
            <p:cNvPr id="158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-139680"/>
              <a:ext cx="849492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3"/>
            <p:cNvSpPr/>
            <p:nvPr/>
          </p:nvSpPr>
          <p:spPr>
            <a:xfrm>
              <a:off x="195120" y="-139680"/>
              <a:ext cx="849492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4"/>
          <p:cNvGrpSpPr/>
          <p:nvPr/>
        </p:nvGrpSpPr>
        <p:grpSpPr>
          <a:xfrm>
            <a:off x="0" y="1071720"/>
            <a:ext cx="4640400" cy="5783040"/>
            <a:chOff x="0" y="1071720"/>
            <a:chExt cx="4640400" cy="5783040"/>
          </a:xfrm>
        </p:grpSpPr>
        <p:pic>
          <p:nvPicPr>
            <p:cNvPr id="161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071720"/>
              <a:ext cx="4640400" cy="57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6"/>
            <p:cNvSpPr/>
            <p:nvPr/>
          </p:nvSpPr>
          <p:spPr>
            <a:xfrm>
              <a:off x="0" y="1071720"/>
              <a:ext cx="4640400" cy="57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Text Box 7"/>
          <p:cNvSpPr/>
          <p:nvPr/>
        </p:nvSpPr>
        <p:spPr>
          <a:xfrm>
            <a:off x="4500720" y="785880"/>
            <a:ext cx="464328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сийский этнограф, антрополог, биолог, путешественни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ал коренное население Австралии и Океании (1870-1880 годы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ом числе папуасов  северо-восточного берега Новой Гвине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л защитником колониальных народов, выступал против расизма и колониализм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1"/>
          <p:cNvGrpSpPr/>
          <p:nvPr/>
        </p:nvGrpSpPr>
        <p:grpSpPr>
          <a:xfrm>
            <a:off x="195120" y="-6480"/>
            <a:ext cx="8494920" cy="1082880"/>
            <a:chOff x="195120" y="-6480"/>
            <a:chExt cx="8494920" cy="1082880"/>
          </a:xfrm>
        </p:grpSpPr>
        <p:pic>
          <p:nvPicPr>
            <p:cNvPr id="165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-6480"/>
              <a:ext cx="8494920" cy="10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3"/>
            <p:cNvSpPr/>
            <p:nvPr/>
          </p:nvSpPr>
          <p:spPr>
            <a:xfrm>
              <a:off x="195120" y="-6480"/>
              <a:ext cx="8494920" cy="10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Group 4"/>
          <p:cNvGrpSpPr/>
          <p:nvPr/>
        </p:nvGrpSpPr>
        <p:grpSpPr>
          <a:xfrm>
            <a:off x="0" y="1071720"/>
            <a:ext cx="4568760" cy="5783040"/>
            <a:chOff x="0" y="1071720"/>
            <a:chExt cx="4568760" cy="5783040"/>
          </a:xfrm>
        </p:grpSpPr>
        <p:pic>
          <p:nvPicPr>
            <p:cNvPr id="16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071720"/>
              <a:ext cx="4568760" cy="57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6"/>
            <p:cNvSpPr/>
            <p:nvPr/>
          </p:nvSpPr>
          <p:spPr>
            <a:xfrm>
              <a:off x="0" y="1071720"/>
              <a:ext cx="4568760" cy="57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Text Box 7"/>
          <p:cNvSpPr/>
          <p:nvPr/>
        </p:nvSpPr>
        <p:spPr>
          <a:xfrm>
            <a:off x="4648320" y="1000080"/>
            <a:ext cx="40384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. Крузенштерн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. Лисянский совершили первую русскую кругосветную экспедицию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янский открыл один из Гавайских остров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ым описал Гавайи в книге «Путешествие вокруг света» (18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1"/>
          <p:cNvGrpSpPr/>
          <p:nvPr/>
        </p:nvGrpSpPr>
        <p:grpSpPr>
          <a:xfrm>
            <a:off x="304920" y="-6480"/>
            <a:ext cx="8385120" cy="1582920"/>
            <a:chOff x="304920" y="-6480"/>
            <a:chExt cx="8385120" cy="1582920"/>
          </a:xfrm>
        </p:grpSpPr>
        <p:pic>
          <p:nvPicPr>
            <p:cNvPr id="172" name="Picture 2" descr=""/>
            <p:cNvPicPr/>
            <p:nvPr/>
          </p:nvPicPr>
          <p:blipFill>
            <a:blip r:embed="rId1"/>
            <a:stretch/>
          </p:blipFill>
          <p:spPr>
            <a:xfrm>
              <a:off x="304920" y="-6480"/>
              <a:ext cx="8385120" cy="15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3"/>
            <p:cNvSpPr/>
            <p:nvPr/>
          </p:nvSpPr>
          <p:spPr>
            <a:xfrm>
              <a:off x="304920" y="-6480"/>
              <a:ext cx="8385120" cy="15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Group 4"/>
          <p:cNvGrpSpPr/>
          <p:nvPr/>
        </p:nvGrpSpPr>
        <p:grpSpPr>
          <a:xfrm>
            <a:off x="0" y="1714680"/>
            <a:ext cx="4568760" cy="4711680"/>
            <a:chOff x="0" y="1714680"/>
            <a:chExt cx="4568760" cy="4711680"/>
          </a:xfrm>
        </p:grpSpPr>
        <p:pic>
          <p:nvPicPr>
            <p:cNvPr id="175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4568760" cy="471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6"/>
            <p:cNvSpPr/>
            <p:nvPr/>
          </p:nvSpPr>
          <p:spPr>
            <a:xfrm>
              <a:off x="0" y="1714680"/>
              <a:ext cx="4568760" cy="47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Text Box 7"/>
          <p:cNvSpPr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0 г. Советские ученые исследовали дно акватории западной части Тихого Оке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йоны Новогвинейского моря, о. Тонга, Соломоновых о-в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1"/>
          <p:cNvGrpSpPr/>
          <p:nvPr/>
        </p:nvGrpSpPr>
        <p:grpSpPr>
          <a:xfrm>
            <a:off x="244440" y="-23760"/>
            <a:ext cx="8445600" cy="885600"/>
            <a:chOff x="244440" y="-23760"/>
            <a:chExt cx="8445600" cy="885600"/>
          </a:xfrm>
        </p:grpSpPr>
        <p:pic>
          <p:nvPicPr>
            <p:cNvPr id="179" name="Picture 2" descr=""/>
            <p:cNvPicPr/>
            <p:nvPr/>
          </p:nvPicPr>
          <p:blipFill>
            <a:blip r:embed="rId1"/>
            <a:stretch/>
          </p:blipFill>
          <p:spPr>
            <a:xfrm>
              <a:off x="244440" y="-23760"/>
              <a:ext cx="8445600" cy="88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3"/>
            <p:cNvSpPr/>
            <p:nvPr/>
          </p:nvSpPr>
          <p:spPr>
            <a:xfrm>
              <a:off x="244440" y="-23760"/>
              <a:ext cx="844560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Text Box 4"/>
          <p:cNvSpPr/>
          <p:nvPr/>
        </p:nvSpPr>
        <p:spPr>
          <a:xfrm>
            <a:off x="457200" y="642960"/>
            <a:ext cx="8229600" cy="58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улканический-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стров, образующийся в результате вулканической деятельности на дне моря. Представляет собой верхушку подводного вулкана, поднятую над поверхностью океа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оралловый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стров, возникший в результате жизнедеятельности кораллов. Коралловый остров в виде сплошного или разорванного кольца называют атолло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атериковый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тделившаяся часть материка, сходная с ним по геологическому строению и рельеф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1"/>
          <p:cNvGrpSpPr/>
          <p:nvPr/>
        </p:nvGrpSpPr>
        <p:grpSpPr>
          <a:xfrm>
            <a:off x="450720" y="-6480"/>
            <a:ext cx="8239320" cy="795600"/>
            <a:chOff x="450720" y="-6480"/>
            <a:chExt cx="8239320" cy="795600"/>
          </a:xfrm>
        </p:grpSpPr>
        <p:pic>
          <p:nvPicPr>
            <p:cNvPr id="183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-6480"/>
              <a:ext cx="823932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3"/>
            <p:cNvSpPr/>
            <p:nvPr/>
          </p:nvSpPr>
          <p:spPr>
            <a:xfrm>
              <a:off x="450720" y="-6480"/>
              <a:ext cx="8239320" cy="7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Text Box 4"/>
          <p:cNvSpPr/>
          <p:nvPr/>
        </p:nvSpPr>
        <p:spPr>
          <a:xfrm>
            <a:off x="457200" y="714240"/>
            <a:ext cx="8229600" cy="57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улканические острова находятся на границах литосферных плит, в районах сейсмической активности. Определить вулканический остров можно сопоставив две карты- физическую и карту строения земной кор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ковые острова находятся на подводном основании материка в пределах материкового шельфа. На картах материковый шельф отмечен светло-голубым, белым цвето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алловые острова находятся в тропических широтах, где температура воды не ниже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 °C. На карте имеются условные обозначения «коралловые рифы», в районах скопления и активного роста коралл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1"/>
          <p:cNvGrpSpPr/>
          <p:nvPr/>
        </p:nvGrpSpPr>
        <p:grpSpPr>
          <a:xfrm>
            <a:off x="274680" y="-92160"/>
            <a:ext cx="8415360" cy="735120"/>
            <a:chOff x="274680" y="-92160"/>
            <a:chExt cx="8415360" cy="735120"/>
          </a:xfrm>
        </p:grpSpPr>
        <p:pic>
          <p:nvPicPr>
            <p:cNvPr id="187" name="Picture 2" descr=""/>
            <p:cNvPicPr/>
            <p:nvPr/>
          </p:nvPicPr>
          <p:blipFill>
            <a:blip r:embed="rId1"/>
            <a:stretch/>
          </p:blipFill>
          <p:spPr>
            <a:xfrm>
              <a:off x="274680" y="-92160"/>
              <a:ext cx="8415360" cy="7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3"/>
            <p:cNvSpPr/>
            <p:nvPr/>
          </p:nvSpPr>
          <p:spPr>
            <a:xfrm>
              <a:off x="274680" y="-92160"/>
              <a:ext cx="84153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Text Box 4"/>
          <p:cNvSpPr/>
          <p:nvPr/>
        </p:nvSpPr>
        <p:spPr>
          <a:xfrm>
            <a:off x="457200" y="642960"/>
            <a:ext cx="8229600" cy="58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74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ваториальном КП           Тропическом КП                 Субтропическом К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0" y="157176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"/>
          <p:cNvGrpSpPr/>
          <p:nvPr/>
        </p:nvGrpSpPr>
        <p:grpSpPr>
          <a:xfrm>
            <a:off x="195120" y="-6480"/>
            <a:ext cx="8494920" cy="1082880"/>
            <a:chOff x="195120" y="-6480"/>
            <a:chExt cx="8494920" cy="1082880"/>
          </a:xfrm>
        </p:grpSpPr>
        <p:pic>
          <p:nvPicPr>
            <p:cNvPr id="192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-6480"/>
              <a:ext cx="8494920" cy="10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3"/>
            <p:cNvSpPr/>
            <p:nvPr/>
          </p:nvSpPr>
          <p:spPr>
            <a:xfrm>
              <a:off x="195120" y="-6480"/>
              <a:ext cx="8494920" cy="10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Group 4"/>
          <p:cNvGrpSpPr/>
          <p:nvPr/>
        </p:nvGrpSpPr>
        <p:grpSpPr>
          <a:xfrm>
            <a:off x="0" y="1071720"/>
            <a:ext cx="4211640" cy="5568840"/>
            <a:chOff x="0" y="1071720"/>
            <a:chExt cx="4211640" cy="5568840"/>
          </a:xfrm>
        </p:grpSpPr>
        <p:pic>
          <p:nvPicPr>
            <p:cNvPr id="195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071720"/>
              <a:ext cx="4211640" cy="556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6"/>
            <p:cNvSpPr/>
            <p:nvPr/>
          </p:nvSpPr>
          <p:spPr>
            <a:xfrm>
              <a:off x="0" y="1071720"/>
              <a:ext cx="4211640" cy="55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Text Box 7"/>
          <p:cNvSpPr/>
          <p:nvPr/>
        </p:nvSpPr>
        <p:spPr>
          <a:xfrm>
            <a:off x="4071960" y="857160"/>
            <a:ext cx="507204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76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косовая пальм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6040" indent="-376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co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(«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безьяна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6040" indent="-376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та (до27—30 м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6040" indent="-376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вол 15-45 с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6040" indent="-376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иаметре. Кокосовые орехи водонепроницаемы и свободно держатся на воде, далеко разносясь океаническими течениями и сохраняя при этом жизнеспособность. Орех состоит из мякоти и кокосовой воды, которая со временем созревая превращается в кокосовое молоко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2"/>
          <p:cNvGrpSpPr/>
          <p:nvPr/>
        </p:nvGrpSpPr>
        <p:grpSpPr>
          <a:xfrm>
            <a:off x="-6480" y="-42840"/>
            <a:ext cx="6867720" cy="1046160"/>
            <a:chOff x="-6480" y="-42840"/>
            <a:chExt cx="6867720" cy="1046160"/>
          </a:xfrm>
        </p:grpSpPr>
        <p:pic>
          <p:nvPicPr>
            <p:cNvPr id="91" name="Picture 3" descr=""/>
            <p:cNvPicPr/>
            <p:nvPr/>
          </p:nvPicPr>
          <p:blipFill>
            <a:blip r:embed="rId2"/>
            <a:stretch/>
          </p:blipFill>
          <p:spPr>
            <a:xfrm>
              <a:off x="-6480" y="-42840"/>
              <a:ext cx="68677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-6480" y="-42840"/>
              <a:ext cx="686772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"/>
          <p:cNvGrpSpPr/>
          <p:nvPr/>
        </p:nvGrpSpPr>
        <p:grpSpPr>
          <a:xfrm>
            <a:off x="0" y="0"/>
            <a:ext cx="3925800" cy="6854760"/>
            <a:chOff x="0" y="0"/>
            <a:chExt cx="3925800" cy="6854760"/>
          </a:xfrm>
        </p:grpSpPr>
        <p:pic>
          <p:nvPicPr>
            <p:cNvPr id="199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2580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3"/>
            <p:cNvSpPr/>
            <p:nvPr/>
          </p:nvSpPr>
          <p:spPr>
            <a:xfrm>
              <a:off x="0" y="0"/>
              <a:ext cx="3925800" cy="68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Text Box 4"/>
          <p:cNvSpPr/>
          <p:nvPr/>
        </p:nvSpPr>
        <p:spPr>
          <a:xfrm>
            <a:off x="3714840" y="214200"/>
            <a:ext cx="542916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6040" indent="-376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лебное дере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040" indent="-376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 20-26 м в высоту,  быстро растущее дерево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6040" indent="-376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оминает обычный дуб. 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6040" indent="-376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ды заменяют жителя островов хлеб. Плод напоминает дыню. На одном дереве растут разные по форме листья. Мякоть созревших плодов пекут, варят, сушат, засахаривают, едят сырой и даже, разминая и растирая, делают из неё тесто для своеобразных «блинчиков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"/>
          <p:cNvGrpSpPr/>
          <p:nvPr/>
        </p:nvGrpSpPr>
        <p:grpSpPr>
          <a:xfrm>
            <a:off x="195120" y="-96840"/>
            <a:ext cx="8494920" cy="1598760"/>
            <a:chOff x="195120" y="-96840"/>
            <a:chExt cx="8494920" cy="1598760"/>
          </a:xfrm>
        </p:grpSpPr>
        <p:pic>
          <p:nvPicPr>
            <p:cNvPr id="203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-96840"/>
              <a:ext cx="8494920" cy="15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3"/>
            <p:cNvSpPr/>
            <p:nvPr/>
          </p:nvSpPr>
          <p:spPr>
            <a:xfrm>
              <a:off x="195120" y="-96840"/>
              <a:ext cx="849492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Text Box 4"/>
          <p:cNvSpPr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Альбатро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Буревестни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0" y="3143160"/>
            <a:ext cx="4500720" cy="3714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3"/>
          <a:stretch/>
        </p:blipFill>
        <p:spPr>
          <a:xfrm>
            <a:off x="4500720" y="3143160"/>
            <a:ext cx="464328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1"/>
          <p:cNvGrpSpPr/>
          <p:nvPr/>
        </p:nvGrpSpPr>
        <p:grpSpPr>
          <a:xfrm>
            <a:off x="450720" y="-115920"/>
            <a:ext cx="8239320" cy="1405080"/>
            <a:chOff x="450720" y="-115920"/>
            <a:chExt cx="8239320" cy="1405080"/>
          </a:xfrm>
        </p:grpSpPr>
        <p:pic>
          <p:nvPicPr>
            <p:cNvPr id="210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-115920"/>
              <a:ext cx="8239320" cy="14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3"/>
            <p:cNvSpPr/>
            <p:nvPr/>
          </p:nvSpPr>
          <p:spPr>
            <a:xfrm>
              <a:off x="450720" y="-115920"/>
              <a:ext cx="8239320" cy="14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Group 4"/>
          <p:cNvGrpSpPr/>
          <p:nvPr/>
        </p:nvGrpSpPr>
        <p:grpSpPr>
          <a:xfrm>
            <a:off x="0" y="4071960"/>
            <a:ext cx="4354560" cy="2782800"/>
            <a:chOff x="0" y="4071960"/>
            <a:chExt cx="4354560" cy="2782800"/>
          </a:xfrm>
        </p:grpSpPr>
        <p:pic>
          <p:nvPicPr>
            <p:cNvPr id="213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4071960"/>
              <a:ext cx="4354560" cy="27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6"/>
            <p:cNvSpPr/>
            <p:nvPr/>
          </p:nvSpPr>
          <p:spPr>
            <a:xfrm>
              <a:off x="0" y="4071960"/>
              <a:ext cx="4354560" cy="27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Group 7"/>
          <p:cNvGrpSpPr/>
          <p:nvPr/>
        </p:nvGrpSpPr>
        <p:grpSpPr>
          <a:xfrm>
            <a:off x="4786200" y="4000680"/>
            <a:ext cx="4354560" cy="2854080"/>
            <a:chOff x="4786200" y="4000680"/>
            <a:chExt cx="4354560" cy="2854080"/>
          </a:xfrm>
        </p:grpSpPr>
        <p:pic>
          <p:nvPicPr>
            <p:cNvPr id="216" name="Picture 8" descr=""/>
            <p:cNvPicPr/>
            <p:nvPr/>
          </p:nvPicPr>
          <p:blipFill>
            <a:blip r:embed="rId3"/>
            <a:stretch/>
          </p:blipFill>
          <p:spPr>
            <a:xfrm>
              <a:off x="4786200" y="4000680"/>
              <a:ext cx="4354560" cy="28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9"/>
            <p:cNvSpPr/>
            <p:nvPr/>
          </p:nvSpPr>
          <p:spPr>
            <a:xfrm>
              <a:off x="4786200" y="4000680"/>
              <a:ext cx="4354560" cy="28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Picture 10" descr=""/>
          <p:cNvPicPr/>
          <p:nvPr/>
        </p:nvPicPr>
        <p:blipFill>
          <a:blip r:embed="rId4"/>
          <a:stretch/>
        </p:blipFill>
        <p:spPr>
          <a:xfrm>
            <a:off x="4714920" y="1357200"/>
            <a:ext cx="4429080" cy="2428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5"/>
          <a:stretch/>
        </p:blipFill>
        <p:spPr>
          <a:xfrm>
            <a:off x="0" y="1357200"/>
            <a:ext cx="4429080" cy="25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1"/>
          <p:cNvGrpSpPr/>
          <p:nvPr/>
        </p:nvGrpSpPr>
        <p:grpSpPr>
          <a:xfrm>
            <a:off x="274680" y="195120"/>
            <a:ext cx="8610480" cy="1233720"/>
            <a:chOff x="274680" y="195120"/>
            <a:chExt cx="8610480" cy="1233720"/>
          </a:xfrm>
        </p:grpSpPr>
        <p:pic>
          <p:nvPicPr>
            <p:cNvPr id="221" name="Picture 2" descr=""/>
            <p:cNvPicPr/>
            <p:nvPr/>
          </p:nvPicPr>
          <p:blipFill>
            <a:blip r:embed="rId1"/>
            <a:stretch/>
          </p:blipFill>
          <p:spPr>
            <a:xfrm>
              <a:off x="274680" y="195120"/>
              <a:ext cx="8610480" cy="12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3"/>
            <p:cNvSpPr/>
            <p:nvPr/>
          </p:nvSpPr>
          <p:spPr>
            <a:xfrm>
              <a:off x="274680" y="195120"/>
              <a:ext cx="8610480" cy="12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0" y="4143240"/>
            <a:ext cx="4357800" cy="2714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3"/>
          <a:stretch/>
        </p:blipFill>
        <p:spPr>
          <a:xfrm>
            <a:off x="4643280" y="4143240"/>
            <a:ext cx="4500720" cy="2714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4"/>
          <a:stretch/>
        </p:blipFill>
        <p:spPr>
          <a:xfrm>
            <a:off x="0" y="1571760"/>
            <a:ext cx="4357800" cy="2428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5"/>
          <a:stretch/>
        </p:blipFill>
        <p:spPr>
          <a:xfrm>
            <a:off x="4572000" y="1571760"/>
            <a:ext cx="457200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"/>
          <p:cNvGrpSpPr/>
          <p:nvPr/>
        </p:nvGrpSpPr>
        <p:grpSpPr>
          <a:xfrm>
            <a:off x="450720" y="-262080"/>
            <a:ext cx="8239320" cy="1344600"/>
            <a:chOff x="450720" y="-262080"/>
            <a:chExt cx="8239320" cy="134460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-262080"/>
              <a:ext cx="823932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3"/>
            <p:cNvSpPr/>
            <p:nvPr/>
          </p:nvSpPr>
          <p:spPr>
            <a:xfrm>
              <a:off x="450720" y="-262080"/>
              <a:ext cx="8239320" cy="13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Text Box 4"/>
          <p:cNvSpPr/>
          <p:nvPr/>
        </p:nvSpPr>
        <p:spPr>
          <a:xfrm>
            <a:off x="4648320" y="1143000"/>
            <a:ext cx="43527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a-вымершие гигантские птицы вес до 250 кг, в высоту 3,6 м.Не имели крыльев. Травоя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1000080"/>
            <a:ext cx="457200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ви. Вес до 4 кг.  Сильные четырёхпалые ноги и длинный узкий клюв. Крылья не развиты, хвост отсутствует. Перья напоминают густую шерсть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>
            <a:off x="4929120" y="3357720"/>
            <a:ext cx="4071960" cy="3500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3"/>
          <a:stretch/>
        </p:blipFill>
        <p:spPr>
          <a:xfrm>
            <a:off x="214200" y="3214800"/>
            <a:ext cx="435780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1"/>
          <p:cNvGrpSpPr/>
          <p:nvPr/>
        </p:nvGrpSpPr>
        <p:grpSpPr>
          <a:xfrm>
            <a:off x="195120" y="-60480"/>
            <a:ext cx="8494920" cy="990720"/>
            <a:chOff x="195120" y="-60480"/>
            <a:chExt cx="8494920" cy="990720"/>
          </a:xfrm>
        </p:grpSpPr>
        <p:pic>
          <p:nvPicPr>
            <p:cNvPr id="235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-60480"/>
              <a:ext cx="84949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3"/>
            <p:cNvSpPr/>
            <p:nvPr/>
          </p:nvSpPr>
          <p:spPr>
            <a:xfrm>
              <a:off x="195120" y="-60480"/>
              <a:ext cx="8494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Text Box 4"/>
          <p:cNvSpPr/>
          <p:nvPr/>
        </p:nvSpPr>
        <p:spPr>
          <a:xfrm>
            <a:off x="0" y="785880"/>
            <a:ext cx="478620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атея серебристая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евовидный папоротник. Высотой до 10 м,  неофициальный символ Новой Зеланд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4357800" y="642960"/>
            <a:ext cx="478620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озеландское кау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чнозелёное хвойное дерево до 30 — 50 м, обхват ствола до 16м.Это один из древнейших видов хвойных деревьев, переживший динозав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214200" y="3214800"/>
            <a:ext cx="4429080" cy="3643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/>
          <p:cNvPicPr/>
          <p:nvPr/>
        </p:nvPicPr>
        <p:blipFill>
          <a:blip r:embed="rId3"/>
          <a:stretch/>
        </p:blipFill>
        <p:spPr>
          <a:xfrm>
            <a:off x="4857840" y="3238560"/>
            <a:ext cx="407196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1"/>
          <p:cNvGrpSpPr/>
          <p:nvPr/>
        </p:nvGrpSpPr>
        <p:grpSpPr>
          <a:xfrm>
            <a:off x="195120" y="262080"/>
            <a:ext cx="8494920" cy="1404720"/>
            <a:chOff x="195120" y="262080"/>
            <a:chExt cx="8494920" cy="1404720"/>
          </a:xfrm>
        </p:grpSpPr>
        <p:pic>
          <p:nvPicPr>
            <p:cNvPr id="242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2080"/>
              <a:ext cx="8494920" cy="14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3"/>
            <p:cNvSpPr/>
            <p:nvPr/>
          </p:nvSpPr>
          <p:spPr>
            <a:xfrm>
              <a:off x="195120" y="262080"/>
              <a:ext cx="8494920" cy="14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Text Box 4"/>
          <p:cNvSpPr/>
          <p:nvPr/>
        </p:nvSpPr>
        <p:spPr>
          <a:xfrm>
            <a:off x="0" y="1357200"/>
            <a:ext cx="5572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388c"/>
                </a:solidFill>
                <a:latin typeface="Times New Roman"/>
                <a:ea typeface="Times New Roman"/>
              </a:rPr>
              <a:t>КОРЕННЫ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незийская группа народов- тонганцы, самоанцы увеанцы, рапануйцы, гавайцы,таитяне (Полинезия, восток Меланезии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ПУАСЫ( Новая Гвинея, Соломоновы острова, Новая Каледония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ОРИ (Новая Зеландия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5286240" y="1722600"/>
            <a:ext cx="3400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388c"/>
                </a:solidFill>
                <a:latin typeface="Times New Roman"/>
                <a:ea typeface="Times New Roman"/>
              </a:rPr>
              <a:t>ПРИШЛЫ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388c"/>
                </a:solidFill>
                <a:latin typeface="Times New Roman"/>
                <a:ea typeface="Times New Roman"/>
              </a:rPr>
              <a:t>СМЕШАННЫЕ жител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1"/>
          <p:cNvGrpSpPr/>
          <p:nvPr/>
        </p:nvGrpSpPr>
        <p:grpSpPr>
          <a:xfrm>
            <a:off x="262080" y="-128520"/>
            <a:ext cx="8458200" cy="1058760"/>
            <a:chOff x="262080" y="-128520"/>
            <a:chExt cx="8458200" cy="1058760"/>
          </a:xfrm>
        </p:grpSpPr>
        <p:pic>
          <p:nvPicPr>
            <p:cNvPr id="247" name="Picture 2" descr=""/>
            <p:cNvPicPr/>
            <p:nvPr/>
          </p:nvPicPr>
          <p:blipFill>
            <a:blip r:embed="rId1"/>
            <a:stretch/>
          </p:blipFill>
          <p:spPr>
            <a:xfrm>
              <a:off x="262080" y="-128520"/>
              <a:ext cx="84582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3"/>
            <p:cNvSpPr/>
            <p:nvPr/>
          </p:nvSpPr>
          <p:spPr>
            <a:xfrm>
              <a:off x="262080" y="-128520"/>
              <a:ext cx="8458200" cy="10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Text Box 4"/>
          <p:cNvSpPr/>
          <p:nvPr/>
        </p:nvSpPr>
        <p:spPr>
          <a:xfrm>
            <a:off x="0" y="785880"/>
            <a:ext cx="91440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74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ль Гоген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ский живописец, сменил Францию на о. Таит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74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374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Таитянски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асторали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Таитянские женщины на пля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4786200" y="3000240"/>
            <a:ext cx="4357800" cy="3857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3"/>
          <a:stretch/>
        </p:blipFill>
        <p:spPr>
          <a:xfrm>
            <a:off x="-142920" y="3000240"/>
            <a:ext cx="4714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1"/>
          <p:cNvGrpSpPr/>
          <p:nvPr/>
        </p:nvGrpSpPr>
        <p:grpSpPr>
          <a:xfrm>
            <a:off x="450720" y="-6480"/>
            <a:ext cx="8239320" cy="1149480"/>
            <a:chOff x="450720" y="-6480"/>
            <a:chExt cx="8239320" cy="1149480"/>
          </a:xfrm>
        </p:grpSpPr>
        <p:pic>
          <p:nvPicPr>
            <p:cNvPr id="253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-6480"/>
              <a:ext cx="823932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3"/>
            <p:cNvSpPr/>
            <p:nvPr/>
          </p:nvSpPr>
          <p:spPr>
            <a:xfrm>
              <a:off x="450720" y="-6480"/>
              <a:ext cx="8239320" cy="11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5" name="Picture 4" descr=""/>
          <p:cNvPicPr/>
          <p:nvPr/>
        </p:nvPicPr>
        <p:blipFill>
          <a:blip r:embed="rId2"/>
          <a:stretch/>
        </p:blipFill>
        <p:spPr>
          <a:xfrm>
            <a:off x="0" y="1285920"/>
            <a:ext cx="4357800" cy="5572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3"/>
          <a:stretch/>
        </p:blipFill>
        <p:spPr>
          <a:xfrm>
            <a:off x="4500720" y="2316240"/>
            <a:ext cx="450036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1"/>
          <p:cNvGrpSpPr/>
          <p:nvPr/>
        </p:nvGrpSpPr>
        <p:grpSpPr>
          <a:xfrm>
            <a:off x="274680" y="-122400"/>
            <a:ext cx="8464680" cy="1198800"/>
            <a:chOff x="274680" y="-122400"/>
            <a:chExt cx="8464680" cy="1198800"/>
          </a:xfrm>
        </p:grpSpPr>
        <p:pic>
          <p:nvPicPr>
            <p:cNvPr id="258" name="Picture 2" descr=""/>
            <p:cNvPicPr/>
            <p:nvPr/>
          </p:nvPicPr>
          <p:blipFill>
            <a:blip r:embed="rId1"/>
            <a:stretch/>
          </p:blipFill>
          <p:spPr>
            <a:xfrm>
              <a:off x="274680" y="-122400"/>
              <a:ext cx="8464680" cy="119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3"/>
            <p:cNvSpPr/>
            <p:nvPr/>
          </p:nvSpPr>
          <p:spPr>
            <a:xfrm>
              <a:off x="274680" y="-122400"/>
              <a:ext cx="8464680" cy="11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Group 4"/>
          <p:cNvGrpSpPr/>
          <p:nvPr/>
        </p:nvGrpSpPr>
        <p:grpSpPr>
          <a:xfrm>
            <a:off x="142920" y="1714680"/>
            <a:ext cx="4711680" cy="4425840"/>
            <a:chOff x="142920" y="1714680"/>
            <a:chExt cx="4711680" cy="4425840"/>
          </a:xfrm>
        </p:grpSpPr>
        <p:pic>
          <p:nvPicPr>
            <p:cNvPr id="261" name="Picture 5" descr=""/>
            <p:cNvPicPr/>
            <p:nvPr/>
          </p:nvPicPr>
          <p:blipFill>
            <a:blip r:embed="rId2"/>
            <a:stretch/>
          </p:blipFill>
          <p:spPr>
            <a:xfrm>
              <a:off x="142920" y="1714680"/>
              <a:ext cx="4711680" cy="44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6"/>
            <p:cNvSpPr/>
            <p:nvPr/>
          </p:nvSpPr>
          <p:spPr>
            <a:xfrm>
              <a:off x="142920" y="1714680"/>
              <a:ext cx="4711680" cy="44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Text Box 7"/>
          <p:cNvSpPr/>
          <p:nvPr/>
        </p:nvSpPr>
        <p:spPr>
          <a:xfrm>
            <a:off x="4648320" y="1071720"/>
            <a:ext cx="4495680" cy="51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74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 занятие -земледелие, охота и собирательство. Важную роль играет свиноводст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374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стоящее время, папуасы заняты в горной промышленности, работают шофёрами, продавцами, клер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374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евни папуасов — по 100—150 чел. Семья имеет 5-6 участков земли в разных стадиях созрев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374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"/>
          <p:cNvGrpSpPr/>
          <p:nvPr/>
        </p:nvGrpSpPr>
        <p:grpSpPr>
          <a:xfrm>
            <a:off x="274680" y="66600"/>
            <a:ext cx="8415360" cy="1636920"/>
            <a:chOff x="274680" y="66600"/>
            <a:chExt cx="8415360" cy="1636920"/>
          </a:xfrm>
        </p:grpSpPr>
        <p:pic>
          <p:nvPicPr>
            <p:cNvPr id="94" name="Picture 2" descr=""/>
            <p:cNvPicPr/>
            <p:nvPr/>
          </p:nvPicPr>
          <p:blipFill>
            <a:blip r:embed="rId1"/>
            <a:stretch/>
          </p:blipFill>
          <p:spPr>
            <a:xfrm>
              <a:off x="274680" y="66600"/>
              <a:ext cx="8415360" cy="16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3"/>
            <p:cNvSpPr/>
            <p:nvPr/>
          </p:nvSpPr>
          <p:spPr>
            <a:xfrm>
              <a:off x="274680" y="66600"/>
              <a:ext cx="8415360" cy="16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4"/>
          <p:cNvSpPr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. Ку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14200" y="2357280"/>
            <a:ext cx="4286520" cy="42865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. Фидж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4648320" y="2357280"/>
            <a:ext cx="403848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"/>
          <p:cNvGrpSpPr/>
          <p:nvPr/>
        </p:nvGrpSpPr>
        <p:grpSpPr>
          <a:xfrm>
            <a:off x="244440" y="262080"/>
            <a:ext cx="8524800" cy="1027080"/>
            <a:chOff x="244440" y="262080"/>
            <a:chExt cx="8524800" cy="1027080"/>
          </a:xfrm>
        </p:grpSpPr>
        <p:pic>
          <p:nvPicPr>
            <p:cNvPr id="265" name="Picture 2" descr=""/>
            <p:cNvPicPr/>
            <p:nvPr/>
          </p:nvPicPr>
          <p:blipFill>
            <a:blip r:embed="rId1"/>
            <a:stretch/>
          </p:blipFill>
          <p:spPr>
            <a:xfrm>
              <a:off x="244440" y="262080"/>
              <a:ext cx="852480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3"/>
            <p:cNvSpPr/>
            <p:nvPr/>
          </p:nvSpPr>
          <p:spPr>
            <a:xfrm>
              <a:off x="244440" y="262080"/>
              <a:ext cx="852480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Text Box 4"/>
          <p:cNvSpPr/>
          <p:nvPr/>
        </p:nvSpPr>
        <p:spPr>
          <a:xfrm>
            <a:off x="4572000" y="1285920"/>
            <a:ext cx="442908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74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   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диционное занятие — подсечно-огневое земледелие. Собака была единственным домашним животным. Охотились на моа .Большая часть современных маори занята  в сельском хозяйств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-374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месла — ткачество, плетение, строительство лодок, резьба по дерев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-374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0" y="1143000"/>
            <a:ext cx="4786200" cy="2928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"/>
          <p:cNvPicPr/>
          <p:nvPr/>
        </p:nvPicPr>
        <p:blipFill>
          <a:blip r:embed="rId3"/>
          <a:stretch/>
        </p:blipFill>
        <p:spPr>
          <a:xfrm>
            <a:off x="0" y="3571920"/>
            <a:ext cx="478620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-142920" y="714240"/>
            <a:ext cx="9501120" cy="635796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2"/>
          <p:cNvGrpSpPr/>
          <p:nvPr/>
        </p:nvGrpSpPr>
        <p:grpSpPr>
          <a:xfrm>
            <a:off x="195120" y="-96840"/>
            <a:ext cx="8653680" cy="958680"/>
            <a:chOff x="195120" y="-96840"/>
            <a:chExt cx="8653680" cy="958680"/>
          </a:xfrm>
        </p:grpSpPr>
        <p:pic>
          <p:nvPicPr>
            <p:cNvPr id="272" name="Picture 3" descr=""/>
            <p:cNvPicPr/>
            <p:nvPr/>
          </p:nvPicPr>
          <p:blipFill>
            <a:blip r:embed="rId2"/>
            <a:stretch/>
          </p:blipFill>
          <p:spPr>
            <a:xfrm>
              <a:off x="195120" y="-96840"/>
              <a:ext cx="8653680" cy="9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4"/>
            <p:cNvSpPr/>
            <p:nvPr/>
          </p:nvSpPr>
          <p:spPr>
            <a:xfrm>
              <a:off x="195120" y="-96840"/>
              <a:ext cx="8653680" cy="95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1"/>
          <p:cNvGrpSpPr/>
          <p:nvPr/>
        </p:nvGrpSpPr>
        <p:grpSpPr>
          <a:xfrm>
            <a:off x="450720" y="-152280"/>
            <a:ext cx="8385480" cy="3051000"/>
            <a:chOff x="450720" y="-152280"/>
            <a:chExt cx="8385480" cy="3051000"/>
          </a:xfrm>
        </p:grpSpPr>
        <p:pic>
          <p:nvPicPr>
            <p:cNvPr id="275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-152280"/>
              <a:ext cx="8385480" cy="30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3"/>
            <p:cNvSpPr/>
            <p:nvPr/>
          </p:nvSpPr>
          <p:spPr>
            <a:xfrm>
              <a:off x="450720" y="-152280"/>
              <a:ext cx="8385480" cy="30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0" y="2928960"/>
            <a:ext cx="4143240" cy="39290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"/>
          <p:cNvPicPr/>
          <p:nvPr/>
        </p:nvPicPr>
        <p:blipFill>
          <a:blip r:embed="rId3"/>
          <a:stretch/>
        </p:blipFill>
        <p:spPr>
          <a:xfrm>
            <a:off x="4365720" y="2928960"/>
            <a:ext cx="477828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1"/>
          <p:cNvGrpSpPr/>
          <p:nvPr/>
        </p:nvGrpSpPr>
        <p:grpSpPr>
          <a:xfrm>
            <a:off x="450720" y="66600"/>
            <a:ext cx="8239320" cy="1636920"/>
            <a:chOff x="450720" y="66600"/>
            <a:chExt cx="8239320" cy="163692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66600"/>
              <a:ext cx="8239320" cy="16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Text Box 3"/>
            <p:cNvSpPr/>
            <p:nvPr/>
          </p:nvSpPr>
          <p:spPr>
            <a:xfrm>
              <a:off x="450720" y="66600"/>
              <a:ext cx="8239320" cy="16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Text Box 4"/>
          <p:cNvSpPr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ло 840 жителей тихоокеанского атолла умерли от раковых и других заболевани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4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июле 1946г.  США использовали атолл Бикини для двух испытаний атомной бомбы.  25 июля  там же был осуществлён подводный взрыв атомной установки. 1 марта 1945г. во время испытания водородной бомбы остров подвергся разрушению</a:t>
            </a:r>
            <a:r>
              <a:rPr b="0" lang="ru-RU" sz="2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0" y="3500280"/>
            <a:ext cx="478620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1"/>
          <p:cNvGrpSpPr/>
          <p:nvPr/>
        </p:nvGrpSpPr>
        <p:grpSpPr>
          <a:xfrm>
            <a:off x="195120" y="122400"/>
            <a:ext cx="8494920" cy="1544400"/>
            <a:chOff x="195120" y="122400"/>
            <a:chExt cx="8494920" cy="1544400"/>
          </a:xfrm>
        </p:grpSpPr>
        <p:pic>
          <p:nvPicPr>
            <p:cNvPr id="286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122400"/>
              <a:ext cx="8494920" cy="154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3"/>
            <p:cNvSpPr/>
            <p:nvPr/>
          </p:nvSpPr>
          <p:spPr>
            <a:xfrm>
              <a:off x="195120" y="122400"/>
              <a:ext cx="8494920" cy="15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Text Box 4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747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47840" indent="-3747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47840" indent="-3747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!!!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"/>
          <p:cNvGrpSpPr/>
          <p:nvPr/>
        </p:nvGrpSpPr>
        <p:grpSpPr>
          <a:xfrm>
            <a:off x="195120" y="262080"/>
            <a:ext cx="8494920" cy="1404720"/>
            <a:chOff x="195120" y="262080"/>
            <a:chExt cx="8494920" cy="1404720"/>
          </a:xfrm>
        </p:grpSpPr>
        <p:pic>
          <p:nvPicPr>
            <p:cNvPr id="101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2080"/>
              <a:ext cx="8494920" cy="14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3"/>
            <p:cNvSpPr/>
            <p:nvPr/>
          </p:nvSpPr>
          <p:spPr>
            <a:xfrm>
              <a:off x="195120" y="262080"/>
              <a:ext cx="8494920" cy="14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"/>
          <p:cNvGrpSpPr/>
          <p:nvPr/>
        </p:nvGrpSpPr>
        <p:grpSpPr>
          <a:xfrm>
            <a:off x="285840" y="1714680"/>
            <a:ext cx="4211640" cy="4568760"/>
            <a:chOff x="285840" y="1714680"/>
            <a:chExt cx="4211640" cy="4568760"/>
          </a:xfrm>
        </p:grpSpPr>
        <p:pic>
          <p:nvPicPr>
            <p:cNvPr id="104" name="Picture 5" descr=""/>
            <p:cNvPicPr/>
            <p:nvPr/>
          </p:nvPicPr>
          <p:blipFill>
            <a:blip r:embed="rId2"/>
            <a:stretch/>
          </p:blipFill>
          <p:spPr>
            <a:xfrm>
              <a:off x="285840" y="1714680"/>
              <a:ext cx="4211640" cy="45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6"/>
            <p:cNvSpPr/>
            <p:nvPr/>
          </p:nvSpPr>
          <p:spPr>
            <a:xfrm>
              <a:off x="285840" y="1714680"/>
              <a:ext cx="4211640" cy="45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4714920" y="1714680"/>
            <a:ext cx="3997440" cy="4497120"/>
            <a:chOff x="4714920" y="1714680"/>
            <a:chExt cx="3997440" cy="4497120"/>
          </a:xfrm>
        </p:grpSpPr>
        <p:pic>
          <p:nvPicPr>
            <p:cNvPr id="107" name="Picture 8" descr=""/>
            <p:cNvPicPr/>
            <p:nvPr/>
          </p:nvPicPr>
          <p:blipFill>
            <a:blip r:embed="rId3"/>
            <a:stretch/>
          </p:blipFill>
          <p:spPr>
            <a:xfrm>
              <a:off x="4714920" y="1714680"/>
              <a:ext cx="3997440" cy="44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9"/>
            <p:cNvSpPr/>
            <p:nvPr/>
          </p:nvSpPr>
          <p:spPr>
            <a:xfrm>
              <a:off x="4714920" y="1714680"/>
              <a:ext cx="3997440" cy="44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"/>
          <p:cNvGrpSpPr/>
          <p:nvPr/>
        </p:nvGrpSpPr>
        <p:grpSpPr>
          <a:xfrm>
            <a:off x="274680" y="262080"/>
            <a:ext cx="8415360" cy="1404720"/>
            <a:chOff x="274680" y="262080"/>
            <a:chExt cx="8415360" cy="1404720"/>
          </a:xfrm>
        </p:grpSpPr>
        <p:pic>
          <p:nvPicPr>
            <p:cNvPr id="110" name="Picture 2" descr=""/>
            <p:cNvPicPr/>
            <p:nvPr/>
          </p:nvPicPr>
          <p:blipFill>
            <a:blip r:embed="rId1"/>
            <a:stretch/>
          </p:blipFill>
          <p:spPr>
            <a:xfrm>
              <a:off x="274680" y="262080"/>
              <a:ext cx="8415360" cy="14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3"/>
            <p:cNvSpPr/>
            <p:nvPr/>
          </p:nvSpPr>
          <p:spPr>
            <a:xfrm>
              <a:off x="274680" y="262080"/>
              <a:ext cx="8415360" cy="14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Group 4"/>
          <p:cNvGrpSpPr/>
          <p:nvPr/>
        </p:nvGrpSpPr>
        <p:grpSpPr>
          <a:xfrm>
            <a:off x="142920" y="1714680"/>
            <a:ext cx="4497480" cy="4782960"/>
            <a:chOff x="142920" y="1714680"/>
            <a:chExt cx="4497480" cy="4782960"/>
          </a:xfrm>
        </p:grpSpPr>
        <p:pic>
          <p:nvPicPr>
            <p:cNvPr id="113" name="Picture 5" descr=""/>
            <p:cNvPicPr/>
            <p:nvPr/>
          </p:nvPicPr>
          <p:blipFill>
            <a:blip r:embed="rId2"/>
            <a:stretch/>
          </p:blipFill>
          <p:spPr>
            <a:xfrm>
              <a:off x="142920" y="1714680"/>
              <a:ext cx="4497480" cy="47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6"/>
            <p:cNvSpPr/>
            <p:nvPr/>
          </p:nvSpPr>
          <p:spPr>
            <a:xfrm>
              <a:off x="142920" y="1714680"/>
              <a:ext cx="4497480" cy="47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7"/>
          <p:cNvGrpSpPr/>
          <p:nvPr/>
        </p:nvGrpSpPr>
        <p:grpSpPr>
          <a:xfrm>
            <a:off x="4648320" y="1714680"/>
            <a:ext cx="4278240" cy="4854240"/>
            <a:chOff x="4648320" y="1714680"/>
            <a:chExt cx="4278240" cy="4854240"/>
          </a:xfrm>
        </p:grpSpPr>
        <p:pic>
          <p:nvPicPr>
            <p:cNvPr id="116" name="Picture 8" descr=""/>
            <p:cNvPicPr/>
            <p:nvPr/>
          </p:nvPicPr>
          <p:blipFill>
            <a:blip r:embed="rId3"/>
            <a:stretch/>
          </p:blipFill>
          <p:spPr>
            <a:xfrm>
              <a:off x="4648320" y="1714680"/>
              <a:ext cx="4278240" cy="48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9"/>
            <p:cNvSpPr/>
            <p:nvPr/>
          </p:nvSpPr>
          <p:spPr>
            <a:xfrm>
              <a:off x="4648320" y="1714680"/>
              <a:ext cx="4278240" cy="48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1"/>
          <p:cNvGrpSpPr/>
          <p:nvPr/>
        </p:nvGrpSpPr>
        <p:grpSpPr>
          <a:xfrm>
            <a:off x="182520" y="128520"/>
            <a:ext cx="8507520" cy="1538280"/>
            <a:chOff x="182520" y="128520"/>
            <a:chExt cx="8507520" cy="1538280"/>
          </a:xfrm>
        </p:grpSpPr>
        <p:pic>
          <p:nvPicPr>
            <p:cNvPr id="119" name="Picture 2" descr=""/>
            <p:cNvPicPr/>
            <p:nvPr/>
          </p:nvPicPr>
          <p:blipFill>
            <a:blip r:embed="rId1"/>
            <a:stretch/>
          </p:blipFill>
          <p:spPr>
            <a:xfrm>
              <a:off x="182520" y="128520"/>
              <a:ext cx="8507520" cy="15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3"/>
            <p:cNvSpPr/>
            <p:nvPr/>
          </p:nvSpPr>
          <p:spPr>
            <a:xfrm>
              <a:off x="182520" y="128520"/>
              <a:ext cx="8507520" cy="15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Text Box 4"/>
          <p:cNvSpPr/>
          <p:nvPr/>
        </p:nvSpPr>
        <p:spPr>
          <a:xfrm>
            <a:off x="457200" y="2357280"/>
            <a:ext cx="822960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90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ографического полож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90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ьеф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90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ческого ми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90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тического устройства Океан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"/>
          <p:cNvGrpSpPr/>
          <p:nvPr/>
        </p:nvGrpSpPr>
        <p:grpSpPr>
          <a:xfrm>
            <a:off x="195120" y="262080"/>
            <a:ext cx="8494920" cy="1404720"/>
            <a:chOff x="195120" y="262080"/>
            <a:chExt cx="8494920" cy="140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2080"/>
              <a:ext cx="8494920" cy="14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3"/>
            <p:cNvSpPr/>
            <p:nvPr/>
          </p:nvSpPr>
          <p:spPr>
            <a:xfrm>
              <a:off x="195120" y="262080"/>
              <a:ext cx="8494920" cy="14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Text Box 4"/>
          <p:cNvSpPr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ографическое поло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я открытия и исследов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стров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е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99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тическая карта Океа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"/>
          <p:cNvGrpSpPr/>
          <p:nvPr/>
        </p:nvGrpSpPr>
        <p:grpSpPr>
          <a:xfrm>
            <a:off x="450720" y="66600"/>
            <a:ext cx="8239320" cy="1636920"/>
            <a:chOff x="450720" y="66600"/>
            <a:chExt cx="8239320" cy="1636920"/>
          </a:xfrm>
        </p:grpSpPr>
        <p:pic>
          <p:nvPicPr>
            <p:cNvPr id="127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66600"/>
              <a:ext cx="8239320" cy="16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3"/>
            <p:cNvSpPr/>
            <p:nvPr/>
          </p:nvSpPr>
          <p:spPr>
            <a:xfrm>
              <a:off x="450720" y="66600"/>
              <a:ext cx="8239320" cy="16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Text Box 4"/>
          <p:cNvSpPr/>
          <p:nvPr/>
        </p:nvSpPr>
        <p:spPr>
          <a:xfrm>
            <a:off x="457200" y="2000160"/>
            <a:ext cx="822960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еания- 7 тыс. остров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рова  разбросаны от субтропических широт Северного до умеренных широт Южного полуша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ая площадь островов составляет около 2</a:t>
            </a:r>
            <a:r>
              <a:rPr b="0" lang="ru-RU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%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т занимаемой океаном поверх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9560" indent="-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1"/>
          <p:cNvGrpSpPr/>
          <p:nvPr/>
        </p:nvGrpSpPr>
        <p:grpSpPr>
          <a:xfrm>
            <a:off x="195120" y="212760"/>
            <a:ext cx="8494920" cy="1003320"/>
            <a:chOff x="195120" y="212760"/>
            <a:chExt cx="8494920" cy="1003320"/>
          </a:xfrm>
        </p:grpSpPr>
        <p:pic>
          <p:nvPicPr>
            <p:cNvPr id="131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12760"/>
              <a:ext cx="849492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3"/>
            <p:cNvSpPr/>
            <p:nvPr/>
          </p:nvSpPr>
          <p:spPr>
            <a:xfrm>
              <a:off x="195120" y="212760"/>
              <a:ext cx="849492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Text Box 4"/>
          <p:cNvSpPr/>
          <p:nvPr/>
        </p:nvSpPr>
        <p:spPr>
          <a:xfrm>
            <a:off x="357120" y="1071720"/>
            <a:ext cx="403884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Фид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648320" y="1071720"/>
            <a:ext cx="4495680" cy="51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9560" indent="-38088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Font typeface="Wingdings 2" charset="2"/>
              <a:buChar char=""/>
              <a:tabLst>
                <a:tab algn="l" pos="43956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9423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оломоновы ост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0" y="1714680"/>
            <a:ext cx="4714920" cy="5143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3"/>
          <a:stretch/>
        </p:blipFill>
        <p:spPr>
          <a:xfrm>
            <a:off x="4786200" y="1714680"/>
            <a:ext cx="4357800" cy="5143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4:56:09Z</dcterms:created>
  <dc:creator>Алина</dc:creator>
  <dc:description/>
  <dc:language>en-US</dc:language>
  <cp:lastModifiedBy>Наташа</cp:lastModifiedBy>
  <dcterms:modified xsi:type="dcterms:W3CDTF">2012-12-09T16:41:02Z</dcterms:modified>
  <cp:revision>121</cp:revision>
  <dc:subject/>
  <dc:title>ОКЕАНИЯ</dc:title>
</cp:coreProperties>
</file>