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58.png" ContentType="image/png"/>
  <Override PartName="/ppt/media/image21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17.jpeg" ContentType="image/jpeg"/>
  <Override PartName="/ppt/media/image55.jpeg" ContentType="image/jpeg"/>
  <Override PartName="/ppt/media/image10.jpeg" ContentType="image/jpeg"/>
  <Override PartName="/ppt/media/image76.png" ContentType="image/png"/>
  <Override PartName="/ppt/media/image30.jpeg" ContentType="image/jpeg"/>
  <Override PartName="/ppt/media/image27.png" ContentType="image/png"/>
  <Override PartName="/ppt/media/image75.jpeg" ContentType="image/jpeg"/>
  <Override PartName="/ppt/media/image74.png" ContentType="image/png"/>
  <Override PartName="/ppt/media/image16.jpeg" ContentType="image/jpeg"/>
  <Override PartName="/ppt/media/image70.png" ContentType="image/png"/>
  <Override PartName="/ppt/media/image7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31.png" ContentType="image/png"/>
  <Override PartName="/ppt/media/image7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2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14.png" ContentType="image/png"/>
  <Override PartName="/ppt/media/image2.png" ContentType="image/png"/>
  <Override PartName="/ppt/media/image72.jpeg" ContentType="image/jpeg"/>
  <Override PartName="/ppt/media/image2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29.png" ContentType="image/png"/>
  <Override PartName="/ppt/media/image63.jpeg" ContentType="image/jpeg"/>
  <Override PartName="/ppt/media/image11.jpeg" ContentType="image/jpeg"/>
  <Override PartName="/ppt/media/image28.jpeg" ContentType="image/jpeg"/>
  <Override PartName="/ppt/media/image12.png" ContentType="image/png"/>
  <Override PartName="/ppt/media/image34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57.png" ContentType="image/png"/>
  <Override PartName="/ppt/media/image40.jpeg" ContentType="image/jpeg"/>
  <Override PartName="/ppt/media/image41.png" ContentType="image/png"/>
  <Override PartName="/ppt/media/image38.png" ContentType="image/png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E227-8AEB-4A92-BC12-2161AE143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E66F-AC32-49C8-B4A8-DDA322E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AD0A-3726-4F40-B018-B801A11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F933-36BE-4C9C-BB6D-578751A7F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FCED8-6606-42A2-86B1-FF70EE30B7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4753D-DCDB-4A81-A373-BE75AAA1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968C5-509D-4267-996F-774CB6C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EF07F-2768-42FB-A8C6-1185DD6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A778B-DF1E-4D3F-B167-ED8324A2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41400"/>
            <a:ext cx="822168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3ABDA-458A-4262-B7DD-E2C03A70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52F2-C7AF-4ACC-B050-0B3A84ED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DD8D-A8A1-4DE3-A88D-C6D52D0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27659-D2A9-4AF4-B622-7B749CA7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FB00-E224-47FA-A7D1-3882B8A8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2E4E2-A59D-4263-A0E7-E86B1DF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F49E7-3226-4F8B-B457-B122726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12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68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12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68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22E9-9361-4FB2-954D-50F7FE010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AB34-2A73-4828-8C56-DC90CA5A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2F6C-58FE-42DB-ADAD-97378ED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12C5-D1E8-4F53-B904-DCDEC3AE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41400"/>
            <a:ext cx="822168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C3ED-9755-4FE4-A660-69A6D759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12C4-01F3-4E93-B667-A023AD6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08A1-00A5-431E-A7B7-A96151E7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7271-0AAF-4A71-87DF-854FED6B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1280" y="4948200"/>
            <a:ext cx="26892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08360"/>
            <a:ext cx="212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1520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880" y="6408360"/>
            <a:ext cx="495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B5B83F-4B5A-40EC-BCD4-459AB3FF0AD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1280" y="4948200"/>
            <a:ext cx="26892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791240" y="6478560"/>
            <a:ext cx="21254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589880" y="6481800"/>
            <a:ext cx="495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7F7581-49B6-451C-B13C-9C3E726911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-39600"/>
            <a:ext cx="82249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рок по теме: «Океани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4"/>
          <p:cNvSpPr/>
          <p:nvPr/>
        </p:nvSpPr>
        <p:spPr>
          <a:xfrm>
            <a:off x="0" y="857160"/>
            <a:ext cx="449568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. Тувал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429080" y="857160"/>
            <a:ext cx="471492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Гавайские остр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0" y="1428840"/>
            <a:ext cx="4500720" cy="542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4643280" y="1428840"/>
            <a:ext cx="45007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231840" y="-115920"/>
            <a:ext cx="8458200" cy="1405080"/>
            <a:chOff x="231840" y="-115920"/>
            <a:chExt cx="8458200" cy="1405080"/>
          </a:xfrm>
        </p:grpSpPr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231840" y="-115920"/>
              <a:ext cx="845820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231840" y="-115920"/>
              <a:ext cx="84582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0" y="1214280"/>
            <a:ext cx="4572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кеании были открыты 6 марта 1521г. Марианские острова ("Разбойничьи острова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марта 1521 г. в поисках Молуккских островов Магеллан открывает Филиппинские о-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апреля1521г.на о.Себу Ф. Магеллан погиб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0" y="1285920"/>
            <a:ext cx="4572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"/>
          <p:cNvGrpSpPr/>
          <p:nvPr/>
        </p:nvGrpSpPr>
        <p:grpSpPr>
          <a:xfrm>
            <a:off x="298440" y="262080"/>
            <a:ext cx="8391600" cy="1404720"/>
            <a:chOff x="298440" y="262080"/>
            <a:chExt cx="8391600" cy="1404720"/>
          </a:xfrm>
        </p:grpSpPr>
        <p:pic>
          <p:nvPicPr>
            <p:cNvPr id="151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262080"/>
              <a:ext cx="839160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"/>
            <p:cNvSpPr/>
            <p:nvPr/>
          </p:nvSpPr>
          <p:spPr>
            <a:xfrm>
              <a:off x="298440" y="262080"/>
              <a:ext cx="839160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4"/>
          <p:cNvSpPr/>
          <p:nvPr/>
        </p:nvSpPr>
        <p:spPr>
          <a:xfrm>
            <a:off x="0" y="485784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несколько месяцев после гибели Магеллана, корабли достигают Молуккских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е сентября 1522г. единственный корабль- «Виктория»  с 18 выжившими  добирается до Исп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0" y="-214200"/>
            <a:ext cx="9140760" cy="5140080"/>
            <a:chOff x="0" y="-214200"/>
            <a:chExt cx="9140760" cy="5140080"/>
          </a:xfrm>
        </p:grpSpPr>
        <p:pic>
          <p:nvPicPr>
            <p:cNvPr id="15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-214200"/>
              <a:ext cx="914076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7"/>
            <p:cNvSpPr/>
            <p:nvPr/>
          </p:nvSpPr>
          <p:spPr>
            <a:xfrm>
              <a:off x="0" y="-214200"/>
              <a:ext cx="914076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195120" y="-139680"/>
            <a:ext cx="8494920" cy="928800"/>
            <a:chOff x="195120" y="-139680"/>
            <a:chExt cx="8494920" cy="92880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139680"/>
              <a:ext cx="84949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"/>
            <p:cNvSpPr/>
            <p:nvPr/>
          </p:nvSpPr>
          <p:spPr>
            <a:xfrm>
              <a:off x="195120" y="-139680"/>
              <a:ext cx="84949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4"/>
          <p:cNvGrpSpPr/>
          <p:nvPr/>
        </p:nvGrpSpPr>
        <p:grpSpPr>
          <a:xfrm>
            <a:off x="0" y="1071720"/>
            <a:ext cx="4640400" cy="5783040"/>
            <a:chOff x="0" y="1071720"/>
            <a:chExt cx="4640400" cy="5783040"/>
          </a:xfrm>
        </p:grpSpPr>
        <p:pic>
          <p:nvPicPr>
            <p:cNvPr id="16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640400" cy="57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6"/>
            <p:cNvSpPr/>
            <p:nvPr/>
          </p:nvSpPr>
          <p:spPr>
            <a:xfrm>
              <a:off x="0" y="1071720"/>
              <a:ext cx="4640400" cy="57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7"/>
          <p:cNvSpPr/>
          <p:nvPr/>
        </p:nvSpPr>
        <p:spPr>
          <a:xfrm>
            <a:off x="4500720" y="785880"/>
            <a:ext cx="46432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ий этнограф, антрополог, биолог, путешественн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л коренное население Австралии и Океании (1870-1880 годы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ом числе папуасов  северо-восточного берега Новой Гвине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защитником колониальных народов, выступал против расизма и колониализ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4"/>
          <p:cNvGrpSpPr/>
          <p:nvPr/>
        </p:nvGrpSpPr>
        <p:grpSpPr>
          <a:xfrm>
            <a:off x="0" y="1071720"/>
            <a:ext cx="4568760" cy="5783040"/>
            <a:chOff x="0" y="1071720"/>
            <a:chExt cx="4568760" cy="5783040"/>
          </a:xfrm>
        </p:grpSpPr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568760" cy="57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6"/>
            <p:cNvSpPr/>
            <p:nvPr/>
          </p:nvSpPr>
          <p:spPr>
            <a:xfrm>
              <a:off x="0" y="1071720"/>
              <a:ext cx="4568760" cy="57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7"/>
          <p:cNvSpPr/>
          <p:nvPr/>
        </p:nvSpPr>
        <p:spPr>
          <a:xfrm>
            <a:off x="4648320" y="1000080"/>
            <a:ext cx="4038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Крузенштер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. Лисянский совершили первую русскую кругосветную экспедицию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янский открыл один из Гавайских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 описал Гавайи в книге «Путешествие вокруг света» (18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304920" y="-6480"/>
            <a:ext cx="8385120" cy="1582920"/>
            <a:chOff x="304920" y="-6480"/>
            <a:chExt cx="8385120" cy="158292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-6480"/>
              <a:ext cx="838512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"/>
            <p:cNvSpPr/>
            <p:nvPr/>
          </p:nvSpPr>
          <p:spPr>
            <a:xfrm>
              <a:off x="304920" y="-6480"/>
              <a:ext cx="838512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4"/>
          <p:cNvGrpSpPr/>
          <p:nvPr/>
        </p:nvGrpSpPr>
        <p:grpSpPr>
          <a:xfrm>
            <a:off x="0" y="1714680"/>
            <a:ext cx="4568760" cy="4711680"/>
            <a:chOff x="0" y="1714680"/>
            <a:chExt cx="4568760" cy="4711680"/>
          </a:xfrm>
        </p:grpSpPr>
        <p:pic>
          <p:nvPicPr>
            <p:cNvPr id="17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456876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6"/>
            <p:cNvSpPr/>
            <p:nvPr/>
          </p:nvSpPr>
          <p:spPr>
            <a:xfrm>
              <a:off x="0" y="1714680"/>
              <a:ext cx="456876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7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0 г. Советские ученые исследовали дно акватории западной части Тихого Оке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йоны Новогвинейского моря, о. Тонга, Соломоновых о-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"/>
          <p:cNvGrpSpPr/>
          <p:nvPr/>
        </p:nvGrpSpPr>
        <p:grpSpPr>
          <a:xfrm>
            <a:off x="244440" y="-23760"/>
            <a:ext cx="8445600" cy="885600"/>
            <a:chOff x="244440" y="-23760"/>
            <a:chExt cx="8445600" cy="88560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-23760"/>
              <a:ext cx="844560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"/>
            <p:cNvSpPr/>
            <p:nvPr/>
          </p:nvSpPr>
          <p:spPr>
            <a:xfrm>
              <a:off x="244440" y="-23760"/>
              <a:ext cx="84456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4"/>
          <p:cNvSpPr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улканический-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тров, образующийся в результате вулканической деятельности на дне моря. Представляет собой верхушку подводного вулкана, поднятую над поверхностью оке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ралловы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тров, возникший в результате жизнедеятельности кораллов. Коралловый остров в виде сплошного или разорванного кольца называют атолл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териковы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тделившаяся часть материка, сходная с ним по геологическому строению и рельеф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1"/>
          <p:cNvGrpSpPr/>
          <p:nvPr/>
        </p:nvGrpSpPr>
        <p:grpSpPr>
          <a:xfrm>
            <a:off x="450720" y="-6480"/>
            <a:ext cx="8239320" cy="795600"/>
            <a:chOff x="450720" y="-6480"/>
            <a:chExt cx="8239320" cy="79560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480"/>
              <a:ext cx="823932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"/>
            <p:cNvSpPr/>
            <p:nvPr/>
          </p:nvSpPr>
          <p:spPr>
            <a:xfrm>
              <a:off x="450720" y="-6480"/>
              <a:ext cx="82393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 Box 4"/>
          <p:cNvSpPr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е острова находятся на границах литосферных плит, в районах сейсмической активности. Определить вулканический остров можно сопоставив две карты- физическую и карту строения земной ко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ковые острова находятся на подводном основании материка в пределах материкового шельфа. На картах материковый шельф отмечен светло-голубым, белым цвет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лловые острова находятся в тропических широтах, где температура воды не ниже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 °C. На карте имеются условные обозначения «коралловые рифы», в районах скопления и активного роста коралл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1"/>
          <p:cNvGrpSpPr/>
          <p:nvPr/>
        </p:nvGrpSpPr>
        <p:grpSpPr>
          <a:xfrm>
            <a:off x="274680" y="-92160"/>
            <a:ext cx="8415360" cy="735120"/>
            <a:chOff x="274680" y="-92160"/>
            <a:chExt cx="8415360" cy="73512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-92160"/>
              <a:ext cx="841536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3"/>
            <p:cNvSpPr/>
            <p:nvPr/>
          </p:nvSpPr>
          <p:spPr>
            <a:xfrm>
              <a:off x="274680" y="-92160"/>
              <a:ext cx="84153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Text Box 4"/>
          <p:cNvSpPr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аториальном КП           Тропическом КП                 Субтропическом К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9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4"/>
          <p:cNvGrpSpPr/>
          <p:nvPr/>
        </p:nvGrpSpPr>
        <p:grpSpPr>
          <a:xfrm>
            <a:off x="0" y="1071720"/>
            <a:ext cx="4211640" cy="5568840"/>
            <a:chOff x="0" y="1071720"/>
            <a:chExt cx="4211640" cy="5568840"/>
          </a:xfrm>
        </p:grpSpPr>
        <p:pic>
          <p:nvPicPr>
            <p:cNvPr id="19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211640" cy="55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6"/>
            <p:cNvSpPr/>
            <p:nvPr/>
          </p:nvSpPr>
          <p:spPr>
            <a:xfrm>
              <a:off x="0" y="1071720"/>
              <a:ext cx="421164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Text Box 7"/>
          <p:cNvSpPr/>
          <p:nvPr/>
        </p:nvSpPr>
        <p:spPr>
          <a:xfrm>
            <a:off x="4071960" y="857160"/>
            <a:ext cx="50720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косовая паль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«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езьян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а (до27—30 м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ол 15-45 с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иаметре. Кокосовые орехи водонепроницаемы и свободно держатся на воде, далеко разносясь океаническими течениями и сохраняя при этом жизнеспособность. Орех состоит из мякоти и кокосовой воды, которая со временем созревая превращается в кокосовое молок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-6480" y="-42840"/>
            <a:ext cx="6867720" cy="1046160"/>
            <a:chOff x="-6480" y="-42840"/>
            <a:chExt cx="6867720" cy="1046160"/>
          </a:xfrm>
        </p:grpSpPr>
        <p:pic>
          <p:nvPicPr>
            <p:cNvPr id="91" name="Picture 3" descr=""/>
            <p:cNvPicPr/>
            <p:nvPr/>
          </p:nvPicPr>
          <p:blipFill>
            <a:blip r:embed="rId2"/>
            <a:stretch/>
          </p:blipFill>
          <p:spPr>
            <a:xfrm>
              <a:off x="-6480" y="-42840"/>
              <a:ext cx="68677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-6480" y="-42840"/>
              <a:ext cx="686772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0"/>
            <a:ext cx="3925800" cy="6854760"/>
            <a:chOff x="0" y="0"/>
            <a:chExt cx="3925800" cy="6854760"/>
          </a:xfrm>
        </p:grpSpPr>
        <p:pic>
          <p:nvPicPr>
            <p:cNvPr id="19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2580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"/>
            <p:cNvSpPr/>
            <p:nvPr/>
          </p:nvSpPr>
          <p:spPr>
            <a:xfrm>
              <a:off x="0" y="0"/>
              <a:ext cx="392580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3714840" y="214200"/>
            <a:ext cx="542916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еб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20-26 м в высоту,  быстро растущее дерево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минает обычный дуб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ы заменяют жителя островов хлеб. Плод напоминает дыню. На одном дереве растут разные по форме листья. Мякоть созревших плодов пекут, варят, сушат, засахаривают, едят сырой и даже, разминая и растирая, делают из неё тесто для своеобразных «блинчик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195120" y="-96840"/>
            <a:ext cx="8494920" cy="1598760"/>
            <a:chOff x="195120" y="-96840"/>
            <a:chExt cx="8494920" cy="159876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96840"/>
              <a:ext cx="84949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195120" y="-96840"/>
              <a:ext cx="849492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4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Альбатро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Буревестн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314316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4500720" y="3143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450720" y="-115920"/>
            <a:ext cx="8239320" cy="1405080"/>
            <a:chOff x="450720" y="-115920"/>
            <a:chExt cx="8239320" cy="140508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115920"/>
              <a:ext cx="823932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3"/>
            <p:cNvSpPr/>
            <p:nvPr/>
          </p:nvSpPr>
          <p:spPr>
            <a:xfrm>
              <a:off x="450720" y="-115920"/>
              <a:ext cx="823932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4"/>
          <p:cNvGrpSpPr/>
          <p:nvPr/>
        </p:nvGrpSpPr>
        <p:grpSpPr>
          <a:xfrm>
            <a:off x="0" y="4071960"/>
            <a:ext cx="4354560" cy="2782800"/>
            <a:chOff x="0" y="4071960"/>
            <a:chExt cx="4354560" cy="2782800"/>
          </a:xfrm>
        </p:grpSpPr>
        <p:pic>
          <p:nvPicPr>
            <p:cNvPr id="21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4354560" cy="27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0" y="4071960"/>
              <a:ext cx="4354560" cy="27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Group 7"/>
          <p:cNvGrpSpPr/>
          <p:nvPr/>
        </p:nvGrpSpPr>
        <p:grpSpPr>
          <a:xfrm>
            <a:off x="4786200" y="4000680"/>
            <a:ext cx="4354560" cy="2854080"/>
            <a:chOff x="4786200" y="4000680"/>
            <a:chExt cx="4354560" cy="2854080"/>
          </a:xfrm>
        </p:grpSpPr>
        <p:pic>
          <p:nvPicPr>
            <p:cNvPr id="216" name="Picture 8" descr=""/>
            <p:cNvPicPr/>
            <p:nvPr/>
          </p:nvPicPr>
          <p:blipFill>
            <a:blip r:embed="rId3"/>
            <a:stretch/>
          </p:blipFill>
          <p:spPr>
            <a:xfrm>
              <a:off x="4786200" y="4000680"/>
              <a:ext cx="435456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9"/>
            <p:cNvSpPr/>
            <p:nvPr/>
          </p:nvSpPr>
          <p:spPr>
            <a:xfrm>
              <a:off x="4786200" y="4000680"/>
              <a:ext cx="435456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4714920" y="1357200"/>
            <a:ext cx="4429080" cy="242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5"/>
          <a:stretch/>
        </p:blipFill>
        <p:spPr>
          <a:xfrm>
            <a:off x="0" y="1357200"/>
            <a:ext cx="442908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"/>
          <p:cNvGrpSpPr/>
          <p:nvPr/>
        </p:nvGrpSpPr>
        <p:grpSpPr>
          <a:xfrm>
            <a:off x="274680" y="195120"/>
            <a:ext cx="8610480" cy="1233720"/>
            <a:chOff x="274680" y="195120"/>
            <a:chExt cx="8610480" cy="123372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195120"/>
              <a:ext cx="8610480" cy="12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"/>
            <p:cNvSpPr/>
            <p:nvPr/>
          </p:nvSpPr>
          <p:spPr>
            <a:xfrm>
              <a:off x="274680" y="195120"/>
              <a:ext cx="8610480" cy="12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4643280" y="414324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0" y="1571760"/>
            <a:ext cx="4357800" cy="24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4572000" y="1571760"/>
            <a:ext cx="45720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"/>
          <p:cNvGrpSpPr/>
          <p:nvPr/>
        </p:nvGrpSpPr>
        <p:grpSpPr>
          <a:xfrm>
            <a:off x="450720" y="-262080"/>
            <a:ext cx="8239320" cy="1344600"/>
            <a:chOff x="450720" y="-262080"/>
            <a:chExt cx="8239320" cy="134460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262080"/>
              <a:ext cx="82393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"/>
            <p:cNvSpPr/>
            <p:nvPr/>
          </p:nvSpPr>
          <p:spPr>
            <a:xfrm>
              <a:off x="450720" y="-262080"/>
              <a:ext cx="82393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4"/>
          <p:cNvSpPr/>
          <p:nvPr/>
        </p:nvSpPr>
        <p:spPr>
          <a:xfrm>
            <a:off x="4648320" y="1143000"/>
            <a:ext cx="4352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a-вымершие гигантские птицы вес до 250 кг, в высоту 3,6 м.Не имели крыльев. Траво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1000080"/>
            <a:ext cx="4572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ви. Вес до 4 кг.  Сильные четырёхпалые ноги и длинный узкий клюв. Крылья не развиты, хвост отсутствует. Перья напоминают густую шерсть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4929120" y="335772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195120" y="-60480"/>
            <a:ext cx="8494920" cy="990720"/>
            <a:chOff x="195120" y="-60480"/>
            <a:chExt cx="8494920" cy="99072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0480"/>
              <a:ext cx="8494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"/>
            <p:cNvSpPr/>
            <p:nvPr/>
          </p:nvSpPr>
          <p:spPr>
            <a:xfrm>
              <a:off x="195120" y="-60480"/>
              <a:ext cx="8494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"/>
          <p:cNvSpPr/>
          <p:nvPr/>
        </p:nvSpPr>
        <p:spPr>
          <a:xfrm>
            <a:off x="0" y="785880"/>
            <a:ext cx="47862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атея серебристая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овидный папоротник. Высотой до 10 м,  неофициальный символ Новой Зелан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357800" y="642960"/>
            <a:ext cx="47862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зеландское ка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чнозелёное хвойное дерево до 30 — 50 м, обхват ствола до 16м.Это один из древнейших видов хвойных деревьев, переживший динозав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214200" y="3214800"/>
            <a:ext cx="4429080" cy="36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4857840" y="3238560"/>
            <a:ext cx="40719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24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Text Box 4"/>
          <p:cNvSpPr/>
          <p:nvPr/>
        </p:nvSpPr>
        <p:spPr>
          <a:xfrm>
            <a:off x="0" y="1357200"/>
            <a:ext cx="5572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КОРЕН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незийская группа народов- тонганцы, самоанцы увеанцы, рапануйцы, гавайцы,таитяне (Полинезия, восток Меланези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УАСЫ( Новая Гвинея, Соломоновы острова, Новая Каледо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РИ (Новая Зеланд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286240" y="1722600"/>
            <a:ext cx="340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ПРИШЛ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СМЕШАННЫЕ жител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262080" y="-128520"/>
            <a:ext cx="8458200" cy="1058760"/>
            <a:chOff x="262080" y="-128520"/>
            <a:chExt cx="8458200" cy="105876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-128520"/>
              <a:ext cx="84582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3"/>
            <p:cNvSpPr/>
            <p:nvPr/>
          </p:nvSpPr>
          <p:spPr>
            <a:xfrm>
              <a:off x="262080" y="-128520"/>
              <a:ext cx="845820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Text Box 4"/>
          <p:cNvSpPr/>
          <p:nvPr/>
        </p:nvSpPr>
        <p:spPr>
          <a:xfrm>
            <a:off x="0" y="785880"/>
            <a:ext cx="9144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ль Гоген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ский живописец, сменил Францию на о. Таи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аитян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асторал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аитянские женщины на пля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4786200" y="3000240"/>
            <a:ext cx="4357800" cy="3857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-14292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450720" y="-6480"/>
            <a:ext cx="8239320" cy="1149480"/>
            <a:chOff x="450720" y="-6480"/>
            <a:chExt cx="8239320" cy="1149480"/>
          </a:xfrm>
        </p:grpSpPr>
        <p:pic>
          <p:nvPicPr>
            <p:cNvPr id="25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480"/>
              <a:ext cx="823932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450720" y="-6480"/>
              <a:ext cx="823932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0" y="1285920"/>
            <a:ext cx="4357800" cy="557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4500720" y="2316240"/>
            <a:ext cx="45003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"/>
          <p:cNvGrpSpPr/>
          <p:nvPr/>
        </p:nvGrpSpPr>
        <p:grpSpPr>
          <a:xfrm>
            <a:off x="274680" y="-122400"/>
            <a:ext cx="8464680" cy="1198800"/>
            <a:chOff x="274680" y="-122400"/>
            <a:chExt cx="8464680" cy="119880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-122400"/>
              <a:ext cx="8464680" cy="11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"/>
            <p:cNvSpPr/>
            <p:nvPr/>
          </p:nvSpPr>
          <p:spPr>
            <a:xfrm>
              <a:off x="274680" y="-122400"/>
              <a:ext cx="846468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4"/>
          <p:cNvGrpSpPr/>
          <p:nvPr/>
        </p:nvGrpSpPr>
        <p:grpSpPr>
          <a:xfrm>
            <a:off x="142920" y="1714680"/>
            <a:ext cx="4711680" cy="4425840"/>
            <a:chOff x="142920" y="1714680"/>
            <a:chExt cx="4711680" cy="4425840"/>
          </a:xfrm>
        </p:grpSpPr>
        <p:pic>
          <p:nvPicPr>
            <p:cNvPr id="261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1714680"/>
              <a:ext cx="471168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"/>
            <p:cNvSpPr/>
            <p:nvPr/>
          </p:nvSpPr>
          <p:spPr>
            <a:xfrm>
              <a:off x="142920" y="1714680"/>
              <a:ext cx="4711680" cy="44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Text Box 7"/>
          <p:cNvSpPr/>
          <p:nvPr/>
        </p:nvSpPr>
        <p:spPr>
          <a:xfrm>
            <a:off x="4648320" y="1071720"/>
            <a:ext cx="44956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занятие -земледелие, охота и собирательство. Важную роль играет свиновод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, папуасы заняты в горной промышленности, работают шофёрами, продавцами, клер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ни папуасов — по 100—150 чел. Семья имеет 5-6 участков земли в разных стадиях созре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274680" y="66600"/>
            <a:ext cx="8415360" cy="1636920"/>
            <a:chOff x="274680" y="66600"/>
            <a:chExt cx="8415360" cy="163692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66600"/>
              <a:ext cx="8415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274680" y="66600"/>
              <a:ext cx="841536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4286520" cy="4286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Фид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4648320" y="2357280"/>
            <a:ext cx="403848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244440" y="262080"/>
            <a:ext cx="8524800" cy="1027080"/>
            <a:chOff x="244440" y="262080"/>
            <a:chExt cx="8524800" cy="1027080"/>
          </a:xfrm>
        </p:grpSpPr>
        <p:pic>
          <p:nvPicPr>
            <p:cNvPr id="265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62080"/>
              <a:ext cx="85248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244440" y="262080"/>
              <a:ext cx="85248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4"/>
          <p:cNvSpPr/>
          <p:nvPr/>
        </p:nvSpPr>
        <p:spPr>
          <a:xfrm>
            <a:off x="4572000" y="1285920"/>
            <a:ext cx="442908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е занятие — подсечно-огневое земледелие. Собака была единственным домашним животным. Охотились на моа .Большая часть современных маори занята  в сельском хозяйств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есла — ткачество, плетение, строительство лодок, резьба по дерев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4786200" cy="29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3"/>
          <a:stretch/>
        </p:blipFill>
        <p:spPr>
          <a:xfrm>
            <a:off x="0" y="3571920"/>
            <a:ext cx="47862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-142920" y="714240"/>
            <a:ext cx="9501120" cy="63579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"/>
          <p:cNvGrpSpPr/>
          <p:nvPr/>
        </p:nvGrpSpPr>
        <p:grpSpPr>
          <a:xfrm>
            <a:off x="195120" y="-96840"/>
            <a:ext cx="8653680" cy="958680"/>
            <a:chOff x="195120" y="-96840"/>
            <a:chExt cx="8653680" cy="958680"/>
          </a:xfrm>
        </p:grpSpPr>
        <p:pic>
          <p:nvPicPr>
            <p:cNvPr id="272" name="Picture 3" descr=""/>
            <p:cNvPicPr/>
            <p:nvPr/>
          </p:nvPicPr>
          <p:blipFill>
            <a:blip r:embed="rId2"/>
            <a:stretch/>
          </p:blipFill>
          <p:spPr>
            <a:xfrm>
              <a:off x="195120" y="-96840"/>
              <a:ext cx="8653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4"/>
            <p:cNvSpPr/>
            <p:nvPr/>
          </p:nvSpPr>
          <p:spPr>
            <a:xfrm>
              <a:off x="195120" y="-96840"/>
              <a:ext cx="86536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"/>
          <p:cNvGrpSpPr/>
          <p:nvPr/>
        </p:nvGrpSpPr>
        <p:grpSpPr>
          <a:xfrm>
            <a:off x="450720" y="-152280"/>
            <a:ext cx="8385480" cy="3051000"/>
            <a:chOff x="450720" y="-152280"/>
            <a:chExt cx="8385480" cy="3051000"/>
          </a:xfrm>
        </p:grpSpPr>
        <p:pic>
          <p:nvPicPr>
            <p:cNvPr id="275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152280"/>
              <a:ext cx="83854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"/>
            <p:cNvSpPr/>
            <p:nvPr/>
          </p:nvSpPr>
          <p:spPr>
            <a:xfrm>
              <a:off x="450720" y="-152280"/>
              <a:ext cx="8385480" cy="30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2928960"/>
            <a:ext cx="4143240" cy="392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4365720" y="2928960"/>
            <a:ext cx="47782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"/>
          <p:cNvGrpSpPr/>
          <p:nvPr/>
        </p:nvGrpSpPr>
        <p:grpSpPr>
          <a:xfrm>
            <a:off x="450720" y="66600"/>
            <a:ext cx="8239320" cy="1636920"/>
            <a:chOff x="450720" y="66600"/>
            <a:chExt cx="8239320" cy="163692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3932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3"/>
            <p:cNvSpPr/>
            <p:nvPr/>
          </p:nvSpPr>
          <p:spPr>
            <a:xfrm>
              <a:off x="450720" y="66600"/>
              <a:ext cx="82393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840 жителей тихоокеанского атолла умерли от раковых и других заболева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юле 1946г.  США использовали атолл Бикини для двух испытаний атомной бомбы.  25 июля  там же был осуществлён подводный взрыв атомной установки. 1 марта 1945г. во время испытания водородной бомбы остров подвергся разрушению</a:t>
            </a:r>
            <a:r>
              <a:rPr b="0" lang="ru-RU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0" y="3500280"/>
            <a:ext cx="47862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"/>
          <p:cNvGrpSpPr/>
          <p:nvPr/>
        </p:nvGrpSpPr>
        <p:grpSpPr>
          <a:xfrm>
            <a:off x="195120" y="122400"/>
            <a:ext cx="8494920" cy="1544400"/>
            <a:chOff x="195120" y="122400"/>
            <a:chExt cx="8494920" cy="1544400"/>
          </a:xfrm>
        </p:grpSpPr>
        <p:pic>
          <p:nvPicPr>
            <p:cNvPr id="286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122400"/>
              <a:ext cx="8494920" cy="15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"/>
            <p:cNvSpPr/>
            <p:nvPr/>
          </p:nvSpPr>
          <p:spPr>
            <a:xfrm>
              <a:off x="195120" y="122400"/>
              <a:ext cx="8494920" cy="15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!!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10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"/>
          <p:cNvGrpSpPr/>
          <p:nvPr/>
        </p:nvGrpSpPr>
        <p:grpSpPr>
          <a:xfrm>
            <a:off x="285840" y="1714680"/>
            <a:ext cx="4211640" cy="4568760"/>
            <a:chOff x="285840" y="1714680"/>
            <a:chExt cx="4211640" cy="4568760"/>
          </a:xfrm>
        </p:grpSpPr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1714680"/>
              <a:ext cx="4211640" cy="45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"/>
            <p:cNvSpPr/>
            <p:nvPr/>
          </p:nvSpPr>
          <p:spPr>
            <a:xfrm>
              <a:off x="285840" y="1714680"/>
              <a:ext cx="4211640" cy="45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714920" y="1714680"/>
            <a:ext cx="3997440" cy="4497120"/>
            <a:chOff x="4714920" y="1714680"/>
            <a:chExt cx="3997440" cy="4497120"/>
          </a:xfrm>
        </p:grpSpPr>
        <p:pic>
          <p:nvPicPr>
            <p:cNvPr id="107" name="Picture 8" descr=""/>
            <p:cNvPicPr/>
            <p:nvPr/>
          </p:nvPicPr>
          <p:blipFill>
            <a:blip r:embed="rId3"/>
            <a:stretch/>
          </p:blipFill>
          <p:spPr>
            <a:xfrm>
              <a:off x="4714920" y="1714680"/>
              <a:ext cx="39974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9"/>
            <p:cNvSpPr/>
            <p:nvPr/>
          </p:nvSpPr>
          <p:spPr>
            <a:xfrm>
              <a:off x="4714920" y="1714680"/>
              <a:ext cx="399744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274680" y="262080"/>
            <a:ext cx="8415360" cy="1404720"/>
            <a:chOff x="274680" y="262080"/>
            <a:chExt cx="8415360" cy="1404720"/>
          </a:xfrm>
        </p:grpSpPr>
        <p:pic>
          <p:nvPicPr>
            <p:cNvPr id="110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262080"/>
              <a:ext cx="841536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3"/>
            <p:cNvSpPr/>
            <p:nvPr/>
          </p:nvSpPr>
          <p:spPr>
            <a:xfrm>
              <a:off x="274680" y="262080"/>
              <a:ext cx="841536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142920" y="1714680"/>
            <a:ext cx="4497480" cy="4782960"/>
            <a:chOff x="142920" y="1714680"/>
            <a:chExt cx="4497480" cy="4782960"/>
          </a:xfrm>
        </p:grpSpPr>
        <p:pic>
          <p:nvPicPr>
            <p:cNvPr id="113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1714680"/>
              <a:ext cx="4497480" cy="47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6"/>
            <p:cNvSpPr/>
            <p:nvPr/>
          </p:nvSpPr>
          <p:spPr>
            <a:xfrm>
              <a:off x="142920" y="1714680"/>
              <a:ext cx="4497480" cy="47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648320" y="1714680"/>
            <a:ext cx="4278240" cy="4854240"/>
            <a:chOff x="4648320" y="1714680"/>
            <a:chExt cx="4278240" cy="4854240"/>
          </a:xfrm>
        </p:grpSpPr>
        <p:pic>
          <p:nvPicPr>
            <p:cNvPr id="116" name="Picture 8" descr=""/>
            <p:cNvPicPr/>
            <p:nvPr/>
          </p:nvPicPr>
          <p:blipFill>
            <a:blip r:embed="rId3"/>
            <a:stretch/>
          </p:blipFill>
          <p:spPr>
            <a:xfrm>
              <a:off x="4648320" y="1714680"/>
              <a:ext cx="4278240" cy="48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4648320" y="1714680"/>
              <a:ext cx="4278240" cy="48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182520" y="128520"/>
            <a:ext cx="8507520" cy="1538280"/>
            <a:chOff x="182520" y="128520"/>
            <a:chExt cx="8507520" cy="153828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tretch/>
          </p:blipFill>
          <p:spPr>
            <a:xfrm>
              <a:off x="182520" y="128520"/>
              <a:ext cx="85075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182520" y="128520"/>
              <a:ext cx="8507520" cy="15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4"/>
          <p:cNvSpPr/>
          <p:nvPr/>
        </p:nvSpPr>
        <p:spPr>
          <a:xfrm>
            <a:off x="457200" y="235728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го по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ьеф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ческо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ого устройства Оке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открытия и исслед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стро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ая карта Оке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450720" y="66600"/>
            <a:ext cx="8239320" cy="1636920"/>
            <a:chOff x="450720" y="66600"/>
            <a:chExt cx="8239320" cy="1636920"/>
          </a:xfrm>
        </p:grpSpPr>
        <p:pic>
          <p:nvPicPr>
            <p:cNvPr id="12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3932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"/>
            <p:cNvSpPr/>
            <p:nvPr/>
          </p:nvSpPr>
          <p:spPr>
            <a:xfrm>
              <a:off x="450720" y="66600"/>
              <a:ext cx="82393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ext Box 4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ия- 7 тыс.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а  разбросаны от субтропических широт Северного до умеренных широт Южного полуша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площадь островов составляет около 2</a:t>
            </a:r>
            <a:r>
              <a:rPr b="0" lang="ru-RU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занимаемой океаном поверх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"/>
          <p:cNvGrpSpPr/>
          <p:nvPr/>
        </p:nvGrpSpPr>
        <p:grpSpPr>
          <a:xfrm>
            <a:off x="195120" y="212760"/>
            <a:ext cx="8494920" cy="1003320"/>
            <a:chOff x="195120" y="212760"/>
            <a:chExt cx="8494920" cy="100332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12760"/>
              <a:ext cx="849492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195120" y="212760"/>
              <a:ext cx="8494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4"/>
          <p:cNvSpPr/>
          <p:nvPr/>
        </p:nvSpPr>
        <p:spPr>
          <a:xfrm>
            <a:off x="357120" y="1071720"/>
            <a:ext cx="403884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и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1071720"/>
            <a:ext cx="44956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ломоновы ост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1714680"/>
            <a:ext cx="4714920" cy="514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4786200" y="1714680"/>
            <a:ext cx="43578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4:56:09Z</dcterms:created>
  <dc:creator>Алина</dc:creator>
  <dc:description/>
  <dc:language>en-US</dc:language>
  <cp:lastModifiedBy>Наташа</cp:lastModifiedBy>
  <dcterms:modified xsi:type="dcterms:W3CDTF">2012-12-09T16:41:02Z</dcterms:modified>
  <cp:revision>121</cp:revision>
  <dc:subject/>
  <dc:title>ОКЕАНИЯ</dc:title>
</cp:coreProperties>
</file>