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4.gif" ContentType="image/gif"/>
  <Override PartName="/ppt/media/image32.jpeg" ContentType="image/jpeg"/>
  <Override PartName="/ppt/media/image8.gif" ContentType="image/gif"/>
  <Override PartName="/ppt/media/image13.gif" ContentType="image/gif"/>
  <Override PartName="/ppt/media/image26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gif" ContentType="image/gif"/>
  <Override PartName="/ppt/media/image9.png" ContentType="image/png"/>
  <Override PartName="/ppt/media/image33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35.jpeg" ContentType="image/jpeg"/>
  <Override PartName="/ppt/media/image3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6.gif" ContentType="image/gif"/>
  <Override PartName="/ppt/media/image6.gif" ContentType="image/gif"/>
  <Override PartName="/ppt/media/image21.jpeg" ContentType="image/jpeg"/>
  <Override PartName="/ppt/media/image22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900-C360-4DD2-9D87-62D9D11F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7DA-5384-4E60-990E-E43DFCB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E25-88A8-494C-8954-3FF35A68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0D6-17DB-4522-BBB9-C4E9579C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03F2-9163-4B6C-A7DC-D3D9CE1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1F03-EC49-4978-BB85-653D5EA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FD5-3C12-47AC-9928-DA4CED7A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DF3F-643A-4C71-BC93-21AF198D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E138-4A78-4A51-A2B2-3F0BCEE9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291-2007-4374-926F-3FDBF2A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1C9-CD0C-492C-8641-A979620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368-9CD3-48AB-B3B0-83DB7F1F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CEE6-FEE7-4366-8550-B333F6F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5333-B5BF-4031-AD25-ECE02E9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0FF-C84E-406D-B857-B654432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7D08-A36F-4DC7-94DE-818BA62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B501-7EFA-4621-8BC8-13AA6018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288-D539-45CD-93FE-8182B6AE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C7F-4EFA-4C85-B43C-405F7CDE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620-6B8F-40DB-9639-1295ABCD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453-92E8-42D0-9721-25924D4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288-C7D8-4AE0-86B4-8F4ACF9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9CB-652D-4582-BDC2-E29E18E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156-D79C-4BA2-B776-E6FDA0E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60760" cy="5054040"/>
            <a:chOff x="3800520" y="1789200"/>
            <a:chExt cx="5360760" cy="5054040"/>
          </a:xfrm>
        </p:grpSpPr>
        <p:sp>
          <p:nvSpPr>
            <p:cNvPr id="1" name=""/>
            <p:cNvSpPr/>
            <p:nvPr/>
          </p:nvSpPr>
          <p:spPr>
            <a:xfrm>
              <a:off x="6718320" y="2166480"/>
              <a:ext cx="31320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812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69560" y="237312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16320" y="2436120"/>
              <a:ext cx="9720" cy="317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9320" y="24159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67320" y="288180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78320" y="2889720"/>
              <a:ext cx="9360" cy="3362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040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4080" y="4794840"/>
              <a:ext cx="990000" cy="24732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63960" y="5699160"/>
              <a:ext cx="15829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0212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30560" y="5699160"/>
              <a:ext cx="15163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7120" y="244584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7120" y="2682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120" y="2805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9320" y="1912680"/>
              <a:ext cx="162000" cy="24732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9040" y="2141280"/>
              <a:ext cx="133200" cy="151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9320" y="2274480"/>
              <a:ext cx="142920" cy="171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2272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0520" y="1789200"/>
              <a:ext cx="4137120" cy="70452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8400" y="5987880"/>
              <a:ext cx="133560" cy="15048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1560" y="614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1200"/>
              <a:ext cx="2193480" cy="6170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4720"/>
              <a:ext cx="2387160" cy="4568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6120"/>
              <a:ext cx="2264760" cy="34884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4680" y="6011640"/>
              <a:ext cx="142560" cy="1519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3360" y="5718240"/>
              <a:ext cx="114120" cy="17100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0920" y="2813760"/>
              <a:ext cx="274680" cy="40294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1084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0248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9280" y="2426760"/>
              <a:ext cx="400680" cy="25009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1480" y="2255400"/>
              <a:ext cx="503640" cy="218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57985B-DE52-4F1E-B3A8-0CD5B2169015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60760" cy="5054040"/>
            <a:chOff x="3800520" y="1789200"/>
            <a:chExt cx="5360760" cy="5054040"/>
          </a:xfrm>
        </p:grpSpPr>
        <p:sp>
          <p:nvSpPr>
            <p:cNvPr id="77" name=""/>
            <p:cNvSpPr/>
            <p:nvPr/>
          </p:nvSpPr>
          <p:spPr>
            <a:xfrm>
              <a:off x="6718320" y="2166480"/>
              <a:ext cx="31320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812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20000">
              <a:off x="8269560" y="237312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0000">
              <a:off x="8716320" y="2436120"/>
              <a:ext cx="9720" cy="317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59320" y="24159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60000">
              <a:off x="5467320" y="288180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40000">
              <a:off x="4378320" y="2889720"/>
              <a:ext cx="9360" cy="3362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2040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4080" y="4794840"/>
              <a:ext cx="990000" cy="24732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63960" y="5699160"/>
              <a:ext cx="15829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212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0560" y="5699160"/>
              <a:ext cx="15163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7120" y="244584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7120" y="2682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7120" y="2805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9320" y="1912680"/>
              <a:ext cx="162000" cy="24732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9040" y="2141280"/>
              <a:ext cx="133200" cy="151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9320" y="2274480"/>
              <a:ext cx="142920" cy="171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272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90520" y="1789200"/>
              <a:ext cx="4137120" cy="70452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8400" y="5987880"/>
              <a:ext cx="133560" cy="15048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560" y="614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1200"/>
              <a:ext cx="2193480" cy="6170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4720"/>
              <a:ext cx="2387160" cy="4568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6120"/>
              <a:ext cx="2264760" cy="34884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4680" y="6011640"/>
              <a:ext cx="142560" cy="1519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3360" y="5718240"/>
              <a:ext cx="114120" cy="17100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0920" y="2813760"/>
              <a:ext cx="274680" cy="40294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084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248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9280" y="2426760"/>
              <a:ext cx="400680" cy="25009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1480" y="2255400"/>
              <a:ext cx="503640" cy="218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CDB24A-7EC8-421A-B8CC-A4A7AC61BE9E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424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АВА ЧЕЛОВЕ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ОБЩЕСТВ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бенок имеет пра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на защиту от всех форм дискриминации и наказ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343400" cy="406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тья 7. Ребенок имеет пра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12193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и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74320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граждан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аво знать своих род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62120" y="456840"/>
            <a:ext cx="10972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на  любовь  и  забот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1981080"/>
            <a:ext cx="4038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бить  своих  детей  и заботиться о  соблюдении  прав  ребенка  прежде  всего  обязаны  род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498920" cy="4678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606760" cy="321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тья 7. Каждый ребенок имеет прав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6188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тья 9. </a:t>
            </a:r>
            <a:br>
              <a:rPr sz="36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ждый ребенок имеет право</a:t>
            </a: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не разлучаться со своими родителям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3652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53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тья 13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бенок имеет право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вободно выражать свое м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5146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аво включает свободу искать, получать и передавать информацию и идеи любого рода, в устной, письменной или печат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572000" cy="373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95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52280"/>
            <a:ext cx="769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татья 16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аждый ребенок имеет пра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2193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на личную жиз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26668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на неприкосновенность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80060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на тайну корреспонде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7512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8501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17. Ребенок имеет прав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295280"/>
            <a:ext cx="46479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доступ к информации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материалам из различных национальных и международных источ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291120" cy="3521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457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27. Ребенок имеет право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1447920"/>
            <a:ext cx="5181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Уровень жизни,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обходимый для полноценного физического умственного, духовного,  нравственного и социального разви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09680" y="433440"/>
            <a:ext cx="75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 28. Ребенок имеет право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1752480"/>
            <a:ext cx="510516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Бесплатное , обязательное начальное образование,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авленное на развитие личности, талантов , умственных способностей, воспитание уважения к правам человека и основным свободам, воспитание уважения к родителям, национальной куль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375000" cy="429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02920" y="22860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31. Ребенок имеет право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1066680"/>
            <a:ext cx="48769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Отдых и досуг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частвовать в играх и развлекательных мероприятиях, соответствующих его возрасту, свободно участвовать в культурной жизни и заниматься искус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096920"/>
            <a:ext cx="82234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6640" indent="0"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и 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 довести  до  сознания  детей  мысли  о  том,  что  каждый  человек  от  рождения  наделен  личными  неотъемлемыми  правам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 обобщить  знания  детей  о  личных  правах  челове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е прав ребе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486400" cy="3354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555720" cy="401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2900160" cy="1941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61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ыберите  из  следующих  мыслей  те,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которые  соответствуют  духу  прав  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человек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-  Свобода  есть  возможность  делать  все,  что   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      мне  хочется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Свобода  есть  право  делать  все,  что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позволено   законом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- Свобода  есть  независимость  от  норм,  </a:t>
            </a:r>
            <a:br>
              <a:rPr sz="2400"/>
            </a:b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  установленных   людьми.</a:t>
            </a:r>
            <a:br>
              <a:rPr sz="2400"/>
            </a:b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-  Свобода  есть  независимость  от  заветов  бог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 Свобода  одного  человека  ограничена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пределами   свободы  других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8600"/>
            <a:ext cx="838512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ыберите  из  следующих  мыслей  те,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которые  соответствуют  духу  прав  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человек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Свобода  есть  право  делать  все,  что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позволено   закон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 Свобода  одного  человека  ограничена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пределами   свободы  други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22860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-» - черты, которые могут способствовать превращению человека в преступн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+» - исключают такую возмож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0» - нейтр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590920"/>
            <a:ext cx="3505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Н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остои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514600"/>
            <a:ext cx="5486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Комплекс неполно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вистл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Чувств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исциплиниров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образ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22860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-» - черты, которые могут способствовать превращению человека в преступн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+» - исключают такую возмож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0» - нейтр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590920"/>
            <a:ext cx="3505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Милосер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Жесто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Н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Т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остои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514600"/>
            <a:ext cx="5943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Комплекс неполно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Завистл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Чувств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исциплиниров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Сообраз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9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Arial"/>
              </a:rPr>
              <a:t>Сказка ложь, да в ней намек…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046400" cy="2377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33960" y="762120"/>
            <a:ext cx="1981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чку с сыном посади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смолили, покати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устили в Окиян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велел де царь Салтан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А.С.Пушкин. «Сказка о царе Салта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170320"/>
            <a:ext cx="792504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Главное право каждого человека – право на жизнь, и маленький человек – ребенок – тоже имеет право 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-5707080"/>
            <a:ext cx="144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553440" cy="412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-121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ая народная сказка «Царевна – лягушк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5181480"/>
            <a:ext cx="769608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, как и любой другой человек, имеет право на собственную личную жизнь, на свою тай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-5686560"/>
            <a:ext cx="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05080" cy="4781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-1203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00400" y="210960"/>
            <a:ext cx="54864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.С.Пушкин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Сказка о мертвой царевне»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2860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сть царевну в глушь лесну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, связав ее живу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сосной оставить та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ъедение вол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4876920"/>
            <a:ext cx="4648320" cy="1739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Никто и никогда не смеет оскорблять и мучить реб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-10806120"/>
            <a:ext cx="144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-3805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4640" y="277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.Х.Андерсен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«Голый король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057400"/>
            <a:ext cx="2895840" cy="3506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Каждый ребенок имеет право на свое собственное м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4960" y="-6380280"/>
            <a:ext cx="208584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27688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-5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7c80"/>
                </a:solidFill>
                <a:latin typeface="Times New Roman"/>
              </a:rPr>
              <a:t>правовые  требования,</a:t>
            </a:r>
            <a:br>
              <a:rPr sz="5400"/>
            </a:br>
            <a:r>
              <a:rPr b="1" lang="ru-RU" sz="5400" spc="-1" strike="noStrike">
                <a:solidFill>
                  <a:srgbClr val="ff7c80"/>
                </a:solidFill>
                <a:latin typeface="Times New Roman"/>
              </a:rPr>
              <a:t>преступл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3352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 современном  обществе  каждый  человек  имеет  равные  пра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60199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.Михалков «Три поросенк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91440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йчас же отопри дверь, - прорычал Волк, - а не то я ее вылома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ом поросенка – это его крепость, - сказал Наф – Наф своим братьям, и они приготовились защищ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257800"/>
            <a:ext cx="761976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 имеет право спокойно жить в своем доме и чувствовать себя хозяином , как папа и м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19160" y="333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4772160" cy="4157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867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Льюис Кэролл «Алиса в стране чудес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676520"/>
            <a:ext cx="3352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бите ей голову! – крикнула Королева. – Пусть выносят приговор, а виновата она или нет – потом разберем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5334120"/>
            <a:ext cx="784872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Никого нельзя наказывать без су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-5286240"/>
            <a:ext cx="14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009960" cy="4038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-100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.Х.Андерсен «Гадкий утенок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124080"/>
            <a:ext cx="3657600" cy="1739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Ребенок не обязан быть «как вс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-85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4038480"/>
            <a:ext cx="7238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ого чудесных подарков получила новорожденная принцесса, и вдруг во Дворце появилась злая Ведь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Вы не пригласили меня на крестины? – сказала она Королю и Королеве. – Так я пришла сама, и вот мой подарок: когда принцессе исполнится 16 лет, она уколется веретеном и умр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5638680"/>
            <a:ext cx="7391160" cy="947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 не отвечает за провинность родителей, чтобы они не соверш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-2562120"/>
            <a:ext cx="14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819760" cy="3143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38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3886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Ш.Перро «Спящая красавиц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ждый ребенок имеет право на счасть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481560" cy="4038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3017880" cy="314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442800"/>
            <a:ext cx="4156200" cy="19605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d6c4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амые главные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ав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еречислены 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152880"/>
            <a:ext cx="7715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99ff"/>
                </a:solidFill>
                <a:latin typeface="Tahoma"/>
              </a:rPr>
              <a:t>КОНСТИТУЦИ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99ff"/>
                </a:solidFill>
                <a:latin typeface="Tahoma"/>
              </a:rPr>
              <a:t>РОССИ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372960"/>
            <a:ext cx="3384720" cy="2683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7394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,  защищающие  личность  человек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23619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0" algn="ctr"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ПРАВ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6640" indent="0" algn="ctr"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на жиз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3341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икто  не  может  отнять  у  человека  жизн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7c80"/>
                </a:solidFill>
                <a:latin typeface="Tahoma"/>
              </a:rPr>
              <a:t>Право  на  свободу  и  личную  неприкосновеннос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200400"/>
            <a:ext cx="373356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Никто  не  может  схватить  другого  человека  и  держать  его  взапер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572000" cy="3303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7c80"/>
                </a:solidFill>
                <a:latin typeface="Tahoma"/>
              </a:rPr>
              <a:t>Право  на  защиту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7c80"/>
                </a:solidFill>
                <a:latin typeface="Tahoma"/>
              </a:rPr>
              <a:t>чести  и  достоинст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36232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Защищает  нас  от  клеветы,  несправедливости,  напрасных  обвинений,  оскорбл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79920" cy="4084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1125360"/>
            <a:ext cx="8424720" cy="251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66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а  ребенка</a:t>
            </a:r>
            <a:endParaRPr b="1" i="1" lang="en-US" sz="1800" spc="1" strike="noStrike">
              <a:ln w="9360">
                <a:solidFill>
                  <a:srgbClr val="66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414972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Каждый  ребенок  на  Земле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-  это  достояние  всего  человеч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0920" y="4869000"/>
            <a:ext cx="18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920"/>
            <a:ext cx="886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Ребенком  является  каждое  человеческое  су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до  достижения  18-летнего 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7800" y="3429000"/>
            <a:ext cx="2411640" cy="291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895480" y="2971800"/>
            <a:ext cx="2895840" cy="297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743200" cy="3098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abinet46</cp:lastModifiedBy>
  <dcterms:modified xsi:type="dcterms:W3CDTF">2010-12-10T08:44:47Z</dcterms:modified>
  <cp:revision>2</cp:revision>
  <dc:subject/>
  <dc:title>         ТЕМА : Литературное развитие в процессе обучения анализу художественного произведения.</dc:title>
</cp:coreProperties>
</file>