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4.gif" ContentType="image/gif"/>
  <Override PartName="/ppt/media/image32.jpeg" ContentType="image/jpeg"/>
  <Override PartName="/ppt/media/image8.gif" ContentType="image/gif"/>
  <Override PartName="/ppt/media/image13.gif" ContentType="image/gif"/>
  <Override PartName="/ppt/media/image26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gif" ContentType="image/gif"/>
  <Override PartName="/ppt/media/image9.png" ContentType="image/png"/>
  <Override PartName="/ppt/media/image33.jpeg" ContentType="image/jpeg"/>
  <Override PartName="/ppt/media/image34.jpeg" ContentType="image/jpeg"/>
  <Override PartName="/ppt/media/image15.gif" ContentType="image/gif"/>
  <Override PartName="/ppt/media/image28.jpeg" ContentType="image/jpeg"/>
  <Override PartName="/ppt/media/image35.jpeg" ContentType="image/jpeg"/>
  <Override PartName="/ppt/media/image3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6.gif" ContentType="image/gif"/>
  <Override PartName="/ppt/media/image6.gif" ContentType="image/gif"/>
  <Override PartName="/ppt/media/image21.jpeg" ContentType="image/jpeg"/>
  <Override PartName="/ppt/media/image22.png" ContentType="image/png"/>
  <Override PartName="/ppt/media/image18.gif" ContentType="image/gif"/>
  <Override PartName="/ppt/media/image20.gif" ContentType="image/gif"/>
  <Override PartName="/ppt/media/image23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EA5-12FA-481D-A204-525011B5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FED-41A8-4DA3-8ED9-F9136FF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7DD-0A74-445F-9B5B-605F25CE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19B-722C-444B-995D-3F137383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3DD-252D-4D5C-A78D-C669292D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554-6889-419B-9830-073E51B0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C4D9-DF2B-492B-B424-407763F8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429-6537-4313-B0BE-B3552795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56B6-034A-487D-B59E-965C5339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1EA-3B57-4A1B-BF32-19A16C9F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12F8-7462-43F0-804F-90BD00D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445-182D-4CC7-ADD5-9F99D56F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19A-16CE-41D0-B3C5-958D38E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55F3-074D-4A90-9DC1-43232894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4FD1-819D-41ED-835E-2BF6037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89D-CA06-4409-B823-30909A1A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5F3B-7587-456F-BDF3-4A9659AD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488-5FA0-4B09-9174-AA050CC2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68C-1C30-4E6E-9054-653F86B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548-4BFD-4E9B-8B5C-58548FA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31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6615-5F03-4038-9696-AE4D9210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CC9-D908-430D-A9F6-FBF3EB82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7D7-973A-4B8E-8305-481E5390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8CB-BCD8-4421-9A4F-D9225FF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60760" cy="5054040"/>
            <a:chOff x="3800520" y="1789200"/>
            <a:chExt cx="5360760" cy="5054040"/>
          </a:xfrm>
        </p:grpSpPr>
        <p:sp>
          <p:nvSpPr>
            <p:cNvPr id="1" name=""/>
            <p:cNvSpPr/>
            <p:nvPr/>
          </p:nvSpPr>
          <p:spPr>
            <a:xfrm>
              <a:off x="6718320" y="2166480"/>
              <a:ext cx="31320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812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69560" y="237312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16320" y="2436120"/>
              <a:ext cx="9720" cy="317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9320" y="24159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67320" y="288180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78320" y="2889720"/>
              <a:ext cx="9360" cy="3362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040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4080" y="4794840"/>
              <a:ext cx="990000" cy="24732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63960" y="5699160"/>
              <a:ext cx="15829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0212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30560" y="5699160"/>
              <a:ext cx="15163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7120" y="244584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7120" y="2682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120" y="2805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9320" y="1912680"/>
              <a:ext cx="162000" cy="24732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9040" y="2141280"/>
              <a:ext cx="133200" cy="151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9320" y="2274480"/>
              <a:ext cx="142920" cy="171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2272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0520" y="1789200"/>
              <a:ext cx="4137120" cy="70452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8400" y="5987880"/>
              <a:ext cx="133560" cy="15048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1560" y="614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1200"/>
              <a:ext cx="2193480" cy="6170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4720"/>
              <a:ext cx="2387160" cy="4568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6120"/>
              <a:ext cx="2264760" cy="34884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4680" y="6011640"/>
              <a:ext cx="142560" cy="1519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3360" y="5718240"/>
              <a:ext cx="114120" cy="17100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0920" y="2813760"/>
              <a:ext cx="274680" cy="40294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1084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0248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9280" y="2426760"/>
              <a:ext cx="400680" cy="25009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1480" y="2255400"/>
              <a:ext cx="503640" cy="218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70D157-6215-46CE-AB1A-5A165C1DEF76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60760" cy="5054040"/>
            <a:chOff x="3800520" y="1789200"/>
            <a:chExt cx="5360760" cy="5054040"/>
          </a:xfrm>
        </p:grpSpPr>
        <p:sp>
          <p:nvSpPr>
            <p:cNvPr id="77" name=""/>
            <p:cNvSpPr/>
            <p:nvPr/>
          </p:nvSpPr>
          <p:spPr>
            <a:xfrm>
              <a:off x="6718320" y="2166480"/>
              <a:ext cx="313200" cy="1616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8120" y="1881000"/>
              <a:ext cx="74880" cy="7416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20000">
              <a:off x="8269560" y="2373120"/>
              <a:ext cx="9360" cy="32893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7480" y="5567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20000">
              <a:off x="8716320" y="2436120"/>
              <a:ext cx="9720" cy="317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40000">
              <a:off x="8959320" y="2415960"/>
              <a:ext cx="9360" cy="1397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60000">
              <a:off x="5467320" y="288180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40000">
              <a:off x="4378320" y="2889720"/>
              <a:ext cx="9360" cy="3362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0000">
              <a:off x="4820400" y="2967480"/>
              <a:ext cx="9360" cy="30247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4080" y="4794840"/>
              <a:ext cx="990000" cy="24732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63960" y="5699160"/>
              <a:ext cx="15829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02120" y="5784840"/>
              <a:ext cx="15447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30560" y="5699160"/>
              <a:ext cx="15163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7120" y="244584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7120" y="26823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7120" y="2805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9320" y="1912680"/>
              <a:ext cx="162000" cy="24732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9040" y="2141280"/>
              <a:ext cx="133200" cy="15192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9320" y="2274480"/>
              <a:ext cx="142920" cy="17100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2720" y="55944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90520" y="1789200"/>
              <a:ext cx="4137120" cy="70452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8400" y="5987880"/>
              <a:ext cx="133560" cy="15048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01560" y="614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4840"/>
              <a:ext cx="114480" cy="14256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1200"/>
              <a:ext cx="2193480" cy="6170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4720"/>
              <a:ext cx="2387160" cy="45684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6120"/>
              <a:ext cx="2264760" cy="348840"/>
            </a:xfrm>
            <a:prstGeom prst="ellipse">
              <a:avLst/>
            </a:prstGeom>
            <a:gradFill rotWithShape="0">
              <a:gsLst>
                <a:gs pos="0">
                  <a:srgbClr val="812d2d"/>
                </a:gs>
                <a:gs pos="100000">
                  <a:srgbClr val="66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4680" y="6011640"/>
              <a:ext cx="142560" cy="15192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13360" y="5718240"/>
              <a:ext cx="114120" cy="17100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0920" y="2813760"/>
              <a:ext cx="274680" cy="40294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10840" y="2452320"/>
              <a:ext cx="120600" cy="38052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2480" y="2766600"/>
              <a:ext cx="325800" cy="82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9280" y="2426760"/>
              <a:ext cx="400680" cy="250092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1480" y="2255400"/>
              <a:ext cx="503640" cy="21888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1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7200" y="627840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3720" y="62784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FF3543-BFF4-4889-8F48-8CCDF921F563}" type="slidenum">
              <a:rPr b="0" lang="ru-RU" sz="12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424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ПРАВА ЧЕЛОВЕ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В ОБЩЕСТВ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2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бенок имеет пра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на защиту от всех форм дискриминации и наказ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4343400" cy="406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тья 7. Ребенок имеет пра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12193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и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74320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граждан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право знать своих родител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572000" cy="2914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62120" y="456840"/>
            <a:ext cx="10972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на  любовь  и  забот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1981080"/>
            <a:ext cx="4038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Любить  своих  детей  и заботиться о  соблюдении  прав  ребенка  прежде  всего  обязаны  родит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498920" cy="4678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2606760" cy="321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атья 7. Каждый ребенок имеет прав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6188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тья 9. </a:t>
            </a:r>
            <a:br>
              <a:rPr sz="36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ждый ребенок имеет право</a:t>
            </a: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ff99"/>
                </a:solidFill>
                <a:latin typeface="Arial"/>
              </a:rPr>
              <a:t>не разлучаться со своими родителям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200400" y="3733920"/>
            <a:ext cx="23652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153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Статья 13.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бенок имеет право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свободно выражать свое мн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514600"/>
            <a:ext cx="3809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аво включает свободу искать, получать и передавать информацию и идеи любого рода, в устной, письменной или печат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572000" cy="3737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95480" y="495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52280"/>
            <a:ext cx="769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татья 16.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аждый ребенок имеет прав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2193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99"/>
                </a:solidFill>
                <a:latin typeface="Tahoma"/>
              </a:rPr>
              <a:t>на личную жиз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2666880"/>
            <a:ext cx="464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на неприкосновенность жилищ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800600"/>
            <a:ext cx="42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на тайну корреспонден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7512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8501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17. Ребенок имеет прав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295280"/>
            <a:ext cx="46479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на доступ к информации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материалам из различных национальных и международных источ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291120" cy="3521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457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27. Ребенок имеет право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1447920"/>
            <a:ext cx="51818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Уровень жизни,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обходимый для полноценного физического умственного, духовного,  нравственного и социального разви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09680" y="433440"/>
            <a:ext cx="75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 28. Ребенок имеет право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1752480"/>
            <a:ext cx="5105160" cy="51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Tahoma"/>
              </a:rPr>
              <a:t>Бесплатное , обязательное начальное образование,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авленное на развитие личности, талантов , умственных способностей, воспитание уважения к правам человека и основным свободам, воспитание уважения к родителям, национальной куль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375000" cy="4294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02920" y="228600"/>
            <a:ext cx="77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31. Ребенок имеет право 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1066680"/>
            <a:ext cx="48769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Tahoma"/>
              </a:rPr>
              <a:t>Отдых и досуг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о участвовать в играх и развлекательных мероприятиях, соответствующих его возрасту, свободно участвовать в культурной жизни и заниматься искус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096920"/>
            <a:ext cx="822348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6640" indent="0"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89504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Цели  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 довести  до  сознания  детей  мысли  о  том,  что  каждый  человек  от  рождения  наделен  личными  неотъемлемыми  правам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 обобщить  знания  детей  о  личных  правах  человека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е прав ребен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486400" cy="3354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3555720" cy="401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362320" y="4648320"/>
            <a:ext cx="2900160" cy="1941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61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ыберите  из  следующих  мыслей  те,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которые  соответствуют  духу  прав  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человек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-  Свобода  есть  возможность  делать  все,  что   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      мне  хочется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Свобода  есть  право  делать  все,  что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позволено   законом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- Свобода  есть  независимость  от  норм,  </a:t>
            </a:r>
            <a:br>
              <a:rPr sz="2400"/>
            </a:b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    установленных   людьми.</a:t>
            </a:r>
            <a:br>
              <a:rPr sz="2400"/>
            </a:br>
            <a:r>
              <a:rPr b="0" lang="ru-RU" sz="2400" spc="-1" strike="noStrike">
                <a:solidFill>
                  <a:srgbClr val="ff7c8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-  Свобода  есть  независимость  от  заветов  бога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 Свобода  одного  человека  ограничена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пределами   свободы  других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228600"/>
            <a:ext cx="838512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Выберите  из  следующих  мыслей  те,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которые  соответствуют  духу  прав   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  человека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Свобода  есть  право  делать  все,  что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 позволено   закон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-  Свобода  одного  человека  ограничена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    пределами   свободы  других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22860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-» - черты, которые могут способствовать превращению человека в преступн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+» - исключают такую возмож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0» - нейтр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590920"/>
            <a:ext cx="3505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Милосер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Жесто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Н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Т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остои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514600"/>
            <a:ext cx="5486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Комплекс неполно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Завистл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Чувств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Дисциплиниров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Сообраз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228600"/>
            <a:ext cx="7162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-» - черты, которые могут способствовать превращению человека в преступни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+» - исключают такую возможнос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0» - нейтр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590920"/>
            <a:ext cx="3505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Вер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Милосер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Жесто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Неж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Т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остои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2514600"/>
            <a:ext cx="5943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Комплекс неполноц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- Завистлив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Чувств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+ Дисциплинирован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0 Сообрази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9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Arial"/>
              </a:rPr>
              <a:t>Сказка ложь, да в ней намек…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4046400" cy="2377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933960" y="762120"/>
            <a:ext cx="1981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бочку с сыном посади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смолили, покатили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устили в Окиян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велел де царь Салтан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А.С.Пушкин. «Сказка о царе Салта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170320"/>
            <a:ext cx="792504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ahoma"/>
              </a:rPr>
              <a:t>Главное право каждого человека – право на жизнь, и маленький человек – ребенок – тоже имеет право ж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-5707080"/>
            <a:ext cx="144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6553440" cy="412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0" y="-1216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Русская народная сказка «Царевна – лягушк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5181480"/>
            <a:ext cx="769608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, как и любой другой человек, имеет право на собственную личную жизнь, на свою тай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-5686560"/>
            <a:ext cx="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105080" cy="4781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-1203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00400" y="210960"/>
            <a:ext cx="5486400" cy="8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.С.Пушкин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Сказка о мертвой царевне»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286000"/>
            <a:ext cx="457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сть царевну в глушь лесную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, связав ее живу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 сосной оставить там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ъедение вол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4876920"/>
            <a:ext cx="4648320" cy="1739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Никто и никогда не смеет оскорблять и мучить реб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-10806120"/>
            <a:ext cx="144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-3805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14640" y="277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.Х.Андерсен 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«Голый король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2057400"/>
            <a:ext cx="2895840" cy="3506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Каждый ребенок имеет право на свое собственное м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4960" y="-6380280"/>
            <a:ext cx="208584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5276880" cy="6248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-572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7c80"/>
                </a:solidFill>
                <a:latin typeface="Times New Roman"/>
              </a:rPr>
              <a:t>правовые  требования,</a:t>
            </a:r>
            <a:br>
              <a:rPr sz="5400"/>
            </a:br>
            <a:r>
              <a:rPr b="1" lang="ru-RU" sz="5400" spc="-1" strike="noStrike">
                <a:solidFill>
                  <a:srgbClr val="ff7c80"/>
                </a:solidFill>
                <a:latin typeface="Times New Roman"/>
              </a:rPr>
              <a:t>преступл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53352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  современном  обществе  каждый  человек  имеет  равные  пра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60199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С.Михалков «Три поросенк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91440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йчас же отопри дверь, - прорычал Волк, - а не то я ее выломаю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Дом поросенка – это его крепость, - сказал Наф – Наф своим братьям, и они приготовились защищать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5257800"/>
            <a:ext cx="7619760" cy="13737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 имеет право спокойно жить в своем доме и чувствовать себя хозяином , как папа и ма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19160" y="3333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4772160" cy="4157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8672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Льюис Кэролл «Алиса в стране чудес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676520"/>
            <a:ext cx="3352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бите ей голову! – крикнула Королева. – Пусть выносят приговор, а виновата она или нет – потом разберемся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5334120"/>
            <a:ext cx="784872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Никого нельзя наказывать без су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-5286240"/>
            <a:ext cx="144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3009960" cy="40384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0" y="-1000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Г.Х.Андерсен «Гадкий утенок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124080"/>
            <a:ext cx="3657600" cy="1739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Ребенок не обязан быть «как вс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-85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90720" y="4038480"/>
            <a:ext cx="72388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ного чудесных подарков получила новорожденная принцесса, и вдруг во Дворце появилась злая Ведь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Вы не пригласили меня на крестины? – сказала она Королю и Королеве. – Так я пришла сама, и вот мой подарок: когда принцессе исполнится 16 лет, она уколется веретеном и умрет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5638680"/>
            <a:ext cx="7391160" cy="9471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ahoma"/>
              </a:rPr>
              <a:t>Ребенок не отвечает за провинность родителей, чтобы они не соверши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-2562120"/>
            <a:ext cx="14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819760" cy="3143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38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38862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Ш.Перро «Спящая красавица»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ждый ребенок имеет право на счасть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481560" cy="4038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3017880" cy="314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9680" y="442800"/>
            <a:ext cx="4156200" cy="196056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fd6c4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амые главные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ав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еречислены в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3152880"/>
            <a:ext cx="7715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99ff"/>
                </a:solidFill>
                <a:latin typeface="Tahoma"/>
              </a:rPr>
              <a:t>КОНСТИТУЦИ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c99ff"/>
                </a:solidFill>
                <a:latin typeface="Tahoma"/>
              </a:rPr>
              <a:t>РОССИ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64000" y="372960"/>
            <a:ext cx="3384720" cy="26830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7394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а,  защищающие  личность  человек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28840" y="2361960"/>
            <a:ext cx="3886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6640" indent="0" algn="ctr"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ПРАВО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296640" indent="0" algn="ctr"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  </a:t>
            </a:r>
            <a:r>
              <a:rPr b="0" lang="ru-RU" sz="6000" spc="-1" strike="noStrike">
                <a:solidFill>
                  <a:srgbClr val="ff7c80"/>
                </a:solidFill>
                <a:latin typeface="Tahoma"/>
              </a:rPr>
              <a:t>на жизнь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3341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икто  не  может  отнять  у  человека  жизн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216072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26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7c80"/>
                </a:solidFill>
                <a:latin typeface="Tahoma"/>
              </a:rPr>
              <a:t>Право  на  свободу  и  личную  неприкосновенност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200400"/>
            <a:ext cx="373356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Никто  не  может  схватить  другого  человека  и  держать  его  взапер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572000" cy="33033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7c80"/>
                </a:solidFill>
                <a:latin typeface="Tahoma"/>
              </a:rPr>
              <a:t>Право  на  защиту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7c80"/>
                </a:solidFill>
                <a:latin typeface="Tahoma"/>
              </a:rPr>
              <a:t>чести  и  достоинст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36232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Защищает  нас  от  клеветы,  несправедливости,  напрасных  обвинений,  оскорбл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679920" cy="4084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1125360"/>
            <a:ext cx="8424720" cy="251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660000"/>
                  </a:solidFill>
                  <a:miter/>
                </a:ln>
                <a:solidFill>
                  <a:srgbClr val="ff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а  ребенка</a:t>
            </a:r>
            <a:endParaRPr b="1" i="1" lang="en-US" sz="1800" spc="1" strike="noStrike">
              <a:ln w="9360">
                <a:solidFill>
                  <a:srgbClr val="660000"/>
                </a:solidFill>
                <a:miter/>
              </a:ln>
              <a:solidFill>
                <a:srgbClr val="ff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4149720"/>
            <a:ext cx="770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Каждый  ребенок  на  Земле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-  это  достояние  всего  человече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308720" y="4797360"/>
            <a:ext cx="1657440" cy="1657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50920" y="4869000"/>
            <a:ext cx="18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04920"/>
            <a:ext cx="886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атья  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Ребенком  является  каждое  человеческое  суще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99"/>
                </a:solidFill>
                <a:latin typeface="Tahoma"/>
              </a:rPr>
              <a:t>до  достижения  18-летнего 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7800" y="3429000"/>
            <a:ext cx="2411640" cy="291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895480" y="2971800"/>
            <a:ext cx="2895840" cy="2971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019920" y="3429000"/>
            <a:ext cx="2743200" cy="3098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kabinet46</cp:lastModifiedBy>
  <dcterms:modified xsi:type="dcterms:W3CDTF">2010-12-10T08:44:47Z</dcterms:modified>
  <cp:revision>2</cp:revision>
  <dc:subject/>
  <dc:title>         ТЕМА : Литературное развитие в процессе обучения анализу художественного произведения.</dc:title>
</cp:coreProperties>
</file>