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966B-B134-4388-ADF4-059033A8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4B25-254E-48A5-9C62-C6E24612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0A16-AAF5-4BE3-966C-6F35A7B0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6303-1840-4920-8DC0-5A9892D5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F958-51DA-4E1D-A1FA-4B7DCCB1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B6BD-6BBB-45B4-93B8-DE6A030B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4364-47E7-445A-BB3F-8E1D184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9D15-E669-4BE6-BD13-0E0DE76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C8A6-5992-468E-B3B4-1314D79C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5B52-18F0-4E64-B3C3-073F2DA4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64EE-AF9B-4D35-9EEB-232F17B2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97EA-3EB7-41CD-A716-2F311FCA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7B71-5612-46D0-8E86-E429149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7FEE-B1C7-4655-BFF3-DED5A77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4F44-3B63-493D-9FB2-0F8D9413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6A8-A89D-4F1B-B6C9-2F5C063C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68120"/>
            <a:ext cx="264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DF85-4851-4B4D-9F17-7F331F45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C26C-BA00-4208-9FDE-F74B7C8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4A81-304E-40B4-873A-3C14C08C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9C58-9DC5-4D43-8B93-C935F392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76960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9383-DC76-4D4D-8D51-13FFBBF1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A4F7-9BBA-43E4-A60B-E7E0ACA5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681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5944-ED98-482C-ADBD-9B947A7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7224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68120"/>
            <a:ext cx="822960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4493-1B1F-4451-86FA-CF4A1FE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958320" y="6433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195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31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b3191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96920" y="6434280"/>
            <a:ext cx="21333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625-F0C4-4813-89DD-EE6334ED1F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52280" y="838080"/>
            <a:ext cx="8153640" cy="76320"/>
            <a:chOff x="152280" y="838080"/>
            <a:chExt cx="8153640" cy="76320"/>
          </a:xfrm>
        </p:grpSpPr>
        <p:sp>
          <p:nvSpPr>
            <p:cNvPr id="5" name=""/>
            <p:cNvSpPr/>
            <p:nvPr/>
          </p:nvSpPr>
          <p:spPr>
            <a:xfrm>
              <a:off x="152280" y="914400"/>
              <a:ext cx="815364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55800" y="838080"/>
              <a:ext cx="14976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664240" y="6430680"/>
            <a:ext cx="2286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499520" y="635796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057040"/>
            <a:ext cx="75438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57A-4D88-44CA-9DD5-5D53084E80D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867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97384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2971800"/>
            <a:ext cx="7010280" cy="76320"/>
            <a:chOff x="0" y="2971800"/>
            <a:chExt cx="7010280" cy="76320"/>
          </a:xfrm>
        </p:grpSpPr>
        <p:sp>
          <p:nvSpPr>
            <p:cNvPr id="52" name=""/>
            <p:cNvSpPr/>
            <p:nvPr/>
          </p:nvSpPr>
          <p:spPr>
            <a:xfrm>
              <a:off x="0" y="3048120"/>
              <a:ext cx="7010280" cy="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881400" y="2971800"/>
              <a:ext cx="128520" cy="76320"/>
            </a:xfrm>
            <a:prstGeom prst="line">
              <a:avLst/>
            </a:prstGeom>
            <a:ln w="9360">
              <a:solidFill>
                <a:srgbClr val="0b3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12470" r="0" b="28145"/>
          <a:stretch/>
        </p:blipFill>
        <p:spPr>
          <a:xfrm>
            <a:off x="250920" y="1700280"/>
            <a:ext cx="3529080" cy="194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16000" y="979560"/>
            <a:ext cx="669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Министерство образования и науки Республики Хак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ГОУ ДПО «Хакасский республиканский институт повыш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квалификации и переподготовки работников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72800" y="2766240"/>
            <a:ext cx="4618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оект профессиональн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9280" y="3841920"/>
            <a:ext cx="758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рганизация системы методической работы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условие профессионального роста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40640" y="5043960"/>
            <a:ext cx="6202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Корж Мария Михайловна, заместитель директора по УВ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МОУ «Устино-Копьевская средняя общеобразовательная школа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Times New Roman"/>
              </a:rPr>
              <a:t>Орджоникидзевс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Перспективы реализации проект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52640"/>
            <a:ext cx="5880240" cy="4929120"/>
          </a:xfrm>
          <a:prstGeom prst="rightArrow">
            <a:avLst>
              <a:gd name="adj1" fmla="val 79306"/>
              <a:gd name="adj2" fmla="val 29548"/>
            </a:avLst>
          </a:prstGeom>
          <a:gradFill rotWithShape="0">
            <a:gsLst>
              <a:gs pos="0">
                <a:srgbClr val="3195d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1557360"/>
            <a:ext cx="4038480" cy="1422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3c2f7"/>
              </a:gs>
              <a:gs pos="100000">
                <a:srgbClr val="91d3f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Увеличение доли педагогов, овладев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и применя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современные образов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2924280"/>
            <a:ext cx="4038480" cy="122400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Эффективно действующая сис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нутришкольного повы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квалификации руков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и педагогов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221000"/>
            <a:ext cx="4038480" cy="1584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173f1"/>
              </a:gs>
              <a:gs pos="100000">
                <a:srgbClr val="799cf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Будет создана  модель МС  школы, и установя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прочные и эффективные вертик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и горизонтальные связи не только меж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школьными структурами, сколь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между командами, работающими на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определенными проблемами.</a:t>
            </a:r>
            <a:r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2637000"/>
            <a:ext cx="2874960" cy="1223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ывод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1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Организация научно-методической работы является одним из важных направлений в нашей программе развития и призвана способствовать активизации деятельности педагогов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Ориентируясь на гуманизацию обучения, на формирование личности учащегося, признание ее ценности и необходимости для современного общества, мы прежде всего должны помнить, что она формируется личностью учителя. 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173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3191"/>
                </a:solidFill>
                <a:latin typeface="Times New Roman"/>
              </a:rPr>
              <a:t>Таким образом, необходимо создать все условия для роста профессионального мастерства педагогов. А для этого нужна действенная и эффективная система методической службы, проект развития которой предложении в данной работе.</a:t>
            </a:r>
            <a:endParaRPr b="1" lang="en-US" sz="2000" spc="-1" strike="noStrike">
              <a:solidFill>
                <a:srgbClr val="0b3191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547640" y="1773360"/>
            <a:ext cx="568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195d9"/>
                    </a:gs>
                    <a:gs pos="100000">
                      <a:srgbClr val="164464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195d9"/>
                  </a:gs>
                  <a:gs pos="100000">
                    <a:srgbClr val="164464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796284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xtBox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39640" y="620640"/>
            <a:ext cx="7993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3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600720" cy="279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"/>
          <p:cNvPicPr/>
          <p:nvPr/>
        </p:nvPicPr>
        <p:blipFill>
          <a:blip r:embed="rId3"/>
          <a:stretch/>
        </p:blipFill>
        <p:spPr>
          <a:xfrm>
            <a:off x="1763640" y="3357720"/>
            <a:ext cx="4086360" cy="30636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00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105" descr=""/>
          <p:cNvPicPr/>
          <p:nvPr/>
        </p:nvPicPr>
        <p:blipFill>
          <a:blip r:embed="rId4"/>
          <a:stretch/>
        </p:blipFill>
        <p:spPr>
          <a:xfrm>
            <a:off x="6012000" y="3213000"/>
            <a:ext cx="2842920" cy="364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6800" y="1268280"/>
            <a:ext cx="5415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Формировать способность дей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быть успешным в ситу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крытого динамично развивающего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временного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08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13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а современной школы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3"/>
          <p:cNvGrpSpPr/>
          <p:nvPr/>
        </p:nvGrpSpPr>
        <p:grpSpPr>
          <a:xfrm>
            <a:off x="971640" y="189000"/>
            <a:ext cx="6913080" cy="685800"/>
            <a:chOff x="971640" y="189000"/>
            <a:chExt cx="6913080" cy="685800"/>
          </a:xfrm>
        </p:grpSpPr>
        <p:sp>
          <p:nvSpPr>
            <p:cNvPr id="118" name="AutoShape 84"/>
            <p:cNvSpPr/>
            <p:nvPr/>
          </p:nvSpPr>
          <p:spPr>
            <a:xfrm>
              <a:off x="1528920" y="30816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85"/>
            <p:cNvSpPr/>
            <p:nvPr/>
          </p:nvSpPr>
          <p:spPr>
            <a:xfrm>
              <a:off x="971640" y="18900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6"/>
            <p:cNvSpPr/>
            <p:nvPr/>
          </p:nvSpPr>
          <p:spPr>
            <a:xfrm>
              <a:off x="1863360" y="36360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Актуальность 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выбранной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 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7"/>
            <p:cNvSpPr/>
            <p:nvPr/>
          </p:nvSpPr>
          <p:spPr>
            <a:xfrm>
              <a:off x="1361880" y="28764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83"/>
          <p:cNvGrpSpPr/>
          <p:nvPr/>
        </p:nvGrpSpPr>
        <p:grpSpPr>
          <a:xfrm>
            <a:off x="900000" y="3141720"/>
            <a:ext cx="6913440" cy="685800"/>
            <a:chOff x="900000" y="3141720"/>
            <a:chExt cx="6913440" cy="685800"/>
          </a:xfrm>
        </p:grpSpPr>
        <p:sp>
          <p:nvSpPr>
            <p:cNvPr id="123" name="AutoShape 84"/>
            <p:cNvSpPr/>
            <p:nvPr/>
          </p:nvSpPr>
          <p:spPr>
            <a:xfrm>
              <a:off x="1457280" y="3260880"/>
              <a:ext cx="635616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85"/>
            <p:cNvSpPr/>
            <p:nvPr/>
          </p:nvSpPr>
          <p:spPr>
            <a:xfrm>
              <a:off x="900000" y="314172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86"/>
            <p:cNvSpPr/>
            <p:nvPr/>
          </p:nvSpPr>
          <p:spPr>
            <a:xfrm>
              <a:off x="1791720" y="3316320"/>
              <a:ext cx="50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cc0000"/>
                  </a:solidFill>
                  <a:latin typeface="Times New Roman"/>
                </a:rPr>
                <a:t>Цель проекта</a:t>
              </a:r>
              <a:r>
                <a:rPr b="0" lang="ru-RU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7"/>
            <p:cNvSpPr/>
            <p:nvPr/>
          </p:nvSpPr>
          <p:spPr>
            <a:xfrm>
              <a:off x="1290240" y="324036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55640" y="98100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обходимость решения стоящих перед обновляющейся школой задач, обеспечении эффективности необходимых изменений в области образования, определенных Государственной Программой развития образования на 2006-10 годы, которые во многом обеспечиваются уровнем развития методической работы. Недаром одним из ожидаемых результатов от реализации Программы является «усовершенствование методической служб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5616720" y="4222800"/>
            <a:ext cx="3527280" cy="263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4365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беспечение более высокого уровня профессиональной компетентности уч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1116000" y="907920"/>
            <a:ext cx="2170080" cy="5329080"/>
            <a:chOff x="1116000" y="907920"/>
            <a:chExt cx="2170080" cy="5329080"/>
          </a:xfrm>
        </p:grpSpPr>
        <p:sp>
          <p:nvSpPr>
            <p:cNvPr id="132" name="AutoShape 4"/>
            <p:cNvSpPr/>
            <p:nvPr/>
          </p:nvSpPr>
          <p:spPr>
            <a:xfrm>
              <a:off x="1116000" y="1308600"/>
              <a:ext cx="2163600" cy="377784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777840"/>
                <a:gd name="textAreaBottom" fmla="*/ 3666960 h 3777840"/>
              </a:gdLst>
              <a:ahLst/>
              <a:rect l="textAreaLeft" t="textAreaTop" r="textAreaRight" b="textAreaBottom"/>
              <a:pathLst>
                <a:path w="21600" h="37713">
                  <a:moveTo>
                    <a:pt x="3782" y="0"/>
                  </a:moveTo>
                  <a:arcTo wR="3782" hR="3782" stAng="16200000" swAng="-5400000"/>
                  <a:lnTo>
                    <a:pt x="0" y="33931"/>
                  </a:lnTo>
                  <a:arcTo wR="3782" hR="3782" stAng="10800000" swAng="-5400000"/>
                  <a:lnTo>
                    <a:pt x="17818" y="3771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1149480" y="1319400"/>
              <a:ext cx="2098440" cy="370620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3706200"/>
                <a:gd name="textAreaBottom" fmla="*/ 3603960 h 3706200"/>
              </a:gdLst>
              <a:ahLst/>
              <a:rect l="textAreaLeft" t="textAreaTop" r="textAreaRight" b="textAreaBottom"/>
              <a:pathLst>
                <a:path w="21600" h="38146">
                  <a:moveTo>
                    <a:pt x="3600" y="0"/>
                  </a:moveTo>
                  <a:arcTo wR="3600" hR="3600" stAng="16200000" swAng="-5400000"/>
                  <a:lnTo>
                    <a:pt x="0" y="34546"/>
                  </a:lnTo>
                  <a:arcTo wR="3600" hR="3600" stAng="10800000" swAng="-5400000"/>
                  <a:lnTo>
                    <a:pt x="18000" y="38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1166760" y="4047480"/>
              <a:ext cx="2070000" cy="93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7"/>
            <p:cNvSpPr/>
            <p:nvPr/>
          </p:nvSpPr>
          <p:spPr>
            <a:xfrm>
              <a:off x="1166760" y="1348560"/>
              <a:ext cx="2070000" cy="93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8"/>
            <p:cNvSpPr/>
            <p:nvPr/>
          </p:nvSpPr>
          <p:spPr>
            <a:xfrm>
              <a:off x="1122480" y="5086800"/>
              <a:ext cx="2163600" cy="115020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9"/>
            <p:cNvSpPr/>
            <p:nvPr/>
          </p:nvSpPr>
          <p:spPr>
            <a:xfrm>
              <a:off x="1166760" y="5118120"/>
              <a:ext cx="2070000" cy="1022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0"/>
            <p:cNvGrpSpPr/>
            <p:nvPr/>
          </p:nvGrpSpPr>
          <p:grpSpPr>
            <a:xfrm>
              <a:off x="1862280" y="907920"/>
              <a:ext cx="641160" cy="822600"/>
              <a:chOff x="1862280" y="907920"/>
              <a:chExt cx="641160" cy="822600"/>
            </a:xfrm>
          </p:grpSpPr>
          <p:sp>
            <p:nvSpPr>
              <p:cNvPr id="139" name="Oval 11"/>
              <p:cNvSpPr/>
              <p:nvPr/>
            </p:nvSpPr>
            <p:spPr>
              <a:xfrm>
                <a:off x="1862280" y="1086840"/>
                <a:ext cx="641160" cy="4820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2"/>
              <p:cNvSpPr/>
              <p:nvPr/>
            </p:nvSpPr>
            <p:spPr>
              <a:xfrm>
                <a:off x="1866960" y="907920"/>
                <a:ext cx="622080" cy="822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1874520" y="912600"/>
                <a:ext cx="60732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1881360" y="920520"/>
                <a:ext cx="577440" cy="74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5"/>
              <p:cNvSpPr/>
              <p:nvPr/>
            </p:nvSpPr>
            <p:spPr>
              <a:xfrm>
                <a:off x="1914840" y="940680"/>
                <a:ext cx="51300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6"/>
            <p:cNvSpPr/>
            <p:nvPr/>
          </p:nvSpPr>
          <p:spPr>
            <a:xfrm>
              <a:off x="2000520" y="1023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1192320" y="1909080"/>
              <a:ext cx="20574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Изменить содержание образования на основе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компетентностного 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подхода, разработать и внедрить практико-ориентированные про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3564000" y="907920"/>
            <a:ext cx="2166840" cy="5394240"/>
            <a:chOff x="3564000" y="907920"/>
            <a:chExt cx="2166840" cy="5394240"/>
          </a:xfrm>
        </p:grpSpPr>
        <p:sp>
          <p:nvSpPr>
            <p:cNvPr id="147" name="AutoShape 19"/>
            <p:cNvSpPr/>
            <p:nvPr/>
          </p:nvSpPr>
          <p:spPr>
            <a:xfrm>
              <a:off x="3564000" y="1313280"/>
              <a:ext cx="2163600" cy="38242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3824280"/>
                <a:gd name="textAreaBottom" fmla="*/ 3713400 h 3824280"/>
              </a:gdLst>
              <a:ahLst/>
              <a:rect l="textAreaLeft" t="textAreaTop" r="textAreaRight" b="textAreaBottom"/>
              <a:pathLst>
                <a:path w="21600" h="38176">
                  <a:moveTo>
                    <a:pt x="3782" y="0"/>
                  </a:moveTo>
                  <a:arcTo wR="3782" hR="3782" stAng="16200000" swAng="-5400000"/>
                  <a:lnTo>
                    <a:pt x="0" y="34394"/>
                  </a:lnTo>
                  <a:arcTo wR="3782" hR="3782" stAng="10800000" swAng="-5400000"/>
                  <a:lnTo>
                    <a:pt x="17818" y="3817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0"/>
            <p:cNvSpPr/>
            <p:nvPr/>
          </p:nvSpPr>
          <p:spPr>
            <a:xfrm>
              <a:off x="3597120" y="1324440"/>
              <a:ext cx="2098800" cy="37515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3751560"/>
                <a:gd name="textAreaBottom" fmla="*/ 3649320 h 3751560"/>
              </a:gdLst>
              <a:ahLst/>
              <a:rect l="textAreaLeft" t="textAreaTop" r="textAreaRight" b="textAreaBottom"/>
              <a:pathLst>
                <a:path w="21600" h="38607">
                  <a:moveTo>
                    <a:pt x="3600" y="0"/>
                  </a:moveTo>
                  <a:arcTo wR="3600" hR="3600" stAng="16200000" swAng="-5400000"/>
                  <a:lnTo>
                    <a:pt x="0" y="35007"/>
                  </a:lnTo>
                  <a:arcTo wR="3600" hR="3600" stAng="10800000" swAng="-5400000"/>
                  <a:lnTo>
                    <a:pt x="18000" y="386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1"/>
            <p:cNvSpPr/>
            <p:nvPr/>
          </p:nvSpPr>
          <p:spPr>
            <a:xfrm>
              <a:off x="3614760" y="4086000"/>
              <a:ext cx="2070000" cy="949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2"/>
            <p:cNvSpPr/>
            <p:nvPr/>
          </p:nvSpPr>
          <p:spPr>
            <a:xfrm>
              <a:off x="3614760" y="1353960"/>
              <a:ext cx="2070000" cy="94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3"/>
            <p:cNvSpPr/>
            <p:nvPr/>
          </p:nvSpPr>
          <p:spPr>
            <a:xfrm>
              <a:off x="4309920" y="1092600"/>
              <a:ext cx="641520" cy="479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4"/>
            <p:cNvSpPr/>
            <p:nvPr/>
          </p:nvSpPr>
          <p:spPr>
            <a:xfrm>
              <a:off x="4314600" y="907920"/>
              <a:ext cx="622440" cy="83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5"/>
            <p:cNvSpPr/>
            <p:nvPr/>
          </p:nvSpPr>
          <p:spPr>
            <a:xfrm>
              <a:off x="4322880" y="912240"/>
              <a:ext cx="607680" cy="8136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6"/>
            <p:cNvSpPr/>
            <p:nvPr/>
          </p:nvSpPr>
          <p:spPr>
            <a:xfrm>
              <a:off x="4329000" y="920880"/>
              <a:ext cx="577800" cy="7581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4363920" y="942120"/>
              <a:ext cx="513000" cy="6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8"/>
            <p:cNvSpPr/>
            <p:nvPr/>
          </p:nvSpPr>
          <p:spPr>
            <a:xfrm>
              <a:off x="4448520" y="102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9"/>
            <p:cNvSpPr/>
            <p:nvPr/>
          </p:nvSpPr>
          <p:spPr>
            <a:xfrm>
              <a:off x="3639960" y="1921320"/>
              <a:ext cx="2057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Разнообразить формы обучения, внедрить современные образовательные технологии в образовательный процес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30"/>
            <p:cNvSpPr/>
            <p:nvPr/>
          </p:nvSpPr>
          <p:spPr>
            <a:xfrm>
              <a:off x="3566880" y="5137920"/>
              <a:ext cx="2163960" cy="116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31"/>
            <p:cNvSpPr/>
            <p:nvPr/>
          </p:nvSpPr>
          <p:spPr>
            <a:xfrm>
              <a:off x="3611520" y="5169600"/>
              <a:ext cx="2070000" cy="1034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5940360" y="907920"/>
            <a:ext cx="2170080" cy="5327280"/>
            <a:chOff x="5940360" y="907920"/>
            <a:chExt cx="2170080" cy="5327280"/>
          </a:xfrm>
        </p:grpSpPr>
        <p:sp>
          <p:nvSpPr>
            <p:cNvPr id="161" name="AutoShape 33"/>
            <p:cNvSpPr/>
            <p:nvPr/>
          </p:nvSpPr>
          <p:spPr>
            <a:xfrm>
              <a:off x="5946480" y="1308240"/>
              <a:ext cx="2163960" cy="377676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3776760"/>
                <a:gd name="textAreaBottom" fmla="*/ 3665880 h 3776760"/>
              </a:gdLst>
              <a:ahLst/>
              <a:rect l="textAreaLeft" t="textAreaTop" r="textAreaRight" b="textAreaBottom"/>
              <a:pathLst>
                <a:path w="21600" h="37696">
                  <a:moveTo>
                    <a:pt x="3782" y="0"/>
                  </a:moveTo>
                  <a:arcTo wR="3782" hR="3782" stAng="16200000" swAng="-5400000"/>
                  <a:lnTo>
                    <a:pt x="0" y="33914"/>
                  </a:lnTo>
                  <a:arcTo wR="3782" hR="3782" stAng="10800000" swAng="-5400000"/>
                  <a:lnTo>
                    <a:pt x="17818" y="3769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34"/>
            <p:cNvSpPr/>
            <p:nvPr/>
          </p:nvSpPr>
          <p:spPr>
            <a:xfrm>
              <a:off x="5979960" y="1319400"/>
              <a:ext cx="2098800" cy="37047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3704760"/>
                <a:gd name="textAreaBottom" fmla="*/ 3602520 h 3704760"/>
              </a:gdLst>
              <a:ahLst/>
              <a:rect l="textAreaLeft" t="textAreaTop" r="textAreaRight" b="textAreaBottom"/>
              <a:pathLst>
                <a:path w="21600" h="38125">
                  <a:moveTo>
                    <a:pt x="3600" y="0"/>
                  </a:moveTo>
                  <a:arcTo wR="3600" hR="3600" stAng="16200000" swAng="-5400000"/>
                  <a:lnTo>
                    <a:pt x="0" y="34525"/>
                  </a:lnTo>
                  <a:arcTo wR="3600" hR="3600" stAng="10800000" swAng="-5400000"/>
                  <a:lnTo>
                    <a:pt x="18000" y="381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35"/>
            <p:cNvSpPr/>
            <p:nvPr/>
          </p:nvSpPr>
          <p:spPr>
            <a:xfrm>
              <a:off x="5997240" y="4046760"/>
              <a:ext cx="2070360" cy="93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36"/>
            <p:cNvSpPr/>
            <p:nvPr/>
          </p:nvSpPr>
          <p:spPr>
            <a:xfrm>
              <a:off x="5997240" y="1348200"/>
              <a:ext cx="2070360" cy="93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7"/>
            <p:cNvGrpSpPr/>
            <p:nvPr/>
          </p:nvGrpSpPr>
          <p:grpSpPr>
            <a:xfrm>
              <a:off x="6692760" y="907920"/>
              <a:ext cx="641160" cy="822600"/>
              <a:chOff x="6692760" y="907920"/>
              <a:chExt cx="641160" cy="822600"/>
            </a:xfrm>
          </p:grpSpPr>
          <p:sp>
            <p:nvSpPr>
              <p:cNvPr id="166" name="Oval 38"/>
              <p:cNvSpPr/>
              <p:nvPr/>
            </p:nvSpPr>
            <p:spPr>
              <a:xfrm>
                <a:off x="6692760" y="1084320"/>
                <a:ext cx="641160" cy="480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9"/>
              <p:cNvSpPr/>
              <p:nvPr/>
            </p:nvSpPr>
            <p:spPr>
              <a:xfrm>
                <a:off x="6697440" y="907920"/>
                <a:ext cx="622080" cy="822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40"/>
              <p:cNvSpPr/>
              <p:nvPr/>
            </p:nvSpPr>
            <p:spPr>
              <a:xfrm>
                <a:off x="6705000" y="912600"/>
                <a:ext cx="60732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41"/>
              <p:cNvSpPr/>
              <p:nvPr/>
            </p:nvSpPr>
            <p:spPr>
              <a:xfrm>
                <a:off x="6711840" y="920520"/>
                <a:ext cx="577440" cy="748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2"/>
              <p:cNvSpPr/>
              <p:nvPr/>
            </p:nvSpPr>
            <p:spPr>
              <a:xfrm>
                <a:off x="6745320" y="940680"/>
                <a:ext cx="51300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43"/>
            <p:cNvSpPr/>
            <p:nvPr/>
          </p:nvSpPr>
          <p:spPr>
            <a:xfrm>
              <a:off x="6829200" y="102348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4"/>
            <p:cNvSpPr/>
            <p:nvPr/>
          </p:nvSpPr>
          <p:spPr>
            <a:xfrm>
              <a:off x="6022800" y="1908720"/>
              <a:ext cx="2057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Разработать и внедрить эффективную модель </a:t>
              </a:r>
              <a:r>
                <a:rPr b="1" lang="ru-RU" sz="1600" spc="-1" strike="noStrike">
                  <a:solidFill>
                    <a:srgbClr val="000066"/>
                  </a:solidFill>
                  <a:latin typeface="Times New Roman"/>
                </a:rPr>
                <a:t>внутришкольного</a:t>
              </a:r>
              <a:r>
                <a:rPr b="1" lang="ru-RU" sz="1800" spc="-1" strike="noStrike">
                  <a:solidFill>
                    <a:srgbClr val="000066"/>
                  </a:solidFill>
                  <a:latin typeface="Times New Roman"/>
                </a:rPr>
                <a:t> повышения квалификации руководителей и педагогов школы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5"/>
            <p:cNvSpPr/>
            <p:nvPr/>
          </p:nvSpPr>
          <p:spPr>
            <a:xfrm>
              <a:off x="5940360" y="5085360"/>
              <a:ext cx="2163600" cy="11498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6"/>
            <p:cNvSpPr/>
            <p:nvPr/>
          </p:nvSpPr>
          <p:spPr>
            <a:xfrm>
              <a:off x="5984640" y="5116680"/>
              <a:ext cx="2070000" cy="102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83"/>
          <p:cNvGrpSpPr/>
          <p:nvPr/>
        </p:nvGrpSpPr>
        <p:grpSpPr>
          <a:xfrm>
            <a:off x="971640" y="260280"/>
            <a:ext cx="6913080" cy="685800"/>
            <a:chOff x="971640" y="260280"/>
            <a:chExt cx="6913080" cy="685800"/>
          </a:xfrm>
        </p:grpSpPr>
        <p:sp>
          <p:nvSpPr>
            <p:cNvPr id="176" name="AutoShape 84"/>
            <p:cNvSpPr/>
            <p:nvPr/>
          </p:nvSpPr>
          <p:spPr>
            <a:xfrm>
              <a:off x="1528920" y="379440"/>
              <a:ext cx="6355800" cy="4572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85"/>
            <p:cNvSpPr/>
            <p:nvPr/>
          </p:nvSpPr>
          <p:spPr>
            <a:xfrm>
              <a:off x="971640" y="260280"/>
              <a:ext cx="1003320" cy="68580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6"/>
            <p:cNvSpPr/>
            <p:nvPr/>
          </p:nvSpPr>
          <p:spPr>
            <a:xfrm>
              <a:off x="1863360" y="434880"/>
              <a:ext cx="50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Задач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7"/>
            <p:cNvSpPr/>
            <p:nvPr/>
          </p:nvSpPr>
          <p:spPr>
            <a:xfrm>
              <a:off x="1361880" y="358920"/>
              <a:ext cx="18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5664240" y="6431040"/>
            <a:ext cx="2286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4859280" y="2492280"/>
            <a:ext cx="3995640" cy="331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50920" y="2492280"/>
            <a:ext cx="4105080" cy="3024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b3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1908000" y="1268280"/>
            <a:ext cx="903600" cy="1241640"/>
          </a:xfrm>
          <a:prstGeom prst="pie">
            <a:avLst/>
          </a:prstGeom>
          <a:gradFill rotWithShape="0">
            <a:gsLst>
              <a:gs pos="0">
                <a:srgbClr val="63c2f7"/>
              </a:gs>
              <a:gs pos="100000">
                <a:srgbClr val="9cd8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 flipH="1">
            <a:off x="4642560" y="292428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 flipH="1">
            <a:off x="6587280" y="1341360"/>
            <a:ext cx="903240" cy="1241640"/>
          </a:xfrm>
          <a:prstGeom prst="pie">
            <a:avLst/>
          </a:prstGeom>
          <a:gradFill rotWithShape="0">
            <a:gsLst>
              <a:gs pos="0">
                <a:srgbClr val="4173f1"/>
              </a:gs>
              <a:gs pos="100000">
                <a:srgbClr val="c3d3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611280" y="333360"/>
            <a:ext cx="72007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173f1"/>
              </a:gs>
              <a:gs pos="50000">
                <a:srgbClr val="85a5f6"/>
              </a:gs>
              <a:gs pos="100000">
                <a:srgbClr val="4173f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2637720"/>
            <a:ext cx="378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ради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качества профессионального уровня учителя посредством наращивания количества знаний о новых методиках, приёмах, технологиях и умений за счёт копирования их в свое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2566080"/>
            <a:ext cx="352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бновл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вышение качества профессионального уровня и педагогического мастерства учителей рассматривается не только как процесс накопления знаний. Это, прежде всего, процесс углубленного проникновения в сущность новых технолог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ндикаторы результатив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87280" y="1125360"/>
            <a:ext cx="6624360" cy="1160280"/>
            <a:chOff x="1187280" y="1125360"/>
            <a:chExt cx="6624360" cy="1160280"/>
          </a:xfrm>
        </p:grpSpPr>
        <p:sp>
          <p:nvSpPr>
            <p:cNvPr id="191" name=""/>
            <p:cNvSpPr/>
            <p:nvPr/>
          </p:nvSpPr>
          <p:spPr>
            <a:xfrm>
              <a:off x="1721160" y="1326960"/>
              <a:ext cx="6090480" cy="77328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7280" y="1125360"/>
              <a:ext cx="961560" cy="116028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1560" y="1420560"/>
              <a:ext cx="4808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педагогов по практико-ориентированным программам</a:t>
              </a:r>
              <a:r>
                <a:rPr b="0" lang="ru-RU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6000" y="129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87280" y="2205000"/>
            <a:ext cx="6624360" cy="1439280"/>
            <a:chOff x="1187280" y="2205000"/>
            <a:chExt cx="6624360" cy="1439280"/>
          </a:xfrm>
        </p:grpSpPr>
        <p:sp>
          <p:nvSpPr>
            <p:cNvPr id="196" name=""/>
            <p:cNvSpPr/>
            <p:nvPr/>
          </p:nvSpPr>
          <p:spPr>
            <a:xfrm>
              <a:off x="1721160" y="2454840"/>
              <a:ext cx="6090480" cy="959400"/>
            </a:xfrm>
            <a:prstGeom prst="roundRect">
              <a:avLst>
                <a:gd name="adj" fmla="val 16667"/>
              </a:avLst>
            </a:prstGeom>
            <a:solidFill>
              <a:srgbClr val="3195d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7280" y="2205000"/>
              <a:ext cx="961560" cy="1439280"/>
            </a:xfrm>
            <a:prstGeom prst="diamond">
              <a:avLst/>
            </a:prstGeom>
            <a:solidFill>
              <a:srgbClr val="3195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1560" y="257148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количества проектов и программ, разработанных совместно с местным сообще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73840" y="241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258920" y="3573360"/>
            <a:ext cx="6552720" cy="1287360"/>
            <a:chOff x="1258920" y="3573360"/>
            <a:chExt cx="6552720" cy="1287360"/>
          </a:xfrm>
        </p:grpSpPr>
        <p:sp>
          <p:nvSpPr>
            <p:cNvPr id="201" name=""/>
            <p:cNvSpPr/>
            <p:nvPr/>
          </p:nvSpPr>
          <p:spPr>
            <a:xfrm>
              <a:off x="1787040" y="3796920"/>
              <a:ext cx="6024600" cy="85824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58920" y="3573360"/>
              <a:ext cx="951120" cy="128736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04200" y="3900960"/>
              <a:ext cx="475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Рост количества и качества разработок инновационных проектов и программ на грантовые конкур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2600" y="375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258920" y="4724280"/>
            <a:ext cx="6552720" cy="1261800"/>
            <a:chOff x="1258920" y="4724280"/>
            <a:chExt cx="6552720" cy="1261800"/>
          </a:xfrm>
        </p:grpSpPr>
        <p:sp>
          <p:nvSpPr>
            <p:cNvPr id="206" name=""/>
            <p:cNvSpPr/>
            <p:nvPr/>
          </p:nvSpPr>
          <p:spPr>
            <a:xfrm>
              <a:off x="1787040" y="4943520"/>
              <a:ext cx="6024600" cy="840960"/>
            </a:xfrm>
            <a:prstGeom prst="roundRect">
              <a:avLst>
                <a:gd name="adj" fmla="val 16667"/>
              </a:avLst>
            </a:prstGeom>
            <a:solidFill>
              <a:srgbClr val="3b97a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58920" y="4724280"/>
              <a:ext cx="951120" cy="1261800"/>
            </a:xfrm>
            <a:prstGeom prst="diamond">
              <a:avLst/>
            </a:prstGeom>
            <a:solidFill>
              <a:srgbClr val="3b97a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04200" y="5045400"/>
              <a:ext cx="4755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обучающихся, имеющих высокие личностные достижения в разных видах деятель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41520" y="490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Индикаторы результативност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87280" y="1125360"/>
            <a:ext cx="6624360" cy="1366560"/>
            <a:chOff x="1187280" y="1125360"/>
            <a:chExt cx="6624360" cy="1366560"/>
          </a:xfrm>
        </p:grpSpPr>
        <p:sp>
          <p:nvSpPr>
            <p:cNvPr id="212" name=""/>
            <p:cNvSpPr/>
            <p:nvPr/>
          </p:nvSpPr>
          <p:spPr>
            <a:xfrm>
              <a:off x="1721160" y="1362600"/>
              <a:ext cx="6090480" cy="910800"/>
            </a:xfrm>
            <a:prstGeom prst="roundRect">
              <a:avLst>
                <a:gd name="adj" fmla="val 16667"/>
              </a:avLst>
            </a:prstGeom>
            <a:solidFill>
              <a:srgbClr val="0b319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87280" y="1125360"/>
              <a:ext cx="961560" cy="1366560"/>
            </a:xfrm>
            <a:prstGeom prst="diamond">
              <a:avLst/>
            </a:prstGeom>
            <a:solidFill>
              <a:srgbClr val="0b319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41560" y="147312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Эффективно действующая система внутришкольного повышения квалификации руководителей и педагогов школ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76000" y="132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87280" y="2205000"/>
            <a:ext cx="6624360" cy="1439280"/>
            <a:chOff x="1187280" y="2205000"/>
            <a:chExt cx="6624360" cy="1439280"/>
          </a:xfrm>
        </p:grpSpPr>
        <p:sp>
          <p:nvSpPr>
            <p:cNvPr id="217" name=""/>
            <p:cNvSpPr/>
            <p:nvPr/>
          </p:nvSpPr>
          <p:spPr>
            <a:xfrm>
              <a:off x="1721160" y="2454840"/>
              <a:ext cx="6090480" cy="959400"/>
            </a:xfrm>
            <a:prstGeom prst="roundRect">
              <a:avLst>
                <a:gd name="adj" fmla="val 16667"/>
              </a:avLst>
            </a:prstGeom>
            <a:solidFill>
              <a:srgbClr val="3195d9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87280" y="2205000"/>
              <a:ext cx="961560" cy="1439280"/>
            </a:xfrm>
            <a:prstGeom prst="diamond">
              <a:avLst/>
            </a:prstGeom>
            <a:solidFill>
              <a:srgbClr val="3195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41560" y="2571480"/>
              <a:ext cx="480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доли педагогов, овладевших и применяющих современные образовательные 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73840" y="241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258920" y="3573360"/>
            <a:ext cx="6552720" cy="1726560"/>
            <a:chOff x="1258920" y="3573360"/>
            <a:chExt cx="6552720" cy="1726560"/>
          </a:xfrm>
        </p:grpSpPr>
        <p:sp>
          <p:nvSpPr>
            <p:cNvPr id="222" name=""/>
            <p:cNvSpPr/>
            <p:nvPr/>
          </p:nvSpPr>
          <p:spPr>
            <a:xfrm>
              <a:off x="1787040" y="3873240"/>
              <a:ext cx="6024600" cy="1150920"/>
            </a:xfrm>
            <a:prstGeom prst="roundRect">
              <a:avLst>
                <a:gd name="adj" fmla="val 16667"/>
              </a:avLst>
            </a:prstGeom>
            <a:solidFill>
              <a:srgbClr val="4173f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58920" y="3573360"/>
              <a:ext cx="951120" cy="1726560"/>
            </a:xfrm>
            <a:prstGeom prst="diamond">
              <a:avLst/>
            </a:prstGeom>
            <a:solidFill>
              <a:srgbClr val="4173f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04200" y="4012920"/>
              <a:ext cx="4755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Увеличение количества педагогов, разработавших авторские программы, учебно-методические комплекты, методические рекоменд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2600" y="3821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Verdana"/>
              </a:rPr>
              <a:t>Этапы реализации проек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73000" y="5173560"/>
            <a:ext cx="1657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73000" y="4335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873000" y="35053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72640" y="267660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73000" y="183528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5640" y="1828800"/>
            <a:ext cx="0" cy="871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25640" y="27003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25640" y="351792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25640" y="433548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210672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-2014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1160" y="293364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2-2013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1160" y="3797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-2012 учебн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67200" y="4649760"/>
            <a:ext cx="22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010-2011 учебный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771640" y="2133720"/>
            <a:ext cx="6659280" cy="3816000"/>
            <a:chOff x="2771640" y="2133720"/>
            <a:chExt cx="6659280" cy="3816000"/>
          </a:xfrm>
        </p:grpSpPr>
        <p:sp>
          <p:nvSpPr>
            <p:cNvPr id="241" name=""/>
            <p:cNvSpPr/>
            <p:nvPr/>
          </p:nvSpPr>
          <p:spPr>
            <a:xfrm>
              <a:off x="8765280" y="2133720"/>
              <a:ext cx="658080" cy="9658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d5971"/>
                </a:gs>
                <a:gs pos="50000">
                  <a:srgbClr val="63c2f7"/>
                </a:gs>
                <a:gs pos="100000">
                  <a:srgbClr val="2d59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09520" y="2133720"/>
              <a:ext cx="3821400" cy="61776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3c2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02880" y="3083040"/>
              <a:ext cx="658440" cy="9601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d356f"/>
                </a:gs>
                <a:gs pos="50000">
                  <a:srgbClr val="4173f1"/>
                </a:gs>
                <a:gs pos="100000">
                  <a:srgbClr val="1d35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0560" y="3083040"/>
              <a:ext cx="4107600" cy="6159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4173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38680" y="4032720"/>
              <a:ext cx="654840" cy="9637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b454d"/>
                </a:gs>
                <a:gs pos="50000">
                  <a:srgbClr val="3b97a9"/>
                </a:gs>
                <a:gs pos="100000">
                  <a:srgbClr val="1b45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78080" y="4984200"/>
              <a:ext cx="660240" cy="96552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51642"/>
                </a:gs>
                <a:gs pos="50000">
                  <a:srgbClr val="0b3191"/>
                </a:gs>
                <a:gs pos="100000">
                  <a:srgbClr val="0516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73440" y="4989600"/>
              <a:ext cx="4664880" cy="6159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b3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0600" y="2309400"/>
              <a:ext cx="2100960" cy="31075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7080" y="2751480"/>
              <a:ext cx="3162600" cy="347760"/>
            </a:xfrm>
            <a:prstGeom prst="rect">
              <a:avLst/>
            </a:prstGeom>
            <a:gradFill rotWithShape="0">
              <a:gsLst>
                <a:gs pos="0">
                  <a:srgbClr val="478cb2"/>
                </a:gs>
                <a:gs pos="50000">
                  <a:srgbClr val="63c2f7"/>
                </a:gs>
                <a:gs pos="100000">
                  <a:srgbClr val="478c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недрение инновационных технолог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 учеб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2360" y="3699360"/>
              <a:ext cx="3447720" cy="340560"/>
            </a:xfrm>
            <a:prstGeom prst="rect">
              <a:avLst/>
            </a:prstGeom>
            <a:gradFill rotWithShape="0">
              <a:gsLst>
                <a:gs pos="0">
                  <a:srgbClr val="2e53ae"/>
                </a:gs>
                <a:gs pos="50000">
                  <a:srgbClr val="4173f1"/>
                </a:gs>
                <a:gs pos="100000">
                  <a:srgbClr val="2e5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недрение инновационных технолог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в учебный проц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8800" y="4032720"/>
              <a:ext cx="4382280" cy="6210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b97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22400" y="4652640"/>
              <a:ext cx="3730320" cy="340560"/>
            </a:xfrm>
            <a:prstGeom prst="rect">
              <a:avLst/>
            </a:prstGeom>
            <a:gradFill rotWithShape="0">
              <a:gsLst>
                <a:gs pos="0">
                  <a:srgbClr val="2a6d7a"/>
                </a:gs>
                <a:gs pos="50000">
                  <a:srgbClr val="3b97a9"/>
                </a:gs>
                <a:gs pos="100000">
                  <a:srgbClr val="2a6d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</a:rPr>
                <a:t>Научно-теоретическая подгот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71640" y="5607720"/>
              <a:ext cx="4015440" cy="338760"/>
            </a:xfrm>
            <a:prstGeom prst="rect">
              <a:avLst/>
            </a:prstGeom>
            <a:gradFill rotWithShape="0">
              <a:gsLst>
                <a:gs pos="0">
                  <a:srgbClr val="072368"/>
                </a:gs>
                <a:gs pos="50000">
                  <a:srgbClr val="0b3191"/>
                </a:gs>
                <a:gs pos="100000">
                  <a:srgbClr val="0723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Подготовитель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2:07:59Z</dcterms:created>
  <dc:creator>USER</dc:creator>
  <dc:description/>
  <dc:language>en-US</dc:language>
  <cp:lastModifiedBy>USER</cp:lastModifiedBy>
  <dcterms:modified xsi:type="dcterms:W3CDTF">2010-11-23T16:12:48Z</dcterms:modified>
  <cp:revision>2</cp:revision>
  <dc:subject/>
  <dc:title>Слайд 1</dc:title>
</cp:coreProperties>
</file>