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6BE8-5845-4998-A87D-01B9F393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B86D-05F4-4C78-BAC8-3A693FE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F6BD-13D6-4B85-8177-15FA18AA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D6E6-1C08-4C9C-9463-E511D2EC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0913-9FDA-41D3-9436-B86AEDB0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916-7AC3-4066-83C4-43DA3FD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2D0-D56F-414E-A6CC-5706A3F0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EDE-75C8-4537-9BD4-8AAD3E33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185A-6E9D-41C4-AD31-C84E71C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4BD-5EC7-43AA-A750-2C2FDD78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3467-89FA-4DD9-82DA-B087F24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C860-063E-43F1-9F8E-9F2C1389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646-87DC-4758-8797-6AD486B8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5B2-C412-4894-ABEB-0FD0504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B61-A48F-431B-B48F-55819A24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8A9-692F-4737-840A-9F508ED7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B8DF-4791-4554-927E-229A0751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51A8-9D7C-4F33-B630-C5C06CA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D025-A970-4A1E-A973-2498DB4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8464-611D-49CF-A707-51157693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E54D-FE04-458A-8720-FEE87C7C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A0D4-6DCD-424C-9F86-FDEA115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CFDA-4692-4C3A-B66E-2F427C5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361B-96F7-4376-BB37-F73F043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F909-A288-432A-9443-94D0801F45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64240" y="643068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99520" y="635796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754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758-B525-45D8-B049-92F53D00F4F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9738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52" name="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12470" r="0" b="28145"/>
          <a:stretch/>
        </p:blipFill>
        <p:spPr>
          <a:xfrm>
            <a:off x="250920" y="1700280"/>
            <a:ext cx="3529080" cy="194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979560"/>
            <a:ext cx="669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Министерство образования и науки Республики Хак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ГОУ ДПО «Хакасский республиканский институт повы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квалификации и переподготовки работников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72800" y="2766240"/>
            <a:ext cx="461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оект профессиональн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9280" y="3841920"/>
            <a:ext cx="75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рганизация системы методической работы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ловие профессионального роста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40640" y="5043960"/>
            <a:ext cx="6202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орж Мария Михайловна, заместитель директора по УВ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МОУ «Устино-Копьевская средняя общеобразовательная школа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рджоникидзев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ерспективы реализации проект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52640"/>
            <a:ext cx="5880240" cy="4929120"/>
          </a:xfrm>
          <a:prstGeom prst="rightArrow">
            <a:avLst>
              <a:gd name="adj1" fmla="val 79306"/>
              <a:gd name="adj2" fmla="val 29548"/>
            </a:avLst>
          </a:prstGeom>
          <a:gradFill rotWithShape="0">
            <a:gsLst>
              <a:gs pos="0">
                <a:srgbClr val="3195d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557360"/>
            <a:ext cx="4038480" cy="142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3c2f7"/>
              </a:gs>
              <a:gs pos="100000">
                <a:srgbClr val="91d3f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Увеличение доли педагогов, овладев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 применя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современные образов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2924280"/>
            <a:ext cx="4038480" cy="1224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Эффективно действующая 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нутришкольного 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валификации руко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 педагого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221000"/>
            <a:ext cx="4038480" cy="1584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99cf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Будет создана  модель МС  школы, и установя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прочные и эффективные вертик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и горизонтальные связи не только меж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школьными структурами, сколь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между командами, работающими на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пределенными проблемами.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2637000"/>
            <a:ext cx="2874960" cy="1223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ывод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Организация научно-методической работы является одним из важных направлений в нашей программе развития и призвана способствовать активизации деятельности педагогов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Ориентируясь на гуманизацию обучения, на формирование личности учащегося, признание ее ценности и необходимости для современного общества, мы прежде всего должны помнить, что она формируется личностью учителя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Таким образом, необходимо создать все условия для роста профессионального мастерства педагогов. А для этого нужна действенная и эффективная система методической службы, проект развития которой предложении в данной работе.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547640" y="1773360"/>
            <a:ext cx="568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195d9"/>
                    </a:gs>
                    <a:gs pos="100000">
                      <a:srgbClr val="164464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195d9"/>
                  </a:gs>
                  <a:gs pos="100000">
                    <a:srgbClr val="164464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79628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xtBox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39640" y="620640"/>
            <a:ext cx="799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3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600720" cy="279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"/>
          <p:cNvPicPr/>
          <p:nvPr/>
        </p:nvPicPr>
        <p:blipFill>
          <a:blip r:embed="rId3"/>
          <a:stretch/>
        </p:blipFill>
        <p:spPr>
          <a:xfrm>
            <a:off x="1763640" y="3357720"/>
            <a:ext cx="4086360" cy="3063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00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105" descr=""/>
          <p:cNvPicPr/>
          <p:nvPr/>
        </p:nvPicPr>
        <p:blipFill>
          <a:blip r:embed="rId4"/>
          <a:stretch/>
        </p:blipFill>
        <p:spPr>
          <a:xfrm>
            <a:off x="6012000" y="3213000"/>
            <a:ext cx="2842920" cy="36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6800" y="1268280"/>
            <a:ext cx="5415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ормировать способность дей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быть успешным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крытого динамично развивающего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временного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08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13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18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Актуальность 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ыбранной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 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3"/>
          <p:cNvGrpSpPr/>
          <p:nvPr/>
        </p:nvGrpSpPr>
        <p:grpSpPr>
          <a:xfrm>
            <a:off x="900000" y="3141720"/>
            <a:ext cx="6913440" cy="685800"/>
            <a:chOff x="900000" y="3141720"/>
            <a:chExt cx="6913440" cy="685800"/>
          </a:xfrm>
        </p:grpSpPr>
        <p:sp>
          <p:nvSpPr>
            <p:cNvPr id="123" name="AutoShape 84"/>
            <p:cNvSpPr/>
            <p:nvPr/>
          </p:nvSpPr>
          <p:spPr>
            <a:xfrm>
              <a:off x="1457280" y="3260880"/>
              <a:ext cx="635616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5"/>
            <p:cNvSpPr/>
            <p:nvPr/>
          </p:nvSpPr>
          <p:spPr>
            <a:xfrm>
              <a:off x="900000" y="314172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6"/>
            <p:cNvSpPr/>
            <p:nvPr/>
          </p:nvSpPr>
          <p:spPr>
            <a:xfrm>
              <a:off x="1791720" y="3316320"/>
              <a:ext cx="50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Times New Roman"/>
                </a:rPr>
                <a:t>Цель проекта</a:t>
              </a:r>
              <a:r>
                <a:rPr b="0" lang="ru-RU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7"/>
            <p:cNvSpPr/>
            <p:nvPr/>
          </p:nvSpPr>
          <p:spPr>
            <a:xfrm>
              <a:off x="1290240" y="324036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98100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обходимость решения стоящих перед обновляющейся школой задач, обеспечении эффективности необходимых изменений в области образования, определенных Государственной Программой развития образования на 2006-10 годы, которые во многом обеспечиваются уровнем развития методической работы. Недаром одним из ожидаемых результатов от реализации Программы является «усовершенствование методической служб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616720" y="4222800"/>
            <a:ext cx="3527280" cy="263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4365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еспечение более высокого уровня профессиональной компетентности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116000" y="907920"/>
            <a:ext cx="2170080" cy="5329080"/>
            <a:chOff x="1116000" y="907920"/>
            <a:chExt cx="2170080" cy="5329080"/>
          </a:xfrm>
        </p:grpSpPr>
        <p:sp>
          <p:nvSpPr>
            <p:cNvPr id="132" name="AutoShape 4"/>
            <p:cNvSpPr/>
            <p:nvPr/>
          </p:nvSpPr>
          <p:spPr>
            <a:xfrm>
              <a:off x="1116000" y="1308600"/>
              <a:ext cx="2163600" cy="377784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777840"/>
                <a:gd name="textAreaBottom" fmla="*/ 3666960 h 3777840"/>
              </a:gdLst>
              <a:ahLst/>
              <a:rect l="textAreaLeft" t="textAreaTop" r="textAreaRight" b="textAreaBottom"/>
              <a:pathLst>
                <a:path w="21600" h="37713">
                  <a:moveTo>
                    <a:pt x="3782" y="0"/>
                  </a:moveTo>
                  <a:arcTo wR="3782" hR="3782" stAng="16200000" swAng="-5400000"/>
                  <a:lnTo>
                    <a:pt x="0" y="33931"/>
                  </a:lnTo>
                  <a:arcTo wR="3782" hR="3782" stAng="10800000" swAng="-5400000"/>
                  <a:lnTo>
                    <a:pt x="17818" y="3771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1149480" y="1319400"/>
              <a:ext cx="2098440" cy="37062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706200"/>
                <a:gd name="textAreaBottom" fmla="*/ 3603960 h 3706200"/>
              </a:gdLst>
              <a:ahLst/>
              <a:rect l="textAreaLeft" t="textAreaTop" r="textAreaRight" b="textAreaBottom"/>
              <a:pathLst>
                <a:path w="21600" h="38146">
                  <a:moveTo>
                    <a:pt x="3600" y="0"/>
                  </a:moveTo>
                  <a:arcTo wR="3600" hR="3600" stAng="16200000" swAng="-5400000"/>
                  <a:lnTo>
                    <a:pt x="0" y="34546"/>
                  </a:lnTo>
                  <a:arcTo wR="3600" hR="3600" stAng="10800000" swAng="-5400000"/>
                  <a:lnTo>
                    <a:pt x="18000" y="38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1166760" y="4047480"/>
              <a:ext cx="2070000" cy="93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1166760" y="1348560"/>
              <a:ext cx="2070000" cy="93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>
              <a:off x="1122480" y="5086800"/>
              <a:ext cx="2163600" cy="1150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9"/>
            <p:cNvSpPr/>
            <p:nvPr/>
          </p:nvSpPr>
          <p:spPr>
            <a:xfrm>
              <a:off x="1166760" y="5118120"/>
              <a:ext cx="2070000" cy="102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0"/>
            <p:cNvGrpSpPr/>
            <p:nvPr/>
          </p:nvGrpSpPr>
          <p:grpSpPr>
            <a:xfrm>
              <a:off x="1862280" y="907920"/>
              <a:ext cx="641160" cy="822600"/>
              <a:chOff x="1862280" y="907920"/>
              <a:chExt cx="641160" cy="822600"/>
            </a:xfrm>
          </p:grpSpPr>
          <p:sp>
            <p:nvSpPr>
              <p:cNvPr id="139" name="Oval 11"/>
              <p:cNvSpPr/>
              <p:nvPr/>
            </p:nvSpPr>
            <p:spPr>
              <a:xfrm>
                <a:off x="1862280" y="1086840"/>
                <a:ext cx="641160" cy="48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2"/>
              <p:cNvSpPr/>
              <p:nvPr/>
            </p:nvSpPr>
            <p:spPr>
              <a:xfrm>
                <a:off x="1866960" y="907920"/>
                <a:ext cx="622080" cy="822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1874520" y="912600"/>
                <a:ext cx="60732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1881360" y="920520"/>
                <a:ext cx="577440" cy="74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5"/>
              <p:cNvSpPr/>
              <p:nvPr/>
            </p:nvSpPr>
            <p:spPr>
              <a:xfrm>
                <a:off x="1914840" y="940680"/>
                <a:ext cx="51300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6"/>
            <p:cNvSpPr/>
            <p:nvPr/>
          </p:nvSpPr>
          <p:spPr>
            <a:xfrm>
              <a:off x="2000520" y="102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1192320" y="1909080"/>
              <a:ext cx="20574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Изменить содержание образования на основе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компетентностного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подхода, разработать и внедрить практико-ориентирован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3564000" y="907920"/>
            <a:ext cx="2166840" cy="5394240"/>
            <a:chOff x="3564000" y="907920"/>
            <a:chExt cx="2166840" cy="5394240"/>
          </a:xfrm>
        </p:grpSpPr>
        <p:sp>
          <p:nvSpPr>
            <p:cNvPr id="147" name="AutoShape 19"/>
            <p:cNvSpPr/>
            <p:nvPr/>
          </p:nvSpPr>
          <p:spPr>
            <a:xfrm>
              <a:off x="3564000" y="1313280"/>
              <a:ext cx="2163600" cy="38242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824280"/>
                <a:gd name="textAreaBottom" fmla="*/ 3713400 h 3824280"/>
              </a:gdLst>
              <a:ahLst/>
              <a:rect l="textAreaLeft" t="textAreaTop" r="textAreaRight" b="textAreaBottom"/>
              <a:pathLst>
                <a:path w="21600" h="38176">
                  <a:moveTo>
                    <a:pt x="3782" y="0"/>
                  </a:moveTo>
                  <a:arcTo wR="3782" hR="3782" stAng="16200000" swAng="-5400000"/>
                  <a:lnTo>
                    <a:pt x="0" y="34394"/>
                  </a:lnTo>
                  <a:arcTo wR="3782" hR="3782" stAng="10800000" swAng="-5400000"/>
                  <a:lnTo>
                    <a:pt x="17818" y="3817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0"/>
            <p:cNvSpPr/>
            <p:nvPr/>
          </p:nvSpPr>
          <p:spPr>
            <a:xfrm>
              <a:off x="3597120" y="1324440"/>
              <a:ext cx="2098800" cy="37515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3751560"/>
                <a:gd name="textAreaBottom" fmla="*/ 3649320 h 3751560"/>
              </a:gdLst>
              <a:ahLst/>
              <a:rect l="textAreaLeft" t="textAreaTop" r="textAreaRight" b="textAreaBottom"/>
              <a:pathLst>
                <a:path w="21600" h="38607">
                  <a:moveTo>
                    <a:pt x="3600" y="0"/>
                  </a:moveTo>
                  <a:arcTo wR="3600" hR="3600" stAng="16200000" swAng="-5400000"/>
                  <a:lnTo>
                    <a:pt x="0" y="35007"/>
                  </a:lnTo>
                  <a:arcTo wR="3600" hR="3600" stAng="10800000" swAng="-5400000"/>
                  <a:lnTo>
                    <a:pt x="18000" y="38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1"/>
            <p:cNvSpPr/>
            <p:nvPr/>
          </p:nvSpPr>
          <p:spPr>
            <a:xfrm>
              <a:off x="3614760" y="4086000"/>
              <a:ext cx="2070000" cy="94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614760" y="1353960"/>
              <a:ext cx="2070000" cy="94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3"/>
            <p:cNvSpPr/>
            <p:nvPr/>
          </p:nvSpPr>
          <p:spPr>
            <a:xfrm>
              <a:off x="4309920" y="1092600"/>
              <a:ext cx="641520" cy="479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4"/>
            <p:cNvSpPr/>
            <p:nvPr/>
          </p:nvSpPr>
          <p:spPr>
            <a:xfrm>
              <a:off x="4314600" y="907920"/>
              <a:ext cx="622440" cy="83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5"/>
            <p:cNvSpPr/>
            <p:nvPr/>
          </p:nvSpPr>
          <p:spPr>
            <a:xfrm>
              <a:off x="4322880" y="912240"/>
              <a:ext cx="607680" cy="8136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6"/>
            <p:cNvSpPr/>
            <p:nvPr/>
          </p:nvSpPr>
          <p:spPr>
            <a:xfrm>
              <a:off x="4329000" y="920880"/>
              <a:ext cx="577800" cy="758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4363920" y="942120"/>
              <a:ext cx="513000" cy="6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4448520" y="102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>
              <a:off x="3639960" y="19213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Разнообразить формы обучения, внедрить современные образовательные технологии в образовательный проце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>
              <a:off x="3566880" y="5137920"/>
              <a:ext cx="2163960" cy="116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31"/>
            <p:cNvSpPr/>
            <p:nvPr/>
          </p:nvSpPr>
          <p:spPr>
            <a:xfrm>
              <a:off x="3611520" y="5169600"/>
              <a:ext cx="2070000" cy="103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5940360" y="907920"/>
            <a:ext cx="2170080" cy="5327280"/>
            <a:chOff x="5940360" y="907920"/>
            <a:chExt cx="2170080" cy="5327280"/>
          </a:xfrm>
        </p:grpSpPr>
        <p:sp>
          <p:nvSpPr>
            <p:cNvPr id="161" name="AutoShape 33"/>
            <p:cNvSpPr/>
            <p:nvPr/>
          </p:nvSpPr>
          <p:spPr>
            <a:xfrm>
              <a:off x="5946480" y="1308240"/>
              <a:ext cx="2163960" cy="377676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3776760"/>
                <a:gd name="textAreaBottom" fmla="*/ 3665880 h 3776760"/>
              </a:gdLst>
              <a:ahLst/>
              <a:rect l="textAreaLeft" t="textAreaTop" r="textAreaRight" b="textAreaBottom"/>
              <a:pathLst>
                <a:path w="21600" h="37696">
                  <a:moveTo>
                    <a:pt x="3782" y="0"/>
                  </a:moveTo>
                  <a:arcTo wR="3782" hR="3782" stAng="16200000" swAng="-5400000"/>
                  <a:lnTo>
                    <a:pt x="0" y="33914"/>
                  </a:lnTo>
                  <a:arcTo wR="3782" hR="3782" stAng="10800000" swAng="-5400000"/>
                  <a:lnTo>
                    <a:pt x="17818" y="3769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4"/>
            <p:cNvSpPr/>
            <p:nvPr/>
          </p:nvSpPr>
          <p:spPr>
            <a:xfrm>
              <a:off x="5979960" y="1319400"/>
              <a:ext cx="2098800" cy="37047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3704760"/>
                <a:gd name="textAreaBottom" fmla="*/ 3602520 h 3704760"/>
              </a:gdLst>
              <a:ahLst/>
              <a:rect l="textAreaLeft" t="textAreaTop" r="textAreaRight" b="textAreaBottom"/>
              <a:pathLst>
                <a:path w="21600" h="38125">
                  <a:moveTo>
                    <a:pt x="3600" y="0"/>
                  </a:moveTo>
                  <a:arcTo wR="3600" hR="3600" stAng="16200000" swAng="-5400000"/>
                  <a:lnTo>
                    <a:pt x="0" y="34525"/>
                  </a:lnTo>
                  <a:arcTo wR="3600" hR="3600" stAng="10800000" swAng="-5400000"/>
                  <a:lnTo>
                    <a:pt x="18000" y="381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35"/>
            <p:cNvSpPr/>
            <p:nvPr/>
          </p:nvSpPr>
          <p:spPr>
            <a:xfrm>
              <a:off x="5997240" y="4046760"/>
              <a:ext cx="2070360" cy="93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6"/>
            <p:cNvSpPr/>
            <p:nvPr/>
          </p:nvSpPr>
          <p:spPr>
            <a:xfrm>
              <a:off x="5997240" y="1348200"/>
              <a:ext cx="2070360" cy="93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7"/>
            <p:cNvGrpSpPr/>
            <p:nvPr/>
          </p:nvGrpSpPr>
          <p:grpSpPr>
            <a:xfrm>
              <a:off x="6692760" y="907920"/>
              <a:ext cx="641160" cy="822600"/>
              <a:chOff x="6692760" y="907920"/>
              <a:chExt cx="641160" cy="822600"/>
            </a:xfrm>
          </p:grpSpPr>
          <p:sp>
            <p:nvSpPr>
              <p:cNvPr id="166" name="Oval 38"/>
              <p:cNvSpPr/>
              <p:nvPr/>
            </p:nvSpPr>
            <p:spPr>
              <a:xfrm>
                <a:off x="6692760" y="1084320"/>
                <a:ext cx="641160" cy="480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9"/>
              <p:cNvSpPr/>
              <p:nvPr/>
            </p:nvSpPr>
            <p:spPr>
              <a:xfrm>
                <a:off x="6697440" y="907920"/>
                <a:ext cx="622080" cy="822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40"/>
              <p:cNvSpPr/>
              <p:nvPr/>
            </p:nvSpPr>
            <p:spPr>
              <a:xfrm>
                <a:off x="6705000" y="912600"/>
                <a:ext cx="60732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41"/>
              <p:cNvSpPr/>
              <p:nvPr/>
            </p:nvSpPr>
            <p:spPr>
              <a:xfrm>
                <a:off x="6711840" y="920520"/>
                <a:ext cx="577440" cy="74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2"/>
              <p:cNvSpPr/>
              <p:nvPr/>
            </p:nvSpPr>
            <p:spPr>
              <a:xfrm>
                <a:off x="6745320" y="940680"/>
                <a:ext cx="51300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43"/>
            <p:cNvSpPr/>
            <p:nvPr/>
          </p:nvSpPr>
          <p:spPr>
            <a:xfrm>
              <a:off x="6829200" y="102348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4"/>
            <p:cNvSpPr/>
            <p:nvPr/>
          </p:nvSpPr>
          <p:spPr>
            <a:xfrm>
              <a:off x="6022800" y="1908720"/>
              <a:ext cx="205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Разработать и внедрить эффективную модель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внутришкольного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 повышения квалификации руководителей и педагогов школ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5"/>
            <p:cNvSpPr/>
            <p:nvPr/>
          </p:nvSpPr>
          <p:spPr>
            <a:xfrm>
              <a:off x="5940360" y="5085360"/>
              <a:ext cx="2163600" cy="1149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6"/>
            <p:cNvSpPr/>
            <p:nvPr/>
          </p:nvSpPr>
          <p:spPr>
            <a:xfrm>
              <a:off x="5984640" y="5116680"/>
              <a:ext cx="2070000" cy="102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83"/>
          <p:cNvGrpSpPr/>
          <p:nvPr/>
        </p:nvGrpSpPr>
        <p:grpSpPr>
          <a:xfrm>
            <a:off x="971640" y="260280"/>
            <a:ext cx="6913080" cy="685800"/>
            <a:chOff x="971640" y="260280"/>
            <a:chExt cx="6913080" cy="685800"/>
          </a:xfrm>
        </p:grpSpPr>
        <p:sp>
          <p:nvSpPr>
            <p:cNvPr id="176" name="AutoShape 84"/>
            <p:cNvSpPr/>
            <p:nvPr/>
          </p:nvSpPr>
          <p:spPr>
            <a:xfrm>
              <a:off x="1528920" y="37944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971640" y="26028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6"/>
            <p:cNvSpPr/>
            <p:nvPr/>
          </p:nvSpPr>
          <p:spPr>
            <a:xfrm>
              <a:off x="1863360" y="43488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7"/>
            <p:cNvSpPr/>
            <p:nvPr/>
          </p:nvSpPr>
          <p:spPr>
            <a:xfrm>
              <a:off x="1361880" y="35892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4859280" y="2492280"/>
            <a:ext cx="3995640" cy="331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50920" y="2492280"/>
            <a:ext cx="4105080" cy="302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1908000" y="1268280"/>
            <a:ext cx="903600" cy="1241640"/>
          </a:xfrm>
          <a:prstGeom prst="pie">
            <a:avLst/>
          </a:prstGeom>
          <a:gradFill rotWithShape="0">
            <a:gsLst>
              <a:gs pos="0">
                <a:srgbClr val="63c2f7"/>
              </a:gs>
              <a:gs pos="100000">
                <a:srgbClr val="9cd8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 flipH="1">
            <a:off x="4642560" y="29242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 flipH="1">
            <a:off x="6587280" y="1341360"/>
            <a:ext cx="903240" cy="1241640"/>
          </a:xfrm>
          <a:prstGeom prst="pie">
            <a:avLst/>
          </a:pr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11280" y="333360"/>
            <a:ext cx="72007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637720"/>
            <a:ext cx="37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ради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качества профессионального уровня учителя посредством наращивания количества знаний о новых методиках, приёмах, технологиях и умений за счёт копирования их в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2566080"/>
            <a:ext cx="352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нов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качества профессионального уровня и педагогического мастерства учителей рассматривается не только как процесс накопления знаний. Это, прежде всего, процесс углубленного проникновения в сущность новых технолог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ндикаторы результатив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87280" y="1125360"/>
            <a:ext cx="6624360" cy="1160280"/>
            <a:chOff x="1187280" y="1125360"/>
            <a:chExt cx="6624360" cy="1160280"/>
          </a:xfrm>
        </p:grpSpPr>
        <p:sp>
          <p:nvSpPr>
            <p:cNvPr id="191" name=""/>
            <p:cNvSpPr/>
            <p:nvPr/>
          </p:nvSpPr>
          <p:spPr>
            <a:xfrm>
              <a:off x="1721160" y="1326960"/>
              <a:ext cx="6090480" cy="77328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1125360"/>
              <a:ext cx="961560" cy="116028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1560" y="1420560"/>
              <a:ext cx="480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педагогов по практико-ориентированным программам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6000" y="129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87280" y="2205000"/>
            <a:ext cx="6624360" cy="1439280"/>
            <a:chOff x="1187280" y="2205000"/>
            <a:chExt cx="6624360" cy="1439280"/>
          </a:xfrm>
        </p:grpSpPr>
        <p:sp>
          <p:nvSpPr>
            <p:cNvPr id="196" name=""/>
            <p:cNvSpPr/>
            <p:nvPr/>
          </p:nvSpPr>
          <p:spPr>
            <a:xfrm>
              <a:off x="1721160" y="2454840"/>
              <a:ext cx="6090480" cy="959400"/>
            </a:xfrm>
            <a:prstGeom prst="roundRect">
              <a:avLst>
                <a:gd name="adj" fmla="val 16667"/>
              </a:avLst>
            </a:prstGeom>
            <a:solidFill>
              <a:srgbClr val="3195d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2205000"/>
              <a:ext cx="961560" cy="1439280"/>
            </a:xfrm>
            <a:prstGeom prst="diamond">
              <a:avLst/>
            </a:prstGeom>
            <a:solidFill>
              <a:srgbClr val="3195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1560" y="257148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количества проектов и программ, разработанных совместно с местным сообще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3840" y="241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258920" y="3573360"/>
            <a:ext cx="6552720" cy="1287360"/>
            <a:chOff x="1258920" y="3573360"/>
            <a:chExt cx="6552720" cy="1287360"/>
          </a:xfrm>
        </p:grpSpPr>
        <p:sp>
          <p:nvSpPr>
            <p:cNvPr id="201" name=""/>
            <p:cNvSpPr/>
            <p:nvPr/>
          </p:nvSpPr>
          <p:spPr>
            <a:xfrm>
              <a:off x="1787040" y="3796920"/>
              <a:ext cx="6024600" cy="85824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8920" y="3573360"/>
              <a:ext cx="951120" cy="128736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04200" y="3900960"/>
              <a:ext cx="475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Рост количества и качества разработок инновационных проектов и программ на грантовые конкур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2600" y="375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58920" y="4724280"/>
            <a:ext cx="6552720" cy="1261800"/>
            <a:chOff x="1258920" y="4724280"/>
            <a:chExt cx="6552720" cy="1261800"/>
          </a:xfrm>
        </p:grpSpPr>
        <p:sp>
          <p:nvSpPr>
            <p:cNvPr id="206" name=""/>
            <p:cNvSpPr/>
            <p:nvPr/>
          </p:nvSpPr>
          <p:spPr>
            <a:xfrm>
              <a:off x="1787040" y="4943520"/>
              <a:ext cx="6024600" cy="840960"/>
            </a:xfrm>
            <a:prstGeom prst="roundRect">
              <a:avLst>
                <a:gd name="adj" fmla="val 16667"/>
              </a:avLst>
            </a:prstGeom>
            <a:solidFill>
              <a:srgbClr val="3b97a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58920" y="4724280"/>
              <a:ext cx="951120" cy="1261800"/>
            </a:xfrm>
            <a:prstGeom prst="diamond">
              <a:avLst/>
            </a:prstGeom>
            <a:solidFill>
              <a:srgbClr val="3b97a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04200" y="5045400"/>
              <a:ext cx="475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обучающихся, имеющих высокие личностные достижения в разных видах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1520" y="490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ндикаторы результатив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87280" y="1125360"/>
            <a:ext cx="6624360" cy="1366560"/>
            <a:chOff x="1187280" y="1125360"/>
            <a:chExt cx="6624360" cy="1366560"/>
          </a:xfrm>
        </p:grpSpPr>
        <p:sp>
          <p:nvSpPr>
            <p:cNvPr id="212" name=""/>
            <p:cNvSpPr/>
            <p:nvPr/>
          </p:nvSpPr>
          <p:spPr>
            <a:xfrm>
              <a:off x="1721160" y="1362600"/>
              <a:ext cx="6090480" cy="9108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1125360"/>
              <a:ext cx="961560" cy="136656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41560" y="147312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Эффективно действующая система внутришкольного повышения квалификации руководителей и педагогов школ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6000" y="132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87280" y="2205000"/>
            <a:ext cx="6624360" cy="1439280"/>
            <a:chOff x="1187280" y="2205000"/>
            <a:chExt cx="6624360" cy="1439280"/>
          </a:xfrm>
        </p:grpSpPr>
        <p:sp>
          <p:nvSpPr>
            <p:cNvPr id="217" name=""/>
            <p:cNvSpPr/>
            <p:nvPr/>
          </p:nvSpPr>
          <p:spPr>
            <a:xfrm>
              <a:off x="1721160" y="2454840"/>
              <a:ext cx="6090480" cy="959400"/>
            </a:xfrm>
            <a:prstGeom prst="roundRect">
              <a:avLst>
                <a:gd name="adj" fmla="val 16667"/>
              </a:avLst>
            </a:prstGeom>
            <a:solidFill>
              <a:srgbClr val="3195d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7280" y="2205000"/>
              <a:ext cx="961560" cy="1439280"/>
            </a:xfrm>
            <a:prstGeom prst="diamond">
              <a:avLst/>
            </a:prstGeom>
            <a:solidFill>
              <a:srgbClr val="3195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1560" y="257148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педагогов, овладевших и применяющих современные образовательные 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3840" y="241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58920" y="3573360"/>
            <a:ext cx="6552720" cy="1726560"/>
            <a:chOff x="1258920" y="3573360"/>
            <a:chExt cx="6552720" cy="1726560"/>
          </a:xfrm>
        </p:grpSpPr>
        <p:sp>
          <p:nvSpPr>
            <p:cNvPr id="222" name=""/>
            <p:cNvSpPr/>
            <p:nvPr/>
          </p:nvSpPr>
          <p:spPr>
            <a:xfrm>
              <a:off x="1787040" y="3873240"/>
              <a:ext cx="6024600" cy="115092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58920" y="3573360"/>
              <a:ext cx="951120" cy="172656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04200" y="4012920"/>
              <a:ext cx="4755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количества педагогов, разработавших авторские программы, учебно-методические комплекты, методические рекоменд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2600" y="3821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Этапы реализации проек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3000" y="5173560"/>
            <a:ext cx="165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73000" y="4335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3000" y="3505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72640" y="267660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73000" y="183528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5640" y="18288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25640" y="27003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25640" y="351792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25640" y="43354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2106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-2014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1160" y="29336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-2013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1160" y="3797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-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7200" y="4649760"/>
            <a:ext cx="22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010-2011 учебны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771640" y="2133720"/>
            <a:ext cx="6659280" cy="3816000"/>
            <a:chOff x="2771640" y="2133720"/>
            <a:chExt cx="6659280" cy="3816000"/>
          </a:xfrm>
        </p:grpSpPr>
        <p:sp>
          <p:nvSpPr>
            <p:cNvPr id="241" name=""/>
            <p:cNvSpPr/>
            <p:nvPr/>
          </p:nvSpPr>
          <p:spPr>
            <a:xfrm>
              <a:off x="8765280" y="2133720"/>
              <a:ext cx="658080" cy="9658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d5971"/>
                </a:gs>
                <a:gs pos="50000">
                  <a:srgbClr val="63c2f7"/>
                </a:gs>
                <a:gs pos="100000">
                  <a:srgbClr val="2d59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09520" y="2133720"/>
              <a:ext cx="3821400" cy="61776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3c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02880" y="3083040"/>
              <a:ext cx="658440" cy="9601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d356f"/>
                </a:gs>
                <a:gs pos="50000">
                  <a:srgbClr val="4173f1"/>
                </a:gs>
                <a:gs pos="100000">
                  <a:srgbClr val="1d35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560" y="3083040"/>
              <a:ext cx="4107600" cy="6159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38680" y="4032720"/>
              <a:ext cx="654840" cy="9637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54d"/>
                </a:gs>
                <a:gs pos="50000">
                  <a:srgbClr val="3b97a9"/>
                </a:gs>
                <a:gs pos="100000">
                  <a:srgbClr val="1b45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78080" y="4984200"/>
              <a:ext cx="660240" cy="96552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642"/>
                </a:gs>
                <a:gs pos="50000">
                  <a:srgbClr val="0b3191"/>
                </a:gs>
                <a:gs pos="100000">
                  <a:srgbClr val="0516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73440" y="4989600"/>
              <a:ext cx="4664880" cy="6159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0600" y="2309400"/>
              <a:ext cx="2100960" cy="31075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7080" y="2751480"/>
              <a:ext cx="3162600" cy="347760"/>
            </a:xfrm>
            <a:prstGeom prst="rect">
              <a:avLst/>
            </a:prstGeom>
            <a:gradFill rotWithShape="0">
              <a:gsLst>
                <a:gs pos="0">
                  <a:srgbClr val="478cb2"/>
                </a:gs>
                <a:gs pos="50000">
                  <a:srgbClr val="63c2f7"/>
                </a:gs>
                <a:gs pos="100000">
                  <a:srgbClr val="478c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недрение инновационных технолог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 учеб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2360" y="3699360"/>
              <a:ext cx="3447720" cy="340560"/>
            </a:xfrm>
            <a:prstGeom prst="rect">
              <a:avLst/>
            </a:prstGeom>
            <a:gradFill rotWithShape="0">
              <a:gsLst>
                <a:gs pos="0">
                  <a:srgbClr val="2e53ae"/>
                </a:gs>
                <a:gs pos="50000">
                  <a:srgbClr val="4173f1"/>
                </a:gs>
                <a:gs pos="100000">
                  <a:srgbClr val="2e5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недрение инновационных технолог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 учеб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8800" y="4032720"/>
              <a:ext cx="4382280" cy="6210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b9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22400" y="4652640"/>
              <a:ext cx="3730320" cy="340560"/>
            </a:xfrm>
            <a:prstGeom prst="rect">
              <a:avLst/>
            </a:prstGeom>
            <a:gradFill rotWithShape="0">
              <a:gsLst>
                <a:gs pos="0">
                  <a:srgbClr val="2a6d7a"/>
                </a:gs>
                <a:gs pos="50000">
                  <a:srgbClr val="3b97a9"/>
                </a:gs>
                <a:gs pos="100000">
                  <a:srgbClr val="2a6d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Научно-теоретическая подгот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1640" y="5607720"/>
              <a:ext cx="4015440" cy="338760"/>
            </a:xfrm>
            <a:prstGeom prst="rect">
              <a:avLst/>
            </a:prstGeom>
            <a:gradFill rotWithShape="0">
              <a:gsLst>
                <a:gs pos="0">
                  <a:srgbClr val="072368"/>
                </a:gs>
                <a:gs pos="50000">
                  <a:srgbClr val="0b3191"/>
                </a:gs>
                <a:gs pos="100000">
                  <a:srgbClr val="0723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Подготовитель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2:07:59Z</dcterms:created>
  <dc:creator>USER</dc:creator>
  <dc:description/>
  <dc:language>en-US</dc:language>
  <cp:lastModifiedBy>USER</cp:lastModifiedBy>
  <dcterms:modified xsi:type="dcterms:W3CDTF">2010-11-23T16:12:48Z</dcterms:modified>
  <cp:revision>2</cp:revision>
  <dc:subject/>
  <dc:title>Слайд 1</dc:title>
</cp:coreProperties>
</file>