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2.wmf" ContentType="image/x-wmf"/>
  <Override PartName="/ppt/media/image20.jpeg" ContentType="image/jpeg"/>
  <Override PartName="/ppt/media/image19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9.png" ContentType="image/png"/>
  <Override PartName="/ppt/media/image34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7E6-8E76-4F08-8696-5C7B63BB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7C6-ABFC-4984-8353-E92BE00E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BCD-FA37-4C14-97CE-360BF421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04E-893A-4182-9078-FECD4CFD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2E4-417F-4CFA-8187-3840FE33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E71-5337-415B-9AAB-5EE6834E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0C0-D3D8-4B69-95E8-00507215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2EF-1622-404A-A90B-343AE9D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44E-DB04-4E01-A9C2-CF558460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046-3763-4BAA-A856-0063DB96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356-D4C0-4CC7-BD8C-1795E1D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024-5332-40CC-B5EE-DF2A417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19F356-5E64-43BF-9753-CCAD303174B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57;&#1057;&#1056;_&#1085;&#1072;_&#1083;&#1077;&#1090;&#1085;&#1080;&#1093;_&#1054;&#1083;&#1080;&#1084;&#1087;&#1080;&#1081;&#1089;&#1082;&#1080;&#1093;_&#1080;&#1075;&#1088;&#1072;&#1093;_1980" TargetMode="External"/><Relationship Id="rId2" Type="http://schemas.openxmlformats.org/officeDocument/2006/relationships/hyperlink" Target="http://ru.wikipedia.org/wiki/&#1043;&#1044;&#1056;_&#1085;&#1072;_&#1083;&#1077;&#1090;&#1085;&#1080;&#1093;_&#1054;&#1083;&#1080;&#1084;&#1087;&#1080;&#1081;&#1089;&#1082;&#1080;&#1093;_&#1080;&#1075;&#1088;&#1072;&#1093;_1980" TargetMode="External"/><Relationship Id="rId3" Type="http://schemas.openxmlformats.org/officeDocument/2006/relationships/hyperlink" Target="http://ru.wikipedia.org/w/index.php?title=&#1041;&#1086;&#1083;&#1075;&#1072;&#1088;&#1080;&#1103;_&#1085;&#1072;_&#1083;&#1077;&#1090;&#1085;&#1080;&#1093;_&#1054;&#1083;&#1080;&#1084;&#1087;&#1080;&#1081;&#1089;&#1082;&#1080;&#1093;_&#1080;&#1075;&#1088;&#1072;&#1093;_1980&amp;action=edit&amp;redlink=1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84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ое марта.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-игра.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в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е и п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е 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ит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ные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Diskoteka_Avariya-_Edem_edem_v_Polshu_v_Ukrainu_Rossiya_vpered.mp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83272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405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5472000" cy="411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57720" y="2852640"/>
            <a:ext cx="4886280" cy="367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549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ремония открытия Олимпиады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ревратите» количественные числительные в порядков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5280" y="1773360"/>
          <a:ext cx="2736720" cy="4463640"/>
        </p:xfrm>
        <a:graphic>
          <a:graphicData uri="http://schemas.openxmlformats.org/drawingml/2006/table">
            <a:tbl>
              <a:tblPr/>
              <a:tblGrid>
                <a:gridCol w="2736720"/>
              </a:tblGrid>
              <a:tr h="8920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ыр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580000" y="1844640"/>
          <a:ext cx="3168720" cy="439272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878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вы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о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т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ы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3419640" y="3860640"/>
            <a:ext cx="1800000" cy="289080"/>
          </a:xfrm>
          <a:prstGeom prst="rightArrow">
            <a:avLst>
              <a:gd name="adj1" fmla="val 50000"/>
              <a:gd name="adj2" fmla="val 155666"/>
            </a:avLst>
          </a:prstGeom>
          <a:solidFill>
            <a:srgbClr val="89f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лонение числитель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ь 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..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… д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2920" y="2707920"/>
            <a:ext cx="40388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ь в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… втор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… вт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… в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… вт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… втор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484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88000" y="1484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лонение числительны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в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п.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п. о двадцат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тор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5897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личе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558972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орядков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 Игр В Москве (198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48036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ский руб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042920" y="3860640"/>
            <a:ext cx="5029200" cy="251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3933720"/>
            <a:ext cx="4800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464000" cy="6553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56000" y="189000"/>
            <a:ext cx="4032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.\суперфизминутка\Супер физкультминутка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59640" y="6092640"/>
            <a:ext cx="20160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рб С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020000" y="4724280"/>
            <a:ext cx="1146240" cy="1440000"/>
            <a:chOff x="7020000" y="4724280"/>
            <a:chExt cx="1146240" cy="1440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020000" y="4724280"/>
              <a:ext cx="11462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20000" y="4724280"/>
              <a:ext cx="114624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35640" y="189000"/>
            <a:ext cx="3529080" cy="15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324000" y="1773360"/>
          <a:ext cx="5916600" cy="4750920"/>
        </p:xfrm>
        <a:graphic>
          <a:graphicData uri="http://schemas.openxmlformats.org/drawingml/2006/table">
            <a:tbl>
              <a:tblPr/>
              <a:tblGrid>
                <a:gridCol w="2663640"/>
                <a:gridCol w="3252960"/>
              </a:tblGrid>
              <a:tr h="9680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ород-организ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08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зыгрывается меда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 комплектов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15 дисциплин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876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Церемония откры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февра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открытия – 324 дн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040"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дио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лимпийский стадион «Фишт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39640" y="549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XXII Зимние Олимпийски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63000" y="2420280"/>
            <a:ext cx="27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аркие. Зимние. Тво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435640" y="189000"/>
            <a:ext cx="3529080" cy="15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190080"/>
            <a:ext cx="8713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ведь, Леопард и Зайка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символа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2103480"/>
            <a:ext cx="6337440" cy="4754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56000" y="141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1700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5013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стафета олимпийского огня стартует в России 8 октября 2013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4932360" cy="3698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56000" y="609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95640" y="6021360"/>
            <a:ext cx="360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6093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27640" y="6021360"/>
            <a:ext cx="43200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8469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д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ое марта.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ок-игра.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в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н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е и п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я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е ч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ит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ь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832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6000" y="836640"/>
            <a:ext cx="77724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БАНСК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ИМПИЙЦ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0800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871640" cy="1487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429264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4 кубанских спортсмена стали чемпионами и призерами тринадцати Олимпийских и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2376360" cy="1885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4360" y="4869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4869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609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6093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6093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609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6093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285840"/>
            <a:ext cx="777240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XXII Олимпиад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1980 года г. Москва (СССР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2060640"/>
            <a:ext cx="4749840" cy="388944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рнова Людмила Александровна 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вадцать четыре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оевала свое первое олимпийское «золото»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2786400" cy="401940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147" name=""/>
          <p:cNvSpPr/>
          <p:nvPr/>
        </p:nvSpPr>
        <p:spPr>
          <a:xfrm>
            <a:off x="684360" y="357336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3573360"/>
            <a:ext cx="35892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95640" y="357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3573360"/>
            <a:ext cx="43200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3573360"/>
            <a:ext cx="431640" cy="716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4581360"/>
            <a:ext cx="1224000" cy="144720"/>
          </a:xfrm>
          <a:custGeom>
            <a:avLst/>
            <a:gdLst/>
            <a:ahLst/>
            <a:rect l="l" t="t" r="r" b="b"/>
            <a:pathLst>
              <a:path w="408" h="46">
                <a:moveTo>
                  <a:pt x="0" y="46"/>
                </a:moveTo>
                <a:cubicBezTo>
                  <a:pt x="30" y="23"/>
                  <a:pt x="60" y="0"/>
                  <a:pt x="90" y="0"/>
                </a:cubicBezTo>
                <a:cubicBezTo>
                  <a:pt x="120" y="0"/>
                  <a:pt x="143" y="46"/>
                  <a:pt x="181" y="46"/>
                </a:cubicBezTo>
                <a:cubicBezTo>
                  <a:pt x="219" y="46"/>
                  <a:pt x="279" y="0"/>
                  <a:pt x="317" y="0"/>
                </a:cubicBezTo>
                <a:cubicBezTo>
                  <a:pt x="355" y="0"/>
                  <a:pt x="393" y="38"/>
                  <a:pt x="408" y="4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102200" cy="4232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8360" y="26028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няться за двумя зай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бить двух за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257720" cy="4762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42920" y="692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ва сапога па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18328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26920" y="54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грать первую скрип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705800" cy="4338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58920" y="404640"/>
            <a:ext cx="66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знать из первых ру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7848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39640" y="2997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 седьмого п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63640" y="1773360"/>
            <a:ext cx="53992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вы изуч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843280" y="3497400"/>
            <a:ext cx="3708360" cy="315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19280" y="1341360"/>
            <a:ext cx="5761080" cy="1657440"/>
          </a:xfrm>
          <a:prstGeom prst="wedgeRoundRectCallout">
            <a:avLst>
              <a:gd name="adj1" fmla="val -9189"/>
              <a:gd name="adj2" fmla="val 80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3500280"/>
            <a:ext cx="403704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овит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зряд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числительных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535200" cy="4524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9280" y="3068640"/>
            <a:ext cx="4680000" cy="1871640"/>
          </a:xfrm>
          <a:prstGeom prst="flowChartMagnetic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037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ако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твечают количественные числительны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он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аю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198600" cy="4524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40360" y="1197000"/>
            <a:ext cx="4608360" cy="2303280"/>
          </a:xfrm>
          <a:prstGeom prst="wedgeRoundRectCallout">
            <a:avLst>
              <a:gd name="adj1" fmla="val -52824"/>
              <a:gd name="adj2" fmla="val 666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4365720"/>
            <a:ext cx="3672000" cy="1439640"/>
          </a:xfrm>
          <a:prstGeom prst="wedgeRoundRectCallout">
            <a:avLst>
              <a:gd name="adj1" fmla="val -70490"/>
              <a:gd name="adj2" fmla="val -6841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431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и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1337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йбол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32000" y="2997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тел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378936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ше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ст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458136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окк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ей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445000"/>
            <a:ext cx="554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та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в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2433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акой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твечаю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рядков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ительные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н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означаю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038840" cy="3425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1700280"/>
            <a:ext cx="3671640" cy="2376360"/>
          </a:xfrm>
          <a:prstGeom prst="wedgeRoundRectCallout">
            <a:avLst>
              <a:gd name="adj1" fmla="val 76675"/>
              <a:gd name="adj2" fmla="val 291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292640"/>
            <a:ext cx="4032360" cy="1584360"/>
          </a:xfrm>
          <a:prstGeom prst="wedgeRoundRectCallout">
            <a:avLst>
              <a:gd name="adj1" fmla="val 60550"/>
              <a:gd name="adj2" fmla="val 3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609300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рка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81560" cy="4229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8360" y="333360"/>
            <a:ext cx="813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84360" y="5877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т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81560" cy="42292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8360" y="333360"/>
            <a:ext cx="813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84360" y="5877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т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028000" y="436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81560" cy="4229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68360" y="333360"/>
            <a:ext cx="813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028000" y="3789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484360" y="5877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ь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ст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028000" y="436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11120" y="1618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1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ыбор пис. упр. 708, 7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9640" y="2133720"/>
            <a:ext cx="7920000" cy="25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Ни пуха ни пер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09308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245597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дежные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.п. кт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п. кого? ч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п. кому? 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.п. кого? ч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.п. кем? ч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п. о ком? о чё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27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Имя числительно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816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стоятельная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асть реч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значающая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число, количест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едметов или их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орядок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ри сч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отвечающая на вопросы </a:t>
            </a: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колько? котор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20640"/>
            <a:ext cx="244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.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5448240" cy="4324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2446200" cy="374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лимпийские игры в Древней Гре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50920" y="1844640"/>
          <a:ext cx="8642160" cy="4824360"/>
        </p:xfrm>
        <a:graphic>
          <a:graphicData uri="http://schemas.openxmlformats.org/drawingml/2006/table">
            <a:tbl>
              <a:tblPr/>
              <a:tblGrid>
                <a:gridCol w="1944720"/>
                <a:gridCol w="2808000"/>
                <a:gridCol w="3889440"/>
              </a:tblGrid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твечает на 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20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Об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Разря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971640" y="333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я 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989000"/>
            <a:ext cx="2590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Которы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378936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орядок предметов при сч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720" y="242100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Сколь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414972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Коли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589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5805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РЯД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03640" y="580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ОЛИЧЕ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76280"/>
            <a:ext cx="633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л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96720" y="1916280"/>
            <a:ext cx="6905520" cy="5876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2639880" cy="3879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лимпиада в СССР.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юз Советских Социалистических Республ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Кто быстре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81471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ественны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числительные подчеркн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ядковые – обведите в кружоче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2133720"/>
            <a:ext cx="2879640" cy="6490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3213000"/>
          <a:ext cx="8208720" cy="3036960"/>
        </p:xfrm>
        <a:graphic>
          <a:graphicData uri="http://schemas.openxmlformats.org/drawingml/2006/table">
            <a:tbl>
              <a:tblPr/>
              <a:tblGrid>
                <a:gridCol w="4032000"/>
                <a:gridCol w="4176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ПОРЯДКОВ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КОЛИЧЕСТВЕНН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ОТОРЫЙ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АКОЙ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КОЛЬК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РЯДОК ПРИ СЧЕ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ru-RU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ОЛИЧЕ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333360"/>
          <a:ext cx="8569080" cy="6264000"/>
        </p:xfrm>
        <a:graphic>
          <a:graphicData uri="http://schemas.openxmlformats.org/drawingml/2006/table">
            <a:tbl>
              <a:tblPr/>
              <a:tblGrid>
                <a:gridCol w="690480"/>
                <a:gridCol w="2146320"/>
                <a:gridCol w="1315800"/>
                <a:gridCol w="1492560"/>
                <a:gridCol w="1319040"/>
                <a:gridCol w="1604880"/>
              </a:tblGrid>
              <a:tr h="1127160">
                <a:tc gridSpan="5"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тние Олимпийские игры 19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оло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d700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он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efefe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Г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44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Болг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080">
                <a:tc>
                  <a:txBody>
                    <a:bodyPr lIns="90000" rIns="90000" tIns="608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Ку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8040" bIns="46800" anchor="ctr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7308720" y="333360"/>
            <a:ext cx="15112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340000" y="4005360"/>
            <a:ext cx="576360" cy="34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340000" y="4869000"/>
            <a:ext cx="720720" cy="42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2195640" y="6021360"/>
            <a:ext cx="71280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558972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516640"/>
            <a:ext cx="8569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? Кто? Что сделал? Сколько? Ч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708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С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6:38:28Z</dcterms:created>
  <dc:creator>дом</dc:creator>
  <dc:description/>
  <dc:language>en-US</dc:language>
  <cp:lastModifiedBy>дом</cp:lastModifiedBy>
  <dcterms:modified xsi:type="dcterms:W3CDTF">2013-04-25T17:23:09Z</dcterms:modified>
  <cp:revision>29</cp:revision>
  <dc:subject/>
  <dc:title>Двадцатое марта. Урок-сюрприз.  Количественные и порядковые числительные.</dc:title>
</cp:coreProperties>
</file>