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9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C8B-7BD1-4FE4-9B70-C24E301D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901-799B-4269-A317-96635A3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6BF-550F-46BA-8863-8D9C16F4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484-968C-43AA-81BD-3A001D6D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E4A-D5F1-4690-B139-045E67B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BFB-7FFF-47E5-816F-575F194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326-9946-4F8D-BFD4-6C0A938B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734-6CD2-45EA-B523-93D5565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456-5C58-46CB-BC43-D204571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A56-B8F1-4BAF-9481-8CB05AC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244-F13F-41C7-AE3B-4101B6D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013-2203-4B05-AD7F-717F22F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1C88A-F7A3-41AD-AF73-01830A2B69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57;&#1057;&#1056;_&#1085;&#1072;_&#1083;&#1077;&#1090;&#1085;&#1080;&#1093;_&#1054;&#1083;&#1080;&#1084;&#1087;&#1080;&#1081;&#1089;&#1082;&#1080;&#1093;_&#1080;&#1075;&#1088;&#1072;&#1093;_1980" TargetMode="External"/><Relationship Id="rId2" Type="http://schemas.openxmlformats.org/officeDocument/2006/relationships/hyperlink" Target="http://ru.wikipedia.org/wiki/&#1043;&#1044;&#1056;_&#1085;&#1072;_&#1083;&#1077;&#1090;&#1085;&#1080;&#1093;_&#1054;&#1083;&#1080;&#1084;&#1087;&#1080;&#1081;&#1089;&#1082;&#1080;&#1093;_&#1080;&#1075;&#1088;&#1072;&#1093;_1980" TargetMode="External"/><Relationship Id="rId3" Type="http://schemas.openxmlformats.org/officeDocument/2006/relationships/hyperlink" Target="http://ru.wikipedia.org/w/index.php?title=&#1041;&#1086;&#1083;&#1075;&#1072;&#1088;&#1080;&#1103;_&#1085;&#1072;_&#1083;&#1077;&#1090;&#1085;&#1080;&#1093;_&#1054;&#1083;&#1080;&#1084;&#1087;&#1080;&#1081;&#1089;&#1082;&#1080;&#1093;_&#1080;&#1075;&#1088;&#1072;&#1093;_1980&amp;action=edit&amp;redlink=1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84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ое марта.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-игра.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 и п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е 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ит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ные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Diskoteka_Avariya-_Edem_edem_v_Polshu_v_Ukrainu_Rossiya_vpered.m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83272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0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472000" cy="411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57720" y="2852640"/>
            <a:ext cx="4886280" cy="367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ремония открытия Олимпиады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ревратите» количественные числительные в порядков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773360"/>
          <a:ext cx="2736720" cy="446364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92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580000" y="1844640"/>
          <a:ext cx="3168720" cy="439272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878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т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ы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3419640" y="3860640"/>
            <a:ext cx="1800000" cy="289080"/>
          </a:xfrm>
          <a:prstGeom prst="rightArrow">
            <a:avLst>
              <a:gd name="adj1" fmla="val 50000"/>
              <a:gd name="adj2" fmla="val 155666"/>
            </a:avLst>
          </a:prstGeom>
          <a:solidFill>
            <a:srgbClr val="89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лонение числите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ь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..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2920" y="2707920"/>
            <a:ext cx="40388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ь в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… вт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… в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… в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… в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… вт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484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484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лонение числите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589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личе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589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орядков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 Игр В Москве (198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4803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ий руб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502920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3933720"/>
            <a:ext cx="4800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464000" cy="6553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56000" y="189000"/>
            <a:ext cx="4032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\суперфизминутка\Супер физкультминутка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59640" y="6092640"/>
            <a:ext cx="20160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б С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20000" y="4724280"/>
            <a:ext cx="1146240" cy="1440000"/>
            <a:chOff x="7020000" y="4724280"/>
            <a:chExt cx="1146240" cy="1440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020000" y="4724280"/>
              <a:ext cx="1146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20000" y="4724280"/>
              <a:ext cx="114624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529080" cy="15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24000" y="1773360"/>
          <a:ext cx="5916600" cy="4750920"/>
        </p:xfrm>
        <a:graphic>
          <a:graphicData uri="http://schemas.openxmlformats.org/drawingml/2006/table">
            <a:tbl>
              <a:tblPr/>
              <a:tblGrid>
                <a:gridCol w="2663640"/>
                <a:gridCol w="3252960"/>
              </a:tblGrid>
              <a:tr h="968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ород-организ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зыгрывается меда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 комплектов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5 дисципли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876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Церемония 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открытия – 324 дн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дио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ский стадион «Фишт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XXII Зимние Олимпийск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3000" y="2420280"/>
            <a:ext cx="27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аркие. Зимние. Тво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35640" y="189000"/>
            <a:ext cx="3529080" cy="15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190080"/>
            <a:ext cx="8713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ведь, Леопард и Зай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символа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210348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56000" y="141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1700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501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тафета олимпийского огня стартует в России 8 октября 2013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56000" y="609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6021360"/>
            <a:ext cx="360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6093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6021360"/>
            <a:ext cx="43200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84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ое марта.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-игра.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 и п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е 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ит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832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836640"/>
            <a:ext cx="77724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БАН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0800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71640" cy="1487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429264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4 кубанских спортсмена стали чемпионами и призерами тринадцати Олимпийских и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23763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4360" y="4869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4869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609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609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609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609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285840"/>
            <a:ext cx="7772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XXII Олимпиад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1980 года г. Москва (СССР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060640"/>
            <a:ext cx="4749840" cy="388944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ова Людмила Александровна 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адцать четыре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оевала свое первое олимпийское «золото»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2786400" cy="401940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147" name=""/>
          <p:cNvSpPr/>
          <p:nvPr/>
        </p:nvSpPr>
        <p:spPr>
          <a:xfrm>
            <a:off x="684360" y="357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3573360"/>
            <a:ext cx="35892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57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3573360"/>
            <a:ext cx="43200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573360"/>
            <a:ext cx="43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4581360"/>
            <a:ext cx="1224000" cy="144720"/>
          </a:xfrm>
          <a:custGeom>
            <a:avLst/>
            <a:gdLst/>
            <a:ahLst/>
            <a:rect l="l" t="t" r="r" b="b"/>
            <a:pathLst>
              <a:path w="408" h="46">
                <a:moveTo>
                  <a:pt x="0" y="46"/>
                </a:moveTo>
                <a:cubicBezTo>
                  <a:pt x="30" y="23"/>
                  <a:pt x="60" y="0"/>
                  <a:pt x="90" y="0"/>
                </a:cubicBezTo>
                <a:cubicBezTo>
                  <a:pt x="120" y="0"/>
                  <a:pt x="143" y="46"/>
                  <a:pt x="181" y="46"/>
                </a:cubicBezTo>
                <a:cubicBezTo>
                  <a:pt x="219" y="46"/>
                  <a:pt x="279" y="0"/>
                  <a:pt x="317" y="0"/>
                </a:cubicBezTo>
                <a:cubicBezTo>
                  <a:pt x="355" y="0"/>
                  <a:pt x="393" y="38"/>
                  <a:pt x="408" y="4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102200" cy="4232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260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няться за двумя зай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бить двух за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25772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42920" y="692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а сапога па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8328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26920" y="54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ть первую скрип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05800" cy="4338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58920" y="40464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знать из первых ру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7848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299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седьмого п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640" y="1773360"/>
            <a:ext cx="53992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вы изуч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843280" y="3497400"/>
            <a:ext cx="3708360" cy="315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19280" y="1341360"/>
            <a:ext cx="5761080" cy="1657440"/>
          </a:xfrm>
          <a:prstGeom prst="wedgeRoundRectCallout">
            <a:avLst>
              <a:gd name="adj1" fmla="val -9189"/>
              <a:gd name="adj2" fmla="val 80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403704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ря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числительны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35200" cy="452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3068640"/>
            <a:ext cx="4680000" cy="1871640"/>
          </a:xfrm>
          <a:prstGeom prst="flowChartMagnetic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037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ак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вечают количественные числитель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он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198600" cy="452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40360" y="1197000"/>
            <a:ext cx="4608360" cy="2303280"/>
          </a:xfrm>
          <a:prstGeom prst="wedgeRoundRectCallout">
            <a:avLst>
              <a:gd name="adj1" fmla="val -52824"/>
              <a:gd name="adj2" fmla="val 66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365720"/>
            <a:ext cx="3672000" cy="1439640"/>
          </a:xfrm>
          <a:prstGeom prst="wedgeRoundRectCallout">
            <a:avLst>
              <a:gd name="adj1" fmla="val -70490"/>
              <a:gd name="adj2" fmla="val -684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431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и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1337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йбол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2997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те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378936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т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458136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ок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4450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243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акой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твеча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ительные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н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аю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425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1700280"/>
            <a:ext cx="3671640" cy="2376360"/>
          </a:xfrm>
          <a:prstGeom prst="wedgeRoundRectCallout">
            <a:avLst>
              <a:gd name="adj1" fmla="val 76675"/>
              <a:gd name="adj2" fmla="val 29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292640"/>
            <a:ext cx="4032360" cy="1584360"/>
          </a:xfrm>
          <a:prstGeom prst="wedgeRoundRectCallout">
            <a:avLst>
              <a:gd name="adj1" fmla="val 60550"/>
              <a:gd name="adj2" fmla="val 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6093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ка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02800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028000" y="436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1120" y="1618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ыбор пис. упр. 708, 7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9640" y="2133720"/>
            <a:ext cx="792000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и пуха ни пер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09308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245597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дежные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.п. 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п. кого? ч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п. кому? 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.п. ког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п. кем? ч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п. о ком? о чё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Имя числительно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816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асть реч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ющая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исло, количест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едметов или их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рядо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 с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отвечающая на вопросы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колько? котор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.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448240" cy="4324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446200" cy="374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лимпийские игры в Древней Гре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50920" y="1844640"/>
          <a:ext cx="8642160" cy="4824360"/>
        </p:xfrm>
        <a:graphic>
          <a:graphicData uri="http://schemas.openxmlformats.org/drawingml/2006/table">
            <a:tbl>
              <a:tblPr/>
              <a:tblGrid>
                <a:gridCol w="1944720"/>
                <a:gridCol w="2808000"/>
                <a:gridCol w="3889440"/>
              </a:tblGrid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твечает на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зря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97164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98900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отор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3789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рядок предметов при сч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242100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Сколь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оли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589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805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РЯД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58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ЛИЧ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6280"/>
            <a:ext cx="63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96720" y="1916280"/>
            <a:ext cx="6905520" cy="587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639880" cy="387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лимпиада в СССР.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юз Советских Социалистических Республ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то быстр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147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ествен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числительные подчерк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ядковые – обведите в кружоче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133720"/>
            <a:ext cx="2879640" cy="649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3213000"/>
          <a:ext cx="8208720" cy="3036960"/>
        </p:xfrm>
        <a:graphic>
          <a:graphicData uri="http://schemas.openxmlformats.org/drawingml/2006/table">
            <a:tbl>
              <a:tblPr/>
              <a:tblGrid>
                <a:gridCol w="4032000"/>
                <a:gridCol w="4176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КОЛИЧЕСТВЕН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ОТОРЫЙ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АКОЙ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РЯДОК ПРИ СЧЕ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333360"/>
          <a:ext cx="8569080" cy="6264000"/>
        </p:xfrm>
        <a:graphic>
          <a:graphicData uri="http://schemas.openxmlformats.org/drawingml/2006/table">
            <a:tbl>
              <a:tblPr/>
              <a:tblGrid>
                <a:gridCol w="690480"/>
                <a:gridCol w="2146320"/>
                <a:gridCol w="1315800"/>
                <a:gridCol w="1492560"/>
                <a:gridCol w="1319040"/>
                <a:gridCol w="1604880"/>
              </a:tblGrid>
              <a:tr h="1127160">
                <a:tc gridSpan="5"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ние Олимпийские игры 19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Г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Болг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08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Ку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308720" y="333360"/>
            <a:ext cx="15112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340000" y="4005360"/>
            <a:ext cx="57636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340000" y="4869000"/>
            <a:ext cx="720720" cy="42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195640" y="6021360"/>
            <a:ext cx="71280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58972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516640"/>
            <a:ext cx="8569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? Кто? Что сделал? Сколько?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708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8:28Z</dcterms:created>
  <dc:creator>дом</dc:creator>
  <dc:description/>
  <dc:language>en-US</dc:language>
  <cp:lastModifiedBy>дом</cp:lastModifiedBy>
  <dcterms:modified xsi:type="dcterms:W3CDTF">2013-04-25T17:23:09Z</dcterms:modified>
  <cp:revision>29</cp:revision>
  <dc:subject/>
  <dc:title>Двадцатое марта. Урок-сюрприз.  Количественные и порядковые числительные.</dc:title>
</cp:coreProperties>
</file>