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451-48C2-4257-8831-915BF77B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552-7537-43E9-A73F-137AB5C8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BAD-5B60-40F7-9350-0579AF7D1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99A-38CF-4F6F-9CC0-86F8E249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AEA0-40F5-465C-AAE3-0FB1699E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F750-3D66-452D-8BE9-FCDA22E6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7744-D746-4DC2-87EA-FEECD427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15F4-01EB-4158-8070-885C99BE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66BB-1BBC-4651-946C-09300857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4CC7-35FD-47DB-B215-D53C6940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1AB1-45A5-4B2B-9835-20270AD0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507D-FD5E-4F90-AF19-92105B40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F622-4FEF-4090-8889-8343CF2F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39B5-E1F8-4137-83C6-45F2E0AF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637F-0455-4B3D-A8C4-BEFA066E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2F28-397A-40F4-B959-0C549E87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AB28-8A49-422B-8635-D449D6EC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251EA-BC11-433A-AAA3-49B5AE17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ECCD0-EE47-4AB7-890D-FDE46961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D6022-7204-4A0C-8A6C-86497BF0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FE43C-5B67-477F-8C46-8CD5E77F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80427-FB24-4F00-A834-D1792CFD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D2F9-D24D-417F-9863-BF66274C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9BAAD-120C-4E9B-8CAE-F37F8B5B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C88F2-CE8A-4BC1-82EB-C3853F69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C27BB-6FCD-4621-ADB0-69F5D2E7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23667-05EB-4AF5-9D79-8E415D34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00CF6-15A1-4247-AACF-7DE3598F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01EDC-F790-433B-BC4F-D9ADF218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8218C-1B6E-4C84-9918-3FDD47B6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4262C-020F-4ED5-BB03-21B8EF34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27FB1-1F75-4BCF-9CD0-4C500DF5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68E76-E4DA-4242-B010-20ED8131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4BB-09D0-4BD6-9481-65819034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E638F-0B8A-487C-92C9-CDEFC839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6D8AF-D475-41C3-8C24-E366933E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D7CD6-1438-4322-97FE-16317522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CA648-DCED-408E-B8B5-36C898B7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16E7F-D4D9-4BCF-9E14-0FCA5A61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49CA5-7E1E-454D-843A-1E85BABC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7573C-E6C8-4FAB-AA69-5CBAF188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F0ACB-2629-48B2-9B8B-6CFB470A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531BF-F765-4A17-8B11-40E5F2DF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5A8A7-DC71-439F-BFB3-265BB03F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447-22B2-46F3-BC1A-06BF2693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67BB0-D936-4114-BE8C-9D14D6B6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BAC48-5A43-4578-811B-BCF4BBF4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8746C-72EF-4D6C-ADB1-7B941AC4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9C9B0-33BF-4C32-80BC-0826CFE2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A3C13-1311-4CA6-BC7B-CF2CB344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0BFE9-936F-4C5A-91A1-BA5118E3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2F75E-FEAF-4A08-B5F2-536C5540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1A3C7-81C9-438C-BB99-ECFF6B03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C3694-F2F5-4F6F-9C86-F2C0380E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D1787-5F40-480D-A57D-77D3A8E6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EC9-C03F-4C91-A177-52C4CC1E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4A801-B0DE-41F3-81F5-CDDA11EE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714-890A-4490-A66E-C71C1EA9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937-98FB-487F-A9EE-800E5A7B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A0F-15DE-4E4B-AEA1-889DEC62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A874-2D8A-4441-8546-A8FF2E8C5599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5B6A-41DC-4EEF-B356-4AB49B9D13DA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7440-608D-476E-AAA3-5F7EA5BC3C63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46DF-2394-438B-BC24-3D802F36125F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8622-E5FC-4132-9E12-433E1C3789F1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Users/1/Desktop/&#1076;&#1080;&#1089;&#1090;&#1072;&#1085;&#1090;/&#1080;&#1090;&#1086;&#1075;&#1086;&#1074;&#1099;&#1081;%20&#1091;&#1088;&#1086;&#1082;/&#1087;&#1088;&#1080;&#1083;&#1086;&#1078;&#1077;&#1085;&#1080;&#1077;%201.pps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9"/>
          <p:cNvSpPr/>
          <p:nvPr/>
        </p:nvSpPr>
        <p:spPr>
          <a:xfrm>
            <a:off x="4859280" y="765000"/>
            <a:ext cx="352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Я знаю каждый в классе ге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Но без труда талант не вп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Скрестите шпаги ваших м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Мы вместе сочиним ур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0" descr="C:\Users\1\Documents\13ноябрь\Kartinki_na_shkolnuju_temu\Kartinki\картинки на школьныю тему\Рисунок3.png"/>
          <p:cNvPicPr/>
          <p:nvPr/>
        </p:nvPicPr>
        <p:blipFill>
          <a:blip r:embed="rId1"/>
          <a:stretch/>
        </p:blipFill>
        <p:spPr>
          <a:xfrm>
            <a:off x="755640" y="804960"/>
            <a:ext cx="38876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85716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ыполните задан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2285640"/>
            <a:ext cx="8183520" cy="3500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)Запишите числа в порядке убывания: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</a:t>
            </a:r>
            <a:r>
              <a:rPr b="0" lang="ru-RU" sz="37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8,5; 8,16; 8,4; 8,49; 8,05; 8,61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)Уравняйте количество цифр после запятой в данных дробях: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7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,16; 18,5; 0,476; 1,4</a:t>
            </a:r>
            <a:r>
              <a:rPr b="0" lang="ru-RU" sz="37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1835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00"/>
                </a:solidFill>
                <a:latin typeface="Verdana"/>
              </a:rPr>
              <a:t>Ответ:</a:t>
            </a:r>
            <a:endParaRPr b="1" lang="en-US" sz="6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2357280"/>
            <a:ext cx="8183520" cy="2360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Verdana"/>
              </a:rPr>
              <a:t>0,476; 1,400; 2,160; 18,500.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692280"/>
            <a:ext cx="81835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Verdana"/>
              </a:rPr>
              <a:t>Сравните числа  </a:t>
            </a:r>
            <a:br>
              <a:rPr sz="5400"/>
            </a:b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1628280"/>
            <a:ext cx="8183520" cy="352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)9,4 * 9,6   б) 6,3 *6,31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)5,5 *4,8    г) 3,29 * 3,316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87952"/>
                </a:solidFill>
                <a:latin typeface="Verdana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9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857160"/>
            <a:ext cx="8183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6600"/>
                </a:solidFill>
                <a:latin typeface="Verdana"/>
              </a:rPr>
              <a:t>Проверь себя: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3280" y="1856880"/>
            <a:ext cx="8183520" cy="3714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9,4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9,6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)6,3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6,31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)5,5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&gt;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4,8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) 3,29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&lt;3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316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900" spc="-1" strike="noStrike" u="sng">
                <a:solidFill>
                  <a:srgbClr val="008000"/>
                </a:solidFill>
                <a:uFillTx/>
                <a:latin typeface="Verdana"/>
              </a:rPr>
              <a:t>Физкультминутка</a:t>
            </a:r>
            <a:endParaRPr b="1" lang="en-US" sz="5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1" name="Picture 2" descr="C:\Users\1\Documents\Kartinki\картинки на школьныю тему\0001-001-Fizkultminutki-na-uroke-kak-element-zdorovesberegajuschikh-tekhnologij.jpg"/>
          <p:cNvPicPr/>
          <p:nvPr/>
        </p:nvPicPr>
        <p:blipFill>
          <a:blip r:embed="rId1"/>
          <a:stretch/>
        </p:blipFill>
        <p:spPr>
          <a:xfrm>
            <a:off x="3405240" y="1319040"/>
            <a:ext cx="2381040" cy="2610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Users\1\Documents\Kartinki\картинки на школьныю тему\0001-001-Fizkultminutki-na-uroke-kak-element-zdorovesberegajuschikh-tekhnologij.jpg"/>
          <p:cNvPicPr/>
          <p:nvPr/>
        </p:nvPicPr>
        <p:blipFill>
          <a:blip r:embed="rId2"/>
          <a:stretch/>
        </p:blipFill>
        <p:spPr>
          <a:xfrm>
            <a:off x="3419640" y="1341360"/>
            <a:ext cx="2381040" cy="2610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C:\Users\1\Documents\Kartinki\картинки на школьныю тему\0001-001-Fizkultminutki-na-uroke-kak-element-zdorovesberegajuschikh-tekhnologij.jpg"/>
          <p:cNvPicPr/>
          <p:nvPr/>
        </p:nvPicPr>
        <p:blipFill>
          <a:blip r:embed="rId3"/>
          <a:stretch/>
        </p:blipFill>
        <p:spPr>
          <a:xfrm>
            <a:off x="3557520" y="1471680"/>
            <a:ext cx="2381400" cy="2609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C:\Users\1\Documents\Kartinki\картинки на школьныю тему\0001-001-Fizkultminutki-na-uroke-kak-element-zdorovesberegajuschikh-tekhnologij.jpg"/>
          <p:cNvPicPr/>
          <p:nvPr/>
        </p:nvPicPr>
        <p:blipFill>
          <a:blip r:embed="rId4"/>
          <a:stretch/>
        </p:blipFill>
        <p:spPr>
          <a:xfrm>
            <a:off x="3571920" y="1494000"/>
            <a:ext cx="238104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691920"/>
            <a:ext cx="81835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ешить примеры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3280" y="2492280"/>
            <a:ext cx="8183520" cy="316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№1175 стр. 186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)№1176 стр. 186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)  №1184 (1 столбик) стр.187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верь себя и оцен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4080" y="1714320"/>
            <a:ext cx="3932280" cy="320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1.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2.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2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7,299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lt;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,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428720" y="1571400"/>
            <a:ext cx="4257720" cy="320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риант 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1.3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2.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2. 4,599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lt;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4,8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785880"/>
            <a:ext cx="8183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00"/>
                </a:solidFill>
                <a:latin typeface="Arial Black"/>
                <a:ea typeface="Aharoni"/>
              </a:rPr>
              <a:t>Домашнее задан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03280" y="2071440"/>
            <a:ext cx="8183520" cy="3214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читать§31, решить</a:t>
            </a:r>
            <a:endParaRPr b="0" lang="en-US" sz="6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№</a:t>
            </a:r>
            <a:r>
              <a:rPr b="0" lang="ru-RU" sz="6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00, №1201, №1206 стр.189-190</a:t>
            </a:r>
            <a:endParaRPr b="0" lang="en-US" sz="6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 rot="10800000">
            <a:off x="503280" y="907560"/>
            <a:ext cx="81835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i="1" lang="ru-RU" sz="6000" spc="-1" strike="noStrike">
                <a:solidFill>
                  <a:srgbClr val="008000"/>
                </a:solidFill>
                <a:latin typeface="Arial Black"/>
              </a:rPr>
              <a:t>  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3280" y="765000"/>
            <a:ext cx="8183520" cy="4664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нового вы узнали на уроке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навыки приобрели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де во время урока у вас всё получалось хорошо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было трудно для вас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1071720" y="1078200"/>
            <a:ext cx="692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 УРОК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Улыбающееся лицо 3"/>
          <p:cNvSpPr/>
          <p:nvPr/>
        </p:nvSpPr>
        <p:spPr>
          <a:xfrm>
            <a:off x="3143160" y="3429000"/>
            <a:ext cx="3429000" cy="2571840"/>
          </a:xfrm>
          <a:prstGeom prst="smileyFace">
            <a:avLst>
              <a:gd name="adj" fmla="val 9282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545436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 fontScale="89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cc00"/>
                </a:solidFill>
                <a:uFillTx/>
                <a:latin typeface="Arial Black"/>
              </a:rPr>
              <a:t>Устный сче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 Black"/>
                <a:hlinkClick r:id="rId1"/>
              </a:rPr>
              <a:t>Задание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8/25+7/25=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19/23-8/23=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5+3/8=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7-2/5=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Содержимое 3" descr="Рисунок16.png"/>
          <p:cNvPicPr/>
          <p:nvPr/>
        </p:nvPicPr>
        <p:blipFill>
          <a:blip r:embed="rId2"/>
          <a:srcRect l="0" t="20064" r="0" b="20064"/>
          <a:stretch/>
        </p:blipFill>
        <p:spPr>
          <a:xfrm>
            <a:off x="949320" y="1978200"/>
            <a:ext cx="32479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74680" y="281160"/>
            <a:ext cx="7699320" cy="17967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395280" y="2071440"/>
            <a:ext cx="8391600" cy="3733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</a:t>
            </a:r>
            <a:r>
              <a:rPr b="0" lang="ru-RU" sz="4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/35; 7/35;16/25; 3/35;37/35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6; 82365;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59984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78;4876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2,537; 0,156; 4,35; 6,8; 7,7 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рямоугольник 3"/>
          <p:cNvSpPr/>
          <p:nvPr/>
        </p:nvSpPr>
        <p:spPr>
          <a:xfrm flipV="1" rot="10800000">
            <a:off x="5435640" y="956160"/>
            <a:ext cx="15098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1285920" y="785880"/>
            <a:ext cx="621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твет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1143000" y="1643040"/>
            <a:ext cx="771516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3/35;7/35;16/35; 17/35;37/35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б)</a:t>
            </a: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78;386;4876;659984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6823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в)</a:t>
            </a:r>
            <a:r>
              <a:rPr b="0" lang="ru-RU" sz="9600" spc="-1" strike="noStrike">
                <a:solidFill>
                  <a:srgbClr val="ff0000"/>
                </a:solidFill>
                <a:latin typeface="Arial Black"/>
              </a:rPr>
              <a:t>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907560"/>
            <a:ext cx="7743600" cy="473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Сравнение десятичных дробей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76280"/>
            <a:ext cx="8183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  <a:ea typeface="Times New Roman"/>
              </a:rPr>
              <a:t>Цели урока: </a:t>
            </a:r>
            <a:br>
              <a:rPr sz="1800"/>
            </a:b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684360" y="1720800"/>
            <a:ext cx="77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оздать условия для изучения правила сравнения десятичных дробей и умения его применять; повторить запись обыкновенных дробей в виде десятичных, правило сравнения натуральных чисе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родолжить работу по развитию умений анализировать, сравнивать, выделять главное, определять и объяснять пон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Формировать коммуникативные компетентности, умения аргументировать свои действия, воспитывать самостоятельность, трудолюб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584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 Black"/>
              </a:rPr>
              <a:t>Алгоритм сравнения десятичных дробе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760" y="1413000"/>
            <a:ext cx="8434080" cy="520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) </a:t>
            </a: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бы сравнить две десятичные дроби, нужно вначале сравнить их целые части. Та десятичная дробь больше (меньше), у которой целая часть больше (меньше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) При равенстве целых частей, у десятичных дробей сравниваются дробные части. Если после запятой различное количество цифр, надо с помощью приписывания нулей справа уравнять количество цифр в дробных частях, после чего сравнивать поразряд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Прямоугольник 4"/>
          <p:cNvSpPr/>
          <p:nvPr/>
        </p:nvSpPr>
        <p:spPr>
          <a:xfrm>
            <a:off x="406440" y="333360"/>
            <a:ext cx="83311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49120" y="231840"/>
            <a:ext cx="8444160" cy="2066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503280" y="2643120"/>
            <a:ext cx="81835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64000"/>
          </a:bodyPr>
          <a:p>
            <a:pPr marL="174600" indent="-1746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74600" indent="-174600">
              <a:lnSpc>
                <a:spcPct val="80000"/>
              </a:lnSpc>
              <a:spcBef>
                <a:spcPts val="249"/>
              </a:spcBef>
              <a:buClr>
                <a:srgbClr val="f3a44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,537; 0,156; 4,35; 6,8; 7,7 .</a:t>
            </a:r>
            <a:r>
              <a:rPr b="0" lang="ru-RU" sz="5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96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marL="174600" indent="-1746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174600" indent="-1746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174600" indent="-1746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74600" indent="-1746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74600" indent="-174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  <a:p>
            <a:pPr marL="174600" indent="-1746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714240" y="1071720"/>
            <a:ext cx="750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8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твет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1285920" y="2214720"/>
            <a:ext cx="692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0,156;  2,537;4,35;6,8;7,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2:26:57Z</dcterms:created>
  <dc:creator>MAMA</dc:creator>
  <dc:description/>
  <dc:language>en-US</dc:language>
  <cp:lastModifiedBy>Флюра</cp:lastModifiedBy>
  <dcterms:modified xsi:type="dcterms:W3CDTF">2013-04-30T18:06:16Z</dcterms:modified>
  <cp:revision>73</cp:revision>
  <dc:subject/>
  <dc:title>Слайд 1</dc:title>
</cp:coreProperties>
</file>