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B02-127D-4F64-BCE3-A4F3BB4F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F03-9612-42CB-8699-9F80F072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FE6-6CAA-4ABA-876A-0AA25CE5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C9E-A5B8-417C-B94D-173EBF2A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AEB6-4F0C-4FC8-961E-58FF269E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9FBC-3816-4FE7-917A-C4AFEF45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CB1D-BEA6-44C1-8E5E-1DA4432D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1124-3B5E-4943-A4E6-17C4B122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AE6A-195D-485D-A0C2-62A5CD0E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A877-B58A-41E4-8AF4-AEB4A49F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F74C-A994-47EF-884F-4F134A54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DE7-1A42-467E-83EA-404510BC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AC14-343F-4244-B35B-907A0864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3D2D-9894-45D7-A272-D1BD0BE5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F92B-154A-45D6-8474-D4A70009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31B9-0360-4641-87A1-7AD244B9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B27A-F59A-43E1-B0D7-1F281851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F76EA-0F60-4750-8D75-077A7EB3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0B152-E673-4B6C-8D5A-35336E4A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61B6E-589D-4551-9AEC-020416F5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4FFC7-B647-4FDB-8A0E-80BB8B57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B971A-D457-4A53-9F6A-A19B4A4D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FD3-16C8-40C3-B0B6-129A8395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9B6D7-6D88-4855-AED5-99B89717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2841F-2A0E-4ED0-8C23-18AB1C16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145CF-CB2E-471E-982C-E775A5F7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1C71-BC27-4316-83F0-7E3BDA4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6837C-8999-4622-AFF7-B89CE799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B760-FF68-41D2-9A16-FB43063F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BAF4-74ED-45DA-9DBB-770AEFE0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646BB-AEC9-4C10-A42D-1DB37BB3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375F7-9CB6-465A-87DC-B28C9F4F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FDE25-99A3-4D64-B952-8D6A5DBF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BA8-38A1-4083-80B7-A640D300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4205B-869F-4F35-9E5B-74B50CD7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0EDFE-49AB-462E-92EF-72272149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FC59C-BD23-4A0F-B200-0D26C975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15097-F141-4800-A08E-7531FADC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39977-FD9D-4576-8807-86EFFDEA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42F8F-5FEC-4049-8859-4C9D9935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34E13-3E80-48C1-8117-33526B19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92C66-0346-4CC0-958C-0E972A48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A56F1-170B-4421-9097-5B2AC7A2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F75E9-551A-4267-B2F7-B7A9D9DD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930-58D8-48A7-AB3E-174C31D4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E3802-2F36-4E01-940A-563D1250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61860-9C9B-489B-B6F7-C00AF8B3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C2E7F-4CB9-4F02-B43F-B58A4E5E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EB07C-BFF2-4852-B322-FCA58CD4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91869-417D-4111-BDB5-98218B93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22A1F-3741-46B1-BEF2-72D258E0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D67E9-9A27-44D7-89D5-91F575DF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345EF-F0A8-47B2-B41E-B5672B95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53211-9773-4C0C-9F05-E6DFA2DE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81688-76A3-4264-9CF3-50C0D1F0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073-C0B0-407E-B300-020FFD8E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84B41-FF8B-44BF-B704-E1DAD098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84D-FABD-49A5-8323-E82A2830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A7A-EA0C-406E-8828-74822839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5A9-A146-4CF4-B40B-30B6E645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9698-440B-41D5-8A72-C634C3E3A8C2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C307-567C-40A6-B4E1-775E312FCA0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10F8-585E-489D-9364-CBE250404606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A519-22AB-4769-BFA6-9AEA566A685F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227F-F690-47AF-866A-4B630A6D720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Users/1/Desktop/&#1076;&#1080;&#1089;&#1090;&#1072;&#1085;&#1090;/&#1080;&#1090;&#1086;&#1075;&#1086;&#1074;&#1099;&#1081;%20&#1091;&#1088;&#1086;&#1082;/&#1087;&#1088;&#1080;&#1083;&#1086;&#1078;&#1077;&#1085;&#1080;&#1077;%201.pps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9"/>
          <p:cNvSpPr/>
          <p:nvPr/>
        </p:nvSpPr>
        <p:spPr>
          <a:xfrm>
            <a:off x="4859280" y="765000"/>
            <a:ext cx="352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Я знаю каждый в классе г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Но без труда талант не вп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Скрестите шпаги ваших м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Мы вместе сочиним ур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0" descr="C:\Users\1\Documents\13ноябрь\Kartinki_na_shkolnuju_temu\Kartinki\картинки на школьныю тему\Рисунок3.png"/>
          <p:cNvPicPr/>
          <p:nvPr/>
        </p:nvPicPr>
        <p:blipFill>
          <a:blip r:embed="rId1"/>
          <a:stretch/>
        </p:blipFill>
        <p:spPr>
          <a:xfrm>
            <a:off x="755640" y="804960"/>
            <a:ext cx="38876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8571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ыполните задан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2285640"/>
            <a:ext cx="8183520" cy="3500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)Запишите числа в порядке убывания: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</a:t>
            </a:r>
            <a:r>
              <a:rPr b="0" lang="ru-RU" sz="3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8,5; 8,16; 8,4; 8,49; 8,05; 8,61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)Уравняйте количество цифр после запятой в данных дробях: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,16; 18,5; 0,476; 1,4</a:t>
            </a:r>
            <a:r>
              <a:rPr b="0" lang="ru-RU" sz="37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1835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00"/>
                </a:solidFill>
                <a:latin typeface="Verdana"/>
              </a:rPr>
              <a:t>Ответ:</a:t>
            </a:r>
            <a:endParaRPr b="1" lang="en-US" sz="6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2357280"/>
            <a:ext cx="8183520" cy="2360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Verdana"/>
              </a:rPr>
              <a:t>0,476; 1,400; 2,160; 18,500.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692280"/>
            <a:ext cx="81835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Verdana"/>
              </a:rPr>
              <a:t>Сравните числа  </a:t>
            </a:r>
            <a:br>
              <a:rPr sz="5400"/>
            </a:b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1628280"/>
            <a:ext cx="8183520" cy="35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)9,4 * 9,6   б) 6,3 *6,31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)5,5 *4,8    г) 3,29 * 3,316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87952"/>
                </a:solidFill>
                <a:latin typeface="Verdana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9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857160"/>
            <a:ext cx="8183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Verdana"/>
              </a:rPr>
              <a:t>Проверь себя: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1856880"/>
            <a:ext cx="8183520" cy="3714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9,4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9,6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6,3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6,31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)5,5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gt;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4,8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) 3,29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lt;3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316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 u="sng">
                <a:solidFill>
                  <a:srgbClr val="008000"/>
                </a:solidFill>
                <a:uFillTx/>
                <a:latin typeface="Verdana"/>
              </a:rPr>
              <a:t>Физкультминутка</a:t>
            </a:r>
            <a:endParaRPr b="1" lang="en-US" sz="5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1" name="Picture 2" descr="C:\Users\1\Documents\Kartinki\картинки на школьныю тему\0001-001-Fizkultminutki-na-uroke-kak-element-zdorovesberegajuschikh-tekhnologij.jpg"/>
          <p:cNvPicPr/>
          <p:nvPr/>
        </p:nvPicPr>
        <p:blipFill>
          <a:blip r:embed="rId1"/>
          <a:stretch/>
        </p:blipFill>
        <p:spPr>
          <a:xfrm>
            <a:off x="3405240" y="1319040"/>
            <a:ext cx="2381040" cy="2610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Users\1\Documents\Kartinki\картинки на школьныю тему\0001-001-Fizkultminutki-na-uroke-kak-element-zdorovesberegajuschikh-tekhnologij.jpg"/>
          <p:cNvPicPr/>
          <p:nvPr/>
        </p:nvPicPr>
        <p:blipFill>
          <a:blip r:embed="rId2"/>
          <a:stretch/>
        </p:blipFill>
        <p:spPr>
          <a:xfrm>
            <a:off x="3419640" y="1341360"/>
            <a:ext cx="2381040" cy="2610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Users\1\Documents\Kartinki\картинки на школьныю тему\0001-001-Fizkultminutki-na-uroke-kak-element-zdorovesberegajuschikh-tekhnologij.jpg"/>
          <p:cNvPicPr/>
          <p:nvPr/>
        </p:nvPicPr>
        <p:blipFill>
          <a:blip r:embed="rId3"/>
          <a:stretch/>
        </p:blipFill>
        <p:spPr>
          <a:xfrm>
            <a:off x="3557520" y="1471680"/>
            <a:ext cx="2381400" cy="2609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Users\1\Documents\Kartinki\картинки на школьныю тему\0001-001-Fizkultminutki-na-uroke-kak-element-zdorovesberegajuschikh-tekhnologij.jpg"/>
          <p:cNvPicPr/>
          <p:nvPr/>
        </p:nvPicPr>
        <p:blipFill>
          <a:blip r:embed="rId4"/>
          <a:stretch/>
        </p:blipFill>
        <p:spPr>
          <a:xfrm>
            <a:off x="3571920" y="1494000"/>
            <a:ext cx="238104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691920"/>
            <a:ext cx="8183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шить примеры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3280" y="2492280"/>
            <a:ext cx="8183520" cy="316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№1175 стр. 186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№1176 стр. 186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)  №1184 (1 столбик) стр.187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верь себя и оцен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4080" y="1714320"/>
            <a:ext cx="3932280" cy="320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1.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2.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2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7,299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lt;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,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428720" y="1571400"/>
            <a:ext cx="4257720" cy="320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1.3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2.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2. 4,599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lt;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4,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78588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00"/>
                </a:solidFill>
                <a:latin typeface="Arial Black"/>
                <a:ea typeface="Aharoni"/>
              </a:rPr>
              <a:t>Домашнее задан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03280" y="2071440"/>
            <a:ext cx="8183520" cy="3214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тать§31, решить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№</a:t>
            </a:r>
            <a:r>
              <a:rPr b="0" lang="ru-RU" sz="6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00, №1201, №1206 стр.189-190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 rot="10800000">
            <a:off x="503280" y="907560"/>
            <a:ext cx="81835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i="1" lang="ru-RU" sz="6000" spc="-1" strike="noStrike">
                <a:solidFill>
                  <a:srgbClr val="008000"/>
                </a:solidFill>
                <a:latin typeface="Arial Black"/>
              </a:rPr>
              <a:t>  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765000"/>
            <a:ext cx="8183520" cy="4664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нового вы узнали на уроке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навыки приобрели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де во время урока у вас всё получалось хорошо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было трудно для вас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1071720" y="1078200"/>
            <a:ext cx="692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 УРОК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Улыбающееся лицо 3"/>
          <p:cNvSpPr/>
          <p:nvPr/>
        </p:nvSpPr>
        <p:spPr>
          <a:xfrm>
            <a:off x="3143160" y="3429000"/>
            <a:ext cx="3429000" cy="2571840"/>
          </a:xfrm>
          <a:prstGeom prst="smileyFace">
            <a:avLst>
              <a:gd name="adj" fmla="val 9282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545436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 fontScale="89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cc00"/>
                </a:solidFill>
                <a:uFillTx/>
                <a:latin typeface="Arial Black"/>
              </a:rPr>
              <a:t>Устный сче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 Black"/>
                <a:hlinkClick r:id="rId1"/>
              </a:rPr>
              <a:t>Задание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8/25+7/25=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9/23-8/23=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5+3/8=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7-2/5=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Содержимое 3" descr="Рисунок16.png"/>
          <p:cNvPicPr/>
          <p:nvPr/>
        </p:nvPicPr>
        <p:blipFill>
          <a:blip r:embed="rId2"/>
          <a:srcRect l="0" t="20064" r="0" b="20064"/>
          <a:stretch/>
        </p:blipFill>
        <p:spPr>
          <a:xfrm>
            <a:off x="949320" y="1978200"/>
            <a:ext cx="32479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74680" y="281160"/>
            <a:ext cx="7699320" cy="1796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395280" y="2071440"/>
            <a:ext cx="8391600" cy="3733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/35; 7/35;16/25; 3/35;37/35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6; 82365;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59984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78;4876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2,537; 0,156; 4,35; 6,8; 7,7 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оугольник 3"/>
          <p:cNvSpPr/>
          <p:nvPr/>
        </p:nvSpPr>
        <p:spPr>
          <a:xfrm flipV="1" rot="10800000">
            <a:off x="5435640" y="956160"/>
            <a:ext cx="1509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1285920" y="785880"/>
            <a:ext cx="621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твет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1143000" y="1643040"/>
            <a:ext cx="77151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3/35;7/35;16/35; 17/35;37/35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б)</a:t>
            </a: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78;386;4876;659984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6823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в)</a:t>
            </a:r>
            <a:r>
              <a:rPr b="0" lang="ru-RU" sz="9600" spc="-1" strike="noStrike">
                <a:solidFill>
                  <a:srgbClr val="ff0000"/>
                </a:solidFill>
                <a:latin typeface="Arial Black"/>
              </a:rPr>
              <a:t>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907560"/>
            <a:ext cx="7743600" cy="473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Сравнение десятичных дробей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76280"/>
            <a:ext cx="8183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  <a:ea typeface="Times New Roman"/>
              </a:rPr>
              <a:t>Цели урока: </a:t>
            </a:r>
            <a:br>
              <a:rPr sz="1800"/>
            </a:b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684360" y="1720800"/>
            <a:ext cx="77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оздать условия для изучения правила сравнения десятичных дробей и умения его применять; повторить запись обыкновенных дробей в виде десятичных, правило сравнения натуральных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родолжить работу по развитию умений анализировать, сравнивать, выделять главное, определять и объяснять пон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Формировать коммуникативные компетентности, умения аргументировать свои действия, воспитывать самостоятельность, трудолюб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584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 Black"/>
              </a:rPr>
              <a:t>Алгоритм сравнения десятичных дроб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760" y="1413000"/>
            <a:ext cx="8434080" cy="520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) </a:t>
            </a: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бы сравнить две десятичные дроби, нужно вначале сравнить их целые части. Та десятичная дробь больше (меньше), у которой целая часть больше (меньше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) При равенстве целых частей, у десятичных дробей сравниваются дробные части. Если после запятой различное количество цифр, надо с помощью приписывания нулей справа уравнять количество цифр в дробных частях, после чего сравнивать поразряд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Прямоугольник 4"/>
          <p:cNvSpPr/>
          <p:nvPr/>
        </p:nvSpPr>
        <p:spPr>
          <a:xfrm>
            <a:off x="406440" y="333360"/>
            <a:ext cx="8331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49120" y="231840"/>
            <a:ext cx="8444160" cy="2066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503280" y="2643120"/>
            <a:ext cx="81835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4000"/>
          </a:bodyPr>
          <a:p>
            <a:pPr marL="174600" indent="-1746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lnSpc>
                <a:spcPct val="80000"/>
              </a:lnSpc>
              <a:spcBef>
                <a:spcPts val="249"/>
              </a:spcBef>
              <a:buClr>
                <a:srgbClr val="f3a44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537; 0,156; 4,35; 6,8; 7,7 .</a:t>
            </a: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96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714240" y="1071720"/>
            <a:ext cx="750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8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твет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1285920" y="2214720"/>
            <a:ext cx="692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0,156;  2,537;4,35;6,8;7,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2:26:57Z</dcterms:created>
  <dc:creator>MAMA</dc:creator>
  <dc:description/>
  <dc:language>en-US</dc:language>
  <cp:lastModifiedBy>Флюра</cp:lastModifiedBy>
  <dcterms:modified xsi:type="dcterms:W3CDTF">2013-04-30T18:06:16Z</dcterms:modified>
  <cp:revision>73</cp:revision>
  <dc:subject/>
  <dc:title>Слайд 1</dc:title>
</cp:coreProperties>
</file>