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B97D-1C90-42C0-8E43-D41639A3E0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7EE-7371-48F0-9369-3C16C5F2B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DF5-4A95-45C6-9544-8BC5B3A3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872-6E35-446F-922B-EA966526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909-CD21-4E35-AE93-BB4FE80E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C5B-606B-4665-985D-835E9B30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76C-9940-45F2-86D5-AC46CC39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7367-87A1-4015-A7F8-C57EA75A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9D91-89AD-49DB-94DB-016540DA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454-D8FA-4C2F-A0B0-8D2539A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EA4E-3BDB-4E69-92DF-E0311C6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7C7-0C65-4549-A276-8631A0C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3A0-4C96-4CE8-894C-756F316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5DC4-E26C-4A58-BB66-79856C9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9138-4E84-4A0D-AB77-2003C34CD2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2637000"/>
            <a:ext cx="78487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00000"/>
                </a:solidFill>
                <a:latin typeface="Times New Roman"/>
              </a:rPr>
              <a:t>«Имена русских  путешественников на карте России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9280" y="549360"/>
            <a:ext cx="5113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яя общеобразовательная школа №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ого района г. Волго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3564000" y="573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Семен Иванович Дежн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357360" y="1714320"/>
            <a:ext cx="55242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мен Иванович Дежнев –выдающийся русский мореход, землепроходец, путешественник, исследователь Северной и Восточной Сибири, казачий атаман, а также торговец пушниной, первый из известных европейских мореплавателей, в 1648 году, на 80 лет раньше, чем Витус Беринг, прошел Берингов пролив, отделяющий Аляску от Чукот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Documents and Settings\Усик Инна\Рабочий стол\444.jpg"/>
          <p:cNvPicPr/>
          <p:nvPr/>
        </p:nvPicPr>
        <p:blipFill>
          <a:blip r:embed="rId1"/>
          <a:stretch/>
        </p:blipFill>
        <p:spPr>
          <a:xfrm>
            <a:off x="324000" y="836640"/>
            <a:ext cx="3402000" cy="3825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85680" y="285480"/>
            <a:ext cx="5915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Море Лаптев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59280" y="980640"/>
            <a:ext cx="60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́ре Ла́птевых — море Северного Ледовитого океана. Бо́льшую ча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ода оно покрыто      льд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ре названо в честь братьев Дмитрия и Харитона Лаптевых, русских полярных исслед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C:\Documents and Settings\Усик Инна\Рабочий стол\Рисунок1.jpg"/>
          <p:cNvPicPr/>
          <p:nvPr/>
        </p:nvPicPr>
        <p:blipFill>
          <a:blip r:embed="rId1"/>
          <a:stretch/>
        </p:blipFill>
        <p:spPr>
          <a:xfrm>
            <a:off x="2484360" y="3500280"/>
            <a:ext cx="4705560" cy="301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Дмитрий Лапт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3640" y="2060280"/>
            <a:ext cx="52578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митрий Яковлевич Лаптев –русский исследователь Арктики, вице-адмирал. С 1736 года руководил одним из северных отрядов Второй Камчатской экспедиции. В результате плаваний и сухопутных походов 1739-1742 года были проведены описи северного морского побереж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:\Users\Alex\Desktop\bd9208df2d36b0776f9ac941dd47ace6_thumb.jpg"/>
          <p:cNvPicPr/>
          <p:nvPr/>
        </p:nvPicPr>
        <p:blipFill>
          <a:blip r:embed="rId1"/>
          <a:stretch/>
        </p:blipFill>
        <p:spPr>
          <a:xfrm>
            <a:off x="549360" y="1139760"/>
            <a:ext cx="3443040" cy="362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28680" y="1295280"/>
            <a:ext cx="40719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аритон Прокофьевич Лаптев –русский военный моряк, командир отряда Камчатской(Великой Северной) экспедиции, описавший в 1739-1742 годах неизвестный прежде берег полуострова Таймы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веро-западный берег Таймыра, съёмку которого осуществлял непосредственно Харитон Лаптев, называется Берег Харитона Лапте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1256040" y="57168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Харитон Прокофьевич Лапт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Лаптев Харитон"/>
          <p:cNvPicPr/>
          <p:nvPr/>
        </p:nvPicPr>
        <p:blipFill>
          <a:blip r:embed="rId1"/>
          <a:stretch/>
        </p:blipFill>
        <p:spPr>
          <a:xfrm>
            <a:off x="281160" y="1011240"/>
            <a:ext cx="4290840" cy="4243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9000" y="142560"/>
            <a:ext cx="505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Берингово мо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38080" y="765000"/>
            <a:ext cx="560556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ре на севере Тихого оке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имой покрыто ль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пература воздуха до +7, +10 °C летом и −1, −23 °C зи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вано в честь Витуса Беринга, мореплавателя, офицера русского флота, датчанина по происхождению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C:\Documents and Settings\Усик Инна\Рабочий стол\222.jpg"/>
          <p:cNvPicPr/>
          <p:nvPr/>
        </p:nvPicPr>
        <p:blipFill>
          <a:blip r:embed="rId1"/>
          <a:stretch/>
        </p:blipFill>
        <p:spPr>
          <a:xfrm>
            <a:off x="3059280" y="3789360"/>
            <a:ext cx="4189320" cy="2743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Витус Беренг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357200"/>
            <a:ext cx="3400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итус Йонассен Беринг мореплаватель датского происхождения, капитан-командор русского флота, руководитель Первой и Второй Камчатских экспедиций, положивших начало научным исследованиям побережий Росси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http://www.calend.ru/img/content_events/i5/5404.jpg"/>
          <p:cNvPicPr/>
          <p:nvPr/>
        </p:nvPicPr>
        <p:blipFill>
          <a:blip r:embed="rId1"/>
          <a:stretch/>
        </p:blipFill>
        <p:spPr>
          <a:xfrm>
            <a:off x="4290840" y="1054080"/>
            <a:ext cx="4865760" cy="47973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1785960" y="53802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итус Беринг родился в 1681 году в датском городе Хорсенс, закончил кадетский корпус в Амстердаме в 1703 году, в том же году поступил на русскую службу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7120" y="35712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Самая  северная точк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ссии и материка Евразии мыс Челюскин (77°43' с. ш. и 104°18' в. д.), названа именем полярного  исследователя Семена Челюск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:\Documents and Settings\Усик Инна\Рабочий стол\333.jpg"/>
          <p:cNvPicPr/>
          <p:nvPr/>
        </p:nvPicPr>
        <p:blipFill>
          <a:blip r:embed="rId1"/>
          <a:stretch/>
        </p:blipFill>
        <p:spPr>
          <a:xfrm>
            <a:off x="3024360" y="2708280"/>
            <a:ext cx="5276520" cy="360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Times New Roman"/>
              </a:rPr>
              <a:t>Семен Челюски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Содержимое 4" descr="mch1.jpg"/>
          <p:cNvPicPr/>
          <p:nvPr/>
        </p:nvPicPr>
        <p:blipFill>
          <a:blip r:embed="rId1"/>
          <a:stretch/>
        </p:blipFill>
        <p:spPr>
          <a:xfrm>
            <a:off x="5035680" y="817560"/>
            <a:ext cx="4260600" cy="5381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1357200" y="1571760"/>
            <a:ext cx="4143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мён Ива́нович Челю́скин -   русский полярный исследователь, капитан 3-го ранга (1760). Участник 2-й Камчатской экспедиции. В 1741-42 описал часть берега п-ова Таймыр, достигнув при этом северной оконечности Евразии. Родился Челюскин в Калужской губернии в Перемышльском уезде в с. Борищево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800000"/>
                </a:solidFill>
                <a:latin typeface="Times New Roman"/>
              </a:rPr>
              <a:t>Мыс Дежнёва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ранее - мыс Каменный Нос) — крайняя восточная точка крайняя восточная материковая точка России и всей Евраз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C:\Documents and Settings\Усик Инна\Рабочий стол\Рисунок1.jpg"/>
          <p:cNvPicPr/>
          <p:nvPr/>
        </p:nvPicPr>
        <p:blipFill>
          <a:blip r:embed="rId1"/>
          <a:stretch/>
        </p:blipFill>
        <p:spPr>
          <a:xfrm>
            <a:off x="2627280" y="2852640"/>
            <a:ext cx="4156200" cy="3470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сик Инна</cp:lastModifiedBy>
  <dcterms:modified xsi:type="dcterms:W3CDTF">2013-04-30T12:27:13Z</dcterms:modified>
  <cp:revision>126</cp:revision>
  <dc:subject/>
  <dc:title>Слайд 1</dc:title>
</cp:coreProperties>
</file>