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049F-FFC4-41B1-80D0-047C302FAC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48D-B29A-42F0-A4B3-D337EA0B7A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C47-E2BC-4122-9728-1A64F807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77F-DEC9-41B0-8374-D3731265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705-9B66-44F1-890F-D832B5A9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726-5E22-49BE-9D46-76F3D25A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8DA-A1C8-40EC-A640-8A15C28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D99-CA7D-4842-A48F-E7B4B3C2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353-7BC6-47AA-92D1-9ECC4F10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468-FF22-4ECF-A104-48454C2E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3E3-A5F6-4951-9627-490DFAB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BA5-2AF5-4AD7-BA5D-149389B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9A0-3466-4EE4-9AF3-75F5D2C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C33-6782-4E1E-AF73-EA9AB49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A7B-6575-46D7-8A90-69088A641E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37000"/>
            <a:ext cx="7848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«Имена русских  путешественников на карте Росси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19280" y="549360"/>
            <a:ext cx="5113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ого района г. Волго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3564000" y="573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Семен Иванович Дежн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57360" y="1714320"/>
            <a:ext cx="55242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мен Иванович Дежнев –выдающийся русский мореход, землепроходец, путешественник, исследователь Северной и Восточной Сибири, казачий атаман, а также торговец пушниной, первый из известных европейских мореплавателей, в 1648 году, на 80 лет раньше, чем Витус Беринг, прошел Берингов пролив, отделяющий Аляску от Чукот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Documents and Settings\Усик Инна\Рабочий стол\444.jpg"/>
          <p:cNvPicPr/>
          <p:nvPr/>
        </p:nvPicPr>
        <p:blipFill>
          <a:blip r:embed="rId1"/>
          <a:stretch/>
        </p:blipFill>
        <p:spPr>
          <a:xfrm>
            <a:off x="324000" y="836640"/>
            <a:ext cx="3402000" cy="382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85680" y="285480"/>
            <a:ext cx="5915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Море Лаптев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́ре Ла́птевых — море Северного Ледовитого океана. Бо́льшую ча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да оно покрыто      льд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ре названо в честь братьев Дмитрия и Харитона Лаптевых, русских полярных исслед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Усик Инна\Рабочий стол\Рисунок1.jpg"/>
          <p:cNvPicPr/>
          <p:nvPr/>
        </p:nvPicPr>
        <p:blipFill>
          <a:blip r:embed="rId1"/>
          <a:stretch/>
        </p:blipFill>
        <p:spPr>
          <a:xfrm>
            <a:off x="2484360" y="3500280"/>
            <a:ext cx="4705560" cy="301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Дмитрий Лапт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3640" y="2060280"/>
            <a:ext cx="52578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митрий Яковлевич Лаптев –русский исследователь Арктики, вице-адмирал. С 1736 года руководил одним из северных отрядов Второй Камчатской экспедиции. В результате плаваний и сухопутных походов 1739-1742 года были проведены описи северного морского побереж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Users\Alex\Desktop\bd9208df2d36b0776f9ac941dd47ace6_thumb.jpg"/>
          <p:cNvPicPr/>
          <p:nvPr/>
        </p:nvPicPr>
        <p:blipFill>
          <a:blip r:embed="rId1"/>
          <a:stretch/>
        </p:blipFill>
        <p:spPr>
          <a:xfrm>
            <a:off x="549360" y="1139760"/>
            <a:ext cx="3443040" cy="36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28680" y="1295280"/>
            <a:ext cx="40719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аритон Прокофьевич Лаптев –русский военный моряк, командир отряда Камчатской(Великой Северной) экспедиции, описавший в 1739-1742 годах неизвестный прежде берег полуострова Таймы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 берег Таймыра, съёмку которого осуществлял непосредственно Харитон Лаптев, называется Берег Харитона Лапте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256040" y="57168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Харитон Прокофьевич Лапт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Лаптев Харитон"/>
          <p:cNvPicPr/>
          <p:nvPr/>
        </p:nvPicPr>
        <p:blipFill>
          <a:blip r:embed="rId1"/>
          <a:stretch/>
        </p:blipFill>
        <p:spPr>
          <a:xfrm>
            <a:off x="281160" y="1011240"/>
            <a:ext cx="4290840" cy="42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9000" y="142560"/>
            <a:ext cx="505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Берингово мо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38080" y="765000"/>
            <a:ext cx="56055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ре на севере Тихого оке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имой покрыто ль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пература воздуха до +7, +10 °C летом и −1, −23 °C зи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вано в честь Витуса Беринга, мореплавателя, офицера русского флота, датчанина по происхождению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C:\Documents and Settings\Усик Инна\Рабочий стол\222.jpg"/>
          <p:cNvPicPr/>
          <p:nvPr/>
        </p:nvPicPr>
        <p:blipFill>
          <a:blip r:embed="rId1"/>
          <a:stretch/>
        </p:blipFill>
        <p:spPr>
          <a:xfrm>
            <a:off x="3059280" y="3789360"/>
            <a:ext cx="418932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Витус Берен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357200"/>
            <a:ext cx="3400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итус Йонассен Беринг мореплаватель датского происхождения, капитан-командор русского флота, руководитель Первой и Второй Камчатских экспедиций, положивших начало научным исследованиям побережий Росс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://www.calend.ru/img/content_events/i5/5404.jpg"/>
          <p:cNvPicPr/>
          <p:nvPr/>
        </p:nvPicPr>
        <p:blipFill>
          <a:blip r:embed="rId1"/>
          <a:stretch/>
        </p:blipFill>
        <p:spPr>
          <a:xfrm>
            <a:off x="4290840" y="1054080"/>
            <a:ext cx="4865760" cy="4797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1785960" y="53802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итус Беринг родился в 1681 году в датском городе Хорсенс, закончил кадетский корпус в Амстердаме в 1703 году, в том же году поступил на русскую служб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7120" y="357120"/>
            <a:ext cx="822960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амая  северная точк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ссии и материка Евразии мыс Челюскин (77°43' с. ш. и 104°18' в. д.), названа именем полярного  исследователя Семена Челюск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Documents and Settings\Усик Инна\Рабочий стол\333.jpg"/>
          <p:cNvPicPr/>
          <p:nvPr/>
        </p:nvPicPr>
        <p:blipFill>
          <a:blip r:embed="rId1"/>
          <a:stretch/>
        </p:blipFill>
        <p:spPr>
          <a:xfrm>
            <a:off x="3024360" y="2708280"/>
            <a:ext cx="527652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Семен Челюск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4" descr="mch1.jpg"/>
          <p:cNvPicPr/>
          <p:nvPr/>
        </p:nvPicPr>
        <p:blipFill>
          <a:blip r:embed="rId1"/>
          <a:stretch/>
        </p:blipFill>
        <p:spPr>
          <a:xfrm>
            <a:off x="5035680" y="817560"/>
            <a:ext cx="4260600" cy="5381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357200" y="1571760"/>
            <a:ext cx="414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мён Ива́нович Челю́скин -   русский полярный исследователь, капитан 3-го ранга (1760). Участник 2-й Камчатской экспедиции. В 1741-42 описал часть берега п-ова Таймыр, достигнув при этом северной оконечности Евразии. Родился Челюскин в Калужской губернии в Перемышльском уезде в с. Борищев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Мыс Дежнё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ранее - мыс Каменный Нос) — крайняя восточная точка крайняя восточная материковая точка России и всей Евраз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C:\Documents and Settings\Усик Инна\Рабочий стол\Рисунок1.jpg"/>
          <p:cNvPicPr/>
          <p:nvPr/>
        </p:nvPicPr>
        <p:blipFill>
          <a:blip r:embed="rId1"/>
          <a:stretch/>
        </p:blipFill>
        <p:spPr>
          <a:xfrm>
            <a:off x="2627280" y="2852640"/>
            <a:ext cx="4156200" cy="347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сик Инна</cp:lastModifiedBy>
  <dcterms:modified xsi:type="dcterms:W3CDTF">2013-04-30T12:27:13Z</dcterms:modified>
  <cp:revision>126</cp:revision>
  <dc:subject/>
  <dc:title>Слайд 1</dc:title>
</cp:coreProperties>
</file>