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4.gif" ContentType="image/gif"/>
  <Override PartName="/ppt/media/image1.png" ContentType="image/png"/>
  <Override PartName="/ppt/media/image12.gif" ContentType="image/gif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622E-8F3F-4065-8F04-8737F52C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450B-FD97-4E83-8819-9216E94A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5C8D-092C-4223-8D62-35AEB630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789F-CA9A-4005-979C-A7D57B65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2E0A-552F-466D-9992-72E1656D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DD85-BA70-4CE0-9F69-BF3A05E1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35FA-6B7D-4E81-8D4C-D418D578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6B25-269A-4A7C-AC23-135B7C7F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B777-1D1A-4324-AC4A-B70C2FB8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3D05-79E1-4BD8-8098-2EA25B05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A305-CB82-4540-BFBB-6045CD1D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F603-C968-4E8E-A6F4-AB53420E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58C5-B1A4-43A7-BEB9-1D99A3B4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A37E-D09B-435F-91E4-E1B7B195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AA9E-22A3-45E3-B592-721D3A81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D0BB-5E82-4F4B-A5FE-8A434D77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BF63-92BB-4A71-A849-29830E7F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D29B8-FD09-42E5-AA94-D39908E9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FA1A5-9172-4017-8D10-BD6B881E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4774A-7B4B-47C6-8752-433A9462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0A087-957D-4F86-BF6B-06C10027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3C5D0-F5B5-4D87-87B3-207BF49B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3CCE-7B08-48AD-86F3-4056FFF7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79ADB-A038-4C3D-96F4-338B46C9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AC15A-5A2A-4347-ABE1-34E4E2EB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211E4-444E-40EB-B948-8DEE20F0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6DB66-B6EB-4DEC-945B-765F4116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49509-E5E3-4AF6-8163-D9130C32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92105-5116-4B40-8EE3-12124D94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20476-05CC-452E-9E84-E3F3360D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4ED2E-C38B-4CA3-8492-84567134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8D33E-AB04-4CF8-8FAE-7FA15DF4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A22C8-EBBC-43AB-99E4-FC8324D0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A860-F14C-4C03-B389-B80D5C17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9D396-0ADF-4A18-BEF2-896BD016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ECAF4-965C-4235-8FDC-9021B2D7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4EFBA-B7B5-49B0-9DD7-AA165696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BA777-09FB-48B5-AB46-8DF2787F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E3C72-87C0-4B56-A62E-3ACB0552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423FC-D726-4B73-9D8D-DF67D0DC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F4692-723A-4C5D-93BA-0025B631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C6204-C894-4578-8934-EE710005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4BDC8-F493-4A91-8FBE-710A07D8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41DD5-A308-4937-BAF3-CDD997D8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56E2-E197-490B-9963-B6E37355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2576E-8AD4-4D6E-BE46-FEC78441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73B70-ADDB-4EF8-B4EE-9F047A37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4F865-72CB-48D5-ADDA-9464E8E6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70EA4-0AB2-4209-B880-A5056B69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F2E5B-9BC4-4F8D-ACB2-FB26C251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9712E-6CAD-4134-BFE6-734939B0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A2835-4DA5-4917-B154-737D34A8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33128-E775-4909-A013-21230D0F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E8B65-0460-4C41-9377-8FEA1FFC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DC2DC-4404-4360-B242-18F75917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E64C-753A-4657-91A6-15B0F953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FBA7D-2CE7-45B5-A571-6A3BBE2D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005C9-8BD4-485E-9CEB-0CF54386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4BA21-4FB4-4A7B-819C-ACC873E8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A2E95-F3C6-4A7E-A92C-885E6B11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58F03-7D35-4F6C-B1C3-63F540BD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7E70C-1260-48A6-9B6D-75539F22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519D6-0267-4357-BD17-2A5B0942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341CD-66E1-447B-9262-A5CC7240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94F93-4DAA-460B-9290-6E01153E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B0639-5594-4CA2-9223-6B903359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062B-C166-428D-AC49-A3DC50D7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8F750-FA3C-4271-B6A6-13C00389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69FF8-B63E-41DD-B959-2E456A75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D4627-2BB9-46FB-8885-BD7AA582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8FE34-73BF-4DE8-B41D-615DB80A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D00A5-C651-4FE3-912C-96FB6BF5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3AC61-FF1B-4FA2-A092-E411E397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B4C94-08D3-40D4-AD60-4629366A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56417-FECA-4EAB-BC3E-DDD08ED2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7E0A5-34AD-4BD2-9E58-B92BE3AC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A39FC-F0D3-4746-BD3F-3E813B49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2606-FB7A-45A6-80D2-7F6739C6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30B0C-7626-426E-8A75-EBE28C7D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85BB9-5611-47F8-AD29-6AB4B062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5CAA5-809F-4FD1-A305-4E7B9F0F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30D89-28FD-44D3-817F-3B40EF79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6AEA3-8E46-4CFF-8AA5-35433003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BB41C-BD01-4CED-BA26-7639B5D0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FC38D-C328-443B-849A-75F8772A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77864-F772-4477-90D6-CD514F87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D6EEC-2B72-48DB-B6A0-F97DAB40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5382A-6DE9-427F-A637-A4648C0B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1F08-C29A-4995-A299-A76955AB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8B7C1-4E85-4D97-8E7B-8E8E60B5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944C4-5E62-4FBD-8E02-6517080E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70255-FDB5-413B-AAA3-D1219D71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82CDB-9828-4D71-AEC1-CF0DA229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3B61A-9610-466D-9F3C-9F98AD83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0EDBC-1EA9-4148-98BD-7B13C1E5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8F187-04D4-4C07-81EA-3E70890F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61b0ff"/>
                </a:gs>
                <a:gs pos="100000">
                  <a:srgbClr val="5ba6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61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61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61b0ff"/>
                </a:gs>
                <a:gs pos="100000">
                  <a:srgbClr val="5ba6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61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61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61b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61b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61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61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61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61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61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7D5B-128E-45E6-BCB2-7377E58641F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79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8D14-65C8-4716-9B3B-A8DDAB8BA32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8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9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29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2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33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6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61b0ff"/>
                </a:gs>
                <a:gs pos="100000">
                  <a:srgbClr val="5ba6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61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61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61b0ff"/>
                </a:gs>
                <a:gs pos="100000">
                  <a:srgbClr val="5ba6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61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61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61b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61b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7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58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61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61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61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61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61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3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66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9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70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3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61b0ff"/>
                </a:gs>
                <a:gs pos="100000">
                  <a:srgbClr val="5ba6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61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61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61b0ff"/>
                </a:gs>
                <a:gs pos="100000">
                  <a:srgbClr val="5ba6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61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61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61b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61b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4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95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61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61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61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61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61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77BA-E221-40BC-9D07-E4335A591E5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4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4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5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25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1BFE-5FFF-42F4-80D7-9415A684D8D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9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0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30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4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60BA-2041-4365-B340-EC4F323E8B7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4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5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35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5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35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016F-F017-4945-9313-A1CF03BA996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40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E263-CAE2-41DC-85D9-36F0DBE4C83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3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5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6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8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59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1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462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3993-07DA-40F8-9E0F-D88D9FDC48F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57120" y="142560"/>
            <a:ext cx="850104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Monotype Corsiva"/>
              </a:rPr>
              <a:t>«НАУКА ЖИТЬ ВМЕСТЕ: ГОВОРИМ О ТОЛЕРАНТНОСТИ»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06" name="толерантность картинка.jpg" descr="G:\неделя толерантности\толерантность картинка.jpg"/>
          <p:cNvPicPr/>
          <p:nvPr/>
        </p:nvPicPr>
        <p:blipFill>
          <a:blip r:embed="rId1"/>
          <a:srcRect l="0" t="0" r="0" b="6249"/>
          <a:stretch/>
        </p:blipFill>
        <p:spPr>
          <a:xfrm>
            <a:off x="5857920" y="2214720"/>
            <a:ext cx="3036960" cy="4357440"/>
          </a:xfrm>
          <a:prstGeom prst="rect">
            <a:avLst/>
          </a:prstGeom>
          <a:ln w="0">
            <a:noFill/>
          </a:ln>
        </p:spPr>
      </p:pic>
      <p:pic>
        <p:nvPicPr>
          <p:cNvPr id="507" name="Прямоугольник 4" descr=""/>
          <p:cNvPicPr/>
          <p:nvPr/>
        </p:nvPicPr>
        <p:blipFill>
          <a:blip r:embed="rId2"/>
          <a:stretch/>
        </p:blipFill>
        <p:spPr>
          <a:xfrm>
            <a:off x="433440" y="3133800"/>
            <a:ext cx="5162400" cy="299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6704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 txBox="1"/>
          <p:nvPr/>
        </p:nvSpPr>
        <p:spPr>
          <a:xfrm>
            <a:off x="457200" y="1571400"/>
            <a:ext cx="868680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i="1" lang="ru-RU" sz="2800" spc="-1" strike="noStrike">
                <a:solidFill>
                  <a:srgbClr val="ff6600"/>
                </a:solidFill>
                <a:latin typeface="Times New Roman"/>
              </a:rPr>
              <a:t>по-испански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– способность признавать отличные от своих собственных идеи или мн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i="1" lang="ru-RU" sz="2800" spc="-1" strike="noStrike">
                <a:solidFill>
                  <a:srgbClr val="ff6600"/>
                </a:solidFill>
                <a:latin typeface="Times New Roman"/>
              </a:rPr>
              <a:t>по-английски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– готовность быть терпимым, снисходительным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i="1" lang="ru-RU" sz="2800" spc="-1" strike="noStrike">
                <a:solidFill>
                  <a:srgbClr val="ff6600"/>
                </a:solidFill>
                <a:latin typeface="Times New Roman"/>
              </a:rPr>
              <a:t>по-французски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– отношение, при котором допускается, что другие могут думать или действовать иначе, нежели ты сам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10" name="комп16.jpg" descr="I:\картинки\комп16.jpg"/>
          <p:cNvPicPr/>
          <p:nvPr/>
        </p:nvPicPr>
        <p:blipFill>
          <a:blip r:embed="rId2"/>
          <a:stretch/>
        </p:blipFill>
        <p:spPr>
          <a:xfrm>
            <a:off x="7429680" y="4929120"/>
            <a:ext cx="1538280" cy="166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6704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304920" y="1554120"/>
            <a:ext cx="86868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i="1" lang="ru-RU" sz="2400" spc="-1" strike="noStrike">
                <a:solidFill>
                  <a:srgbClr val="ff6600"/>
                </a:solidFill>
                <a:latin typeface="Times New Roman"/>
              </a:rPr>
              <a:t>по-китайски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– позволять, принимать, быть по отношению к другим великодушным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i="1" lang="ru-RU" sz="2400" spc="-1" strike="noStrike">
                <a:solidFill>
                  <a:srgbClr val="ff6600"/>
                </a:solidFill>
                <a:latin typeface="Times New Roman"/>
              </a:rPr>
              <a:t>по-арабски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– прощение, снисходительность, мягкость, милосердие, сострадание, терпение, расположенность к другим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i="1" lang="ru-RU" sz="2400" spc="-1" strike="noStrike">
                <a:solidFill>
                  <a:srgbClr val="ff6600"/>
                </a:solidFill>
                <a:latin typeface="Times New Roman"/>
              </a:rPr>
              <a:t>по-русски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– способность терпеть что-то или кого-то, быть выдержанным, выносливым, стойким, уметь мириться, принимать существование кого-то, считаться с мнением других, быть снисходительным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13" name="комп15.jpg" descr="I:\картинки\комп15.jpg"/>
          <p:cNvPicPr/>
          <p:nvPr/>
        </p:nvPicPr>
        <p:blipFill>
          <a:blip r:embed="rId2"/>
          <a:stretch/>
        </p:blipFill>
        <p:spPr>
          <a:xfrm>
            <a:off x="7361280" y="5286240"/>
            <a:ext cx="1639800" cy="1500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Заголовок 3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67040"/>
          </a:xfrm>
          <a:prstGeom prst="rect">
            <a:avLst/>
          </a:prstGeom>
          <a:ln w="0">
            <a:noFill/>
          </a:ln>
        </p:spPr>
      </p:pic>
      <p:pic>
        <p:nvPicPr>
          <p:cNvPr id="515" name="6.jpg" descr="I:\картинки для работы\урок\6.jpg"/>
          <p:cNvPicPr/>
          <p:nvPr/>
        </p:nvPicPr>
        <p:blipFill>
          <a:blip r:embed="rId2"/>
          <a:stretch/>
        </p:blipFill>
        <p:spPr>
          <a:xfrm>
            <a:off x="1069920" y="1447920"/>
            <a:ext cx="7288200" cy="483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Заголовок 3" descr=""/>
          <p:cNvPicPr/>
          <p:nvPr/>
        </p:nvPicPr>
        <p:blipFill>
          <a:blip r:embed="rId1"/>
          <a:stretch/>
        </p:blipFill>
        <p:spPr>
          <a:xfrm>
            <a:off x="281160" y="-115920"/>
            <a:ext cx="8740440" cy="1695600"/>
          </a:xfrm>
          <a:prstGeom prst="rect">
            <a:avLst/>
          </a:prstGeom>
          <a:ln w="0">
            <a:noFill/>
          </a:ln>
        </p:spPr>
      </p:pic>
      <p:sp>
        <p:nvSpPr>
          <p:cNvPr id="517" name="Прямоугольник 5"/>
          <p:cNvSpPr/>
          <p:nvPr/>
        </p:nvSpPr>
        <p:spPr>
          <a:xfrm>
            <a:off x="5612040" y="114300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Снисходительнос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Прямоугольник 6"/>
          <p:cNvSpPr/>
          <p:nvPr/>
        </p:nvSpPr>
        <p:spPr>
          <a:xfrm>
            <a:off x="5422320" y="578628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Доброжелатель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Прямоугольник 7"/>
          <p:cNvSpPr/>
          <p:nvPr/>
        </p:nvSpPr>
        <p:spPr>
          <a:xfrm>
            <a:off x="7261200" y="389556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Довер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Прямоугольник 8"/>
          <p:cNvSpPr/>
          <p:nvPr/>
        </p:nvSpPr>
        <p:spPr>
          <a:xfrm>
            <a:off x="7349760" y="239544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Чутк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Прямоугольник 9"/>
          <p:cNvSpPr/>
          <p:nvPr/>
        </p:nvSpPr>
        <p:spPr>
          <a:xfrm>
            <a:off x="144720" y="1357200"/>
            <a:ext cx="39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Умение владеть соб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Прямоугольник 10"/>
          <p:cNvSpPr/>
          <p:nvPr/>
        </p:nvSpPr>
        <p:spPr>
          <a:xfrm>
            <a:off x="-90000" y="2357280"/>
            <a:ext cx="28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Умение слуша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Прямоугольник 11"/>
          <p:cNvSpPr/>
          <p:nvPr/>
        </p:nvSpPr>
        <p:spPr>
          <a:xfrm>
            <a:off x="171360" y="5214960"/>
            <a:ext cx="52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Способность к сопереживанию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Прямоугольник 12"/>
          <p:cNvSpPr/>
          <p:nvPr/>
        </p:nvSpPr>
        <p:spPr>
          <a:xfrm>
            <a:off x="352080" y="392904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Терпе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Прямоугольник 13"/>
          <p:cNvSpPr/>
          <p:nvPr/>
        </p:nvSpPr>
        <p:spPr>
          <a:xfrm>
            <a:off x="992880" y="6324480"/>
            <a:ext cx="47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Умение не осуждать други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Прямоугольник 14"/>
          <p:cNvSpPr/>
          <p:nvPr/>
        </p:nvSpPr>
        <p:spPr>
          <a:xfrm>
            <a:off x="6167520" y="5072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Чувство юмор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7" name="Рисунок 15" descr="http://gallery.forum-grad.ru/files/2/2/5/0/4/2636307.jpg"/>
          <p:cNvPicPr/>
          <p:nvPr/>
        </p:nvPicPr>
        <p:blipFill>
          <a:blip r:embed="rId2"/>
          <a:stretch/>
        </p:blipFill>
        <p:spPr>
          <a:xfrm>
            <a:off x="2857680" y="2143080"/>
            <a:ext cx="3857400" cy="278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95280" y="4797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КОНФЛИКТ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95280" y="476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Verdana"/>
              </a:rPr>
              <a:t>Нетерпимость            Злоб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Verdana"/>
              </a:rPr>
              <a:t>         </a:t>
            </a:r>
            <a:r>
              <a:rPr b="1" i="1" lang="ru-RU" sz="3200" spc="-1" strike="noStrike">
                <a:solidFill>
                  <a:srgbClr val="660066"/>
                </a:solidFill>
                <a:latin typeface="Verdana"/>
              </a:rPr>
              <a:t>Крити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Verdana"/>
              </a:rPr>
              <a:t>                         </a:t>
            </a:r>
            <a:r>
              <a:rPr b="1" i="1" lang="ru-RU" sz="3200" spc="-1" strike="noStrike">
                <a:solidFill>
                  <a:srgbClr val="660066"/>
                </a:solidFill>
                <a:latin typeface="Verdana"/>
              </a:rPr>
              <a:t>Невыдержанно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Verdana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Verdana"/>
              </a:rPr>
              <a:t>Неискренно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0" name="Picture 30" descr="http://www.webman.ru/animation/strelki/2str3.gif"/>
          <p:cNvPicPr/>
          <p:nvPr/>
        </p:nvPicPr>
        <p:blipFill>
          <a:blip r:embed="rId1"/>
          <a:stretch/>
        </p:blipFill>
        <p:spPr>
          <a:xfrm>
            <a:off x="3995640" y="549360"/>
            <a:ext cx="1152720" cy="4381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30" descr="http://www.webman.ru/animation/strelki/2str3.gif"/>
          <p:cNvPicPr/>
          <p:nvPr/>
        </p:nvPicPr>
        <p:blipFill>
          <a:blip r:embed="rId2"/>
          <a:stretch/>
        </p:blipFill>
        <p:spPr>
          <a:xfrm rot="10273200">
            <a:off x="5076360" y="1125000"/>
            <a:ext cx="1152720" cy="4384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30" descr="http://www.webman.ru/animation/strelki/2str3.gif"/>
          <p:cNvPicPr/>
          <p:nvPr/>
        </p:nvPicPr>
        <p:blipFill>
          <a:blip r:embed="rId3"/>
          <a:stretch/>
        </p:blipFill>
        <p:spPr>
          <a:xfrm rot="9915000">
            <a:off x="3850560" y="1483920"/>
            <a:ext cx="1152360" cy="4381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0" descr="http://www.webman.ru/animation/strelki/2str3.gif"/>
          <p:cNvPicPr/>
          <p:nvPr/>
        </p:nvPicPr>
        <p:blipFill>
          <a:blip r:embed="rId4"/>
          <a:stretch/>
        </p:blipFill>
        <p:spPr>
          <a:xfrm rot="1460400">
            <a:off x="2842920" y="2205000"/>
            <a:ext cx="1152360" cy="4381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0" descr="http://www.webman.ru/animation/strelki/2str3.gif"/>
          <p:cNvPicPr/>
          <p:nvPr/>
        </p:nvPicPr>
        <p:blipFill>
          <a:blip r:embed="rId5"/>
          <a:stretch/>
        </p:blipFill>
        <p:spPr>
          <a:xfrm rot="9463800">
            <a:off x="2771280" y="3141360"/>
            <a:ext cx="1152720" cy="4381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30" descr="http://www.webman.ru/animation/strelki/2str3.gif"/>
          <p:cNvPicPr/>
          <p:nvPr/>
        </p:nvPicPr>
        <p:blipFill>
          <a:blip r:embed="rId6"/>
          <a:stretch/>
        </p:blipFill>
        <p:spPr>
          <a:xfrm rot="5400000">
            <a:off x="3064320" y="4359960"/>
            <a:ext cx="716040" cy="4381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30" descr="http://www.webman.ru/animation/strelki/2str3.gif"/>
          <p:cNvPicPr/>
          <p:nvPr/>
        </p:nvPicPr>
        <p:blipFill>
          <a:blip r:embed="rId7"/>
          <a:stretch/>
        </p:blipFill>
        <p:spPr>
          <a:xfrm rot="5400000">
            <a:off x="3785040" y="4359960"/>
            <a:ext cx="716040" cy="4381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0" descr="http://www.webman.ru/animation/strelki/2str3.gif"/>
          <p:cNvPicPr/>
          <p:nvPr/>
        </p:nvPicPr>
        <p:blipFill>
          <a:blip r:embed="rId8"/>
          <a:stretch/>
        </p:blipFill>
        <p:spPr>
          <a:xfrm rot="5400000">
            <a:off x="4504320" y="4359600"/>
            <a:ext cx="716040" cy="438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66"/>
                </a:solidFill>
                <a:latin typeface="Arial"/>
              </a:rPr>
              <a:t>«Почему бы Вам не …»</a:t>
            </a: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003b76"/>
                </a:solidFill>
                <a:latin typeface="Arial"/>
              </a:rPr>
              <a:t> «Да, но …»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39" name="5.jpg" descr="I:\картинки для работы\урок\5.jpg"/>
          <p:cNvPicPr/>
          <p:nvPr/>
        </p:nvPicPr>
        <p:blipFill>
          <a:blip r:embed="rId1"/>
          <a:stretch/>
        </p:blipFill>
        <p:spPr>
          <a:xfrm>
            <a:off x="2428920" y="3195720"/>
            <a:ext cx="4786200" cy="3233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00"/>
                </a:solidFill>
                <a:latin typeface="Monotype Corsiva"/>
              </a:rPr>
              <a:t>Принципы толерантного поведени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1. Отделяйте человека от проблем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2. Рассматривайте поведение ребенка в конкретной ситуац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3. Концентрируйте внимание на интересах, а не на позиция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4. Настаивайте на объективных критерия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5" descr="spasibo_001"/>
          <p:cNvPicPr/>
          <p:nvPr/>
        </p:nvPicPr>
        <p:blipFill>
          <a:blip r:embed="rId1"/>
          <a:stretch/>
        </p:blipFill>
        <p:spPr>
          <a:xfrm>
            <a:off x="1500120" y="214200"/>
            <a:ext cx="6337440" cy="423252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71680" y="52149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Comic Sans MS"/>
              </a:rPr>
              <a:t>УЧИТЕСЬ ТОЛЕРАНТНОСТИ </a:t>
            </a:r>
            <a:br>
              <a:rPr sz="4000"/>
            </a:br>
            <a:r>
              <a:rPr b="1" i="1" lang="ru-RU" sz="4000" spc="-1" strike="noStrike">
                <a:solidFill>
                  <a:srgbClr val="660066"/>
                </a:solidFill>
                <a:latin typeface="Comic Sans MS"/>
              </a:rPr>
              <a:t>И БУДЬТЕ ТЕРПИМЫМИ!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4:03:41Z</dcterms:created>
  <dc:creator>ДИМА</dc:creator>
  <dc:description/>
  <dc:language>en-US</dc:language>
  <cp:lastModifiedBy>Алексей</cp:lastModifiedBy>
  <dcterms:modified xsi:type="dcterms:W3CDTF">2013-01-23T19:42:00Z</dcterms:modified>
  <cp:revision>69</cp:revision>
  <dc:subject/>
  <dc:title>Слайд 1</dc:title>
</cp:coreProperties>
</file>