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gif" ContentType="image/gif"/>
  <Override PartName="/ppt/media/image1.png" ContentType="image/png"/>
  <Override PartName="/ppt/media/image12.gif" ContentType="image/gif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8FA-5E02-4FC0-A97B-79A3C9C57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7E1-23A0-41A3-B3CC-D49C6E37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638-BCC2-463E-9386-430A9844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426-13F6-4A01-824C-DB274FDB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26D3-CF24-4DAD-A4B8-770B221D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9081-40A6-4D40-AF35-77D00B10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824E-49A6-46EA-BDC6-B41A65DA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A30-9CBA-4941-8AF4-F4B479D0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F48D-E7B3-4DAE-A610-B078FD98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4F43-6170-496C-BF36-6BE76360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10B2-A845-413D-B8D9-8A4FFE75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E94-EC2D-4C3D-A97E-F1BC62A1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5451-85E3-481C-BB97-BB636F70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00FF-E48E-415A-A4E3-2554BAE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28F0-4AFE-4E1A-A121-5B46A43C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4ADC-F691-4EC1-A55D-7547353F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498F-2FA4-4A6B-B31A-480E924A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FBB85-9062-40D4-9F00-5D3B0482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5F3A8-5C8A-489D-9A59-80B2F56A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622C-78B7-47C4-9F8A-4FECAEDC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BCE7-0400-4FBE-A142-DBF37E88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7304-0835-4BA2-B660-85573BCC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FA6-806C-498E-AFAC-14FE8CFC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92941-FC59-402E-A527-FD779A3E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3DCB-BB16-40F8-B8D9-11FB3481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A720-33C3-4A09-9B54-2BC11A15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65746-6D49-457B-8299-35DE28F9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E1A4E-2914-48D7-8F79-91560FFA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24C3-352A-4726-99B8-06892D4C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069B-991C-4235-BEF5-D9DA2FEA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E1DB-6165-4A1E-B053-A038DB26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BE7D-4979-435E-882F-964EFCDF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55AE9-875F-416D-9BAE-CC62440E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B0C-6554-45BF-A9BA-5A8AC131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BDF09-1777-42A2-917F-8D40DE35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DBAB-6752-4F11-91E0-9D102C46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5F467-ECC4-4506-85D4-A4A94308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FC41-72E3-4AE9-ADF1-A8B0B609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F247C-8565-4F5D-B697-AC75C9F0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DFC7-B3C9-4192-974B-CF4E0013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8FBA4-06B7-4569-8FBB-65575612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4091-E6AF-4EA8-AAC5-DEEA5626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B7B1-C987-45C3-8583-A6FAABB25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99002-DDEA-44C8-83F5-3FD1AD24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EF6-DC37-4770-B707-9457145F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67C5E-E114-427F-B8A0-7847FE28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9B456-7CE9-47BE-BB5D-741CC488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F0FC2-4D7C-437E-B719-75DD46E2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BDBE7-68DD-4042-9E09-8AD48D97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1717-E3AC-4D8E-B964-35CC94AC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2DA07-6208-415A-B9B6-2E29E0E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A2331-4300-43F5-BF7F-4F4C8155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B3517-1DD1-47EE-B1C1-E820CDAF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8ED53-A351-4E35-87DA-6E29E2C8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6F9A6-DB83-48DC-AFB1-6039A520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DEA-311B-47C1-B2D2-211808E2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C1CD5-069E-467D-8A8A-D2C8C029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C2164-07AA-4292-B733-74BA52FC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CB95D-6194-4871-8429-8019A6E3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9B2FC-95CE-40A9-8CFD-6D51D317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F05C3-2552-4D9A-9A30-C67FA6BF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3DFB0-D83E-46F1-8BEB-4CAF47A9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ECD7D-0E0F-42B7-94F6-E88F9BB9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51BBF-1662-46DD-9304-A413A33B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9D6B9-44A2-4912-A975-136AA749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FB8AE-0A55-45F4-AF0B-D4364567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B5F-62DC-4D5C-BDDE-90BCCA90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061B9-35B9-4CB7-8C83-976D3D67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B3B6B-C5D5-44D4-B258-F12CC73E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34507-D14F-49C5-88D1-5818CC0D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B256A-CAE7-4474-B175-84835527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3B175-317D-4544-883F-FD05DF71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36E25-46F9-4ED9-B1F8-228BEB62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D100F-C894-4CB0-94C8-F16EE6B0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8B957-4B05-49D6-B6A7-2DFB4184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60438-97BC-45C5-A975-4BA4B53F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3DB58-7DBF-425D-B5F4-1311EB29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F50A-ECF7-4F36-B956-D504917E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5A4D3-1A07-4E1F-8ECA-71AAD6CA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70B37-4614-4CB7-ADF6-DA0FD694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722FB-4227-496E-AB48-38933C32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2E352-FBB8-4A42-8ECB-6B641301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0177D-A33B-4FD9-BAFE-DCEE1FAE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57F3C-E62A-4F15-BE63-7CF5890B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3F2FC-7569-4163-BCDB-A056D454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DDDA-D9DD-4F36-82A8-D7730B2D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86602-DB6D-42A2-9862-50F01BB9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CADE6-1B68-4560-AD4C-4D876908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B61-CD91-4608-BDF0-A0506C64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6D3AF-DBCF-4BCA-B736-7984AB3E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D518-CE30-4DBC-B045-8CAFB1FE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82059-6BA6-4B0B-A7EC-5D81C8BC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D2097-4BA5-4FFD-8FF6-5EC79D63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BE08F-31CD-4F03-9FC1-726A82EA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7B08A-8B2B-4574-8A64-942E0B21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C0D24-DAFF-4AD0-9284-C92201E1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F20D-DD45-40A8-A7FB-01FF45A4632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96BC-E508-4F16-A85E-3BE7273D758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9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3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66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70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61b0ff"/>
                  </a:gs>
                  <a:gs pos="100000">
                    <a:srgbClr val="4175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61b0ff"/>
                </a:gs>
                <a:gs pos="100000">
                  <a:srgbClr val="5ba6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61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9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61b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D919-B7D0-4EF8-AC39-7EA2EB6D314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4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4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5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25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13E5-BA32-4C9D-BB7C-6D9A52FD2F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9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0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0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F015-2520-4F69-A804-501AD853DD3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4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5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5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35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2D59-CE3D-4667-B492-602B4BC341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40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6058-9C8A-456B-998D-D502BBA5BE0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5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1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462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89B0-4A9B-4744-BE7D-5430276EE1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57120" y="142560"/>
            <a:ext cx="850104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Monotype Corsiva"/>
              </a:rPr>
              <a:t>«НАУКА ЖИТЬ ВМЕСТЕ: ГОВОРИМ О ТОЛЕРАНТНОСТИ»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6" name="толерантность картинка.jpg" descr="G:\неделя толерантности\толерантность картинка.jpg"/>
          <p:cNvPicPr/>
          <p:nvPr/>
        </p:nvPicPr>
        <p:blipFill>
          <a:blip r:embed="rId1"/>
          <a:srcRect l="0" t="0" r="0" b="6249"/>
          <a:stretch/>
        </p:blipFill>
        <p:spPr>
          <a:xfrm>
            <a:off x="5857920" y="2214720"/>
            <a:ext cx="3036960" cy="4357440"/>
          </a:xfrm>
          <a:prstGeom prst="rect">
            <a:avLst/>
          </a:prstGeom>
          <a:ln w="0">
            <a:noFill/>
          </a:ln>
        </p:spPr>
      </p:pic>
      <p:pic>
        <p:nvPicPr>
          <p:cNvPr id="507" name="Прямоугольник 4" descr=""/>
          <p:cNvPicPr/>
          <p:nvPr/>
        </p:nvPicPr>
        <p:blipFill>
          <a:blip r:embed="rId2"/>
          <a:stretch/>
        </p:blipFill>
        <p:spPr>
          <a:xfrm>
            <a:off x="433440" y="3133800"/>
            <a:ext cx="5162400" cy="299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70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457200" y="1571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i="1" lang="ru-RU" sz="2800" spc="-1" strike="noStrike">
                <a:solidFill>
                  <a:srgbClr val="ff6600"/>
                </a:solidFill>
                <a:latin typeface="Times New Roman"/>
              </a:rPr>
              <a:t>по-испански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способность признавать отличные от своих собственных идеи или мн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i="1" lang="ru-RU" sz="2800" spc="-1" strike="noStrike">
                <a:solidFill>
                  <a:srgbClr val="ff6600"/>
                </a:solidFill>
                <a:latin typeface="Times New Roman"/>
              </a:rPr>
              <a:t>по-английски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готовность быть терпимым, снисходительны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i="1" lang="ru-RU" sz="2800" spc="-1" strike="noStrike">
                <a:solidFill>
                  <a:srgbClr val="ff6600"/>
                </a:solidFill>
                <a:latin typeface="Times New Roman"/>
              </a:rPr>
              <a:t>по-французски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– отношение, при котором допускается, что другие могут думать или действовать иначе, нежели ты са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0" name="комп16.jpg" descr="I:\картинки\комп16.jpg"/>
          <p:cNvPicPr/>
          <p:nvPr/>
        </p:nvPicPr>
        <p:blipFill>
          <a:blip r:embed="rId2"/>
          <a:stretch/>
        </p:blipFill>
        <p:spPr>
          <a:xfrm>
            <a:off x="7429680" y="4929120"/>
            <a:ext cx="1538280" cy="166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70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304920" y="1554120"/>
            <a:ext cx="86868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по-китайски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– позволять, принимать, быть по отношению к другим великодушны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по-арабски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– прощение, снисходительность, мягкость, милосердие, сострадание, терпение, расположенность к други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i="1" lang="ru-RU" sz="2400" spc="-1" strike="noStrike">
                <a:solidFill>
                  <a:srgbClr val="ff6600"/>
                </a:solidFill>
                <a:latin typeface="Times New Roman"/>
              </a:rPr>
              <a:t>по-русски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– способность терпеть что-то или кого-то, быть выдержанным, выносливым, стойким, уметь мириться, принимать существование кого-то, считаться с мнением других, быть снисходительным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13" name="комп15.jpg" descr="I:\картинки\комп15.jpg"/>
          <p:cNvPicPr/>
          <p:nvPr/>
        </p:nvPicPr>
        <p:blipFill>
          <a:blip r:embed="rId2"/>
          <a:stretch/>
        </p:blipFill>
        <p:spPr>
          <a:xfrm>
            <a:off x="7361280" y="5286240"/>
            <a:ext cx="1639800" cy="150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Заголовок 3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7040"/>
          </a:xfrm>
          <a:prstGeom prst="rect">
            <a:avLst/>
          </a:prstGeom>
          <a:ln w="0">
            <a:noFill/>
          </a:ln>
        </p:spPr>
      </p:pic>
      <p:pic>
        <p:nvPicPr>
          <p:cNvPr id="515" name="6.jpg" descr="I:\картинки для работы\урок\6.jpg"/>
          <p:cNvPicPr/>
          <p:nvPr/>
        </p:nvPicPr>
        <p:blipFill>
          <a:blip r:embed="rId2"/>
          <a:stretch/>
        </p:blipFill>
        <p:spPr>
          <a:xfrm>
            <a:off x="1069920" y="1447920"/>
            <a:ext cx="7288200" cy="483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Заголовок 3" descr=""/>
          <p:cNvPicPr/>
          <p:nvPr/>
        </p:nvPicPr>
        <p:blipFill>
          <a:blip r:embed="rId1"/>
          <a:stretch/>
        </p:blipFill>
        <p:spPr>
          <a:xfrm>
            <a:off x="281160" y="-115920"/>
            <a:ext cx="8740440" cy="169560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5"/>
          <p:cNvSpPr/>
          <p:nvPr/>
        </p:nvSpPr>
        <p:spPr>
          <a:xfrm>
            <a:off x="5612040" y="114300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нисходительнос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Прямоугольник 6"/>
          <p:cNvSpPr/>
          <p:nvPr/>
        </p:nvSpPr>
        <p:spPr>
          <a:xfrm>
            <a:off x="5422320" y="578628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оброжелатель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Прямоугольник 7"/>
          <p:cNvSpPr/>
          <p:nvPr/>
        </p:nvSpPr>
        <p:spPr>
          <a:xfrm>
            <a:off x="7261200" y="38955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Довер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Прямоугольник 8"/>
          <p:cNvSpPr/>
          <p:nvPr/>
        </p:nvSpPr>
        <p:spPr>
          <a:xfrm>
            <a:off x="7349760" y="239544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утк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Прямоугольник 9"/>
          <p:cNvSpPr/>
          <p:nvPr/>
        </p:nvSpPr>
        <p:spPr>
          <a:xfrm>
            <a:off x="144720" y="1357200"/>
            <a:ext cx="39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мение владеть соб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-90000" y="2357280"/>
            <a:ext cx="28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мение слуша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171360" y="5214960"/>
            <a:ext cx="52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Способность к сопереживани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Прямоугольник 12"/>
          <p:cNvSpPr/>
          <p:nvPr/>
        </p:nvSpPr>
        <p:spPr>
          <a:xfrm>
            <a:off x="352080" y="392904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Терп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Прямоугольник 13"/>
          <p:cNvSpPr/>
          <p:nvPr/>
        </p:nvSpPr>
        <p:spPr>
          <a:xfrm>
            <a:off x="992880" y="6324480"/>
            <a:ext cx="47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мение не осуждать друг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Прямоугольник 14"/>
          <p:cNvSpPr/>
          <p:nvPr/>
        </p:nvSpPr>
        <p:spPr>
          <a:xfrm>
            <a:off x="6167520" y="507204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Чувство юмо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Рисунок 15" descr="http://gallery.forum-grad.ru/files/2/2/5/0/4/2636307.jpg"/>
          <p:cNvPicPr/>
          <p:nvPr/>
        </p:nvPicPr>
        <p:blipFill>
          <a:blip r:embed="rId2"/>
          <a:stretch/>
        </p:blipFill>
        <p:spPr>
          <a:xfrm>
            <a:off x="2857680" y="2143080"/>
            <a:ext cx="3857400" cy="27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4797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КОНФЛИКТ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476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Нетерпимость            Злоб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         </a:t>
            </a: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                         </a:t>
            </a: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Невыдержан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Verdana"/>
              </a:rPr>
              <a:t>Неискрен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0" name="Picture 30" descr="http://www.webman.ru/animation/strelki/2str3.gif"/>
          <p:cNvPicPr/>
          <p:nvPr/>
        </p:nvPicPr>
        <p:blipFill>
          <a:blip r:embed="rId1"/>
          <a:stretch/>
        </p:blipFill>
        <p:spPr>
          <a:xfrm>
            <a:off x="3995640" y="54936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0" descr="http://www.webman.ru/animation/strelki/2str3.gif"/>
          <p:cNvPicPr/>
          <p:nvPr/>
        </p:nvPicPr>
        <p:blipFill>
          <a:blip r:embed="rId2"/>
          <a:stretch/>
        </p:blipFill>
        <p:spPr>
          <a:xfrm rot="10273200">
            <a:off x="5076360" y="1125000"/>
            <a:ext cx="1152720" cy="4384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0" descr="http://www.webman.ru/animation/strelki/2str3.gif"/>
          <p:cNvPicPr/>
          <p:nvPr/>
        </p:nvPicPr>
        <p:blipFill>
          <a:blip r:embed="rId3"/>
          <a:stretch/>
        </p:blipFill>
        <p:spPr>
          <a:xfrm rot="9915000">
            <a:off x="3850560" y="148392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0" descr="http://www.webman.ru/animation/strelki/2str3.gif"/>
          <p:cNvPicPr/>
          <p:nvPr/>
        </p:nvPicPr>
        <p:blipFill>
          <a:blip r:embed="rId4"/>
          <a:stretch/>
        </p:blipFill>
        <p:spPr>
          <a:xfrm rot="1460400">
            <a:off x="2842920" y="220500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0" descr="http://www.webman.ru/animation/strelki/2str3.gif"/>
          <p:cNvPicPr/>
          <p:nvPr/>
        </p:nvPicPr>
        <p:blipFill>
          <a:blip r:embed="rId5"/>
          <a:stretch/>
        </p:blipFill>
        <p:spPr>
          <a:xfrm rot="9463800">
            <a:off x="2771280" y="3141360"/>
            <a:ext cx="1152720" cy="438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0" descr="http://www.webman.ru/animation/strelki/2str3.gif"/>
          <p:cNvPicPr/>
          <p:nvPr/>
        </p:nvPicPr>
        <p:blipFill>
          <a:blip r:embed="rId6"/>
          <a:stretch/>
        </p:blipFill>
        <p:spPr>
          <a:xfrm rot="5400000">
            <a:off x="3064320" y="4359960"/>
            <a:ext cx="716040" cy="438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0" descr="http://www.webman.ru/animation/strelki/2str3.gif"/>
          <p:cNvPicPr/>
          <p:nvPr/>
        </p:nvPicPr>
        <p:blipFill>
          <a:blip r:embed="rId7"/>
          <a:stretch/>
        </p:blipFill>
        <p:spPr>
          <a:xfrm rot="5400000">
            <a:off x="3785040" y="4359960"/>
            <a:ext cx="716040" cy="4381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0" descr="http://www.webman.ru/animation/strelki/2str3.gif"/>
          <p:cNvPicPr/>
          <p:nvPr/>
        </p:nvPicPr>
        <p:blipFill>
          <a:blip r:embed="rId8"/>
          <a:stretch/>
        </p:blipFill>
        <p:spPr>
          <a:xfrm rot="5400000">
            <a:off x="4504320" y="4359600"/>
            <a:ext cx="716040" cy="43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66"/>
                </a:solidFill>
                <a:latin typeface="Arial"/>
              </a:rPr>
              <a:t>«Почему бы Вам не …»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3b76"/>
                </a:solidFill>
                <a:latin typeface="Arial"/>
              </a:rPr>
              <a:t> «Да, но …»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39" name="5.jpg" descr="I:\картинки для работы\урок\5.jpg"/>
          <p:cNvPicPr/>
          <p:nvPr/>
        </p:nvPicPr>
        <p:blipFill>
          <a:blip r:embed="rId1"/>
          <a:stretch/>
        </p:blipFill>
        <p:spPr>
          <a:xfrm>
            <a:off x="2428920" y="3195720"/>
            <a:ext cx="4786200" cy="3233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6600"/>
                </a:solidFill>
                <a:latin typeface="Monotype Corsiva"/>
              </a:rPr>
              <a:t>Принципы толерантного повед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1. Отделяйте человека от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2. Рассматривайте поведение ребенка в конкретной ситуац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3. Концентрируйте внимание на интересах, а не на позиция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4. Настаивайте на объективных критерия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5" descr="spasibo_001"/>
          <p:cNvPicPr/>
          <p:nvPr/>
        </p:nvPicPr>
        <p:blipFill>
          <a:blip r:embed="rId1"/>
          <a:stretch/>
        </p:blipFill>
        <p:spPr>
          <a:xfrm>
            <a:off x="1500120" y="214200"/>
            <a:ext cx="6337440" cy="42325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71680" y="5214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Comic Sans MS"/>
              </a:rPr>
              <a:t>УЧИТЕСЬ ТОЛЕРАНТНОСТИ </a:t>
            </a:r>
            <a:br>
              <a:rPr sz="4000"/>
            </a:br>
            <a:r>
              <a:rPr b="1" i="1" lang="ru-RU" sz="4000" spc="-1" strike="noStrike">
                <a:solidFill>
                  <a:srgbClr val="660066"/>
                </a:solidFill>
                <a:latin typeface="Comic Sans MS"/>
              </a:rPr>
              <a:t>И БУДЬТЕ ТЕРПИМЫМИ!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4:03:41Z</dcterms:created>
  <dc:creator>ДИМА</dc:creator>
  <dc:description/>
  <dc:language>en-US</dc:language>
  <cp:lastModifiedBy>Алексей</cp:lastModifiedBy>
  <dcterms:modified xsi:type="dcterms:W3CDTF">2013-01-23T19:42:00Z</dcterms:modified>
  <cp:revision>69</cp:revision>
  <dc:subject/>
  <dc:title>Слайд 1</dc:title>
</cp:coreProperties>
</file>