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016-6562-4A6B-9DC9-D67F0BE0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AFA-223D-46AA-8972-843F5EA6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5A0-EFBE-402F-829E-2B190509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13B-E104-4AC5-A549-DA60F450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BDC1-012B-4A93-90D5-E0BD3327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BDDB-902E-44C8-A01C-851544E9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4651-F579-4D5A-87BD-FCB4B458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855C-94DB-4523-8FF7-71FBDDA2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238A-1A29-4E43-94BD-349453D9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0C35-08C8-486B-BBC6-0D96C003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5F10-6A9C-4042-8F3C-F3A7C393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972-E8A3-4BD9-A2AE-5F6C501B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A6B4-EE9C-48E3-B9A4-91C96279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ED3A-4534-47A0-B36A-9AA5B413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A199-B005-4980-BFF9-720C588E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7359-7D1C-4D3A-AA0E-B94D5FAB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5851-9167-425B-AA1F-54F56249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9BB64-E515-4CFE-AF17-9D724D59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81C2A-F395-4F65-AD9C-A8E4EDE4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431D4-8E62-4342-8861-FC085D01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BA7A6-6924-4FD9-83D9-A3827F68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28065-1311-42F7-8B9D-1E7E7E44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A0F-7AB6-40E4-AAF4-5C8BF381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1797F-8851-4E98-A233-9EBDEBB2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0EA7C-01EA-4DE4-B231-8DDBDA86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98511-BE2D-4ABC-9D34-AA216684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3544D-FD73-4933-81F2-47775B0A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8541B-9E8D-431B-BA8D-C6C315F2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F876F-C808-4D1F-B9E8-A0DEF287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3A5C0-B69C-4BF7-A5F5-DAB02A5A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FAE73-707B-4497-8291-F1579AC2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3CB99-BA0E-4C04-ABE9-C09CDFC8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DF682-A6BB-42AF-BCC3-4C1FFC59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678C-DD9D-4DC6-AD6F-E5A5275B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BED94-26D5-4239-B2B0-01327830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E2F8F-AF0A-4313-B110-28529CB0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B2D7E-E708-423C-B537-F7A7A1B9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5C7DE-4421-4A0E-B8A5-9061A50C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0D35F-A618-44C8-B9E9-38137EF9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C832D-BE09-4E64-8CC4-C91FC210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FF171-6803-40DC-83F4-C900D7D7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4095D-E283-4D1A-A019-0F6BA021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6B8E6-07FE-4F63-80A1-8AD351C1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4F3EE-6ED5-464C-90FB-86274B00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BDF1-545A-40CD-9D28-AF6F2C9D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CA931-9DD4-4FA3-AE44-7E42CA9D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FAEE4-3697-455A-9CC9-6032517F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4F01D-B0AA-4264-A0A5-B75FEA74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71905-86B9-46B8-8510-C4D1E18F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54606-DF76-4252-87D4-8685D054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38E6D-B3DF-4E60-969C-C0CEE74F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3E81F-0509-45CE-82D4-F85A2903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051AC-0A9D-48F0-A646-4091DB50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F535D-7415-4B21-A3F9-D20CC0E8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FEF00-CCC9-4E97-92A0-DFAD2077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AED9-0FA2-403B-B443-FE728071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78AD8-1A7E-435B-9C66-DBC035D6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B5D8B-9FC6-40BB-A701-B286F509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AE244-D3B7-44FC-91C8-AF0A845A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CB387-DECE-4777-9AE3-59743EA2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88CC7-25D2-4E6B-8807-443B4E45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68D24-AD46-4DA4-A860-A729356B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66F11-091D-4F70-85A0-B1E66107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9920B-182F-466C-9582-1C5F4A88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C6D5D-9887-4AFC-B4DC-C266EE8E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7A31B-9B8E-4D3B-AD61-4ACF8668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299A-9C98-4A5E-BBD2-8C057B52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A5794-7E5A-4279-B71D-CD1BDB83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777C4-83D4-48F1-AB78-D1A68B98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093F3-D14E-4515-B95A-55E832D4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F5CA0-CB09-4F88-85B3-D380C8D4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D7906-CC31-425E-87D1-D790AF5E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3ABFC-22CE-451C-9303-680DABD5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E2754-337F-4A33-AC0D-CB69B7B8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D01E7-7B0B-49F3-9BD2-1C90A0B0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427D6-AFF1-48D8-963B-D3470643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42411-B371-4B3F-AEF2-95E2A93F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13EE-EE34-4B01-86B5-F05406A6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531BC-B347-4911-956C-CB2BFA80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BF144-9F71-4520-BDCE-73607343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B002C-3DB9-43B2-A4A4-1BD02CEB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5AE73-2DD7-43C6-AFA3-616F1C09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E5654-2391-48E5-9B99-27D7C82E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0DFD6-F8DA-4FC8-9A5A-FFA6B4E2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054C1-04A7-427B-B900-D151EBB4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85BD5-34F1-4A0F-BB53-DE0D3F4D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9A1D9-F08E-4C71-AD84-7005B998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064F0-70CC-42A1-9B64-F52D995E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A96-66E6-4F9F-990C-8FF16E12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57332-7D4A-4528-9694-45A01767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3CE73-4D5D-4689-B17A-1FC75375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C0F64-6B7C-4F69-A112-CB086E58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C9D97-7E43-475A-AA4D-995FFFAF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B3DA1-8B3E-4E87-AAB6-8825BD29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9D207-28C5-4805-A790-6AC1463F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1D232-0415-423B-9C10-A46DED35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37.xml"/><Relationship Id="rId32" Type="http://schemas.openxmlformats.org/officeDocument/2006/relationships/slideLayout" Target="../slideLayouts/slideLayout38.xml"/><Relationship Id="rId33" Type="http://schemas.openxmlformats.org/officeDocument/2006/relationships/slideLayout" Target="../slideLayouts/slideLayout39.xml"/><Relationship Id="rId34" Type="http://schemas.openxmlformats.org/officeDocument/2006/relationships/slideLayout" Target="../slideLayouts/slideLayout40.xml"/><Relationship Id="rId35" Type="http://schemas.openxmlformats.org/officeDocument/2006/relationships/slideLayout" Target="../slideLayouts/slideLayout41.xml"/><Relationship Id="rId36" Type="http://schemas.openxmlformats.org/officeDocument/2006/relationships/slideLayout" Target="../slideLayouts/slideLayout42.xml"/><Relationship Id="rId37" Type="http://schemas.openxmlformats.org/officeDocument/2006/relationships/slideLayout" Target="../slideLayouts/slideLayout43.xml"/><Relationship Id="rId38" Type="http://schemas.openxmlformats.org/officeDocument/2006/relationships/slideLayout" Target="../slideLayouts/slideLayout44.xml"/><Relationship Id="rId39" Type="http://schemas.openxmlformats.org/officeDocument/2006/relationships/slideLayout" Target="../slideLayouts/slideLayout45.xml"/><Relationship Id="rId40" Type="http://schemas.openxmlformats.org/officeDocument/2006/relationships/slideLayout" Target="../slideLayouts/slideLayout46.xml"/><Relationship Id="rId41" Type="http://schemas.openxmlformats.org/officeDocument/2006/relationships/slideLayout" Target="../slideLayouts/slideLayout47.xml"/><Relationship Id="rId4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856B-CB65-4A29-B1A4-F6EE06C17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9EC9-2067-4F30-9C53-D530DA214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F671-7F11-4C22-BF20-B29D51B3DF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7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8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0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2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2838-518B-481A-8FEA-7ED1ED051C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1"/>
    <p:sldLayoutId id="2147483689" r:id="rId32"/>
    <p:sldLayoutId id="2147483690" r:id="rId33"/>
    <p:sldLayoutId id="2147483691" r:id="rId34"/>
    <p:sldLayoutId id="2147483692" r:id="rId35"/>
    <p:sldLayoutId id="2147483693" r:id="rId36"/>
    <p:sldLayoutId id="2147483694" r:id="rId37"/>
    <p:sldLayoutId id="2147483695" r:id="rId38"/>
    <p:sldLayoutId id="2147483696" r:id="rId39"/>
    <p:sldLayoutId id="2147483697" r:id="rId40"/>
    <p:sldLayoutId id="2147483698" r:id="rId41"/>
    <p:sldLayoutId id="2147483699" r:id="rId4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DF81-5254-4E0C-8441-147D52A83D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C840-5633-467A-9AED-A4D93021BD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7D98-8339-4174-BE0D-43316007CE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0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0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1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C94B-9FA7-4105-973D-4C82579CCD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7e7ff"/>
                </a:solidFill>
                <a:latin typeface="Arial"/>
              </a:rPr>
              <a:t>Умники и умницы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076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61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ьте на вопрос: «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Bessy Ross famous for?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Финал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5461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1.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is the oldest and most prestigious university of the USA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2.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o discovered Australia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61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3.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did the word “kangaroo” originally mean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реведите пословицу на язык, который вы изучаете.</a:t>
            </a:r>
            <a:br>
              <a:rPr sz="4400"/>
            </a:br>
            <a:r>
              <a:rPr b="1" i="1" lang="en-US" sz="4400" spc="-1" strike="noStrike">
                <a:solidFill>
                  <a:srgbClr val="b7e7ff"/>
                </a:solidFill>
                <a:latin typeface="Times New Roman"/>
              </a:rPr>
              <a:t>Все дороги ведут в Рим.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реведите пословицу на язык, который вы изучаете. </a:t>
            </a:r>
            <a:br>
              <a:rPr sz="4400"/>
            </a:br>
            <a:br>
              <a:rPr sz="4400"/>
            </a:br>
            <a:r>
              <a:rPr b="1" i="1" lang="en-US" sz="4800" spc="-1" strike="noStrike">
                <a:solidFill>
                  <a:srgbClr val="b7e7ff"/>
                </a:solidFill>
                <a:latin typeface="Times New Roman"/>
              </a:rPr>
              <a:t>Всему свое время.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реведите пословицу на язык, который вы изучаете. </a:t>
            </a:r>
            <a:br>
              <a:rPr sz="4400"/>
            </a:br>
            <a:br>
              <a:rPr sz="4400"/>
            </a:br>
            <a:r>
              <a:rPr b="1" i="1" lang="en-US" sz="4800" spc="-1" strike="noStrike">
                <a:solidFill>
                  <a:srgbClr val="b7e7ff"/>
                </a:solidFill>
                <a:latin typeface="Times New Roman"/>
              </a:rPr>
              <a:t>Не все то золото, что блестит.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размышляйте на тем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«Моя школа в 2050 году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размышляйте на тем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Мой край в 2050 году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рвый раунд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На каком языке был составлен Нерчинский договор 1689 года – первый документ в истории русско-китайских отношений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размышляйте на тем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«Мой район в 2050 году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Times New Roman"/>
              </a:rPr>
              <a:t>Поздравляем победителей!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Times New Roman"/>
              </a:rPr>
              <a:t>До новых встреч!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862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потребите  числительно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8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 дательном, творительном, предложном падежах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63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Ответьте на вопрос: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«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an you get to Oxbridge by plane? Why not?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торой раун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Какое слово здесь лишнее: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территория, террорист, терраса, террариум?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потребите</a:t>
            </a: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во множественном числе, в родительном падеже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ледующие слов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помидор, носок, чулок, дно (лодки), договор, килограмм.</a:t>
            </a: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10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ветьте на вопрос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w many birthdays does the British Queen (Elizabeth II ) have?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ретий раун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то «подсказал» А.С.Пушкину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ему для стихотворения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«Памятник»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кажите словосочетания с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ошибкам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в образовании формы слов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лади на стол,  пятьсот сорок пятью задачами, лягте на кушетку, ездите на велосипеде, по приезде домой, наиболее удобнее, поезжайте на каникулы в горы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4T16:55:11Z</dcterms:created>
  <dc:creator>у</dc:creator>
  <dc:description/>
  <dc:language>en-US</dc:language>
  <cp:lastModifiedBy>у</cp:lastModifiedBy>
  <dcterms:modified xsi:type="dcterms:W3CDTF">2008-01-11T18:01:41Z</dcterms:modified>
  <cp:revision>3</cp:revision>
  <dc:subject/>
  <dc:title>Умники и умницы</dc:title>
</cp:coreProperties>
</file>