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ADB-796E-4C62-BF41-084E2E86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962-FE70-42E2-A3A8-E0DCCC80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DB5-1D75-45FA-ABD4-52B0A7D9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849-76F8-40D7-A8ED-8A63725A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69ED-5DF1-4BAD-9EBE-C70590CF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143B-DDAC-45ED-9E06-116F88C9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83D8-C7C9-4733-B463-FEF23B5C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1E9F-E312-41ED-9C5B-931F126F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F9BB-5381-4A8E-A5E8-94A74234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F111-ACCD-43F9-A04D-B793932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022E-7E1C-4711-9C5E-3842BB4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3E2-7F4A-411B-89A9-92B7526F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A428-74E8-4F56-9CAF-5DAC026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AD2F-5F06-475E-9ED7-25AEE9A4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9DE9-904D-4078-ADFA-5A1AC75A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1E85-3895-4EDA-9F8F-330E6502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6713-8FD6-4CB4-A5DC-1245AC5C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2BD0-2CE2-4763-94C5-4C6F97C6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2D91-E90D-4D33-834B-7BCE6476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7A02-B62A-4911-B50D-B88327E2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F9AF-CDB4-4E65-87FE-74AF17C8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BF03-49AB-47DC-9628-AB33D63E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876-4DF1-4900-BA39-51ED769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6D84-01B3-45C2-B29C-8D3FC4A6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FFB2-B0F3-43EF-B51B-E892AFEC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C274-0E52-4E7D-8A78-4EC5861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D497-1BC9-47B8-A884-C2CDC56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102D-06A8-4A39-99E8-C93C1E3B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101A-0AA3-43B7-82B5-9464829D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10C9-76E4-4F74-A35B-118C60CD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1611-414D-4B76-AE1D-4FC096DD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AE42-289F-41FF-8577-A044CB32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7B8F-8E13-46AD-A5F8-E61C912E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170-C273-447C-A651-899E6E6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711FB-409F-49DF-8673-52D2CD14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15BA-C15B-45E3-B7AD-B809ACA7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DB82-93BC-4130-A5AE-C8FCE5C5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71CD-62F1-41B7-BA9C-DBAF4D4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A6BA-A824-440D-9B46-0677E97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6A6E-33E5-484D-B1F2-2A6691B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ACAF-5C0B-4285-B0BA-5B436339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7FBD-80CF-4398-AD90-424310DE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DC8C-46A6-4BDA-A9B7-B8F2AB1B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F01FB-DB3D-44BA-A6D9-32070C59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15B-B5C8-441C-8763-37E68F09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7E46-EF06-46BC-B361-4EB673FF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2451-AE58-4E26-9343-2C95D84B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2DBA7-C455-4722-9808-FC1A32AD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D58C-EC39-43C0-830F-3F3FB54B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D11DA-EFB3-43CF-9AEE-76E658C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A9F4E-3408-4B1B-995E-9CCA75A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773D-6FF7-4BD5-B046-6942125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E059-6065-491A-9891-9C07840E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280A9-1A28-4DB7-B79A-7CCC6A32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46DF-6DC2-419F-863C-2E8D955C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C23-3FCD-4591-84CD-25E31BD9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3856D-358C-4B81-8EC1-276C47FD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DB874-939D-428A-9DCB-52F1F394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E7A0-4B70-4424-862C-FC19B90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59A05-B620-49A7-833E-F38A369B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76A96-EB85-4A6B-A539-D758007B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1174F-56BB-4648-9FB3-2D339CB9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A4036-A458-4961-8BD1-338A929E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2430E-4CB3-44D4-A3EC-F8B2C646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81E06-9641-4C9F-8410-9F1B62F3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FEAA-1AD9-4FA3-93DD-9FFF5228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60D-DF40-45A0-992C-F1ECE6A1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DA0F6-CC15-43E1-9989-BF5CB12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9EB95-D4D1-4EC4-A094-0C75B71A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94454-B625-416B-AC39-737DE6FB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35E3-4BB5-49B8-A582-7A23F068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608B2-92CC-470B-9E32-FB4B3343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63349-4FC6-49D0-B402-C0AE7C59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F1E1-42CB-4FF3-82A3-1995D4B5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B8E66-20B3-4E59-A855-CABD9DE9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231D3-D623-40E5-B603-2BBED48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3932-23B9-48A0-A4F2-953BFA6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360-591C-42BA-902C-AD120B4C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4054B-CA02-4490-9F67-50F7BADA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B15F-5BC4-4566-B112-39CAF9F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DC7C-105A-43C0-940A-D05F6E74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29A84-F5A5-4DDD-9323-27EA9864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67132-0515-4FCD-8EF8-97FC315E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5FCB7-3CEB-4E5A-A22A-46A40CF5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B2687-AA93-4178-B5B9-2F61C86E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4666B-8DF7-4477-8617-DFFA2EF6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68F51-5196-4B94-ABE6-61CC787D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C1066-4DD4-4847-A4F7-CB3AF91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4CB-93B3-456C-8517-74CF1A1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E86C-ADCD-4B6B-B2B0-45DE75F9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A339-BCBC-427A-990B-1CD60F1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4F5FE-7ABE-45A6-B74C-8D0421C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B7B61-071F-4C17-A9E5-28C0E26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A85D7-8DD5-4C80-8FC1-D18ACE44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C4C73-7F0D-4E9B-8E13-3A459CA4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15224-A535-49C6-B1FA-F54E6BA4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358A-1789-441C-90D6-8825F9CA8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911E-A774-432D-BB65-650688BE0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C672-A82A-4AC8-911C-E4E6CC6073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3743-451D-499A-9238-561048202D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5BEB-85BB-4AAC-A405-207D9DDBAC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6F3C-F947-4177-A7AF-488967CD73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EDF2-787B-4E15-A0FA-A06BA91BCC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7805-E5BF-41DF-8BB8-3B12AFAFFD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Умники и умницы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076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: «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Bessy Ross famous for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Финал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546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is the oldest and most prestigious university of the USA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2.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discovered Australia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did the word “kangaroo” originally mea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еведите пословицу на язык, который вы изучаете.</a:t>
            </a:r>
            <a:br>
              <a:rPr sz="4400"/>
            </a:br>
            <a:r>
              <a:rPr b="1" i="1" lang="en-US" sz="4400" spc="-1" strike="noStrike">
                <a:solidFill>
                  <a:srgbClr val="b7e7ff"/>
                </a:solidFill>
                <a:latin typeface="Times New Roman"/>
              </a:rPr>
              <a:t>Все дороги ведут в Рим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еведите пословицу на язык, который вы изучаете. </a:t>
            </a:r>
            <a:br>
              <a:rPr sz="4400"/>
            </a:br>
            <a:br>
              <a:rPr sz="4400"/>
            </a:b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Всему свое время.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еведите пословицу на язык, который вы изучаете. </a:t>
            </a:r>
            <a:br>
              <a:rPr sz="4400"/>
            </a:br>
            <a:br>
              <a:rPr sz="4400"/>
            </a:b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Не все то золото, что блестит.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азмышляйте 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«Моя школа в 2050 году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азмышляйте 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ой край в 2050 году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вый раун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 каком языке был составлен Нерчинский договор 1689 года – первый документ в истории русско-китайских отношени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азмышляйте 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«Мой район в 2050 году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Times New Roman"/>
              </a:rPr>
              <a:t>Поздравляем победителей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Times New Roman"/>
              </a:rPr>
              <a:t>До новых встреч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862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ите  числитель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8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дательном, творительном, предложном падежа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Ответьте на вопрос: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n you get to Oxbridge by plane? Why not?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торой раун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Какое слово здесь лишнее: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территория, террорист, терраса, террариум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отребите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во множественном числе, в родительном падеже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едующие слов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помидор, носок, чулок, дно (лодки), договор, килограмм.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ветьте на вопрос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many birthdays does the British Queen (Elizabeth II ) have?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тий раун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то «подсказал» А.С.Пушкину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му для стихотворени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Памятник»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кажите словосочетания с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шибкам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в образовании формы сло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лади на стол,  пятьсот сорок пятью задачами, лягте на кушетку, ездите на велосипеде, по приезде домой, наиболее удобнее, поезжайте на каникулы в гор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6:55:11Z</dcterms:created>
  <dc:creator>у</dc:creator>
  <dc:description/>
  <dc:language>en-US</dc:language>
  <cp:lastModifiedBy>у</cp:lastModifiedBy>
  <dcterms:modified xsi:type="dcterms:W3CDTF">2008-01-11T18:01:41Z</dcterms:modified>
  <cp:revision>3</cp:revision>
  <dc:subject/>
  <dc:title>Умники и умницы</dc:title>
</cp:coreProperties>
</file>