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wmf" ContentType="image/x-wmf"/>
  <Override PartName="/ppt/media/image14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28B-F3FD-421D-91B9-77B38134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45F-0CF0-4265-8424-F91E69FD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745-8B1F-4116-9078-7CA15C99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3EE-D744-487A-ADC6-8E7B2130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AE73-255C-4B54-A242-BDCB7FF2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642F-525E-4C9A-BBE1-A2BD546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06A0-01DA-4B60-B923-AC279E8C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DA4B-9FEC-41A5-A0FB-86AF0D9A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F1E-AC0F-448E-A50E-5E454CA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D67D-2B12-4ECB-B595-AF8AEEBA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B0F4-F12C-4186-9A7C-D6CA4C8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951-54FE-4C0B-8EDE-6C1CDA05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0D45-20D8-4D4D-AC59-5365C76A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B978-C48A-47FB-BC98-A17CC59B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E981-10C8-4052-A861-E689AF53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4C56-945F-4E7A-B4FE-692CC8B0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3F12-C49E-4DEA-8F80-B77F2C29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2948-62B0-4E95-B90D-1C28D17F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2921-991C-4AE4-B824-5F9555FA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F7B7-6AB2-4E89-86FB-65CB9449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BCEC-E0B5-49FF-B78B-E0088D24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95E4-9D7E-4FA4-A834-EB1DFA2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6A9-7189-47BE-9715-7EDADC6E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B3B1-4874-41D5-9345-7F42BD69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2EF4-8A2B-4829-8A7E-5642DCB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33A2-D311-4FA9-B912-C3629F4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95CD-6A47-4C37-ADF2-6B528C3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92F9-72F1-48B8-AF0C-77C2E638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2370B-99F1-44CE-A36E-3B3A1D32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C496-DC16-4FB5-A45A-9B1E808F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19953-6E42-4D85-B76C-DA918245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E5BE9-8C4B-48B0-B651-5B9706C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401E-7B1E-4380-92E5-DF08BF38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96D-247F-4F57-8785-A93AEA7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04F7-3846-4BAD-BF4C-B18E6A01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3C84-01A7-42C2-A61D-B303EF1A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F534-4E42-43B1-82E3-854147F8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5B1B-EB2D-4507-9EFC-E466D937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DA77-82EB-4614-95F5-A67C478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1200-C829-4A12-A96B-78A3B70F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4EEB4-B97C-4EC9-93AD-F783C919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A32BA-8F6B-4471-9407-3099DA66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6193-C5DA-44DD-97AB-FC1B8BF8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52939-EB71-44C9-89A7-83CDE893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608-8FEB-4459-83C1-6E5251C3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AE021-3A34-4D47-AFB1-EBDBBD80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D71A-8DA2-4B84-A448-66348264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3760E-04FF-4C6C-9612-6C2C4564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B8416-478D-499B-805B-7C060A9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09E5-0AF4-436C-A3C0-26D732BE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C06D1-4135-4C99-987F-D50C0788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64952-9E4C-49DF-8F79-A8D8A2E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F6B91-4CD0-4E54-A822-743B8AE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7285-C293-4EAB-A71D-56154784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7928-A3BB-483D-9000-FDF65B14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81F-7E78-4B2D-B258-C961C56D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520A6-7FDD-4504-80CE-4768A1A4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9A648-DA50-4334-92BA-2EE9CA6B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17A06-EBBF-40CD-913A-E9553159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01CD9-21CE-479B-A076-D3DFD2D8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F8483-4A7C-4F03-B0A6-A3E971AF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1E7B8-3D55-4369-97BC-1608AD98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0A008-9B07-474C-B940-F0B16C7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8DA6F-834C-4CB2-A371-234534B6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5595F-B470-43AD-94E0-E6C06A06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0D1E8-3855-4773-B5CE-832AA033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6C2-2A9F-4E33-AAD6-751486F0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43FF58-9A49-4B29-B716-9EE6AA88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43A6D-6A13-4721-A7F5-D35B77E4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4BF42-7075-4C09-B077-7B596F369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35D-1985-4DAB-833C-CA15E63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36C-1488-41A5-9FED-582BDB6D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6D53-0D16-4891-9510-FC3A1E6EE31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0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6701-598E-44E0-8BBF-D7E2A4A01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DB0-49EA-4876-99FE-39E1B53E65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E58E-F101-4E08-8737-B98822B5644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4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5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7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0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0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0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447E-DEAC-4687-9B17-8349ACC37A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B61E-724D-4AAB-ADAC-87F5C8AEE8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00"/>
                </a:solidFill>
                <a:latin typeface="StudioScriptCTT"/>
              </a:rPr>
              <a:t>Значение и свойства воды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_GroticRough"/>
              </a:rPr>
              <a:t>Составитель: Булдакова Татьяна Ивановна- учитель природ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униципальное казенное  специальное (коррекционное) образовательное  учреждение для обучающихся, воспитанников с ограниченными возможностями здоровья  «Старозятцинская  специальная (коррекционная) общеобразовательная школа-интернат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III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вида»  Якшур-Бодьинского  района Удмурт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на Земле постоянно меняет свое состояни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Comic Sans MS"/>
              </a:rPr>
              <a:t>Этот процесс называется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ff99"/>
                </a:solidFill>
                <a:latin typeface="Comic Sans MS"/>
              </a:rPr>
              <a:t>К Р У Г О В О Р О Т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Comic Sans MS"/>
              </a:rPr>
              <a:t>воды в природ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6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10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4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60"/>
                            </p:stCondLst>
                            <p:childTnLst>
                              <p:par>
                                <p:cTn id="324" nodeType="afterEffect" fill="hold" presetClass="emph" presetID="16" repeatCount="1000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5" dur="2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26" dur="2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27" dur="20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как будто перемещается по круг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ода появляется из ручей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учьи по пути собирает р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Река полноводно течет на простор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ока, наконец, не вливается в мор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7" descr="voda"/>
          <p:cNvPicPr/>
          <p:nvPr/>
        </p:nvPicPr>
        <p:blipFill>
          <a:blip r:embed="rId1"/>
          <a:stretch/>
        </p:blipFill>
        <p:spPr>
          <a:xfrm>
            <a:off x="179280" y="1773360"/>
            <a:ext cx="4319640" cy="3287520"/>
          </a:xfrm>
          <a:prstGeom prst="rect">
            <a:avLst/>
          </a:prstGeom>
          <a:ln w="0">
            <a:noFill/>
          </a:ln>
        </p:spPr>
      </p:pic>
      <p:sp>
        <p:nvSpPr>
          <p:cNvPr id="436" name="Line 8"/>
          <p:cNvSpPr/>
          <p:nvPr/>
        </p:nvSpPr>
        <p:spPr>
          <a:xfrm flipH="1">
            <a:off x="3708360" y="3357720"/>
            <a:ext cx="7207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80"/>
                            </p:stCondLst>
                            <p:childTnLst>
                              <p:par>
                                <p:cTn id="3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24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56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4.34783E-007 L -0.29931 0.10476 E">
                                      <p:cBhvr>
                                        <p:cTn id="37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как будто перемещается по круг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оря пополняют запас океан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ад ним формируются клубы тум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ни поднимаются выше пока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Не превращаются в обла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4" descr="voda"/>
          <p:cNvPicPr/>
          <p:nvPr/>
        </p:nvPicPr>
        <p:blipFill>
          <a:blip r:embed="rId1"/>
          <a:stretch/>
        </p:blipFill>
        <p:spPr>
          <a:xfrm>
            <a:off x="179280" y="1773360"/>
            <a:ext cx="4319640" cy="3287520"/>
          </a:xfrm>
          <a:prstGeom prst="rect">
            <a:avLst/>
          </a:prstGeom>
          <a:ln w="0">
            <a:noFill/>
          </a:ln>
        </p:spPr>
      </p:pic>
      <p:sp>
        <p:nvSpPr>
          <p:cNvPr id="440" name="Line 5"/>
          <p:cNvSpPr/>
          <p:nvPr/>
        </p:nvSpPr>
        <p:spPr>
          <a:xfrm flipH="1">
            <a:off x="1116000" y="4076640"/>
            <a:ext cx="7207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80"/>
                            </p:stCondLst>
                            <p:childTnLst>
                              <p:par>
                                <p:cTn id="38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28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6200"/>
                            </p:stCondLst>
                            <p:childTnLst>
                              <p:par>
                                <p:cTn id="397" nodeType="afterEffect" fill="hold" presetClass="path" presetID="51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7517 -0.25023 L -0.05295 -0.26618 C -0.08143 -0.27081 -0.10208 -0.25948 -0.11268 -0.23797 C -0.12448 -0.21369 -0.12153 -0.18501 -0.10573 -0.15171 L -0.03681 -0.00185 E">
                                      <p:cBhvr>
                                        <p:cTn id="398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Вода как будто перемещается по круг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43280" y="119700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 облака, проплывая над н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Дождем проливаются, сыплют снег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Весной соберется вода в ручей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ни потекут до ближайшей рек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4" descr="voda"/>
          <p:cNvPicPr/>
          <p:nvPr/>
        </p:nvPicPr>
        <p:blipFill>
          <a:blip r:embed="rId1"/>
          <a:stretch/>
        </p:blipFill>
        <p:spPr>
          <a:xfrm>
            <a:off x="179280" y="1773360"/>
            <a:ext cx="4319640" cy="3287520"/>
          </a:xfrm>
          <a:prstGeom prst="rect">
            <a:avLst/>
          </a:prstGeom>
          <a:ln w="0">
            <a:noFill/>
          </a:ln>
        </p:spPr>
      </p:pic>
      <p:sp>
        <p:nvSpPr>
          <p:cNvPr id="444" name="Line 5"/>
          <p:cNvSpPr/>
          <p:nvPr/>
        </p:nvSpPr>
        <p:spPr>
          <a:xfrm flipH="1">
            <a:off x="1835280" y="2421000"/>
            <a:ext cx="720720" cy="0"/>
          </a:xfrm>
          <a:prstGeom prst="line">
            <a:avLst/>
          </a:prstGeom>
          <a:ln w="76320">
            <a:solidFill>
              <a:srgbClr val="00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8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400"/>
                            </p:stCondLst>
                            <p:childTnLst>
                              <p:par>
                                <p:cTn id="41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6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720"/>
                            </p:stCondLst>
                            <p:childTnLst>
                              <p:par>
                                <p:cTn id="427" nodeType="afterEffect" fill="hold" presetClass="path" presetID="4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3542 0.22479 L 0.0941 0.17137 C 0.1073 0.16004 0.11476 0.1413 0.11667 0.12118 C 0.11858 0.09783 0.11407 0.07909 0.10296 0.06429 L 0.05487 -0.00648 E">
                                      <p:cBhvr>
                                        <p:cTn id="428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99ff99"/>
                </a:solidFill>
                <a:latin typeface="Comic Sans MS"/>
              </a:rPr>
              <a:t>Подумай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Comic Sans MS"/>
              </a:rPr>
              <a:t>при каком услов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ff99"/>
                </a:solidFill>
                <a:latin typeface="Comic Sans MS"/>
              </a:rPr>
              <a:t>вода меняет свое состоя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Comic Sans MS"/>
              </a:rPr>
              <a:t>При изменении </a:t>
            </a: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температуры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Comic Sans MS"/>
              </a:rPr>
              <a:t>При температуре 0</a:t>
            </a:r>
            <a:r>
              <a:rPr b="0" lang="ru-RU" sz="3200" spc="-1" strike="noStrike" baseline="30000">
                <a:solidFill>
                  <a:srgbClr val="eaeaea"/>
                </a:solidFill>
                <a:latin typeface="Comic Sans MS"/>
              </a:rPr>
              <a:t>0</a:t>
            </a:r>
            <a:r>
              <a:rPr b="0" lang="ru-RU" sz="3200" spc="-1" strike="noStrike">
                <a:solidFill>
                  <a:srgbClr val="eaeaea"/>
                </a:solidFill>
                <a:latin typeface="Comic Sans MS"/>
              </a:rPr>
              <a:t>С вода замерзает (лёд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Comic Sans MS"/>
              </a:rPr>
              <a:t>при повышении температуры – испаряется (па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6" descr="10"/>
          <p:cNvPicPr/>
          <p:nvPr/>
        </p:nvPicPr>
        <p:blipFill>
          <a:blip r:embed="rId1"/>
          <a:stretch/>
        </p:blipFill>
        <p:spPr>
          <a:xfrm>
            <a:off x="3708360" y="4653000"/>
            <a:ext cx="2232000" cy="1950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36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48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afe1ff"/>
                </a:solidFill>
                <a:latin typeface="Comic Sans MS"/>
              </a:rPr>
              <a:t>Проведи эксперимент и сделай вывод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Налей в стакан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Рассмотри её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Какого она цве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Можно ли через нее увидеть предме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бесцветная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5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720"/>
                            </p:stCondLst>
                            <p:childTnLst>
                              <p:par>
                                <p:cTn id="493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77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770" fill="hold"/>
                                        <p:tgtEl>
                                          <p:spTgt spid="4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2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Понюха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Есть ли у неё запа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запа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2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Вспомни вкус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Можно сказать, что о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сладк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горьк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солён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кисла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меет ли она вкус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вк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8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770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77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753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Положи в стакан немного соли или сахара и размеш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то произош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А теперь насыпь немного м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Что ты замечаеш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33"/>
                </a:solidFill>
                <a:latin typeface="Comic Sans MS"/>
              </a:rPr>
              <a:t>Вывод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: вода может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растворять некотор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5"/>
          <p:cNvSpPr/>
          <p:nvPr/>
        </p:nvSpPr>
        <p:spPr>
          <a:xfrm>
            <a:off x="179280" y="5877000"/>
            <a:ext cx="878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8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Где в быту можно использовать это свойство во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Comic Sans MS"/>
              </a:rPr>
              <a:t>Свойства воды.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8974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бесцве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запах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имеет вк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8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ожет растворять некоторы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4" descr="стаканвода"/>
          <p:cNvPicPr/>
          <p:nvPr/>
        </p:nvPicPr>
        <p:blipFill>
          <a:blip r:embed="rId1"/>
          <a:stretch/>
        </p:blipFill>
        <p:spPr>
          <a:xfrm>
            <a:off x="4788000" y="1125360"/>
            <a:ext cx="417672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Что случилось с цветком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чему это произошл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 какого вещества ничто живое на земле не может существова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0" descr="fab9c95a2697"/>
          <p:cNvPicPr/>
          <p:nvPr/>
        </p:nvPicPr>
        <p:blipFill>
          <a:blip r:embed="rId1"/>
          <a:stretch/>
        </p:blipFill>
        <p:spPr>
          <a:xfrm>
            <a:off x="3084480" y="1905120"/>
            <a:ext cx="297360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Comic Sans MS"/>
              </a:rPr>
              <a:t>Проверь себя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ff66ff"/>
                </a:solidFill>
                <a:latin typeface="Comic Sans MS"/>
              </a:rPr>
              <a:t>Вставь недостающие слов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Вода на земле встречается в трех состояниях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………………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      ……………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..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      ……………… 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Состояние воды изменяется в зависимости от ……………….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Вода не имеет …………., ……….. и 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ffcc"/>
                </a:solidFill>
                <a:latin typeface="Comic Sans MS"/>
              </a:rPr>
              <a:t>Вода может …………….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WordArt 4"/>
          <p:cNvSpPr txBox="1"/>
          <p:nvPr/>
        </p:nvSpPr>
        <p:spPr>
          <a:xfrm>
            <a:off x="5580000" y="4724280"/>
            <a:ext cx="122400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паха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6" name="WordArt 5"/>
          <p:cNvSpPr txBox="1"/>
          <p:nvPr/>
        </p:nvSpPr>
        <p:spPr>
          <a:xfrm>
            <a:off x="4211640" y="4724280"/>
            <a:ext cx="8650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вета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7" name="WordArt 6"/>
          <p:cNvSpPr txBox="1"/>
          <p:nvPr/>
        </p:nvSpPr>
        <p:spPr>
          <a:xfrm>
            <a:off x="2916360" y="4724280"/>
            <a:ext cx="1081080" cy="2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куса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8" name="WordArt 7"/>
          <p:cNvSpPr txBox="1"/>
          <p:nvPr/>
        </p:nvSpPr>
        <p:spPr>
          <a:xfrm>
            <a:off x="3492360" y="3860640"/>
            <a:ext cx="2143440" cy="3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пературы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9" name="WordArt 8"/>
          <p:cNvSpPr txBox="1"/>
          <p:nvPr/>
        </p:nvSpPr>
        <p:spPr>
          <a:xfrm>
            <a:off x="3708360" y="2060640"/>
            <a:ext cx="14400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дкое</a:t>
            </a:r>
            <a:endParaRPr b="0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0" name="WordArt 9"/>
          <p:cNvSpPr txBox="1"/>
          <p:nvPr/>
        </p:nvSpPr>
        <p:spPr>
          <a:xfrm>
            <a:off x="3492360" y="2349360"/>
            <a:ext cx="1944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вёрдое (лёд)</a:t>
            </a:r>
            <a:endParaRPr b="0" lang="en-US" sz="2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1" name="WordArt 10"/>
          <p:cNvSpPr txBox="1"/>
          <p:nvPr/>
        </p:nvSpPr>
        <p:spPr>
          <a:xfrm>
            <a:off x="3564000" y="2781360"/>
            <a:ext cx="20890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зообразное (пар)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2" name="WordArt 11"/>
          <p:cNvSpPr txBox="1"/>
          <p:nvPr/>
        </p:nvSpPr>
        <p:spPr>
          <a:xfrm>
            <a:off x="2556000" y="5084640"/>
            <a:ext cx="108108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створят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8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8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60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88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240"/>
                            </p:stCondLst>
                            <p:childTnLst>
                              <p:par>
                                <p:cTn id="7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8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80"/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634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7777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66ff"/>
                </a:solidFill>
                <a:latin typeface="Comic Sans MS"/>
              </a:rPr>
              <a:t>Проведи эксперимент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алей воды в пластиковую бутылку и положи в морозильник. Когда замерзнет, достань и запиши, что произошло с бутыл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 открывая бутылку, поставь её в тёплое место. Когда лёд  растает, запиши, что стало с бутыл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думай, почему это происходит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Запиши свой выв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5" name="Picture 6" descr="j0343359"/>
          <p:cNvPicPr/>
          <p:nvPr/>
        </p:nvPicPr>
        <p:blipFill>
          <a:blip r:embed="rId1"/>
          <a:stretch/>
        </p:blipFill>
        <p:spPr>
          <a:xfrm>
            <a:off x="7343640" y="5013360"/>
            <a:ext cx="18003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8" dur="8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8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8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399ff"/>
                </a:solidFill>
                <a:latin typeface="Comic Sans MS"/>
              </a:rPr>
              <a:t>Когда люди полетели в космос, то наблюдая из космических кораблей за нашей планетой, они увидели, что она голуб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99ff66"/>
                </a:solidFill>
                <a:latin typeface="Comic Sans MS"/>
              </a:rPr>
              <a:t>Действительно, Земля – голубая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ffff"/>
                </a:solidFill>
                <a:latin typeface="Comic Sans MS"/>
              </a:rPr>
              <a:t>Дело в том, что большая часть земной поверхности покрыта вод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7" descr="MEDFASTG"/>
          <p:cNvPicPr/>
          <p:nvPr/>
        </p:nvPicPr>
        <p:blipFill>
          <a:blip r:embed="rId1"/>
          <a:stretch/>
        </p:blipFill>
        <p:spPr>
          <a:xfrm>
            <a:off x="4067280" y="4408560"/>
            <a:ext cx="1296720" cy="1197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92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8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99ff"/>
                </a:solidFill>
                <a:latin typeface="Comic Sans MS"/>
              </a:rPr>
              <a:t>Представь, что на Земле вдруг пропала вся вод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3949200"/>
            <a:ext cx="822960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Comic Sans MS"/>
              </a:rPr>
              <a:t>Вот как тогда выглядела бы наша план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Неприятное зрелище, не так 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Comic Sans MS"/>
              </a:rPr>
              <a:t>Что измени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Рисунок 6" descr="без_воды.jpg"/>
          <p:cNvPicPr/>
          <p:nvPr/>
        </p:nvPicPr>
        <p:blipFill>
          <a:blip r:embed="rId1"/>
          <a:srcRect l="2923" t="3240" r="2539" b="1800"/>
          <a:stretch/>
        </p:blipFill>
        <p:spPr>
          <a:xfrm>
            <a:off x="3635280" y="1844640"/>
            <a:ext cx="23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globe_w"/>
          <p:cNvPicPr/>
          <p:nvPr/>
        </p:nvPicPr>
        <p:blipFill>
          <a:blip r:embed="rId2"/>
          <a:stretch/>
        </p:blipFill>
        <p:spPr>
          <a:xfrm>
            <a:off x="3564000" y="1773360"/>
            <a:ext cx="2448000" cy="2152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ГДЕ СОДЕРЖИТСЯ ВОДА НА ЗЕМЛЕ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5" descr="Mz29"/>
          <p:cNvPicPr/>
          <p:nvPr/>
        </p:nvPicPr>
        <p:blipFill>
          <a:blip r:embed="rId1"/>
          <a:stretch/>
        </p:blipFill>
        <p:spPr>
          <a:xfrm>
            <a:off x="6443640" y="3068640"/>
            <a:ext cx="1944720" cy="1940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6" name="WordArt 7"/>
          <p:cNvSpPr txBox="1"/>
          <p:nvPr/>
        </p:nvSpPr>
        <p:spPr>
          <a:xfrm>
            <a:off x="1042920" y="2276640"/>
            <a:ext cx="14414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МОР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7" name="WordArt 8"/>
          <p:cNvSpPr txBox="1"/>
          <p:nvPr/>
        </p:nvSpPr>
        <p:spPr>
          <a:xfrm>
            <a:off x="3780000" y="2133720"/>
            <a:ext cx="1563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ОЗЁ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8" name="WordArt 9"/>
          <p:cNvSpPr txBox="1"/>
          <p:nvPr/>
        </p:nvSpPr>
        <p:spPr>
          <a:xfrm>
            <a:off x="6659640" y="2205000"/>
            <a:ext cx="136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РЕ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09" name="Picture 14" descr="7794_2"/>
          <p:cNvPicPr/>
          <p:nvPr/>
        </p:nvPicPr>
        <p:blipFill>
          <a:blip r:embed="rId2"/>
          <a:stretch/>
        </p:blipFill>
        <p:spPr>
          <a:xfrm>
            <a:off x="468360" y="3068640"/>
            <a:ext cx="2305080" cy="1922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10" name="Picture 15" descr="абрау"/>
          <p:cNvPicPr/>
          <p:nvPr/>
        </p:nvPicPr>
        <p:blipFill>
          <a:blip r:embed="rId3"/>
          <a:stretch/>
        </p:blipFill>
        <p:spPr>
          <a:xfrm>
            <a:off x="3419640" y="3068640"/>
            <a:ext cx="2538360" cy="190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 spd="slow" advTm="30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519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mic Sans MS"/>
              </a:rPr>
              <a:t>Мы на 70 % состоим из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Без воды человек может прожить только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3 </a:t>
            </a:r>
            <a:r>
              <a:rPr b="0" lang="ru-RU" sz="3200" spc="-1" strike="noStrike">
                <a:solidFill>
                  <a:srgbClr val="ff3300"/>
                </a:solidFill>
                <a:latin typeface="Comic Sans MS"/>
              </a:rPr>
              <a:t>д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 откуда наш организм может получить необходимую жидкость</a:t>
            </a:r>
            <a:r>
              <a:rPr b="0" lang="ru-RU" sz="2800" spc="-1" strike="noStrike">
                <a:solidFill>
                  <a:srgbClr val="ffffff"/>
                </a:solidFill>
                <a:latin typeface="Lidia Cyr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8" descr="сканирование"/>
          <p:cNvPicPr/>
          <p:nvPr/>
        </p:nvPicPr>
        <p:blipFill>
          <a:blip r:embed="rId1"/>
          <a:stretch/>
        </p:blipFill>
        <p:spPr>
          <a:xfrm>
            <a:off x="6156360" y="1341360"/>
            <a:ext cx="2303280" cy="4784760"/>
          </a:xfrm>
          <a:prstGeom prst="rect">
            <a:avLst/>
          </a:prstGeom>
          <a:ln w="0">
            <a:noFill/>
          </a:ln>
        </p:spPr>
      </p:pic>
      <p:sp>
        <p:nvSpPr>
          <p:cNvPr id="413" name="Line 10"/>
          <p:cNvSpPr/>
          <p:nvPr/>
        </p:nvSpPr>
        <p:spPr>
          <a:xfrm>
            <a:off x="5580000" y="4149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2 -2.83996E-006 C 0.03854 -0.00485 0.03958 -0.00855 0.04149 -0.01387 C 0.04306 -0.01757 0.04653 -0.02428 0.04653 -0.02405 C 0.04809 -0.05828 0.0441 -0.10199 0.05399 -0.13321 C 0.05642 -0.14038 0.05573 -0.14708 0.05903 -0.15379 C 0.06094 -0.16512 0.06007 -0.16859 0.06788 -0.17414 C 0.07118 -0.18594 0.07378 -0.19842 0.07778 -0.20999 C 0.07917 -0.21461 0.08125 -0.21901 0.08281 -0.2234 C 0.08403 -0.22664 0.08542 -0.23381 0.08542 -0.23358 C 0.08594 -0.25485 0.08403 -0.29486 0.08924 -0.31521 C 0.08993 -0.32701 0.09132 -0.33788 0.09288 -0.34944 C 0.0934 -0.35291 0.09514 -0.35615 0.09531 -0.35985 C 0.09583 -0.36933 0.09531 -0.37904 0.09531 -0.3883 E">
                                      <p:cBhvr>
                                        <p:cTn id="14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9" descr="фрукты 2"/>
          <p:cNvPicPr/>
          <p:nvPr/>
        </p:nvPicPr>
        <p:blipFill>
          <a:blip r:embed="rId1"/>
          <a:stretch/>
        </p:blipFill>
        <p:spPr>
          <a:xfrm>
            <a:off x="1187280" y="765000"/>
            <a:ext cx="2376720" cy="2138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0" descr="суп"/>
          <p:cNvPicPr/>
          <p:nvPr/>
        </p:nvPicPr>
        <p:blipFill>
          <a:blip r:embed="rId2"/>
          <a:stretch/>
        </p:blipFill>
        <p:spPr>
          <a:xfrm>
            <a:off x="5796000" y="692280"/>
            <a:ext cx="2305080" cy="2238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3" descr="стаканвода"/>
          <p:cNvPicPr/>
          <p:nvPr/>
        </p:nvPicPr>
        <p:blipFill>
          <a:blip r:embed="rId3"/>
          <a:stretch/>
        </p:blipFill>
        <p:spPr>
          <a:xfrm>
            <a:off x="5508720" y="3500280"/>
            <a:ext cx="2808360" cy="2406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5" descr="хлеб2"/>
          <p:cNvPicPr/>
          <p:nvPr/>
        </p:nvPicPr>
        <p:blipFill>
          <a:blip r:embed="rId4"/>
          <a:stretch/>
        </p:blipFill>
        <p:spPr>
          <a:xfrm>
            <a:off x="1116000" y="3500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418" name="WordArt 26"/>
          <p:cNvSpPr txBox="1"/>
          <p:nvPr/>
        </p:nvSpPr>
        <p:spPr>
          <a:xfrm>
            <a:off x="2700360" y="2997360"/>
            <a:ext cx="36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ЕДА И НАПИ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</p:spTree>
  </p:cSld>
  <p:transition spd="slow" advTm="3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4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4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7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8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Отгадай загадку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Что умеет </a:t>
            </a:r>
            <a:r>
              <a:rPr b="1" lang="ru-RU" sz="4400" spc="-1" strike="noStrike" u="sng">
                <a:solidFill>
                  <a:srgbClr val="99ff66"/>
                </a:solidFill>
                <a:uFillTx/>
                <a:latin typeface="Comic Sans MS"/>
              </a:rPr>
              <a:t>застывать</a:t>
            </a: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, </a:t>
            </a:r>
            <a:r>
              <a:rPr b="1" lang="ru-RU" sz="4400" spc="-1" strike="noStrike" u="sng">
                <a:solidFill>
                  <a:srgbClr val="99ff66"/>
                </a:solidFill>
                <a:uFillTx/>
                <a:latin typeface="Comic Sans MS"/>
              </a:rPr>
              <a:t>летать</a:t>
            </a: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 и </a:t>
            </a:r>
            <a:r>
              <a:rPr b="1" lang="ru-RU" sz="4400" spc="-1" strike="noStrike" u="sng">
                <a:solidFill>
                  <a:srgbClr val="99ff66"/>
                </a:solidFill>
                <a:uFillTx/>
                <a:latin typeface="Comic Sans MS"/>
              </a:rPr>
              <a:t>бегать</a:t>
            </a:r>
            <a:r>
              <a:rPr b="1" lang="ru-RU" sz="4400" spc="-1" strike="noStrike">
                <a:solidFill>
                  <a:srgbClr val="99ff66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Comic Sans MS"/>
              </a:rPr>
              <a:t>Конечно, </a:t>
            </a:r>
            <a:r>
              <a:rPr b="0" lang="ru-RU" sz="5400" spc="-1" strike="noStrike">
                <a:solidFill>
                  <a:srgbClr val="ff9933"/>
                </a:solidFill>
                <a:latin typeface="Comic Sans MS"/>
              </a:rPr>
              <a:t>вода</a:t>
            </a:r>
            <a:r>
              <a:rPr b="0" lang="ru-RU" sz="5400" spc="-1" strike="noStrike">
                <a:solidFill>
                  <a:srgbClr val="ffff66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4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999ff"/>
                </a:solidFill>
                <a:latin typeface="Comic Sans MS"/>
              </a:rPr>
              <a:t>В ЭТОЙ ЗАГАДКЕ ОТРАЖЕНЫ</a:t>
            </a: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ff00ff"/>
                </a:solidFill>
                <a:latin typeface="Comic Sans MS"/>
              </a:rPr>
              <a:t>ТРИ СОСТОЯНИЯ ВОДЫ</a:t>
            </a:r>
            <a:r>
              <a:rPr b="1" lang="ru-RU" sz="4000" spc="-1" strike="noStrike">
                <a:solidFill>
                  <a:srgbClr val="ccecff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2" name="Picture 4" descr="стаканвода"/>
          <p:cNvPicPr/>
          <p:nvPr/>
        </p:nvPicPr>
        <p:blipFill>
          <a:blip r:embed="rId1"/>
          <a:stretch/>
        </p:blipFill>
        <p:spPr>
          <a:xfrm>
            <a:off x="6516720" y="3213000"/>
            <a:ext cx="1944720" cy="142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Айсберг"/>
          <p:cNvPicPr/>
          <p:nvPr/>
        </p:nvPicPr>
        <p:blipFill>
          <a:blip r:embed="rId2"/>
          <a:stretch/>
        </p:blipFill>
        <p:spPr>
          <a:xfrm>
            <a:off x="3564000" y="3213000"/>
            <a:ext cx="2232000" cy="1470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Утес"/>
          <p:cNvPicPr/>
          <p:nvPr/>
        </p:nvPicPr>
        <p:blipFill>
          <a:blip r:embed="rId3"/>
          <a:stretch/>
        </p:blipFill>
        <p:spPr>
          <a:xfrm>
            <a:off x="971640" y="3213000"/>
            <a:ext cx="1950840" cy="1463760"/>
          </a:xfrm>
          <a:prstGeom prst="rect">
            <a:avLst/>
          </a:prstGeom>
          <a:ln w="0">
            <a:noFill/>
          </a:ln>
        </p:spPr>
      </p:pic>
      <p:sp>
        <p:nvSpPr>
          <p:cNvPr id="425" name="WordArt 8"/>
          <p:cNvSpPr txBox="1"/>
          <p:nvPr/>
        </p:nvSpPr>
        <p:spPr>
          <a:xfrm>
            <a:off x="4140360" y="2565360"/>
            <a:ext cx="92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ЛЁ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6" name="WordArt 9"/>
          <p:cNvSpPr txBox="1"/>
          <p:nvPr/>
        </p:nvSpPr>
        <p:spPr>
          <a:xfrm>
            <a:off x="6877080" y="479736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e1ff"/>
                    </a:gs>
                    <a:gs pos="50000">
                      <a:srgbClr val="516876"/>
                    </a:gs>
                    <a:gs pos="100000">
                      <a:srgbClr val="afe1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    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e1ff"/>
                  </a:gs>
                  <a:gs pos="50000">
                    <a:srgbClr val="516876"/>
                  </a:gs>
                  <a:gs pos="100000">
                    <a:srgbClr val="afe1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7" name="WordArt 10"/>
          <p:cNvSpPr txBox="1"/>
          <p:nvPr/>
        </p:nvSpPr>
        <p:spPr>
          <a:xfrm>
            <a:off x="4067280" y="4797360"/>
            <a:ext cx="128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ТВЁРДО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8" name="WordArt 11"/>
          <p:cNvSpPr txBox="1"/>
          <p:nvPr/>
        </p:nvSpPr>
        <p:spPr>
          <a:xfrm>
            <a:off x="1116000" y="4869000"/>
            <a:ext cx="1800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e1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ГАЗООБРАЗНО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e1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9" name="WordArt 12"/>
          <p:cNvSpPr txBox="1"/>
          <p:nvPr/>
        </p:nvSpPr>
        <p:spPr>
          <a:xfrm>
            <a:off x="1403280" y="2637000"/>
            <a:ext cx="924120" cy="37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e1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ПА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e1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30" name="WordArt 13"/>
          <p:cNvSpPr txBox="1"/>
          <p:nvPr/>
        </p:nvSpPr>
        <p:spPr>
          <a:xfrm>
            <a:off x="7020000" y="2637000"/>
            <a:ext cx="923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16876"/>
                    </a:gs>
                    <a:gs pos="50000">
                      <a:srgbClr val="afe1ff"/>
                    </a:gs>
                    <a:gs pos="100000">
                      <a:srgbClr val="51687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   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16876"/>
                  </a:gs>
                  <a:gs pos="50000">
                    <a:srgbClr val="afe1ff"/>
                  </a:gs>
                  <a:gs pos="100000">
                    <a:srgbClr val="51687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22:37Z</dcterms:created>
  <dc:creator>user</dc:creator>
  <dc:description/>
  <dc:language>en-US</dc:language>
  <cp:lastModifiedBy>User</cp:lastModifiedBy>
  <dcterms:modified xsi:type="dcterms:W3CDTF">2013-04-22T04:48:15Z</dcterms:modified>
  <cp:revision>61</cp:revision>
  <dc:subject/>
  <dc:title>Вода и ее роль в природе Урок природоведения в 3 классе</dc:title>
</cp:coreProperties>
</file>