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wmf" ContentType="image/x-wmf"/>
  <Override PartName="/ppt/media/image14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DFF-AA85-4746-8599-6B67C595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ADB-1EDB-4CB0-9DEC-A4104FD3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56F-298E-4361-A704-316C5B88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F23-4359-43FF-A6F1-82DF1A92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843C-8863-40B4-A5D1-5EACB961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2A95-655A-438F-AE2D-0424FCC6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3EFA-2197-4930-8381-ADB5C28A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C480-1142-4AEE-8BF6-ACEEDC2A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6A30-937A-4537-AC3A-5AE2278A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8DB7-425F-4AE6-8B90-807CA873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D467-EBF3-4233-AE26-8D610595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8BF-22BC-4467-B1B5-041FD8F6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C508-BF49-4DD3-B7A5-05639976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D0E6-EF3A-4973-B171-08E9A5A3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C3D8-2B93-4369-9E7B-BEEE5C64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3FAF-CA5B-425A-955C-00DC5F1F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3331-0596-4153-B979-59E752D8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4EA6-C3E9-4ABA-862C-3F893C34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858D-499A-4E6B-990D-6A10A08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E16B-AE72-4C86-993F-31A61F07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18D4-D701-41B8-B544-A86C0B01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9A082-C1CE-4797-B936-1B3B9D14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94A-9A61-4810-B033-509826E5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22FD3-C4F4-442F-B1F1-E34FDBEB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0AB7-CAC9-4FAB-A430-9121F941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B774-54BF-4E0C-8996-DF85506E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BA7C-E033-4CBE-8DC3-15E25E38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998EC-D4FD-4942-A394-EFE36344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0EEE-CE70-4AF8-8EEA-9F09D98F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335C-678D-4E98-A252-8F433D7A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0798C-4892-47BA-938F-4CAF8244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EADB-2B64-410D-96E3-1819734E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B277-0545-488C-AD4B-BACE6174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8FC-D0C8-4CCA-94FD-95EE2D06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BAEAF-4AB3-47B2-9338-5B86DE7C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E43D5-FA82-4845-9455-E2071778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491F-CD4D-49C4-AFCC-EAFE2D58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E9C2C-2582-4733-8F2D-B0CFC4C3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414BA-45E0-4FCC-955A-9F0A23E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60A0-79EF-4F29-AC30-A8C7DEA2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8DAD9-64F0-4EAD-9D05-41DC9F8E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0E34D-DD48-4F4F-B027-471F8DAD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2CC0-8ABF-46D6-BD0A-5413CDAD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6A8C0-8D78-4133-B02A-CC2B2501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1A2-3CF6-49E2-8C3F-E627E13E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113A3-5567-4983-898A-DEAA8E8C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6FD47-7D15-445B-96C3-44351228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E609B-81C4-468B-BEBB-C487043F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70021-E1C7-4B95-BB49-9C7D83CD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7AD21-8DCD-4946-979E-5BA583AD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60E74-F594-4A72-B3F9-DF5092ED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4B25E-F751-44CB-BECA-B8940186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6974E-88B4-48F6-9BBD-491A7922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A7FB1-95F3-42C1-AACC-E207F4C9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E98AE-3307-4700-81DE-80CF69BC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D5A-D609-4F59-B1DD-CE805D3B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EA1B6-3F90-4B82-8E20-C314A880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310C4-B490-4938-9884-0AD71559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82099-055A-417A-B68C-E9F9C113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7C70F-195B-4317-A227-BDE2B388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15B31-66D2-48B6-B7A4-7786197F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AAA8A-0967-4AC3-854F-47F0898C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1D7EA-24F0-470F-96B4-2A56AA50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4C067-F567-4171-8044-854C39C0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CE45F-1403-4EF8-AFD4-E44D112E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2CAD0-7A1A-48AA-9FB7-06AC6595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83D-76E7-49A5-BE0D-8568F7C2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1C4D6-6958-489B-BAB1-262C1092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C8149-750F-4F04-8F00-D6696C2F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49348-1299-4214-8690-979443DC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C41-0CC5-47CE-AA51-2764CE8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150-C2D4-47FB-A50F-FDD73E45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40CE-5BAE-49F5-83B1-BAB6ABC53DD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A033-65BC-4645-AF85-FD27A1A036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9FED-2972-4DD9-925F-4CC862C88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DC22-33DE-407E-AA02-50853237BE5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4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4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4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5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7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7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9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0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0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277A-78CC-452F-BF6C-AAC0C256D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873C-B112-4F1E-99A5-8973DDE1FD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StudioScriptCTT"/>
              </a:rPr>
              <a:t>Значение и свойства воды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_GroticRough"/>
              </a:rPr>
              <a:t>Составитель: Булдакова Татьяна Ивановна- учитель природ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униципальное казенное  специальное (коррекционное) образовательное  учреждение для обучающихся, воспитанников с ограниченными возможностями здоровья  «Старозятцинская  специальная (коррекционная) общеобразовательная школа-интернат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вида»  Якшур-Бодьинского  района Удмур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Вода на Земле постоянно меняет свое состоян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Comic Sans MS"/>
              </a:rPr>
              <a:t>Этот процесс называется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9ff99"/>
                </a:solidFill>
                <a:latin typeface="Comic Sans MS"/>
              </a:rPr>
              <a:t>К Р У Г О В О Р О Т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Comic Sans MS"/>
              </a:rPr>
              <a:t>воды в приро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68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10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4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60"/>
                            </p:stCondLst>
                            <p:childTnLst>
                              <p:par>
                                <p:cTn id="324" nodeType="afterEffect" fill="hold" presetClass="emph" presetID="16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5" dur="2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26" dur="2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27" dur="2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Вода как будто перемещается по круг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ода появляется из ручей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учьи по пути собирает р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ека полноводно течет на простор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ка, наконец, не вливается в мор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7" descr="voda"/>
          <p:cNvPicPr/>
          <p:nvPr/>
        </p:nvPicPr>
        <p:blipFill>
          <a:blip r:embed="rId1"/>
          <a:stretch/>
        </p:blipFill>
        <p:spPr>
          <a:xfrm>
            <a:off x="179280" y="1773360"/>
            <a:ext cx="4319640" cy="3287520"/>
          </a:xfrm>
          <a:prstGeom prst="rect">
            <a:avLst/>
          </a:prstGeom>
          <a:ln w="0">
            <a:noFill/>
          </a:ln>
        </p:spPr>
      </p:pic>
      <p:sp>
        <p:nvSpPr>
          <p:cNvPr id="436" name="Line 8"/>
          <p:cNvSpPr/>
          <p:nvPr/>
        </p:nvSpPr>
        <p:spPr>
          <a:xfrm flipH="1">
            <a:off x="3708360" y="3357720"/>
            <a:ext cx="7207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80"/>
                            </p:stCondLst>
                            <p:childTnLst>
                              <p:par>
                                <p:cTn id="3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24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56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-4.34783E-007 L -0.29931 0.10476 E">
                                      <p:cBhvr>
                                        <p:cTn id="37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Вода как будто перемещается по круг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оря пополняют запас океа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д ним формируются клубы тум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ни поднимаются выше пока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е превращаются в обла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4" descr="voda"/>
          <p:cNvPicPr/>
          <p:nvPr/>
        </p:nvPicPr>
        <p:blipFill>
          <a:blip r:embed="rId1"/>
          <a:stretch/>
        </p:blipFill>
        <p:spPr>
          <a:xfrm>
            <a:off x="179280" y="1773360"/>
            <a:ext cx="4319640" cy="3287520"/>
          </a:xfrm>
          <a:prstGeom prst="rect">
            <a:avLst/>
          </a:prstGeom>
          <a:ln w="0">
            <a:noFill/>
          </a:ln>
        </p:spPr>
      </p:pic>
      <p:sp>
        <p:nvSpPr>
          <p:cNvPr id="440" name="Line 5"/>
          <p:cNvSpPr/>
          <p:nvPr/>
        </p:nvSpPr>
        <p:spPr>
          <a:xfrm flipH="1">
            <a:off x="1116000" y="4076640"/>
            <a:ext cx="7207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8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28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200"/>
                            </p:stCondLst>
                            <p:childTnLst>
                              <p:par>
                                <p:cTn id="397" nodeType="afterEffect" fill="hold" presetClass="path" presetID="51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7517 -0.25023 L -0.05295 -0.26618 C -0.08143 -0.27081 -0.10208 -0.25948 -0.11268 -0.23797 C -0.12448 -0.21369 -0.12153 -0.18501 -0.10573 -0.15171 L -0.03681 -0.00185 E">
                                      <p:cBhvr>
                                        <p:cTn id="398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Вода как будто перемещается по круг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43280" y="119700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 облака, проплывая над на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ождем проливаются, сыплют снег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есной соберется вода в ручей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ни потекут до ближайшей реки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4" descr="voda"/>
          <p:cNvPicPr/>
          <p:nvPr/>
        </p:nvPicPr>
        <p:blipFill>
          <a:blip r:embed="rId1"/>
          <a:stretch/>
        </p:blipFill>
        <p:spPr>
          <a:xfrm>
            <a:off x="179280" y="1773360"/>
            <a:ext cx="4319640" cy="3287520"/>
          </a:xfrm>
          <a:prstGeom prst="rect">
            <a:avLst/>
          </a:prstGeom>
          <a:ln w="0">
            <a:noFill/>
          </a:ln>
        </p:spPr>
      </p:pic>
      <p:sp>
        <p:nvSpPr>
          <p:cNvPr id="444" name="Line 5"/>
          <p:cNvSpPr/>
          <p:nvPr/>
        </p:nvSpPr>
        <p:spPr>
          <a:xfrm flipH="1">
            <a:off x="1835280" y="2421000"/>
            <a:ext cx="7207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8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40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6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720"/>
                            </p:stCondLst>
                            <p:childTnLst>
                              <p:par>
                                <p:cTn id="427" nodeType="afterEffect" fill="hold" presetClass="path" presetID="4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3542 0.22479 L 0.0941 0.17137 C 0.1073 0.16004 0.11476 0.1413 0.11667 0.12118 C 0.11858 0.09783 0.11407 0.07909 0.10296 0.06429 L 0.05487 -0.00648 E">
                                      <p:cBhvr>
                                        <p:cTn id="428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99ff99"/>
                </a:solidFill>
                <a:latin typeface="Comic Sans MS"/>
              </a:rPr>
              <a:t>Подумай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Comic Sans MS"/>
              </a:rPr>
              <a:t>при каком услов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Comic Sans MS"/>
              </a:rPr>
              <a:t>вода меняет свое состояни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Comic Sans MS"/>
              </a:rPr>
              <a:t>При изменении </a:t>
            </a: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температуры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Comic Sans MS"/>
              </a:rPr>
              <a:t>При температуре 0</a:t>
            </a:r>
            <a:r>
              <a:rPr b="0" lang="ru-RU" sz="3200" spc="-1" strike="noStrike" baseline="30000">
                <a:solidFill>
                  <a:srgbClr val="eaeaea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Comic Sans MS"/>
              </a:rPr>
              <a:t>С вода замерзает (лёд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Comic Sans MS"/>
              </a:rPr>
              <a:t>при повышении температуры – испаряется (п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6" descr="10"/>
          <p:cNvPicPr/>
          <p:nvPr/>
        </p:nvPicPr>
        <p:blipFill>
          <a:blip r:embed="rId1"/>
          <a:stretch/>
        </p:blipFill>
        <p:spPr>
          <a:xfrm>
            <a:off x="3708360" y="4653000"/>
            <a:ext cx="2232000" cy="1950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6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48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Свойства воды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897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afe1ff"/>
                </a:solidFill>
                <a:latin typeface="Comic Sans MS"/>
              </a:rPr>
              <a:t>Проведи эксперимент и сделай вывод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Налей в стакан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Рассмотри её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акого она цве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ожно ли через нее увидеть предмет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Comic Sans MS"/>
              </a:rPr>
              <a:t>Вывод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: вода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бесцветная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розрач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5" descr="стаканвода"/>
          <p:cNvPicPr/>
          <p:nvPr/>
        </p:nvPicPr>
        <p:blipFill>
          <a:blip r:embed="rId1"/>
          <a:stretch/>
        </p:blipFill>
        <p:spPr>
          <a:xfrm>
            <a:off x="4788000" y="1125360"/>
            <a:ext cx="417672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720"/>
                            </p:stCondLst>
                            <p:childTnLst>
                              <p:par>
                                <p:cTn id="4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2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Свойства воды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897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Понюха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Есть ли у неё зап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Comic Sans MS"/>
              </a:rPr>
              <a:t>Вывод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: вода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 имеет запа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4" descr="стаканвода"/>
          <p:cNvPicPr/>
          <p:nvPr/>
        </p:nvPicPr>
        <p:blipFill>
          <a:blip r:embed="rId1"/>
          <a:stretch/>
        </p:blipFill>
        <p:spPr>
          <a:xfrm>
            <a:off x="4788000" y="1125360"/>
            <a:ext cx="417672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77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77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6" dur="77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8" dur="77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Свойства воды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897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Вспомни вкус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Можно сказать, что о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сладк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горьк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солё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кисла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меет ли она вкус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Comic Sans MS"/>
              </a:rPr>
              <a:t>Вывод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: вода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 имеет вку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4" descr="стаканвода"/>
          <p:cNvPicPr/>
          <p:nvPr/>
        </p:nvPicPr>
        <p:blipFill>
          <a:blip r:embed="rId1"/>
          <a:stretch/>
        </p:blipFill>
        <p:spPr>
          <a:xfrm>
            <a:off x="4788000" y="1125360"/>
            <a:ext cx="417672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770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77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0" dur="77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Свойства воды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753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Положи в стакан немного соли или сахара и размеш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Что произошл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А теперь насыпь немного м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Что ты замечаеш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Comic Sans MS"/>
              </a:rPr>
              <a:t>Вывод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: вода может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растворять некоторы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стаканвода"/>
          <p:cNvPicPr/>
          <p:nvPr/>
        </p:nvPicPr>
        <p:blipFill>
          <a:blip r:embed="rId1"/>
          <a:stretch/>
        </p:blipFill>
        <p:spPr>
          <a:xfrm>
            <a:off x="4788000" y="1125360"/>
            <a:ext cx="4176720" cy="33847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179280" y="5877000"/>
            <a:ext cx="878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8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Где в быту можно использовать это свойство во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77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77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Свойства воды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897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бесцве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розрач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 имеет запа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 имеет вку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ожет растворять некоторы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4" descr="стаканвода"/>
          <p:cNvPicPr/>
          <p:nvPr/>
        </p:nvPicPr>
        <p:blipFill>
          <a:blip r:embed="rId1"/>
          <a:stretch/>
        </p:blipFill>
        <p:spPr>
          <a:xfrm>
            <a:off x="4788000" y="1125360"/>
            <a:ext cx="417672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Что случилось с цветком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ему это произошл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з какого вещества ничто живое на земле не может существоват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0" descr="fab9c95a2697"/>
          <p:cNvPicPr/>
          <p:nvPr/>
        </p:nvPicPr>
        <p:blipFill>
          <a:blip r:embed="rId1"/>
          <a:stretch/>
        </p:blipFill>
        <p:spPr>
          <a:xfrm>
            <a:off x="3084480" y="1905120"/>
            <a:ext cx="297360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Проверь себя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435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600" spc="-1" strike="noStrike">
                <a:solidFill>
                  <a:srgbClr val="ff66ff"/>
                </a:solidFill>
                <a:latin typeface="Comic Sans MS"/>
              </a:rPr>
              <a:t>Вставь недостающие сло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Вода на земле встречается в трех состояния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………………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      ……………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..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      ……………… 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Состояние воды изменяется в зависимости от ………………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Вода не имеет …………., ……….. и 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Вода может …………….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WordArt 4"/>
          <p:cNvSpPr txBox="1"/>
          <p:nvPr/>
        </p:nvSpPr>
        <p:spPr>
          <a:xfrm>
            <a:off x="5580000" y="4724280"/>
            <a:ext cx="1224000" cy="1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паха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6" name="WordArt 5"/>
          <p:cNvSpPr txBox="1"/>
          <p:nvPr/>
        </p:nvSpPr>
        <p:spPr>
          <a:xfrm>
            <a:off x="4211640" y="4724280"/>
            <a:ext cx="8650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вета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7" name="WordArt 6"/>
          <p:cNvSpPr txBox="1"/>
          <p:nvPr/>
        </p:nvSpPr>
        <p:spPr>
          <a:xfrm>
            <a:off x="2916360" y="4724280"/>
            <a:ext cx="108108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куса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8" name="WordArt 7"/>
          <p:cNvSpPr txBox="1"/>
          <p:nvPr/>
        </p:nvSpPr>
        <p:spPr>
          <a:xfrm>
            <a:off x="3492360" y="3860640"/>
            <a:ext cx="21434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пературы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9" name="WordArt 8"/>
          <p:cNvSpPr txBox="1"/>
          <p:nvPr/>
        </p:nvSpPr>
        <p:spPr>
          <a:xfrm>
            <a:off x="3708360" y="2060640"/>
            <a:ext cx="14400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дкое</a:t>
            </a:r>
            <a:endParaRPr b="0" lang="en-US" sz="2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0" name="WordArt 9"/>
          <p:cNvSpPr txBox="1"/>
          <p:nvPr/>
        </p:nvSpPr>
        <p:spPr>
          <a:xfrm>
            <a:off x="3492360" y="2349360"/>
            <a:ext cx="1944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вёрдое (лёд)</a:t>
            </a:r>
            <a:endParaRPr b="0" lang="en-US" sz="2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1" name="WordArt 10"/>
          <p:cNvSpPr txBox="1"/>
          <p:nvPr/>
        </p:nvSpPr>
        <p:spPr>
          <a:xfrm>
            <a:off x="3564000" y="2781360"/>
            <a:ext cx="20890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зообразное (пар)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2" name="WordArt 11"/>
          <p:cNvSpPr txBox="1"/>
          <p:nvPr/>
        </p:nvSpPr>
        <p:spPr>
          <a:xfrm>
            <a:off x="2556000" y="5084640"/>
            <a:ext cx="1081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ворят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60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88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24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634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Monotype Corsiva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7777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66ff"/>
                </a:solidFill>
                <a:latin typeface="Comic Sans MS"/>
              </a:rPr>
              <a:t>Проведи эксперимент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алей воды в пластиковую бутылку и положи в морозильник. Когда замерзнет, достань и запиши, что произошло с бутыл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 открывая бутылку, поставь её в тёплое место. Когда лёд  растает, запиши, что стало с бутыл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думай, почему это происходит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Запиши свой выв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Picture 6" descr="j0343359"/>
          <p:cNvPicPr/>
          <p:nvPr/>
        </p:nvPicPr>
        <p:blipFill>
          <a:blip r:embed="rId1"/>
          <a:stretch/>
        </p:blipFill>
        <p:spPr>
          <a:xfrm>
            <a:off x="7343640" y="5013360"/>
            <a:ext cx="18003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99ff"/>
                </a:solidFill>
                <a:latin typeface="Comic Sans MS"/>
              </a:rPr>
              <a:t>Когда люди полетели в космос, то наблюдая из космических кораблей за нашей планетой, они увидели, что она голуб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99ff66"/>
                </a:solidFill>
                <a:latin typeface="Comic Sans MS"/>
              </a:rPr>
              <a:t>Действительно, Земля – голубая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ff"/>
                </a:solidFill>
                <a:latin typeface="Comic Sans MS"/>
              </a:rPr>
              <a:t>Дело в том, что большая часть земной поверхности покрыта вод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7" descr="MEDFASTG"/>
          <p:cNvPicPr/>
          <p:nvPr/>
        </p:nvPicPr>
        <p:blipFill>
          <a:blip r:embed="rId1"/>
          <a:stretch/>
        </p:blipFill>
        <p:spPr>
          <a:xfrm>
            <a:off x="4067280" y="4408560"/>
            <a:ext cx="1296720" cy="1197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92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99ff"/>
                </a:solidFill>
                <a:latin typeface="Comic Sans MS"/>
              </a:rPr>
              <a:t>Представь, что на Земле вдруг пропала вся вода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Comic Sans MS"/>
              </a:rPr>
              <a:t>Вот как тогда выглядела бы наша план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Неприятное зрелище, не так 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Что изменило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Рисунок 6" descr="без_воды.jpg"/>
          <p:cNvPicPr/>
          <p:nvPr/>
        </p:nvPicPr>
        <p:blipFill>
          <a:blip r:embed="rId1"/>
          <a:srcRect l="2923" t="3240" r="2539" b="1800"/>
          <a:stretch/>
        </p:blipFill>
        <p:spPr>
          <a:xfrm>
            <a:off x="3635280" y="1844640"/>
            <a:ext cx="2305080" cy="2089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globe_w"/>
          <p:cNvPicPr/>
          <p:nvPr/>
        </p:nvPicPr>
        <p:blipFill>
          <a:blip r:embed="rId2"/>
          <a:stretch/>
        </p:blipFill>
        <p:spPr>
          <a:xfrm>
            <a:off x="3564000" y="1773360"/>
            <a:ext cx="2448000" cy="2152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ГДЕ СОДЕРЖИТСЯ ВОДА НА ЗЕМЛЕ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5" descr="Mz29"/>
          <p:cNvPicPr/>
          <p:nvPr/>
        </p:nvPicPr>
        <p:blipFill>
          <a:blip r:embed="rId1"/>
          <a:stretch/>
        </p:blipFill>
        <p:spPr>
          <a:xfrm>
            <a:off x="6443640" y="3068640"/>
            <a:ext cx="1944720" cy="1940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6" name="WordArt 7"/>
          <p:cNvSpPr txBox="1"/>
          <p:nvPr/>
        </p:nvSpPr>
        <p:spPr>
          <a:xfrm>
            <a:off x="1042920" y="2276640"/>
            <a:ext cx="14414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МОР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7" name="WordArt 8"/>
          <p:cNvSpPr txBox="1"/>
          <p:nvPr/>
        </p:nvSpPr>
        <p:spPr>
          <a:xfrm>
            <a:off x="3780000" y="2133720"/>
            <a:ext cx="1563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ОЗЁ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8" name="WordArt 9"/>
          <p:cNvSpPr txBox="1"/>
          <p:nvPr/>
        </p:nvSpPr>
        <p:spPr>
          <a:xfrm>
            <a:off x="6659640" y="2205000"/>
            <a:ext cx="13683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РЕ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09" name="Picture 14" descr="7794_2"/>
          <p:cNvPicPr/>
          <p:nvPr/>
        </p:nvPicPr>
        <p:blipFill>
          <a:blip r:embed="rId2"/>
          <a:stretch/>
        </p:blipFill>
        <p:spPr>
          <a:xfrm>
            <a:off x="468360" y="3068640"/>
            <a:ext cx="2305080" cy="1922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10" name="Picture 15" descr="абрау"/>
          <p:cNvPicPr/>
          <p:nvPr/>
        </p:nvPicPr>
        <p:blipFill>
          <a:blip r:embed="rId3"/>
          <a:stretch/>
        </p:blipFill>
        <p:spPr>
          <a:xfrm>
            <a:off x="3419640" y="3068640"/>
            <a:ext cx="2538360" cy="1903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 advTm="30000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5194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Мы на 70 % состоим из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Без воды человек может прожить только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3 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д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 откуда наш организм может получить необходимую жидкость</a:t>
            </a:r>
            <a:r>
              <a:rPr b="0" lang="ru-RU" sz="2800" spc="-1" strike="noStrike">
                <a:solidFill>
                  <a:srgbClr val="ffffff"/>
                </a:solidFill>
                <a:latin typeface="Lidia Cyr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8" descr="сканирование"/>
          <p:cNvPicPr/>
          <p:nvPr/>
        </p:nvPicPr>
        <p:blipFill>
          <a:blip r:embed="rId1"/>
          <a:stretch/>
        </p:blipFill>
        <p:spPr>
          <a:xfrm>
            <a:off x="6156360" y="1341360"/>
            <a:ext cx="2303280" cy="4784760"/>
          </a:xfrm>
          <a:prstGeom prst="rect">
            <a:avLst/>
          </a:prstGeom>
          <a:ln w="0">
            <a:noFill/>
          </a:ln>
        </p:spPr>
      </p:pic>
      <p:sp>
        <p:nvSpPr>
          <p:cNvPr id="413" name="Line 10"/>
          <p:cNvSpPr/>
          <p:nvPr/>
        </p:nvSpPr>
        <p:spPr>
          <a:xfrm>
            <a:off x="5580000" y="4149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-2.83996E-006 C 0.03854 -0.00485 0.03958 -0.00855 0.04149 -0.01387 C 0.04306 -0.01757 0.04653 -0.02428 0.04653 -0.02405 C 0.04809 -0.05828 0.0441 -0.10199 0.05399 -0.13321 C 0.05642 -0.14038 0.05573 -0.14708 0.05903 -0.15379 C 0.06094 -0.16512 0.06007 -0.16859 0.06788 -0.17414 C 0.07118 -0.18594 0.07378 -0.19842 0.07778 -0.20999 C 0.07917 -0.21461 0.08125 -0.21901 0.08281 -0.2234 C 0.08403 -0.22664 0.08542 -0.23381 0.08542 -0.23358 C 0.08594 -0.25485 0.08403 -0.29486 0.08924 -0.31521 C 0.08993 -0.32701 0.09132 -0.33788 0.09288 -0.34944 C 0.0934 -0.35291 0.09514 -0.35615 0.09531 -0.35985 C 0.09583 -0.36933 0.09531 -0.37904 0.09531 -0.3883 E">
                                      <p:cBhvr>
                                        <p:cTn id="14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4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9" descr="фрукты 2"/>
          <p:cNvPicPr/>
          <p:nvPr/>
        </p:nvPicPr>
        <p:blipFill>
          <a:blip r:embed="rId1"/>
          <a:stretch/>
        </p:blipFill>
        <p:spPr>
          <a:xfrm>
            <a:off x="1187280" y="765000"/>
            <a:ext cx="2376720" cy="2138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0" descr="суп"/>
          <p:cNvPicPr/>
          <p:nvPr/>
        </p:nvPicPr>
        <p:blipFill>
          <a:blip r:embed="rId2"/>
          <a:stretch/>
        </p:blipFill>
        <p:spPr>
          <a:xfrm>
            <a:off x="5796000" y="692280"/>
            <a:ext cx="2305080" cy="2238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3" descr="стаканвода"/>
          <p:cNvPicPr/>
          <p:nvPr/>
        </p:nvPicPr>
        <p:blipFill>
          <a:blip r:embed="rId3"/>
          <a:stretch/>
        </p:blipFill>
        <p:spPr>
          <a:xfrm>
            <a:off x="5508720" y="3500280"/>
            <a:ext cx="2808360" cy="2406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5" descr="хлеб2"/>
          <p:cNvPicPr/>
          <p:nvPr/>
        </p:nvPicPr>
        <p:blipFill>
          <a:blip r:embed="rId4"/>
          <a:stretch/>
        </p:blipFill>
        <p:spPr>
          <a:xfrm>
            <a:off x="111600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418" name="WordArt 26"/>
          <p:cNvSpPr txBox="1"/>
          <p:nvPr/>
        </p:nvSpPr>
        <p:spPr>
          <a:xfrm>
            <a:off x="2700360" y="2997360"/>
            <a:ext cx="367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ЕДА И НАПИ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ransition spd="slow" advTm="30000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4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4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Отгадай загадк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Comic Sans MS"/>
              </a:rPr>
              <a:t>Что умеет </a:t>
            </a:r>
            <a:r>
              <a:rPr b="1" lang="ru-RU" sz="4400" spc="-1" strike="noStrike" u="sng">
                <a:solidFill>
                  <a:srgbClr val="99ff66"/>
                </a:solidFill>
                <a:uFillTx/>
                <a:latin typeface="Comic Sans MS"/>
              </a:rPr>
              <a:t>застывать</a:t>
            </a:r>
            <a:r>
              <a:rPr b="1" lang="ru-RU" sz="4400" spc="-1" strike="noStrike">
                <a:solidFill>
                  <a:srgbClr val="99ff66"/>
                </a:solidFill>
                <a:latin typeface="Comic Sans MS"/>
              </a:rPr>
              <a:t>, </a:t>
            </a:r>
            <a:r>
              <a:rPr b="1" lang="ru-RU" sz="4400" spc="-1" strike="noStrike" u="sng">
                <a:solidFill>
                  <a:srgbClr val="99ff66"/>
                </a:solidFill>
                <a:uFillTx/>
                <a:latin typeface="Comic Sans MS"/>
              </a:rPr>
              <a:t>летать</a:t>
            </a:r>
            <a:r>
              <a:rPr b="1" lang="ru-RU" sz="4400" spc="-1" strike="noStrike">
                <a:solidFill>
                  <a:srgbClr val="99ff66"/>
                </a:solidFill>
                <a:latin typeface="Comic Sans MS"/>
              </a:rPr>
              <a:t> и </a:t>
            </a:r>
            <a:r>
              <a:rPr b="1" lang="ru-RU" sz="4400" spc="-1" strike="noStrike" u="sng">
                <a:solidFill>
                  <a:srgbClr val="99ff66"/>
                </a:solidFill>
                <a:uFillTx/>
                <a:latin typeface="Comic Sans MS"/>
              </a:rPr>
              <a:t>бегать</a:t>
            </a:r>
            <a:r>
              <a:rPr b="1" lang="ru-RU" sz="4400" spc="-1" strike="noStrike">
                <a:solidFill>
                  <a:srgbClr val="99ff66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Comic Sans MS"/>
              </a:rPr>
              <a:t>Конечно, </a:t>
            </a:r>
            <a:r>
              <a:rPr b="0" lang="ru-RU" sz="5400" spc="-1" strike="noStrike">
                <a:solidFill>
                  <a:srgbClr val="ff9933"/>
                </a:solidFill>
                <a:latin typeface="Comic Sans MS"/>
              </a:rPr>
              <a:t>вода</a:t>
            </a:r>
            <a:r>
              <a:rPr b="0" lang="ru-RU" sz="5400" spc="-1" strike="noStrike">
                <a:solidFill>
                  <a:srgbClr val="ffff66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4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999ff"/>
                </a:solidFill>
                <a:latin typeface="Comic Sans MS"/>
              </a:rPr>
              <a:t>В ЭТОЙ ЗАГАДКЕ ОТРАЖЕНЫ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00ff"/>
                </a:solidFill>
                <a:latin typeface="Comic Sans MS"/>
              </a:rPr>
              <a:t>ТРИ СОСТОЯНИЯ ВОДЫ</a:t>
            </a: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2" name="Picture 4" descr="стаканвода"/>
          <p:cNvPicPr/>
          <p:nvPr/>
        </p:nvPicPr>
        <p:blipFill>
          <a:blip r:embed="rId1"/>
          <a:stretch/>
        </p:blipFill>
        <p:spPr>
          <a:xfrm>
            <a:off x="6516720" y="3213000"/>
            <a:ext cx="1944720" cy="142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Айсберг"/>
          <p:cNvPicPr/>
          <p:nvPr/>
        </p:nvPicPr>
        <p:blipFill>
          <a:blip r:embed="rId2"/>
          <a:stretch/>
        </p:blipFill>
        <p:spPr>
          <a:xfrm>
            <a:off x="3564000" y="3213000"/>
            <a:ext cx="2232000" cy="1470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Утес"/>
          <p:cNvPicPr/>
          <p:nvPr/>
        </p:nvPicPr>
        <p:blipFill>
          <a:blip r:embed="rId3"/>
          <a:stretch/>
        </p:blipFill>
        <p:spPr>
          <a:xfrm>
            <a:off x="971640" y="3213000"/>
            <a:ext cx="1950840" cy="1463760"/>
          </a:xfrm>
          <a:prstGeom prst="rect">
            <a:avLst/>
          </a:prstGeom>
          <a:ln w="0">
            <a:noFill/>
          </a:ln>
        </p:spPr>
      </p:pic>
      <p:sp>
        <p:nvSpPr>
          <p:cNvPr id="425" name="WordArt 8"/>
          <p:cNvSpPr txBox="1"/>
          <p:nvPr/>
        </p:nvSpPr>
        <p:spPr>
          <a:xfrm>
            <a:off x="4140360" y="2565360"/>
            <a:ext cx="92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ЛЁ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6" name="WordArt 9"/>
          <p:cNvSpPr txBox="1"/>
          <p:nvPr/>
        </p:nvSpPr>
        <p:spPr>
          <a:xfrm>
            <a:off x="6877080" y="479736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e1ff"/>
                    </a:gs>
                    <a:gs pos="50000">
                      <a:srgbClr val="516876"/>
                    </a:gs>
                    <a:gs pos="100000">
                      <a:srgbClr val="afe1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     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e1ff"/>
                  </a:gs>
                  <a:gs pos="50000">
                    <a:srgbClr val="516876"/>
                  </a:gs>
                  <a:gs pos="100000">
                    <a:srgbClr val="afe1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7" name="WordArt 10"/>
          <p:cNvSpPr txBox="1"/>
          <p:nvPr/>
        </p:nvSpPr>
        <p:spPr>
          <a:xfrm>
            <a:off x="4067280" y="4797360"/>
            <a:ext cx="128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ТВЁРДО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8" name="WordArt 11"/>
          <p:cNvSpPr txBox="1"/>
          <p:nvPr/>
        </p:nvSpPr>
        <p:spPr>
          <a:xfrm>
            <a:off x="1116000" y="486900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e1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ГАЗООБРАЗНО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e1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9" name="WordArt 12"/>
          <p:cNvSpPr txBox="1"/>
          <p:nvPr/>
        </p:nvSpPr>
        <p:spPr>
          <a:xfrm>
            <a:off x="1403280" y="2637000"/>
            <a:ext cx="924120" cy="37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e1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А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e1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0" name="WordArt 13"/>
          <p:cNvSpPr txBox="1"/>
          <p:nvPr/>
        </p:nvSpPr>
        <p:spPr>
          <a:xfrm>
            <a:off x="7020000" y="2637000"/>
            <a:ext cx="92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16876"/>
                    </a:gs>
                    <a:gs pos="50000">
                      <a:srgbClr val="afe1ff"/>
                    </a:gs>
                    <a:gs pos="100000">
                      <a:srgbClr val="51687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   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16876"/>
                  </a:gs>
                  <a:gs pos="50000">
                    <a:srgbClr val="afe1ff"/>
                  </a:gs>
                  <a:gs pos="100000">
                    <a:srgbClr val="51687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0:22:37Z</dcterms:created>
  <dc:creator>user</dc:creator>
  <dc:description/>
  <dc:language>en-US</dc:language>
  <cp:lastModifiedBy>User</cp:lastModifiedBy>
  <dcterms:modified xsi:type="dcterms:W3CDTF">2013-04-22T04:48:15Z</dcterms:modified>
  <cp:revision>61</cp:revision>
  <dc:subject/>
  <dc:title>Вода и ее роль в природе Урок природоведения в 3 классе</dc:title>
</cp:coreProperties>
</file>