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24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59.gif" ContentType="image/gif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7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5EC-F65B-443F-B911-BE3CEB80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28C-6E9D-45A5-8307-D9C8F879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305-DFAC-4C7B-9E70-F7DC9D26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327-02EA-4419-88D1-515D5FDC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967D-7D93-43D5-A4B7-E46F4A81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D687-637A-4779-9A12-CD049B6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2E2C-BA76-4F1C-81C1-D5E7BBD0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0C2F-EA5D-46E1-BF79-7C06A13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DCB9-00A3-45A1-BF87-135380A5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AC4E-FCF3-4364-84E2-69E7E99D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60AF-A0E5-4DF7-B308-75CD1A7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82B-8E70-42AC-8093-9B55F3DA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2648-72FD-4B86-8959-EB61BF5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4EDA-D38F-4A18-8978-682797CA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2E0C-F912-4711-A8BF-B7FCEB69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CD4-F675-47CB-89BC-373E055C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519-5EC2-432A-90D2-36C1DBBE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BCC-2390-4C17-950E-7ACED1D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BC6-CF5F-4383-8EB3-C12DFBD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6C3-3C53-4799-9E1B-1AC4F760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C68-4344-45DD-91FE-FB63D15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AA9-318D-433F-94E7-8E50C33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3CB-2CE9-466B-AAA7-45E446D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A81-9945-4DD3-9319-548E543E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F6D-0D53-4DBE-BE44-D38D2B1C90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C471-969B-4042-90D2-055719CB3A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7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 rot="20562000">
            <a:off x="620280" y="1728360"/>
            <a:ext cx="7458120" cy="16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УЧШИЕ  КНИГИ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 rot="20641800">
            <a:off x="2960640" y="3919680"/>
            <a:ext cx="457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Я ДЕТЕЙ 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ЮНОШЕСТ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TextBox 1"/>
          <p:cNvSpPr/>
          <p:nvPr/>
        </p:nvSpPr>
        <p:spPr>
          <a:xfrm rot="20470800">
            <a:off x="5825880" y="574488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– 6 клас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mph" presetID="18">
                                  <p:stCondLst>
                                    <p:cond delay="25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Стражи"/>
          <p:cNvPicPr/>
          <p:nvPr/>
        </p:nvPicPr>
        <p:blipFill>
          <a:blip r:embed="rId1"/>
          <a:stretch/>
        </p:blipFill>
        <p:spPr>
          <a:xfrm>
            <a:off x="76320" y="76320"/>
            <a:ext cx="2624040" cy="389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Алекс"/>
          <p:cNvPicPr/>
          <p:nvPr/>
        </p:nvPicPr>
        <p:blipFill>
          <a:blip r:embed="rId2"/>
          <a:stretch/>
        </p:blipFill>
        <p:spPr>
          <a:xfrm>
            <a:off x="3124080" y="111240"/>
            <a:ext cx="2381400" cy="381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Зимняя дверь"/>
          <p:cNvPicPr/>
          <p:nvPr/>
        </p:nvPicPr>
        <p:blipFill>
          <a:blip r:embed="rId3"/>
          <a:stretch/>
        </p:blipFill>
        <p:spPr>
          <a:xfrm>
            <a:off x="5791320" y="1876320"/>
            <a:ext cx="273996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-439560" y="408312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Стражи беспорядка.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 .: АСТ,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2514600" y="410544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ёрный Алекс – няня специального назначения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АСТ, 2008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5360400" y="5562720"/>
            <a:ext cx="36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Зимняя дверь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Самокат, 201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Москвина"/>
          <p:cNvPicPr/>
          <p:nvPr/>
        </p:nvPicPr>
        <p:blipFill>
          <a:blip r:embed="rId1"/>
          <a:stretch/>
        </p:blipFill>
        <p:spPr>
          <a:xfrm>
            <a:off x="228600" y="220680"/>
            <a:ext cx="3048120" cy="4579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3124080" y="106452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сквина М.  Моя собака любит джаз, или Жизнь  и приключения милиционера Караваева. – М.: Гаятри, 200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038480" y="261324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ерои этих историй – удивительные люди. Достаточно взглянуть на мир их глазами, и мир переворачивается с ног на голов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ешные, фантастические, остросюжетные рассказы Марины Москвиной награждены международным дипломом Ганса Христиана Андерсе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L:\картинки книг\Премии\Мировые премии\Премия Андерсена.jpeg"/>
          <p:cNvPicPr/>
          <p:nvPr/>
        </p:nvPicPr>
        <p:blipFill>
          <a:blip r:embed="rId2"/>
          <a:stretch/>
        </p:blipFill>
        <p:spPr>
          <a:xfrm>
            <a:off x="2286000" y="4889520"/>
            <a:ext cx="1828800" cy="18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Прогульщик"/>
          <p:cNvPicPr/>
          <p:nvPr/>
        </p:nvPicPr>
        <p:blipFill>
          <a:blip r:embed="rId1"/>
          <a:stretch/>
        </p:blipFill>
        <p:spPr>
          <a:xfrm>
            <a:off x="130320" y="76320"/>
            <a:ext cx="2666880" cy="49449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"/>
          <p:cNvSpPr/>
          <p:nvPr/>
        </p:nvSpPr>
        <p:spPr>
          <a:xfrm>
            <a:off x="331632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новую книгу одной из лучших русских современных поэтесс Марины Бородицкой вошли и уже давно известные, многими любимые стихотворения для маленьких читателей, и новые, написанные немножко «на вырост». Лирические и смешные, ее стихи станут близкими самым разным читателям: это и воспоминания о раннем детстве, и сегодняшние насущные проблемы школьного бытия, нередко облаченные в игровую, веселую форму, и детали самого разного детского быта, старого и современног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2827800" y="314280"/>
            <a:ext cx="51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родицкая М. Прогульщик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гульщица.- М.: Самокат,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2" descr="L:\картинки книг\Премии\Отечественные премии\Премия К.Чуковского.jpeg"/>
          <p:cNvPicPr/>
          <p:nvPr/>
        </p:nvPicPr>
        <p:blipFill>
          <a:blip r:embed="rId2"/>
          <a:stretch/>
        </p:blipFill>
        <p:spPr>
          <a:xfrm>
            <a:off x="1959120" y="5219640"/>
            <a:ext cx="1469880" cy="14860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3430800" y="632772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мия им. К.Чуковско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5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Алеников"/>
          <p:cNvPicPr/>
          <p:nvPr/>
        </p:nvPicPr>
        <p:blipFill>
          <a:blip r:embed="rId1"/>
          <a:stretch/>
        </p:blipFill>
        <p:spPr>
          <a:xfrm>
            <a:off x="152280" y="152280"/>
            <a:ext cx="2846520" cy="43434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2861280" y="457200"/>
            <a:ext cx="519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еников В. Классиков надо беречь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ли короткие истории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 Петрове и Васечкине.-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.:Эгмонт-Россия, 2007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3809880" y="2666880"/>
            <a:ext cx="401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учшие рассказы о приключениях Петрова и Васечкина. Некоторые истории уже известны читателю по знаменитым фильмам, но большинство из них будут замечательным сюрпризом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143000" y="380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905120" y="563400"/>
            <a:ext cx="6005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етлана Лаврова отличается удивительным умением органично вписывать сказку в узнаваемый мир. Много доброго смеха, неожиданно ёмкие и глубокие размышления о жизни и преодолевающая все трудности вера героев книги в себя и в друз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Кошка до вторника» в 2007 году вышла в финал Национальной преми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Заветная мечта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номинация «Самое смешное произведение»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Семь подводных котов» - премия «Алиса» им. Кира Булычёва в 2007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4" descr="L:\картинки книг\Премии\Отечественные премии\Заветная мечта.gif"/>
          <p:cNvPicPr/>
          <p:nvPr/>
        </p:nvPicPr>
        <p:blipFill>
          <a:blip r:embed="rId1"/>
          <a:stretch/>
        </p:blipFill>
        <p:spPr>
          <a:xfrm>
            <a:off x="133200" y="299880"/>
            <a:ext cx="2000520" cy="1387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:\картинки книг\Премии\Отечественные премии\Премия Булычёва.jpg"/>
          <p:cNvPicPr/>
          <p:nvPr/>
        </p:nvPicPr>
        <p:blipFill>
          <a:blip r:embed="rId2"/>
          <a:stretch/>
        </p:blipFill>
        <p:spPr>
          <a:xfrm rot="20247600">
            <a:off x="4592160" y="4673160"/>
            <a:ext cx="2246400" cy="16718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 rot="20109000">
            <a:off x="5953680" y="616284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Эльфы"/>
          <p:cNvPicPr/>
          <p:nvPr/>
        </p:nvPicPr>
        <p:blipFill>
          <a:blip r:embed="rId1"/>
          <a:stretch/>
        </p:blipFill>
        <p:spPr>
          <a:xfrm>
            <a:off x="133200" y="152280"/>
            <a:ext cx="2597400" cy="3733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Гувернантка"/>
          <p:cNvPicPr/>
          <p:nvPr/>
        </p:nvPicPr>
        <p:blipFill>
          <a:blip r:embed="rId2"/>
          <a:stretch/>
        </p:blipFill>
        <p:spPr>
          <a:xfrm>
            <a:off x="5678640" y="2286000"/>
            <a:ext cx="2830320" cy="4210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2971800" y="152280"/>
            <a:ext cx="458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аврова С.А. Эльфы военного городка. - Екатеринбург: ИД "Сократ", 201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09480" y="4114800"/>
            <a:ext cx="451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аврова С.А. Требуется гувернантка для детей волшебника. – Екатеринбург: ИД Сократ, 200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спасители"/>
          <p:cNvPicPr/>
          <p:nvPr/>
        </p:nvPicPr>
        <p:blipFill>
          <a:blip r:embed="rId1"/>
          <a:stretch/>
        </p:blipFill>
        <p:spPr>
          <a:xfrm>
            <a:off x="152280" y="108000"/>
            <a:ext cx="3519720" cy="4540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3657600" y="624960"/>
            <a:ext cx="44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ин О. Спасители Ураканда: Уроки фантазии. - Екатеринбург: Сократ, 200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733920" y="272844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южет повести довольно обычен и прост: в летнем оздоровительном лагере трое друзей, спасаясь от драчливых «старшаков», знакомятся с таинственным юношей, который оказывается королём из параллельного мира, и этот мир требуется спасти. Ну кому же ещё спасать??? Премия «Алиса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. Кира Булычёва 2009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L:\картинки книг\Премии\Отечественные премии\Премия Булычёва.jpg"/>
          <p:cNvPicPr/>
          <p:nvPr/>
        </p:nvPicPr>
        <p:blipFill>
          <a:blip r:embed="rId2"/>
          <a:stretch/>
        </p:blipFill>
        <p:spPr>
          <a:xfrm rot="20367600">
            <a:off x="2322360" y="4854240"/>
            <a:ext cx="2360880" cy="1755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 rot="20361600">
            <a:off x="3876840" y="62596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2776320" cy="4648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413160" y="955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841480" y="1886040"/>
            <a:ext cx="6172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2-летняя Эмма решила сбежать из дома – от скуки и от несправедливости (еще бы, она ведь была старшим ребенком в семье), сбежать туда, где безопасно, красиво и интересно: в художественный музей Метрополитен. Вместе с ней отправился  и младший брат Джим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казалось, что ночная жизнь музея не менее увлекательна, чем дневна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мма и Джимми спят на настоящей королевской кровати, купаются в бассейне, прячутся за скульптурами от охранни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еще нашим героям предстоит провести настоящее расследование и выяснить, кто автор скульптуры Ангела, которую музей приобрел  за смешные 225 долларов? Может быть, это сам Микеланджело? В стремлении разгадать загадку, с которой не справились именитые искусствоведы, Эмма и Джимми находят прежнюю владелицу статуи – миссис Франквайле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тут начинается самое увлекательное: в архивах этой скромной старушки хранится такое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042000" y="333360"/>
            <a:ext cx="492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нигсбург Э.Л. Из архива миссис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азиль Э.Франквайлер, самого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утанного в мире. – М.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озовый жираф, 2010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Гавальда"/>
          <p:cNvPicPr/>
          <p:nvPr/>
        </p:nvPicPr>
        <p:blipFill>
          <a:blip r:embed="rId1"/>
          <a:stretch/>
        </p:blipFill>
        <p:spPr>
          <a:xfrm>
            <a:off x="228600" y="152280"/>
            <a:ext cx="3124080" cy="43117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3657600" y="2590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5 кило надежды" — поэтичная притча о главном: о выборе жизненного пути, о силе любви и преданности. О семье. О том, что мечты могут и должны сбываться. Надо только очень сильно захотеть. И очень сильно постараться. Решая свои «детские» проблемы, тринадцатилетний герой ищет выход — и находит его, да так, что и взрослым есть чему у мальчишки поучи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3274560" y="99072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авальда А. 35 кило надежды.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 Флюид,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Терабития2"/>
          <p:cNvPicPr/>
          <p:nvPr/>
        </p:nvPicPr>
        <p:blipFill>
          <a:blip r:embed="rId1"/>
          <a:stretch/>
        </p:blipFill>
        <p:spPr>
          <a:xfrm>
            <a:off x="304920" y="228600"/>
            <a:ext cx="2511360" cy="3733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Гилли"/>
          <p:cNvPicPr/>
          <p:nvPr/>
        </p:nvPicPr>
        <p:blipFill>
          <a:blip r:embed="rId2"/>
          <a:stretch/>
        </p:blipFill>
        <p:spPr>
          <a:xfrm>
            <a:off x="3071880" y="228600"/>
            <a:ext cx="2577960" cy="37339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715000" y="731520"/>
            <a:ext cx="2630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атерсон К.  Мост в Терабитию. – М.: Нарния, 2007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атерсон К.  Великолепная Гилли Хопкинс. – М.: Нарния, 2007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984320" y="42670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ворчество Кетрин Патерсон пользуется заслуженным признанием в разных странах. 1998 год – высшая международная награда в области детской литературы – Золотая медаль Г.-Х. Андерсена,   2006 год – Мемориальная премия Астрид Линдгре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6" descr="L:\картинки книг\Премии\Мировые премии\Премия Андерсена.jpeg"/>
          <p:cNvPicPr/>
          <p:nvPr/>
        </p:nvPicPr>
        <p:blipFill>
          <a:blip r:embed="rId3"/>
          <a:stretch/>
        </p:blipFill>
        <p:spPr>
          <a:xfrm>
            <a:off x="438120" y="4030560"/>
            <a:ext cx="1467000" cy="1514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L:\картинки книг\Премии\Мировые премии\Астрид Линдгрен.gif"/>
          <p:cNvPicPr/>
          <p:nvPr/>
        </p:nvPicPr>
        <p:blipFill>
          <a:blip r:embed="rId4"/>
          <a:stretch/>
        </p:blipFill>
        <p:spPr>
          <a:xfrm>
            <a:off x="6553080" y="5545080"/>
            <a:ext cx="21621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личество книг, адресованных детям, лавинообразно увеличивается год от года. Как в них разобраться? Ведь задача не из лёгких – трудно выбрать лучшее из незнакомого: большинство названий книг и фамилий их авторов ни о чём не говорят даже читателям со стажем. Ориентироваться на ярко оформленные обложки и витрины магазинов тоже не следует. Как же быть? Можно спросить у друзей, можно зайти в библиоте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3124080" y="2209680"/>
            <a:ext cx="563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..Инженер-путеец Сергей Иванович Морозов, прогуливаясь в Рождество перед Новым 1912 годом со своей женой Машей по Косому переулку в Санкт-Петербурге, попадает под волшебный снег, который, оказывается, выпадает здесь один раз в пятьдесят лет. Сами того еще не ведая, супруги становятся на следующие полстолетия исполнителями новогодних детских мечтаний — Дедом Морозом и Снегурочкой. Они потрясены новыми возможностями и долго считают все творимые ими чудеса случайными совпадениям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ая премия Заветная мечта 2007-2008г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Правдивая история"/>
          <p:cNvPicPr/>
          <p:nvPr/>
        </p:nvPicPr>
        <p:blipFill>
          <a:blip r:embed="rId1"/>
          <a:stretch/>
        </p:blipFill>
        <p:spPr>
          <a:xfrm>
            <a:off x="152280" y="152280"/>
            <a:ext cx="2943360" cy="38052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3150360" y="304920"/>
            <a:ext cx="53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Пастернак 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дивая история Деда Мороза.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Время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1066680" y="4114800"/>
            <a:ext cx="20574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3733920" y="167652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будет, если девчонка из 2018 года вдруг окажется в 1980 году? А мальчик из 1980 года перенесется на ее место? Где лучше? И что такое «лучше»? Где интереснее играть: на компьютере или во дворе? Что важнее: свобода и раскованность в чате или умение разговаривать, глядя в глаза друг другу? И самое главное — правда ли, что «время тогда было другое»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может быть, время всегда хорошее, и вообще, все зависит только от тебя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мия «Алиса» 2009г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Время всегда хорошее"/>
          <p:cNvPicPr/>
          <p:nvPr/>
        </p:nvPicPr>
        <p:blipFill>
          <a:blip r:embed="rId1"/>
          <a:stretch/>
        </p:blipFill>
        <p:spPr>
          <a:xfrm>
            <a:off x="228600" y="228600"/>
            <a:ext cx="3295800" cy="5105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579480" y="380880"/>
            <a:ext cx="44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Пастернак 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ремя всегда хорошее.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 Время – детство, 200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L:\картинки книг\Премии\Отечественные премии\Премия Булычёва.jpg"/>
          <p:cNvPicPr/>
          <p:nvPr/>
        </p:nvPicPr>
        <p:blipFill>
          <a:blip r:embed="rId2"/>
          <a:stretch/>
        </p:blipFill>
        <p:spPr>
          <a:xfrm rot="20362200">
            <a:off x="2665440" y="5311440"/>
            <a:ext cx="2136600" cy="15890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 rot="20011200">
            <a:off x="4653360" y="61675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Воскобойников"/>
          <p:cNvPicPr/>
          <p:nvPr/>
        </p:nvPicPr>
        <p:blipFill>
          <a:blip r:embed="rId1"/>
          <a:stretch/>
        </p:blipFill>
        <p:spPr>
          <a:xfrm>
            <a:off x="371520" y="361800"/>
            <a:ext cx="2998800" cy="43434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3581280" y="946080"/>
            <a:ext cx="43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кобойников В. Всё будет в  порядке.-  М.: ОГИ, 2006.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505320" y="44956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временная школьная повесть. Лучшая книга для среднего возраста, по версии Детского читательского жюри 2006-2007г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4800600" y="2286000"/>
            <a:ext cx="286848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3890880" y="31640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вочка Коралина вместе со своей мамой и папой переезжает в старинный дом, который населен довольно странными жильцами. В дальнем углу гостиной она обнаруживает большую запертую деревянную дверь, открывает её и оказывается в квартире, которая внешне ничем не отличается от её собственной. Почти не отличается. Ведь эта квартира — знакомая, и в то же время искривленная и зловещая версия мира Коралины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2" descr="L:\картинки книг\Гейман. Коралина\Коралина1.jpeg"/>
          <p:cNvPicPr/>
          <p:nvPr/>
        </p:nvPicPr>
        <p:blipFill>
          <a:blip r:embed="rId1"/>
          <a:stretch/>
        </p:blipFill>
        <p:spPr>
          <a:xfrm>
            <a:off x="76320" y="106200"/>
            <a:ext cx="3200400" cy="4064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3516480" y="0"/>
            <a:ext cx="43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йман Н. Коралина.- М.:АСТ, 200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4" descr="L:\картинки книг\Премии\Мировые премии\Nebula.jpg"/>
          <p:cNvPicPr/>
          <p:nvPr/>
        </p:nvPicPr>
        <p:blipFill>
          <a:blip r:embed="rId2"/>
          <a:stretch/>
        </p:blipFill>
        <p:spPr>
          <a:xfrm>
            <a:off x="2174760" y="4343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:\картинки книг\Премии\Мировые премии\Премия Брэма Стокера.jpeg"/>
          <p:cNvPicPr/>
          <p:nvPr/>
        </p:nvPicPr>
        <p:blipFill>
          <a:blip r:embed="rId3"/>
          <a:stretch/>
        </p:blipFill>
        <p:spPr>
          <a:xfrm>
            <a:off x="6742080" y="838080"/>
            <a:ext cx="1171440" cy="179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L:\картинки книг\Премии\Мировые премии\Мифопоэтическая.jpeg"/>
          <p:cNvPicPr/>
          <p:nvPr/>
        </p:nvPicPr>
        <p:blipFill>
          <a:blip r:embed="rId4"/>
          <a:stretch/>
        </p:blipFill>
        <p:spPr>
          <a:xfrm>
            <a:off x="5029200" y="762120"/>
            <a:ext cx="1504800" cy="1514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L:\картинки книг\Премии\Мировые премии\World fantasy.jpg"/>
          <p:cNvPicPr/>
          <p:nvPr/>
        </p:nvPicPr>
        <p:blipFill>
          <a:blip r:embed="rId5"/>
          <a:stretch/>
        </p:blipFill>
        <p:spPr>
          <a:xfrm>
            <a:off x="3511440" y="838080"/>
            <a:ext cx="1157400" cy="173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"/>
          <p:cNvSpPr/>
          <p:nvPr/>
        </p:nvSpPr>
        <p:spPr>
          <a:xfrm>
            <a:off x="4888800" y="2330280"/>
            <a:ext cx="183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ythopoeti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wa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3447000" y="2627280"/>
            <a:ext cx="150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rld fantas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wa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6622200" y="262728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м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рэма Стоке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2075040" y="594504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bula Awa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0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528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40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25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-304920" y="898560"/>
            <a:ext cx="876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09480" y="608040"/>
            <a:ext cx="739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катерина Мурашова – практикующий психолог и многим родителям знакомы её  работы в этой област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Мурашова пишет также художественную литературу для подрост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ё повести сильно выделяются в общем потоке современной отечественной подростковой литературы. Тема детей – отбросов общества, социально запущенных, слишком неудобна и некрасива, трудно решиться об этом говорить. Мурашова не развлекает читателя и не заигрывает с ним. Она призывает читающего подростка к совместной душевной и нравственной рабо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циональная премия «Заветная мечта» 2008-2009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6" descr="L:\картинки книг\Премии\Отечественные премии\Заветная мечта.gif"/>
          <p:cNvPicPr/>
          <p:nvPr/>
        </p:nvPicPr>
        <p:blipFill>
          <a:blip r:embed="rId1"/>
          <a:stretch/>
        </p:blipFill>
        <p:spPr>
          <a:xfrm>
            <a:off x="2106720" y="4967280"/>
            <a:ext cx="238896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Класс"/>
          <p:cNvPicPr/>
          <p:nvPr/>
        </p:nvPicPr>
        <p:blipFill>
          <a:blip r:embed="rId1"/>
          <a:stretch/>
        </p:blipFill>
        <p:spPr>
          <a:xfrm>
            <a:off x="228600" y="152280"/>
            <a:ext cx="2697120" cy="381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Мурашова"/>
          <p:cNvPicPr/>
          <p:nvPr/>
        </p:nvPicPr>
        <p:blipFill>
          <a:blip r:embed="rId2"/>
          <a:stretch/>
        </p:blipFill>
        <p:spPr>
          <a:xfrm>
            <a:off x="3479760" y="838080"/>
            <a:ext cx="2603520" cy="3810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1828800" y="4800600"/>
            <a:ext cx="4572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урашова Е.  Класс коррекции.-    М.: Самокат, 2007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урашова Е. Одно чудо на всю жизнь. – М.: Самокат, 2009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8" descr="Заветная мечта"/>
          <p:cNvPicPr/>
          <p:nvPr/>
        </p:nvPicPr>
        <p:blipFill>
          <a:blip r:embed="rId3"/>
          <a:stretch/>
        </p:blipFill>
        <p:spPr>
          <a:xfrm>
            <a:off x="6324480" y="1157400"/>
            <a:ext cx="2286000" cy="15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1828800" y="3124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оит обнаружить, что обладаешь необычными способностями — и прости‑прощай спокойная жизнь. Именно в этом убедился Чарли Бон, который в один прекрасный день вдруг начал слышать, о чем разговаривают люди на фотографиях. Чарли начинает разматывать запутанный клубок семейных тайн и в результате оказывается в мрачной академии Блура. В академии Чарли обзаводится не только новыми друзьями, но и новыми врагами. Тайны растут, как снежный ком, и мальчику остается только надеяться, что разгадка не будет стоить ему жизн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327672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женни Нимм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2362320" y="830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рия этих книг принесла ей мировую известность, они неоднократно входили в список бестселлеров «New York Times» и «Book Sense», и на сегодняшний день проданы общим тиражом более двух миллионов экземпляр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2" descr="L:\картинки книг\Премии\Мировые премии\Нью-Йорк таймс.jpg"/>
          <p:cNvPicPr/>
          <p:nvPr/>
        </p:nvPicPr>
        <p:blipFill>
          <a:blip r:embed="rId1"/>
          <a:stretch/>
        </p:blipFill>
        <p:spPr>
          <a:xfrm>
            <a:off x="304920" y="1716120"/>
            <a:ext cx="188100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L:\картинки книг\Премии\Мировые премии\Book Seenae.jpeg"/>
          <p:cNvPicPr/>
          <p:nvPr/>
        </p:nvPicPr>
        <p:blipFill>
          <a:blip r:embed="rId2"/>
          <a:stretch/>
        </p:blipFill>
        <p:spPr>
          <a:xfrm>
            <a:off x="7039080" y="1716120"/>
            <a:ext cx="1266840" cy="14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866960" cy="2819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L:\картинки книг\Ниммо. Чарли Бон\Чарли Бон2.jpeg"/>
          <p:cNvPicPr/>
          <p:nvPr/>
        </p:nvPicPr>
        <p:blipFill>
          <a:blip r:embed="rId2"/>
          <a:stretch/>
        </p:blipFill>
        <p:spPr>
          <a:xfrm>
            <a:off x="1371600" y="3009960"/>
            <a:ext cx="190512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2057400" y="8244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- Спб: Азбука классика, 200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L:\картинки книг\Ниммо. Чарли Бон\Ниммо.Чарли Бон1.jpeg"/>
          <p:cNvPicPr/>
          <p:nvPr/>
        </p:nvPicPr>
        <p:blipFill>
          <a:blip r:embed="rId3"/>
          <a:stretch/>
        </p:blipFill>
        <p:spPr>
          <a:xfrm>
            <a:off x="3581280" y="762120"/>
            <a:ext cx="1981440" cy="2903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L:\картинки книг\Ниммо. Чарли Бон\Чарли Бон3.jpeg"/>
          <p:cNvPicPr/>
          <p:nvPr/>
        </p:nvPicPr>
        <p:blipFill>
          <a:blip r:embed="rId4"/>
          <a:stretch/>
        </p:blipFill>
        <p:spPr>
          <a:xfrm>
            <a:off x="5867280" y="76320"/>
            <a:ext cx="1828800" cy="286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L:\картинки книг\Ниммо. Чарли Бон\Чарли Бон4.jpeg"/>
          <p:cNvPicPr/>
          <p:nvPr/>
        </p:nvPicPr>
        <p:blipFill>
          <a:blip r:embed="rId5"/>
          <a:stretch/>
        </p:blipFill>
        <p:spPr>
          <a:xfrm>
            <a:off x="6692760" y="4000680"/>
            <a:ext cx="1828800" cy="27795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1009800" y="6162840"/>
            <a:ext cx="44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 Призрак из прошлого.- Спб: Азбука-классика, 200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3255840" y="384012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 Лазурный питон.- Спб: Азбука-классика, 2007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5638680" y="3030480"/>
            <a:ext cx="240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 Алый король.- Спб, 2008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4352760" y="4952880"/>
            <a:ext cx="243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 Чарли Бон. Зеркальный замок.- Спб: Азбука-классика, 2008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129120" cy="45356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"/>
          <p:cNvSpPr/>
          <p:nvPr/>
        </p:nvSpPr>
        <p:spPr>
          <a:xfrm>
            <a:off x="3733920" y="236232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сть известного шведского писателя Ульфа Старка "Пусть танцуют белые медведи" рассказывает об обычном подростке Лассе: он не блещет в учебе, ходит в потертых брюках, слушает Элвиса Пресли и хулиганит на улицах. Но однажды жизнь Лассе круто меняется. Он вдруг обнаруживает, что вынужден делать выбор между новым образом примерного мальчика с блестящими перспективами и прежним Лассе, похожим на своего "непутевого" и угрюмого, как медведь, отца. И он пытается примирить два противоречивых мира, найти свое место в жизни и - главное - доказать самому себе, что может сделать невозможное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3184560" y="68580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к У. Пусть танцуют белые медведи.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Самокат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Здесь вам"/>
          <p:cNvPicPr/>
          <p:nvPr/>
        </p:nvPicPr>
        <p:blipFill>
          <a:blip r:embed="rId1"/>
          <a:stretch/>
        </p:blipFill>
        <p:spPr>
          <a:xfrm>
            <a:off x="206280" y="152280"/>
            <a:ext cx="2911680" cy="46483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3505320" y="37872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Мытько И.  Здесь вам не причинят никакого вреда. – М.: Время, 200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092400" y="242388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ры написали «воспитательную страшилку»,которая призвана избавить детей от всех страхов.  Правда, потенциальные читатели книги по возрасту ближе, скорее, к героям-курсантам страшно секретного подразделения охотников за кошмарами, чем к тем, кому эти кошмары по ночам снятся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06 – премия «Заветная мечта» в номинации «Самое смешное произведени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2290680" y="5075280"/>
            <a:ext cx="2514600" cy="17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25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900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лагаем вам ещё один способ: воспользуйтесь электронными ресурсам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lavochk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 В лавочке детских кни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community.livjournal.com/detskoe_chtenie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ско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ени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community.livjournal.com/kid-home-lib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машня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ска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блиотек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community.livjournal.com/5razvorotov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я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орото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bigbook/ru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ьшая книг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heto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Решето.  Независимый литературный порта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rusf.ru/ -  Русская фантасти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www.fantlab.ru/ - Сайт о фэнтези и фантасти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Гимназия"/>
          <p:cNvPicPr/>
          <p:nvPr/>
        </p:nvPicPr>
        <p:blipFill>
          <a:blip r:embed="rId1"/>
          <a:stretch/>
        </p:blipFill>
        <p:spPr>
          <a:xfrm>
            <a:off x="111240" y="227160"/>
            <a:ext cx="2900160" cy="397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3011400" y="1752480"/>
            <a:ext cx="556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надо было трогать дуб! Тогда бы ничего страшного и не случилось. А когда тронули, тут и началось. Из всех щелей полезла нечисть. Домовые и кабинетные — за наших гимназистов, нечисть — против. Перун мечет молнии на крыше, Кощей пытается проломить заколдованный круг, говорящий кот подкармливает русалку ворованной колбасой, второй закон Ньютона временно не работает, "Слово о полку Игореве" встает перед глазами, словно в формате 3D, а на самом деле наяву — помог волшебный растворитель… Хотите дальше? Сами читайте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874240" y="304920"/>
            <a:ext cx="53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Пастернак 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зия № 13. – М.: Время, 201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80880" y="46483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вшин В. А. В поисках похищенной марки.- М: ИД Мещерякова, 2008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710440" y="152280"/>
            <a:ext cx="533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вшин В. А. Магистр Рассеянных Наук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: ИД Мещерякова, 2007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446920" y="5715000"/>
            <a:ext cx="645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вшин В. А. Искатели необычайных автограф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ли Странствия, приключения и беседы дву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ломатиков.- М: ИД Мещерякова, 2010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Picture 5" descr="1"/>
          <p:cNvPicPr/>
          <p:nvPr/>
        </p:nvPicPr>
        <p:blipFill>
          <a:blip r:embed="rId1"/>
          <a:stretch/>
        </p:blipFill>
        <p:spPr>
          <a:xfrm>
            <a:off x="3200400" y="990720"/>
            <a:ext cx="2322360" cy="3581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2"/>
          <p:cNvPicPr/>
          <p:nvPr/>
        </p:nvPicPr>
        <p:blipFill>
          <a:blip r:embed="rId2"/>
          <a:stretch/>
        </p:blipFill>
        <p:spPr>
          <a:xfrm>
            <a:off x="304920" y="228600"/>
            <a:ext cx="2314440" cy="3657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3"/>
          <p:cNvPicPr/>
          <p:nvPr/>
        </p:nvPicPr>
        <p:blipFill>
          <a:blip r:embed="rId3"/>
          <a:stretch/>
        </p:blipFill>
        <p:spPr>
          <a:xfrm>
            <a:off x="6095880" y="1752480"/>
            <a:ext cx="220356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-533520" y="4495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выкина О. Клад на подоконнике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ИД Мещерякова, 2008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743200" y="304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выкина О. О людях и птицах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ИД Мещерякова, 2010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114800" y="5867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выкина О. Письма насекомых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: ИД Мещерякова, 2009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Picture 5" descr="О птицах"/>
          <p:cNvPicPr/>
          <p:nvPr/>
        </p:nvPicPr>
        <p:blipFill>
          <a:blip r:embed="rId1"/>
          <a:stretch/>
        </p:blipFill>
        <p:spPr>
          <a:xfrm>
            <a:off x="228600" y="228600"/>
            <a:ext cx="2411280" cy="3848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1"/>
          <p:cNvPicPr/>
          <p:nvPr/>
        </p:nvPicPr>
        <p:blipFill>
          <a:blip r:embed="rId2"/>
          <a:stretch/>
        </p:blipFill>
        <p:spPr>
          <a:xfrm>
            <a:off x="3124080" y="1143000"/>
            <a:ext cx="2401920" cy="3886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2"/>
          <p:cNvPicPr/>
          <p:nvPr/>
        </p:nvPicPr>
        <p:blipFill>
          <a:blip r:embed="rId3"/>
          <a:stretch/>
        </p:blipFill>
        <p:spPr>
          <a:xfrm>
            <a:off x="6019920" y="1905120"/>
            <a:ext cx="244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2819520" y="1371600"/>
            <a:ext cx="5943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школе учились все. Ну, если не учились, то хотя бы ходили в нее. Посещали. Просиживали. Протирали штаны. Поэтому эта книга окажется интересной всем. Тем, у кого школа осталась позади, будет приятно пощекотать нервы. Тем, кто учится в младших классах, эта книжка станет интересна чуть позже. А пока им будет просто интересно ее полистать, картинки посмотреть. Но в основном она рассчитана на тех, кто учится в средних классах. На мальчишек и девчонок самого безбашенного возраста. Да и ученикам выпускных классов прочитать ее не помешает. У них школа уже почти позади – но страницы, посвященные выбору будущей профессии, их непременно заинтересуют. Ну и, конечно же, никого не оставит равнодушным глава про выпускной бал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у, вот, вроде бы, и все. Хотя нет. Ведь есть еще родители. Им данная книга тоже будет полезна. Поскольку сами родители давно закончили учебу. И если они забыли свои школьные страдания, то пусть почитают эту книгу. И вспомнят. А там глядишь – и своих детей больше понимать стану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654640" y="112680"/>
            <a:ext cx="528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ркин Э. Про мальчиков и девоче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нига советов по выживанию в школе. –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Эксмо, 200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6" descr="G:\картинки книг\Веркин\Про мальчиков и девочек.jpg"/>
          <p:cNvPicPr/>
          <p:nvPr/>
        </p:nvPicPr>
        <p:blipFill>
          <a:blip r:embed="rId1"/>
          <a:stretch/>
        </p:blipFill>
        <p:spPr>
          <a:xfrm>
            <a:off x="152280" y="111240"/>
            <a:ext cx="250848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1143000" y="1764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ечно, это далеко не полный список современной литературы для детей. Вы можете дополнять и расширять его по своему усмотрен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дачи Вам. Приятного чтения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2209680" y="44179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У СОШ № 127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сква, 20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9" descr="reader"/>
          <p:cNvPicPr/>
          <p:nvPr/>
        </p:nvPicPr>
        <p:blipFill>
          <a:blip r:embed="rId1"/>
          <a:stretch/>
        </p:blipFill>
        <p:spPr>
          <a:xfrm>
            <a:off x="3111480" y="1217520"/>
            <a:ext cx="2158920" cy="1952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4"/>
          <p:cNvSpPr/>
          <p:nvPr/>
        </p:nvSpPr>
        <p:spPr>
          <a:xfrm>
            <a:off x="1295280" y="31780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работе использованы материалы сайтов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BiblioGid.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lavochk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community.livjournal.com/5razvoroto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bigbook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www.fantlab.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Рисунок 6" descr=""/>
          <p:cNvPicPr/>
          <p:nvPr/>
        </p:nvPicPr>
        <p:blipFill>
          <a:blip r:embed="rId2"/>
          <a:stretch/>
        </p:blipFill>
        <p:spPr>
          <a:xfrm>
            <a:off x="3529080" y="5532480"/>
            <a:ext cx="269568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ратите внимание на книги, удостоенные различных литературных преми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лотая медаль Андерсе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BY Honour List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ёт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исо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Астрид Линдгре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Вл. Крапиви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С. Марша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К. Чуковск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«Алые парус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«Заветная мечта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ый конкурс «Книгуру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ый конкурс «Книга го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352680" y="836640"/>
            <a:ext cx="46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хотин С. Вирус ворчания.-       Спб.: Детгиз-Лицей, 2007.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200400" y="2286720"/>
            <a:ext cx="5638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шему вниманию предлагается повесть, в которой что ни глава – то совершенно правдивая, но чаще – невероятная история. 2007 год – совет по детской книге России Единогласно решил занести эту книгу в Почётный список Международного совета по детской книге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мнению Детского читательского жюри 2006-2007 г. – лучшая книга для старших подростков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L:\картинки книг\Вирус.jpg"/>
          <p:cNvPicPr/>
          <p:nvPr/>
        </p:nvPicPr>
        <p:blipFill>
          <a:blip r:embed="rId1"/>
          <a:stretch/>
        </p:blipFill>
        <p:spPr>
          <a:xfrm>
            <a:off x="228600" y="338040"/>
            <a:ext cx="285444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L:\картинки книг\Премии\Отечественные премии\Заветная мечта.gif"/>
          <p:cNvPicPr/>
          <p:nvPr/>
        </p:nvPicPr>
        <p:blipFill>
          <a:blip r:embed="rId2"/>
          <a:stretch/>
        </p:blipFill>
        <p:spPr>
          <a:xfrm>
            <a:off x="361800" y="3587760"/>
            <a:ext cx="2076480" cy="1441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L:\картинки книг\Премии\Мировые премии\Почётный список.jpg"/>
          <p:cNvPicPr/>
          <p:nvPr/>
        </p:nvPicPr>
        <p:blipFill>
          <a:blip r:embed="rId3"/>
          <a:stretch/>
        </p:blipFill>
        <p:spPr>
          <a:xfrm>
            <a:off x="2895480" y="4910040"/>
            <a:ext cx="1189080" cy="18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514600" y="990720"/>
            <a:ext cx="579132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Все вокруг знают, как жить правильно. Мышь Гликерия знает, как жить с удовольствием. Она сочиняет белые, как молоко, стихи и собирает настоящие сокровища - кленовые самолетики, старые монетки, обертки от шоколада и осколки от елочных шариков. Каждый раз, когда Гликерия пытается сделать что-то "как принято", начинаются приключения, и все у нее в итоге получается по-своему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i"/>
          <p:cNvPicPr/>
          <p:nvPr/>
        </p:nvPicPr>
        <p:blipFill>
          <a:blip r:embed="rId1"/>
          <a:stretch/>
        </p:blipFill>
        <p:spPr>
          <a:xfrm>
            <a:off x="155520" y="152280"/>
            <a:ext cx="2243160" cy="236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Цирк1"/>
          <p:cNvPicPr/>
          <p:nvPr/>
        </p:nvPicPr>
        <p:blipFill>
          <a:blip r:embed="rId2"/>
          <a:stretch/>
        </p:blipFill>
        <p:spPr>
          <a:xfrm>
            <a:off x="152280" y="2666880"/>
            <a:ext cx="2133720" cy="2667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3276720" y="4267080"/>
            <a:ext cx="56386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"Цирк в шкатулке" - это современная сказка о детстве, дружбе, волшебстве и о том, как мечты становятся реальностью. А еще о том, что дети в этом мире не одиноки и всегда могут найти поддержку. Иной раз - с самой неожиданной стороны!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В 2007 г. сказка Дины Сабитовой стала лауреатом Национальной детской литературной премии "Заветная мечта"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0" descr="Заветная мечта"/>
          <p:cNvPicPr/>
          <p:nvPr/>
        </p:nvPicPr>
        <p:blipFill>
          <a:blip r:embed="rId3"/>
          <a:stretch/>
        </p:blipFill>
        <p:spPr>
          <a:xfrm>
            <a:off x="1828800" y="5361120"/>
            <a:ext cx="1838160" cy="1276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2438280" y="115920"/>
            <a:ext cx="51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битова Д. Мышь Гликерия.- М.: Розовый жираф, 20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3608640" y="3505320"/>
            <a:ext cx="48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битова Д. Цирк в шкатулке.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Заветная мечта,2007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:\картинки книг\Авторы\Востоков.jpg"/>
          <p:cNvPicPr/>
          <p:nvPr/>
        </p:nvPicPr>
        <p:blipFill>
          <a:blip r:embed="rId1"/>
          <a:stretch/>
        </p:blipFill>
        <p:spPr>
          <a:xfrm>
            <a:off x="152280" y="380880"/>
            <a:ext cx="2743200" cy="33735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3540960" y="22860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анислав  Восто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76720" y="8380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нислав Востоков — один из самых популярных детских писателей, художник, специалист по сохранению редких животных. Он родился в Ташкенте, где окончил художественное училище. Затем работал в зоопарках — в Ташкенте, Камбодже, Англии, Москв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йчас живет в подмосковной деревне и пишет книг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048120" y="39625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рижды был удостоен национальной детской литературной премии «Заветная мечта»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мии «Алые парус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1905120" y="4778280"/>
            <a:ext cx="2361960" cy="1640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лые паруса1"/>
          <p:cNvPicPr/>
          <p:nvPr/>
        </p:nvPicPr>
        <p:blipFill>
          <a:blip r:embed="rId3"/>
          <a:stretch/>
        </p:blipFill>
        <p:spPr>
          <a:xfrm>
            <a:off x="5137200" y="5029200"/>
            <a:ext cx="24764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Vostokov-2"/>
          <p:cNvPicPr/>
          <p:nvPr/>
        </p:nvPicPr>
        <p:blipFill>
          <a:blip r:embed="rId1"/>
          <a:stretch/>
        </p:blipFill>
        <p:spPr>
          <a:xfrm>
            <a:off x="5105520" y="2316240"/>
            <a:ext cx="3367080" cy="43894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452520" y="1295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с Востоков очень любит зверей. А еще он с детства любит читать книги великого натуралиста и Джеральда Даррелла. И - случается же такое! - любовь оказалась взаимной: Даррелл пригласил Стаса поработать в  зоопарке, в центре сохранения природы. Стас, конечно, согласился и принялся вести дневник, ежедневно записывая и зарисовывая невероятные приключения русского стажера на нормандском острове... Так родилась эта книжка, которая тут же стала победителем всероссийского конкурса книг для детей и юношества "Алые паруса"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152280" y="304920"/>
            <a:ext cx="48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токов С.В. Специалист по руконожкам. – М.: Время, 20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2" descr="L:\картинки книг\Премии\Отечественные премии\Алые паруса1.jpg"/>
          <p:cNvPicPr/>
          <p:nvPr/>
        </p:nvPicPr>
        <p:blipFill>
          <a:blip r:embed="rId2"/>
          <a:stretch/>
        </p:blipFill>
        <p:spPr>
          <a:xfrm>
            <a:off x="5181480" y="476280"/>
            <a:ext cx="262908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:\картинки книг\Востоков\Президент и министры.jpg"/>
          <p:cNvPicPr/>
          <p:nvPr/>
        </p:nvPicPr>
        <p:blipFill>
          <a:blip r:embed="rId1"/>
          <a:stretch/>
        </p:blipFill>
        <p:spPr>
          <a:xfrm>
            <a:off x="152280" y="152280"/>
            <a:ext cx="2590920" cy="3449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G:\картинки книг\Востоков\Не кормить.jpg"/>
          <p:cNvPicPr/>
          <p:nvPr/>
        </p:nvPicPr>
        <p:blipFill>
          <a:blip r:embed="rId2"/>
          <a:stretch/>
        </p:blipFill>
        <p:spPr>
          <a:xfrm>
            <a:off x="3048120" y="1523880"/>
            <a:ext cx="2666880" cy="35053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2732400" y="304920"/>
            <a:ext cx="529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Президент и его министры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Время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-47520" y="396252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Не кормить и не дразнить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Самокат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1981080" y="5410080"/>
            <a:ext cx="398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Ветер делают деревья.- М.: Эгмонт Россия, 2007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Заветная мечта"/>
          <p:cNvPicPr/>
          <p:nvPr/>
        </p:nvPicPr>
        <p:blipFill>
          <a:blip r:embed="rId3"/>
          <a:stretch/>
        </p:blipFill>
        <p:spPr>
          <a:xfrm>
            <a:off x="5967360" y="1143000"/>
            <a:ext cx="2590920" cy="179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Востоков"/>
          <p:cNvPicPr/>
          <p:nvPr/>
        </p:nvPicPr>
        <p:blipFill>
          <a:blip r:embed="rId4"/>
          <a:stretch/>
        </p:blipFill>
        <p:spPr>
          <a:xfrm>
            <a:off x="6095880" y="3200400"/>
            <a:ext cx="2514600" cy="33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Marina</cp:lastModifiedBy>
  <dcterms:modified xsi:type="dcterms:W3CDTF">2013-04-30T05:53:57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