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D4F-124E-4F44-BF73-BD02695B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E60-810E-4501-9FDC-E79552E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CF4-06F4-428D-BC03-7EB7A65C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A8C-384D-4441-BDF6-9D21EB0B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101-FA84-4B0F-886A-DD5C7BA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453-1857-42A5-91A6-69938B2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8AB-72EE-443C-916C-2D2E4556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D4-4497-4C79-B101-E5D2E84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E6E-4D8D-400A-9FC0-F1B8FD4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645-0DDE-4F6F-9616-74B266E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C85-DED3-4E05-9A2B-C15311E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9D9-00FB-4718-B543-786F39B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3BF-008E-470F-8DC3-B372FAFE8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566640" y="-353880"/>
            <a:ext cx="820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3" descr=""/>
          <p:cNvPicPr/>
          <p:nvPr/>
        </p:nvPicPr>
        <p:blipFill>
          <a:blip r:embed="rId1"/>
          <a:stretch/>
        </p:blipFill>
        <p:spPr>
          <a:xfrm>
            <a:off x="139680" y="1116000"/>
            <a:ext cx="8918640" cy="3919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0" descr=""/>
          <p:cNvPicPr/>
          <p:nvPr/>
        </p:nvPicPr>
        <p:blipFill>
          <a:blip r:embed="rId1"/>
          <a:stretch/>
        </p:blipFill>
        <p:spPr>
          <a:xfrm>
            <a:off x="1401840" y="262080"/>
            <a:ext cx="65833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8" descr=""/>
          <p:cNvPicPr/>
          <p:nvPr/>
        </p:nvPicPr>
        <p:blipFill>
          <a:blip r:embed="rId2"/>
          <a:stretch/>
        </p:blipFill>
        <p:spPr>
          <a:xfrm>
            <a:off x="201600" y="2425680"/>
            <a:ext cx="888696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4" descr=""/>
          <p:cNvPicPr/>
          <p:nvPr/>
        </p:nvPicPr>
        <p:blipFill>
          <a:blip r:embed="rId1"/>
          <a:stretch/>
        </p:blipFill>
        <p:spPr>
          <a:xfrm>
            <a:off x="328680" y="1163520"/>
            <a:ext cx="8248680" cy="3915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Battle_of_Maloyaroslavets_1812.png"/>
          <p:cNvPicPr/>
          <p:nvPr/>
        </p:nvPicPr>
        <p:blipFill>
          <a:blip r:embed="rId1"/>
          <a:stretch/>
        </p:blipFill>
        <p:spPr>
          <a:xfrm>
            <a:off x="757080" y="100080"/>
            <a:ext cx="7629840" cy="665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0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58332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5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9600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5" descr=""/>
          <p:cNvPicPr/>
          <p:nvPr/>
        </p:nvPicPr>
        <p:blipFill>
          <a:blip r:embed="rId1"/>
          <a:stretch/>
        </p:blipFill>
        <p:spPr>
          <a:xfrm>
            <a:off x="396720" y="1047600"/>
            <a:ext cx="8624880" cy="156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9:54:19Z</dcterms:created>
  <dc:creator>Обезьяна</dc:creator>
  <dc:description/>
  <dc:language>en-US</dc:language>
  <cp:lastModifiedBy>Обезьяна</cp:lastModifiedBy>
  <dcterms:modified xsi:type="dcterms:W3CDTF">2013-04-30T09:55:26Z</dcterms:modified>
  <cp:revision>1</cp:revision>
  <dc:subject/>
  <dc:title>200 years later The patriotic war of 1812 (часть 3)</dc:title>
</cp:coreProperties>
</file>