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19C60-D2E2-4AAB-8011-58139D328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018F1-8C72-49C5-A983-8C26DADAA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8E7F0-7B54-407D-9124-6643D870D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0FF4D-3B1B-4D22-A705-E3236CA5B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DAAD2-4599-4299-9229-9F4920F42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2A71F-A80D-437C-A7AB-4C87FA6A1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3BCCD-DB9D-4D1D-A6EB-A7F7EB750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3107C-FC12-429C-86A0-DE0B540E2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20C64-0477-455C-B6D8-94E4463E2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4EC5E-B4BC-421E-8BDD-FF9869285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1F570-0F1C-4C9A-B72E-662353ADF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1A340-ABDE-4F8A-9DD2-45143A62F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BDC7A-35A2-40FE-929F-797F759E8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C5589-FE21-4BF7-9670-0017B576F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F1AA4-ED9B-4B52-8CB2-739909700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3E58D-509F-4C20-A6A9-E4D239552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FA48C-896E-491E-91A3-041F96A80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C8882-2BDE-4C60-8788-A7A597D9B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51EC4-79FC-4960-ADC1-1312C2388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4617B-214A-4C4F-A9F3-331E1EBA8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24E92-6479-4DF0-A82E-31EB3F370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E7496-4EA0-4F77-9E3F-98AE143FA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8A876-AE85-4BC0-B4A1-0F0765751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1E863-01A9-44CA-9593-F5E7C3EE5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BFE0D-B915-4E3F-B912-3DDB0F87B96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BA054-5485-4315-B5B4-0C357A24FB83}" type="slidenum">
              <a:rPr b="0" lang="ru-RU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0066"/>
                </a:solidFill>
                <a:latin typeface="Tahoma"/>
              </a:rPr>
              <a:t>Ярославль.</a:t>
            </a:r>
            <a:endParaRPr b="0" lang="en-US" sz="6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0000"/>
                </a:solidFill>
                <a:uFillTx/>
                <a:latin typeface="Tahoma"/>
              </a:rPr>
              <a:t>Ярославль город , который входит в Золотое Кольцо России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Picture 4" descr="DSCN1675"/>
          <p:cNvPicPr/>
          <p:nvPr/>
        </p:nvPicPr>
        <p:blipFill>
          <a:blip r:embed="rId1"/>
          <a:stretch/>
        </p:blipFill>
        <p:spPr>
          <a:xfrm>
            <a:off x="108000" y="2637000"/>
            <a:ext cx="1403280" cy="18716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DSCN1746"/>
          <p:cNvPicPr/>
          <p:nvPr/>
        </p:nvPicPr>
        <p:blipFill>
          <a:blip r:embed="rId2"/>
          <a:stretch/>
        </p:blipFill>
        <p:spPr>
          <a:xfrm>
            <a:off x="179280" y="4653000"/>
            <a:ext cx="1297080" cy="19684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DSCN1814"/>
          <p:cNvPicPr/>
          <p:nvPr/>
        </p:nvPicPr>
        <p:blipFill>
          <a:blip r:embed="rId3"/>
          <a:stretch/>
        </p:blipFill>
        <p:spPr>
          <a:xfrm>
            <a:off x="1979640" y="2708280"/>
            <a:ext cx="1338120" cy="17827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8" descr="DSCN1798"/>
          <p:cNvPicPr/>
          <p:nvPr/>
        </p:nvPicPr>
        <p:blipFill>
          <a:blip r:embed="rId4"/>
          <a:stretch/>
        </p:blipFill>
        <p:spPr>
          <a:xfrm>
            <a:off x="1979640" y="4653000"/>
            <a:ext cx="1368360" cy="2038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9" descr="DSCN1825"/>
          <p:cNvPicPr/>
          <p:nvPr/>
        </p:nvPicPr>
        <p:blipFill>
          <a:blip r:embed="rId5"/>
          <a:stretch/>
        </p:blipFill>
        <p:spPr>
          <a:xfrm>
            <a:off x="3635280" y="2708280"/>
            <a:ext cx="1224000" cy="18003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0" descr="DSCN1830"/>
          <p:cNvPicPr/>
          <p:nvPr/>
        </p:nvPicPr>
        <p:blipFill>
          <a:blip r:embed="rId6"/>
          <a:stretch/>
        </p:blipFill>
        <p:spPr>
          <a:xfrm>
            <a:off x="3635280" y="4797360"/>
            <a:ext cx="1224000" cy="18954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3" descr="DSCN1938"/>
          <p:cNvPicPr/>
          <p:nvPr/>
        </p:nvPicPr>
        <p:blipFill>
          <a:blip r:embed="rId7"/>
          <a:stretch/>
        </p:blipFill>
        <p:spPr>
          <a:xfrm>
            <a:off x="5076720" y="2708280"/>
            <a:ext cx="1366920" cy="18003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4" descr="DSCN1918 - копия"/>
          <p:cNvPicPr/>
          <p:nvPr/>
        </p:nvPicPr>
        <p:blipFill>
          <a:blip r:embed="rId8"/>
          <a:stretch/>
        </p:blipFill>
        <p:spPr>
          <a:xfrm>
            <a:off x="5076720" y="4869000"/>
            <a:ext cx="1366920" cy="18493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5" descr="DSCN1948"/>
          <p:cNvPicPr/>
          <p:nvPr/>
        </p:nvPicPr>
        <p:blipFill>
          <a:blip r:embed="rId9"/>
          <a:stretch/>
        </p:blipFill>
        <p:spPr>
          <a:xfrm>
            <a:off x="6659640" y="2708280"/>
            <a:ext cx="1512720" cy="18003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6" descr="DSCN1954"/>
          <p:cNvPicPr/>
          <p:nvPr/>
        </p:nvPicPr>
        <p:blipFill>
          <a:blip r:embed="rId10"/>
          <a:stretch/>
        </p:blipFill>
        <p:spPr>
          <a:xfrm>
            <a:off x="6804000" y="4869000"/>
            <a:ext cx="1441440" cy="17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История города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Ярославль-первый из русских городов на Волге. Город был построен Ярославом Мудрым, в период его правления 988 – 1010 году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Годом основания является 1002  год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3" name="Picture 121" descr="DSCN1850"/>
          <p:cNvPicPr/>
          <p:nvPr/>
        </p:nvPicPr>
        <p:blipFill>
          <a:blip r:embed="rId1"/>
          <a:stretch/>
        </p:blipFill>
        <p:spPr>
          <a:xfrm>
            <a:off x="3348000" y="2997360"/>
            <a:ext cx="2556000" cy="302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Древнейшие поселения на территории города Ярославля  обнаружены на левом берегу Волги напротив стрелки (слиянии Волги и Которосли.)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В 17 веке Ярославль был одним из центров Московского государства, а также центром торговли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5" name="Picture 4" descr="DSCN1846"/>
          <p:cNvPicPr/>
          <p:nvPr/>
        </p:nvPicPr>
        <p:blipFill>
          <a:blip r:embed="rId1"/>
          <a:stretch/>
        </p:blipFill>
        <p:spPr>
          <a:xfrm>
            <a:off x="2700360" y="3284640"/>
            <a:ext cx="3478320" cy="260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Легенда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4292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Об основании города существовало сказание о победе  Ярослава Мудрого над медведем. Ярослав выступает как защитник местных жителей , которые  страдали от свирепого медведя , посланного им , как они считали, в наказание Богом  Велесом за принятие христианства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8" name="Picture 5" descr="i?id=74004811-29-72&amp;n=17"/>
          <p:cNvPicPr/>
          <p:nvPr/>
        </p:nvPicPr>
        <p:blipFill>
          <a:blip r:embed="rId1"/>
          <a:stretch/>
        </p:blipFill>
        <p:spPr>
          <a:xfrm>
            <a:off x="3851280" y="3716280"/>
            <a:ext cx="1162080" cy="1428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0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5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Tahoma"/>
              </a:rPr>
              <a:t>Спасибо за внимание!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Rectangle 6"/>
          <p:cNvSpPr/>
          <p:nvPr/>
        </p:nvSpPr>
        <p:spPr>
          <a:xfrm flipV="1" rot="10800000">
            <a:off x="6948360" y="5444640"/>
            <a:ext cx="2089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одготовила : Моргунова Вера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Учитель: Дмитриенко Г.П.                    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1" name="Picture 7" descr="DSCN1855"/>
          <p:cNvPicPr/>
          <p:nvPr/>
        </p:nvPicPr>
        <p:blipFill>
          <a:blip r:embed="rId1"/>
          <a:stretch/>
        </p:blipFill>
        <p:spPr>
          <a:xfrm>
            <a:off x="1403280" y="1989000"/>
            <a:ext cx="4248360" cy="308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8T08:43:22Z</dcterms:created>
  <dc:creator>Андрей</dc:creator>
  <dc:description/>
  <dc:language>en-US</dc:language>
  <cp:lastModifiedBy>Галина Петровна</cp:lastModifiedBy>
  <dcterms:modified xsi:type="dcterms:W3CDTF">2013-04-30T08:39:13Z</dcterms:modified>
  <cp:revision>6</cp:revision>
  <dc:subject/>
  <dc:title>Ярославль.</dc:title>
</cp:coreProperties>
</file>