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514B-4BE5-4E79-8A6F-EDC8CDB71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54D8-C84B-4A3D-ABE1-2ABDBC0E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6051-BCC4-429A-A2EA-377C3D963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4657-522E-4E46-BB2A-BD32069EA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DB7F-792E-4EE9-B5A4-BC7897EBD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2EF3-3C42-4C67-A903-F1E1A5A9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219D-FD5E-424F-85CF-502ACFF4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EAE9-6160-491A-9B58-89E1DD94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0982-90D1-41F8-9E5B-86C30E54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BEC8-EC75-46FA-8DF2-3E38788C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4A91-5A27-4929-AC09-5C934C72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879E-652F-44D9-AA79-9BCB6AA7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AEBD-B44F-4993-8CE1-D3DC5A30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9392-35EE-441C-9259-A4B1AB40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7BA9-2070-4FA4-860B-4C05777A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0AC6-209A-4502-A39D-F6DC3511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D4D0-69DA-413D-A2DD-D7BCC132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6A97-FBBF-439A-AB8C-23F71288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216B-91DA-41F8-B83C-7D3C050E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302F-288F-4AC0-9E21-1A11F24D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690C-47FC-4A41-A3AF-5344D37C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49CF-198F-484A-B85C-3B94489C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0F45-9914-4589-BFD2-3C96459B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A443-2FC5-452F-A73C-883FF6DB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2B9C-6CE3-4179-9D9C-44B1B731F3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2790-2FB1-4E3F-ACB9-25935FB5090B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66"/>
                </a:solidFill>
                <a:latin typeface="Tahoma"/>
              </a:rPr>
              <a:t>Ярославль.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</a:rPr>
              <a:t>Ярославль город , который входит в Золотое Кольцо Росс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DSCN1675"/>
          <p:cNvPicPr/>
          <p:nvPr/>
        </p:nvPicPr>
        <p:blipFill>
          <a:blip r:embed="rId1"/>
          <a:stretch/>
        </p:blipFill>
        <p:spPr>
          <a:xfrm>
            <a:off x="108000" y="2637000"/>
            <a:ext cx="1403280" cy="1871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DSCN1746"/>
          <p:cNvPicPr/>
          <p:nvPr/>
        </p:nvPicPr>
        <p:blipFill>
          <a:blip r:embed="rId2"/>
          <a:stretch/>
        </p:blipFill>
        <p:spPr>
          <a:xfrm>
            <a:off x="179280" y="4653000"/>
            <a:ext cx="1297080" cy="1968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DSCN1814"/>
          <p:cNvPicPr/>
          <p:nvPr/>
        </p:nvPicPr>
        <p:blipFill>
          <a:blip r:embed="rId3"/>
          <a:stretch/>
        </p:blipFill>
        <p:spPr>
          <a:xfrm>
            <a:off x="1979640" y="2708280"/>
            <a:ext cx="1338120" cy="1782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DSCN1798"/>
          <p:cNvPicPr/>
          <p:nvPr/>
        </p:nvPicPr>
        <p:blipFill>
          <a:blip r:embed="rId4"/>
          <a:stretch/>
        </p:blipFill>
        <p:spPr>
          <a:xfrm>
            <a:off x="1979640" y="4653000"/>
            <a:ext cx="1368360" cy="2038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DSCN1825"/>
          <p:cNvPicPr/>
          <p:nvPr/>
        </p:nvPicPr>
        <p:blipFill>
          <a:blip r:embed="rId5"/>
          <a:stretch/>
        </p:blipFill>
        <p:spPr>
          <a:xfrm>
            <a:off x="3635280" y="2708280"/>
            <a:ext cx="1224000" cy="1800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DSCN1830"/>
          <p:cNvPicPr/>
          <p:nvPr/>
        </p:nvPicPr>
        <p:blipFill>
          <a:blip r:embed="rId6"/>
          <a:stretch/>
        </p:blipFill>
        <p:spPr>
          <a:xfrm>
            <a:off x="3635280" y="4797360"/>
            <a:ext cx="1224000" cy="1895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DSCN1938"/>
          <p:cNvPicPr/>
          <p:nvPr/>
        </p:nvPicPr>
        <p:blipFill>
          <a:blip r:embed="rId7"/>
          <a:stretch/>
        </p:blipFill>
        <p:spPr>
          <a:xfrm>
            <a:off x="5076720" y="2708280"/>
            <a:ext cx="1366920" cy="1800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DSCN1918 - копия"/>
          <p:cNvPicPr/>
          <p:nvPr/>
        </p:nvPicPr>
        <p:blipFill>
          <a:blip r:embed="rId8"/>
          <a:stretch/>
        </p:blipFill>
        <p:spPr>
          <a:xfrm>
            <a:off x="5076720" y="4869000"/>
            <a:ext cx="1366920" cy="1849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DSCN1948"/>
          <p:cNvPicPr/>
          <p:nvPr/>
        </p:nvPicPr>
        <p:blipFill>
          <a:blip r:embed="rId9"/>
          <a:stretch/>
        </p:blipFill>
        <p:spPr>
          <a:xfrm>
            <a:off x="6659640" y="2708280"/>
            <a:ext cx="1512720" cy="1800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DSCN1954"/>
          <p:cNvPicPr/>
          <p:nvPr/>
        </p:nvPicPr>
        <p:blipFill>
          <a:blip r:embed="rId10"/>
          <a:stretch/>
        </p:blipFill>
        <p:spPr>
          <a:xfrm>
            <a:off x="6804000" y="4869000"/>
            <a:ext cx="14414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История город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Ярославль-первый из русских городов на Волге. Город был построен Ярославом Мудрым, в период его правления 988 – 1010 году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одом основания является 1002  год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121" descr="DSCN1850"/>
          <p:cNvPicPr/>
          <p:nvPr/>
        </p:nvPicPr>
        <p:blipFill>
          <a:blip r:embed="rId1"/>
          <a:stretch/>
        </p:blipFill>
        <p:spPr>
          <a:xfrm>
            <a:off x="3348000" y="2997360"/>
            <a:ext cx="2556000" cy="30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ревнейшие поселения на территории города Ярославля  обнаружены на левом берегу Волги напротив стрелки (слиянии Волги и Которосли.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 17 веке Ярославль был одним из центров Московского государства, а также центром торговл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4" descr="DSCN1846"/>
          <p:cNvPicPr/>
          <p:nvPr/>
        </p:nvPicPr>
        <p:blipFill>
          <a:blip r:embed="rId1"/>
          <a:stretch/>
        </p:blipFill>
        <p:spPr>
          <a:xfrm>
            <a:off x="2700360" y="3284640"/>
            <a:ext cx="347832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Легенда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б основании города существовало сказание о победе  Ярослава Мудрого над медведем. Ярослав выступает как защитник местных жителей , которые  страдали от свирепого медведя , посланного им , как они считали, в наказание Богом  Велесом за принятие христианств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5" descr="i?id=74004811-29-72&amp;n=17"/>
          <p:cNvPicPr/>
          <p:nvPr/>
        </p:nvPicPr>
        <p:blipFill>
          <a:blip r:embed="rId1"/>
          <a:stretch/>
        </p:blipFill>
        <p:spPr>
          <a:xfrm>
            <a:off x="3851280" y="3716280"/>
            <a:ext cx="116208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Спасибо за внимание!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Rectangle 6"/>
          <p:cNvSpPr/>
          <p:nvPr/>
        </p:nvSpPr>
        <p:spPr>
          <a:xfrm flipV="1" rot="10800000">
            <a:off x="6948360" y="5444640"/>
            <a:ext cx="208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дготовила : Моргунова Вер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итель: Дмитриенко Г.П.        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7" descr="DSCN1855"/>
          <p:cNvPicPr/>
          <p:nvPr/>
        </p:nvPicPr>
        <p:blipFill>
          <a:blip r:embed="rId1"/>
          <a:stretch/>
        </p:blipFill>
        <p:spPr>
          <a:xfrm>
            <a:off x="1403280" y="1989000"/>
            <a:ext cx="424836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8T08:43:22Z</dcterms:created>
  <dc:creator>Андрей</dc:creator>
  <dc:description/>
  <dc:language>en-US</dc:language>
  <cp:lastModifiedBy>Галина Петровна</cp:lastModifiedBy>
  <dcterms:modified xsi:type="dcterms:W3CDTF">2013-04-30T08:39:13Z</dcterms:modified>
  <cp:revision>6</cp:revision>
  <dc:subject/>
  <dc:title>Ярославль.</dc:title>
</cp:coreProperties>
</file>