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3351-0CC1-488E-9A5B-960F578DA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784B-1E82-45B5-B5EA-CF5918E53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62DB-75CD-40EF-A93B-74686654E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6F7B-3C76-4A4F-B1C2-8C966FADF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739B0-E0FB-48C8-87F3-88C5D7F2E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DE72D-0125-4193-92C9-CBB2F4424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8C1C8-C443-4001-8874-04DADB9F8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6D0CA-C852-4A51-90F4-93C179FC2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A2265-6473-4923-8C5F-916B50705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01ABC-53BC-4280-A1B0-1E5C4FE99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2A9D7-2EFE-4EAE-AF49-77AC1B3C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75AE-AD3B-4D0F-B5DC-6876F53B0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AB9B6-4623-4F64-A89D-09036A43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D4502-829D-4BCF-BC05-6CB4D558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FB911-3C51-44A5-9A1B-8C28B1E65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A04E7-EB1A-4235-A32F-5F5ED265F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23EDB-4EC4-4852-A400-B1D167A5A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3C48-2D16-4290-BEC0-16589C87A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5402-860C-4849-BE73-1F8ABCD19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A346-9D05-422B-B210-771E5A094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BB00-0EA1-4BEF-B1D0-3EBDBEA32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8694-2D18-4463-B8D7-89163CEF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8C4F-C9A3-4285-BCBB-65CD5265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3F11-06C3-43D7-AC18-4F455186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4B747-FEDA-419D-9E46-862863F97B4D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E69F0-B2B3-4B65-B972-9AE525302193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2"/>
          <a:stretch/>
        </p:blipFill>
        <p:spPr>
          <a:xfrm>
            <a:off x="353880" y="-6480"/>
            <a:ext cx="8240760" cy="2054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3635280" y="2276640"/>
            <a:ext cx="4997520" cy="26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«…и сразу стала на всю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жизнь другом, самым близким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ердцу моему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амым понятным и дорогим человеком…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Рисунок 3" descr="lit15-10.jpg"/>
          <p:cNvPicPr/>
          <p:nvPr/>
        </p:nvPicPr>
        <p:blipFill>
          <a:blip r:embed="rId3"/>
          <a:stretch/>
        </p:blipFill>
        <p:spPr>
          <a:xfrm>
            <a:off x="642960" y="2286000"/>
            <a:ext cx="2724120" cy="409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«…круглая, большеголовая, с огромными глазами и смешным рыхлым носом; она вся чёрная, мягкая и удивительно интересная…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«Когда она улыбалась, её тёмные, как вишни, зрачки расширялись, вспыхивая  невыразимо приятным светом, улыбка весело обнажала белые, крепкие зубы, и, несмотря на множество  морщин в тёмной коже щёк, всё лицо  казалось  молодым и светлым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28760" y="3567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В  описании портрета бабушки М.Горький пользуется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антитезой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 «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темные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… зрачки расширялись, вспыхивая невыразимо приятным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ветом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»,  «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темная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кожа щек» - «лицо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ветлое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», «вся она –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темная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но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ветилась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изнутри – через глаза – неугасимым, веселым и солнечным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ветом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сравнениями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 «слова, похожие на цветы», «темные, как вишни, зрачки», «точно большая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кошк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», «…вся осыпанная черными волосами, огромная и лохматая, она была похожа на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медведицу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…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эпитетами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рисующими как ее внешность, так и характер – «ласковые, яркие, сочные» слова, «белые крепкие зубы», «лицо казалось молодым и светлым», она светилась «неугасимым, веселым и теплым светом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инверсией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перестановкой слов) – «говорила она», «портил его…нос», «до нее как будто спал я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Прямоугольник 3"/>
          <p:cNvSpPr/>
          <p:nvPr/>
        </p:nvSpPr>
        <p:spPr>
          <a:xfrm>
            <a:off x="2286000" y="3051000"/>
            <a:ext cx="4572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2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талантливая сказительница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105160" y="2000160"/>
            <a:ext cx="3787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…начинает рассказывать мн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кие-то диковинные истории 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обрых разбойниках, о святы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людях, о всяком зверье 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чистой силе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казки она сказывает тихо, таинственно,  наклонясь к моему лицу… Говорит точно поёт, и чем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альше , тем складнее звучат  слова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Рисунок 3" descr="lit15-11.jpg"/>
          <p:cNvPicPr/>
          <p:nvPr/>
        </p:nvPicPr>
        <p:blipFill>
          <a:blip r:embed="rId3"/>
          <a:stretch/>
        </p:blipFill>
        <p:spPr>
          <a:xfrm>
            <a:off x="468360" y="2492280"/>
            <a:ext cx="4240080" cy="3033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00040" y="42840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лясунь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«…она плыла по полу бесшумно, как по воздуху, разводя руками, подняв брови, глядя куда-то вдаль тёмными глазами…Бабушка не плясала, а словно рассказывала что-то…так буйно красива и мила становилась она в эти минуты чудесного возвращения к юности!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Танец бабушки - это рассказ о  той многотрудной жизни, которую прожила она, о тех горестях и радостях, которые выпали на её долю, а главное-это рассказ о ней самой ,о её живой душе, полной неисчерпаемой любви к людям, к миру, о душевной стойкости и светлом оптимизм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Рисунок 3" descr="lit15-12.jpg"/>
          <p:cNvPicPr/>
          <p:nvPr/>
        </p:nvPicPr>
        <p:blipFill>
          <a:blip r:embed="rId2"/>
          <a:stretch/>
        </p:blipFill>
        <p:spPr>
          <a:xfrm>
            <a:off x="4714920" y="4143240"/>
            <a:ext cx="3809880" cy="253368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лучшая кружевница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«Бабушка, сидя под окном , быстро плела кружева, весело щёлкал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коклюшки, золотым ежом  блестела на вешнем солнце подушка, густо усеянна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медными булавками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Рисунок 5" descr="lit15-11.jpg"/>
          <p:cNvPicPr/>
          <p:nvPr/>
        </p:nvPicPr>
        <p:blipFill>
          <a:blip r:embed="rId2"/>
          <a:stretch/>
        </p:blipFill>
        <p:spPr>
          <a:xfrm>
            <a:off x="4357800" y="3500280"/>
            <a:ext cx="4240080" cy="30337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250560" y="259920"/>
            <a:ext cx="57718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14440" indent="-38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мужественная, бесстрашная, смелая, решительна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«Она была так же интересна, как и пожар; освещаемая  огнём, который словн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ловил её, чёрную, она металась по двору, всюд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оспевая , всем распоряжаясь, всё видя…о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бросилась под ноги взвившегося коня ,встал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еред ним крестом…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Бабушка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ведет себя как настоящая героиня. В первые же минуты несчастья она преображается, исчезают привычная легкость и уступчивость, на смену приходит смелость, решительность. Она говорит строгим, крепким голосом, дает четкие и нужные распоряжения. Она бросается в огонь, чтобы предотвратить взрыв и уберечь всех от неминуемой смерти. Бабушка просит людей о помощи сердечно и рассудительно. Она останавливает коня, смело бросается ему под ноги и спокойствием и лаской воздействует на животное. Она успевает позаботиться и об Алеше: «Уйди! Задавят, уйди…» И после пожара бабушка, вся обожженная, не чувствует свою боль, а чужую. «Не спишь, боишься? Не бойся…» она находит силы утешать и поддерживать других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Рисунок 3" descr="lit15-13.jpg"/>
          <p:cNvPicPr/>
          <p:nvPr/>
        </p:nvPicPr>
        <p:blipFill>
          <a:blip r:embed="rId3"/>
          <a:stretch/>
        </p:blipFill>
        <p:spPr>
          <a:xfrm>
            <a:off x="6084720" y="476280"/>
            <a:ext cx="2708280" cy="40719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1" descr=""/>
          <p:cNvPicPr/>
          <p:nvPr/>
        </p:nvPicPr>
        <p:blipFill>
          <a:blip r:embed="rId2"/>
          <a:stretch/>
        </p:blipFill>
        <p:spPr>
          <a:xfrm>
            <a:off x="450720" y="36360"/>
            <a:ext cx="8382240" cy="15606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А я себе да тебе - заработаю кусок небойсь!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Мы с тобой не прокормимся,- мы? Велико дело!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Однажды я подсмотрел, как она, держа на ладони мои пятаки, глядела на них и молча плакала, одна мутная слеза висела у неё на носу, ноздреватом, как пемза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и богатство, ни бедность, ни горе, ни радость н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меняют ее. «И сама бабушка, точно из меди лита, 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еизменна», как сама жизн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Рисунок 3" descr="lit15-10.jpg"/>
          <p:cNvPicPr/>
          <p:nvPr/>
        </p:nvPicPr>
        <p:blipFill>
          <a:blip r:embed="rId2"/>
          <a:stretch/>
        </p:blipFill>
        <p:spPr>
          <a:xfrm>
            <a:off x="6357960" y="3048120"/>
            <a:ext cx="2533680" cy="38098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09:51:46Z</dcterms:created>
  <dc:creator>User</dc:creator>
  <dc:description/>
  <dc:language>en-US</dc:language>
  <cp:lastModifiedBy>User</cp:lastModifiedBy>
  <dcterms:modified xsi:type="dcterms:W3CDTF">2010-10-31T08:34:52Z</dcterms:modified>
  <cp:revision>34</cp:revision>
  <dc:subject/>
  <dc:title>Образ бабушки</dc:title>
</cp:coreProperties>
</file>