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3771-C4A8-4D5D-8F06-2E507FEF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D448-DDA4-4C65-9DA2-65172233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4EAF-33E6-4F7A-A4DE-242ED7E5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76D7-196F-4FCF-A0BE-94A86BEB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B3A0-D886-496A-A4A5-036148C4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68C8-34F4-486B-87BD-9D55C5AF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98D0-17C8-464F-BD3E-A6D14900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4E48-2A98-4782-8522-9139E8CA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DAE3-2096-4B54-97D4-879CCED2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F958-D464-4E3B-8F8E-67DA3186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1FF6-690A-48AB-9E83-8A9E2202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9098-9EA7-426E-AFBB-81A0762E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A583-4870-4EFF-914F-DC4F7A27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A9BB-9CE6-46D5-BBC1-28FD96DA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6DC2-B261-48D8-90CB-D04C35CF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A7BA-3F0F-4B71-9300-2BE90403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A6DC-5197-4669-B333-FCBE51D0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BA58-56CF-4F55-9051-8E45CE9E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CBE7-9348-4A25-AB33-EFD6EB3B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D9CC-B528-4C0F-9E75-F6F47CDB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B31E-2289-4E93-82EE-FCE4B731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29C0-E5FD-485B-B0AF-9C17F64A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CA72-A087-4168-824F-1429A943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AF6-EC9B-449E-860C-2C9BE5C7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590E-9996-42D8-8903-6D31F7178A7A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D95F-5FA5-42AA-BAE4-189673229145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353880" y="-6480"/>
            <a:ext cx="824076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635280" y="2276640"/>
            <a:ext cx="4997520" cy="26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«…и сразу стала на всю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изнь другом, самым близки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ердцу моем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амым понятным и дорогим человеком…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Рисунок 3" descr="lit15-10.jpg"/>
          <p:cNvPicPr/>
          <p:nvPr/>
        </p:nvPicPr>
        <p:blipFill>
          <a:blip r:embed="rId3"/>
          <a:stretch/>
        </p:blipFill>
        <p:spPr>
          <a:xfrm>
            <a:off x="642960" y="2286000"/>
            <a:ext cx="2724120" cy="409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«…круглая, большеголовая, с огромными глазами и смешным рыхлым носом; она вся чёрная, мягкая и удивительно интересная…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«Когда она улыбалась, её тёмные, как вишни, зрачки расширялись, вспыхивая  невыразимо приятным светом, улыбка весело обнажала белые, крепкие зубы, и, несмотря на множество  морщин в тёмной коже щёк, всё лицо  казалось  молодым и светлым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356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  описании портрета бабушки М.Горький пользуется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антитезой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«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темны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 зрачки расширялись, вспыхивая невыразимо приятным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вето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»,  «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темная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кожа щек» - «лицо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ветло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», «вся она –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темная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но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ветилась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изнутри – через глаза – неугасимым, веселым и солнечным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вето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сравнениям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– «слова, похожие на цветы», «темные, как вишни, зрачки», «точно большая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ошк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», «…вся осыпанная черными волосами, огромная и лохматая, она была похожа на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медведицу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эпитетам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рисующими как ее внешность, так и характер – «ласковые, яркие, сочные» слова, «белые крепкие зубы», «лицо казалось молодым и светлым», она светилась «неугасимым, веселым и теплым светом»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инверсией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перестановкой слов) – «говорила она», «портил его…нос», «до нее как будто спал я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2286000" y="3051000"/>
            <a:ext cx="457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талантливая сказительниц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105160" y="2000160"/>
            <a:ext cx="3787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…начинает рассказывать мн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кие-то диковинные истории 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брых разбойниках, о святы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юдях, о всяком зверье 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чистой силе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казки она сказывает тихо, таинственно,  наклонясь к моему лицу… Говорит точно поёт, и че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льше , тем складнее звучат  слова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Рисунок 3" descr="lit15-11.jpg"/>
          <p:cNvPicPr/>
          <p:nvPr/>
        </p:nvPicPr>
        <p:blipFill>
          <a:blip r:embed="rId3"/>
          <a:stretch/>
        </p:blipFill>
        <p:spPr>
          <a:xfrm>
            <a:off x="468360" y="2492280"/>
            <a:ext cx="4240080" cy="30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00040" y="4284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лясунь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…она плыла по полу бесшумно, как по воздуху, разводя руками, подняв брови, глядя куда-то вдаль тёмными глазами…Бабушка не плясала, а словно рассказывала что-то…так буйно красива и мила становилась она в эти минуты чудесного возвращения к юности!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анец бабушки - это рассказ о  той многотрудной жизни, которую прожила она, о тех горестях и радостях, которые выпали на её долю, а главное-это рассказ о ней самой ,о её живой душе, полной неисчерпаемой любви к людям, к миру, о душевной стойкости и светлом оптимизм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Рисунок 3" descr="lit15-12.jpg"/>
          <p:cNvPicPr/>
          <p:nvPr/>
        </p:nvPicPr>
        <p:blipFill>
          <a:blip r:embed="rId2"/>
          <a:stretch/>
        </p:blipFill>
        <p:spPr>
          <a:xfrm>
            <a:off x="4714920" y="414324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лучшая кружевниц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Бабушка, сидя под окном , быстро плела кружева, весело щёлка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оклюшки, золотым ежом  блестела на вешнем солнце подушка, густо усеянн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медными булавками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Рисунок 5" descr="lit15-11.jpg"/>
          <p:cNvPicPr/>
          <p:nvPr/>
        </p:nvPicPr>
        <p:blipFill>
          <a:blip r:embed="rId2"/>
          <a:stretch/>
        </p:blipFill>
        <p:spPr>
          <a:xfrm>
            <a:off x="4357800" y="3500280"/>
            <a:ext cx="4240080" cy="30337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50560" y="259920"/>
            <a:ext cx="57718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4440" indent="-38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ужественная, бесстрашная, смелая, решительна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Она была так же интересна, как и пожар; освещаемая  огнём, который слов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ловил её, чёрную, она металась по двору, всюд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спевая , всем распоряжаясь, всё видя…о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бросилась под ноги взвившегося коня ,встал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еред ним крестом…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Бабушк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ведет себя как настоящая героиня. В первые же минуты несчастья она преображается, исчезают привычная легкость и уступчивость, на смену приходит смелость, решительность. Она говорит строгим, крепким голосом, дает четкие и нужные распоряжения. Она бросается в огонь, чтобы предотвратить взрыв и уберечь всех от неминуемой смерти. Бабушка просит людей о помощи сердечно и рассудительно. Она останавливает коня, смело бросается ему под ноги и спокойствием и лаской воздействует на животное. Она успевает позаботиться и об Алеше: «Уйди! Задавят, уйди…» И после пожара бабушка, вся обожженная, не чувствует свою боль, а чужую. «Не спишь, боишься? Не бойся…» она находит силы утешать и поддерживать других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Рисунок 3" descr="lit15-13.jpg"/>
          <p:cNvPicPr/>
          <p:nvPr/>
        </p:nvPicPr>
        <p:blipFill>
          <a:blip r:embed="rId3"/>
          <a:stretch/>
        </p:blipFill>
        <p:spPr>
          <a:xfrm>
            <a:off x="6084720" y="476280"/>
            <a:ext cx="2708280" cy="40719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2"/>
          <a:stretch/>
        </p:blipFill>
        <p:spPr>
          <a:xfrm>
            <a:off x="450720" y="36360"/>
            <a:ext cx="8382240" cy="1560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А я себе да тебе - заработаю кусок небойсь!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Мы с тобой не прокормимся,- мы? Велико дело!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Однажды я подсмотрел, как она, держа на ладони мои пятаки, глядела на них и молча плакала, одна мутная слеза висела у неё на носу, ноздреватом, как пемза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и богатство, ни бедность, ни горе, ни радость н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еняют ее. «И сама бабушка, точно из меди лита,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изменна», как сама жизн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Рисунок 3" descr="lit15-10.jpg"/>
          <p:cNvPicPr/>
          <p:nvPr/>
        </p:nvPicPr>
        <p:blipFill>
          <a:blip r:embed="rId2"/>
          <a:stretch/>
        </p:blipFill>
        <p:spPr>
          <a:xfrm>
            <a:off x="6357960" y="3048120"/>
            <a:ext cx="2533680" cy="3809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9:51:46Z</dcterms:created>
  <dc:creator>User</dc:creator>
  <dc:description/>
  <dc:language>en-US</dc:language>
  <cp:lastModifiedBy>User</cp:lastModifiedBy>
  <dcterms:modified xsi:type="dcterms:W3CDTF">2010-10-31T08:34:52Z</dcterms:modified>
  <cp:revision>34</cp:revision>
  <dc:subject/>
  <dc:title>Образ бабушки</dc:title>
</cp:coreProperties>
</file>