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png" ContentType="image/png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436-DA9C-483E-BF95-EAB67705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240-D5DE-4571-9C6A-D8D5C3E9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177-B4A2-4DD7-89B9-317905D5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CC45-14B1-4609-A811-3E87DDA4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961-B6E3-49C1-A91F-022948A9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43B-5349-4F40-B159-940AFE79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7DA-80F7-4112-9AF4-D2764F1E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1A62-64D4-4B73-BFA8-8594317F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911-F87D-41FF-A4AD-7ABDB368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DFE-5A5E-4099-A76B-56D4B1F9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BDEC-20B0-4EF9-B197-98E280E6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A6D-B619-43A9-A76E-191F56DD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5B6E-BBA6-423D-8EAC-2F381A521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228960" y="2362320"/>
            <a:ext cx="5715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I like to travel. 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Last summer I sat  in the train 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“Moscow-London-Moscow” in a first-class carriage 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and read  book about  Peter Pan and a small fairy. 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I like reading. I think comics and detective stories are much easier to read but I prefer to read adventu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486040" y="228600"/>
            <a:ext cx="3505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фейфер Эрика 4 класс Яро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410080" y="1905120"/>
            <a:ext cx="3943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70480" y="2209680"/>
            <a:ext cx="3773520" cy="5105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1237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It was only my dreams…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The next station is Moscow.  But I never forget this vac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895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I didn’t know that this train  was magic. In the morning 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I took my mirror and saw…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 I am small, slender, hand-sized, and fair-skinned. I am a fairy, 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my name i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Tinker Bell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580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I am Peter Pan's best friend. I’m his sidekick.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It’s a  mischievous boy who can fly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and who never ages.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 Peter Pan spends his never-ending childhood adventuring on the small island of Neverland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as the leader of his gang the Lost Boys,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interacting with mermaids, Indians, fairies, pirates, and occasionally ordinary children from the world outside of Never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2953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I live there with him and with other boys.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 They are my family. We help each other in  different situations. I help them to see our beautiful world from the sk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40384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1964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858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Monotype Corsiva"/>
              </a:rPr>
              <a:t>As a fairy, I can fly </a:t>
            </a:r>
            <a:br>
              <a:rPr sz="4000"/>
            </a:br>
            <a:r>
              <a:rPr b="1" lang="en-US" sz="4000" spc="-1" strike="noStrike">
                <a:solidFill>
                  <a:srgbClr val="6600cc"/>
                </a:solidFill>
                <a:latin typeface="Monotype Corsiva"/>
              </a:rPr>
              <a:t>and produces pixie dust, </a:t>
            </a:r>
            <a:br>
              <a:rPr sz="4000"/>
            </a:br>
            <a:r>
              <a:rPr b="1" lang="en-US" sz="4000" spc="-1" strike="noStrike">
                <a:solidFill>
                  <a:srgbClr val="6600cc"/>
                </a:solidFill>
                <a:latin typeface="Monotype Corsiva"/>
              </a:rPr>
              <a:t>which allows others to f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276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Monotype Corsiva"/>
              </a:rPr>
              <a:t>I am  feisty and hot-tempered (with my body turning fiery red when angered), but also quite cute. I have blue eyes, blond hair worn in bun, and pointy ears. Though I sometimes have a jealous side and can be ill-behaved and vindictive, at other times I am helpful and kind to Peter, for whom I apparently have romantic feelings. The extremes in my personality are explained by the fact that a fairy’s size prevents her from holding more than one feeling at a tim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I have usually on a green strapless dress made of leaves,</a:t>
            </a:r>
            <a:r>
              <a:rPr b="0" lang="ru-RU" sz="32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with a mini skirt, green shoes with white puffs on my toes, my blonde hair in a cute little bu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and clear wings on the back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I’m very pretty!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4038480"/>
            <a:ext cx="2411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I like to eat! I have a sweet tooth. 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I prefer flower pollen. I like 2 balls of yellow pollen for my breakfast. But  my lunch must be  more nourishing. My boys </a:t>
            </a:r>
            <a:r>
              <a:rPr b="1" lang="ru-RU" sz="3600" spc="-1" strike="noStrike">
                <a:solidFill>
                  <a:srgbClr val="6600cc"/>
                </a:solidFill>
                <a:latin typeface="Monotype Corsiva"/>
              </a:rPr>
              <a:t>support me in it</a:t>
            </a: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920" y="3851280"/>
            <a:ext cx="3276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941640"/>
            <a:ext cx="3600360" cy="2916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My favourite holiday is Christmas. 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We are usually at home with “our family” and </a:t>
            </a:r>
            <a:r>
              <a:rPr b="1" lang="ru-RU" sz="3600" spc="-1" strike="noStrike">
                <a:solidFill>
                  <a:srgbClr val="6600cc"/>
                </a:solidFill>
                <a:latin typeface="Monotype Corsiva"/>
              </a:rPr>
              <a:t>give</a:t>
            </a: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 small but nice</a:t>
            </a:r>
            <a:r>
              <a:rPr b="1" lang="ru-RU" sz="3600" spc="-1" strike="noStrike">
                <a:solidFill>
                  <a:srgbClr val="6600cc"/>
                </a:solidFill>
                <a:latin typeface="Monotype Corsiva"/>
              </a:rPr>
              <a:t> presents</a:t>
            </a: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. Peter talk about his adventures. And for all boys is it magic night. They  trust  dreams come tr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2-06-12T11:36:1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