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263-187A-432A-BA10-BCC7D1EC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4BB-AEED-460E-BF97-4B6B93E0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0AF-9630-482A-90C7-AC8A84A6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DB3-1B6A-47E4-A5BE-E9CA59D0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7D6-FAE1-499B-92B2-2E055A3B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B8E-C17D-449E-8472-12F946B7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527-7D24-4BFF-B00B-2BDF4A55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CF6-98C7-40D6-B83E-134FD7F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BF9-9302-490C-A375-1398DE3A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7D1-67C3-4E8E-B04A-48FAA8B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083E-E11D-4650-B45D-4F27E956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42D-3DEC-42DE-9B18-71A9B166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35C4-12F6-48F5-B551-4159B44B8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228960" y="2362320"/>
            <a:ext cx="5715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ke to travel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Last summer I sat  in the train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“Moscow-London-Moscow” in a first-class carriage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and read  book about  Peter Pan and a small fairy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ke reading. I think comics and detective stories are much easier to read but I prefer to read adven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86040" y="228600"/>
            <a:ext cx="3505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фейфер Эрика 4 класс Яр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39434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70480" y="2209680"/>
            <a:ext cx="3773520" cy="5105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1237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t was only my dreams…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The next station is Moscow.  But I never forget this vac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895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didn’t know that this train  was magic. In the morning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took my mirror and saw…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 I am small, slender, hand-sized, and fair-skinned. I am a fairy,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my name 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Tinker Bell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580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 am Peter Pan's best friend. I’m his sidekick.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t’s a  mischievous boy who can fly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and who never ages.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 Peter Pan spends his never-ending childhood adventuring on the small island of Neverland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as the leader of his gang the Lost Boys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nteracting with mermaids, Indians, fairies, pirates, and occasionally ordinary children from the world outside of Never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2295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ve there with him and with other boys.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 They are my family. We help each other in  different situations. I help them to see our beautiful world from the sk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403848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85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Monotype Corsiva"/>
              </a:rPr>
              <a:t>As a fairy, I can fly </a:t>
            </a:r>
            <a:br>
              <a:rPr sz="4000"/>
            </a:br>
            <a:r>
              <a:rPr b="1" lang="en-US" sz="4000" spc="-1" strike="noStrike">
                <a:solidFill>
                  <a:srgbClr val="6600cc"/>
                </a:solidFill>
                <a:latin typeface="Monotype Corsiva"/>
              </a:rPr>
              <a:t>and produces pixie dust, </a:t>
            </a:r>
            <a:br>
              <a:rPr sz="4000"/>
            </a:br>
            <a:r>
              <a:rPr b="1" lang="en-US" sz="4000" spc="-1" strike="noStrike">
                <a:solidFill>
                  <a:srgbClr val="6600cc"/>
                </a:solidFill>
                <a:latin typeface="Monotype Corsiva"/>
              </a:rPr>
              <a:t>which allows others to f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Monotype Corsiva"/>
              </a:rPr>
              <a:t>I am  feisty and hot-tempered (with my body turning fiery red when angered), but also quite cute. I have blue eyes, blond hair worn in bun, and pointy ears. Though I sometimes have a jealous side and can be ill-behaved and vindictive, at other times I am helpful and kind to Peter, for whom I apparently have romantic feelings. The extremes in my personality are explained by the fact that a fairy’s size prevents her from holding more than one feeling at a tim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 have usually on a green strapless dress made of leaves,</a:t>
            </a:r>
            <a:r>
              <a:rPr b="0" lang="ru-RU" sz="3200" spc="-1" strike="noStrike">
                <a:solidFill>
                  <a:srgbClr val="6600cc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with a mini skirt, green shoes with white puffs on my toes, my blonde hair in a cute little bu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and clear wings on the back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Monotype Corsiva"/>
              </a:rPr>
              <a:t>I’m very pretty!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2411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like to eat! I have a sweet tooth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I prefer flower pollen. I like 2 balls of yellow pollen for my breakfast. But  my lunch must be  more nourishing. My boys </a:t>
            </a:r>
            <a:r>
              <a:rPr b="1" lang="ru-RU" sz="3600" spc="-1" strike="noStrike">
                <a:solidFill>
                  <a:srgbClr val="6600cc"/>
                </a:solidFill>
                <a:latin typeface="Monotype Corsiva"/>
              </a:rPr>
              <a:t>support me in it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851280"/>
            <a:ext cx="3276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941640"/>
            <a:ext cx="3600360" cy="2916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My favourite holiday is Christmas. </a:t>
            </a:r>
            <a:br>
              <a:rPr sz="3600"/>
            </a:b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We are usually at home with “our family” and </a:t>
            </a:r>
            <a:r>
              <a:rPr b="1" lang="ru-RU" sz="3600" spc="-1" strike="noStrike">
                <a:solidFill>
                  <a:srgbClr val="6600cc"/>
                </a:solidFill>
                <a:latin typeface="Monotype Corsiva"/>
              </a:rPr>
              <a:t>give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 small but nice</a:t>
            </a:r>
            <a:r>
              <a:rPr b="1" lang="ru-RU" sz="3600" spc="-1" strike="noStrike">
                <a:solidFill>
                  <a:srgbClr val="6600cc"/>
                </a:solidFill>
                <a:latin typeface="Monotype Corsiva"/>
              </a:rPr>
              <a:t> presents</a:t>
            </a:r>
            <a:r>
              <a:rPr b="1" lang="en-US" sz="3600" spc="-1" strike="noStrike">
                <a:solidFill>
                  <a:srgbClr val="6600cc"/>
                </a:solidFill>
                <a:latin typeface="Monotype Corsiva"/>
              </a:rPr>
              <a:t>. Peter talk about his adventures. And for all boys is it magic night. They  trust  dreams come tr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2-06-12T11:36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