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F5B-A677-4600-BF35-A7F1C2B7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813-C39E-4952-9EE3-1233D1A1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D8A-1972-4F7C-BEFD-6B85CE17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DAD-D5CB-4938-964C-683C01B3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BCDC-4B41-4D68-B16A-E053470A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8388-051A-402D-AFF8-599A0183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6940-40B0-4FAF-9D32-CBECCFAC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18D1-8489-4D24-8AFD-9D906A48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4551-1125-4C13-B166-30D8370C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3AF3-7D49-43CA-9ABE-C5E2676D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AE6F-275C-486B-850A-82D66A7C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341-7EFA-4428-B9F4-4EC0ED3C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6942-F989-43E0-A732-30BEFBB0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0EFC-283A-49DD-87FC-94D9D264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0224-3E5D-48A5-B0D8-7E69F793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D5B9-1341-4623-9A1B-39BE8063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926C-BBCA-4797-BC3B-F39E7A5E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6554-1D00-47E0-8DBE-436344BA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33EBB-D0F3-4C38-885C-02F2A4E1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6A5BB-83DA-4439-8D42-48BB2616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93279-55AA-4C9C-8C4C-F83BC616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6CED7-3C2D-4F38-B07F-8E000B1A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F4BE-449D-4567-99CF-971CFA6A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2B6F3-BC6B-4D83-919F-B076F55F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D6CDD-2A72-4AC8-9D95-5D8B2A3C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93AD-EA46-48D4-A74C-CEE75FC9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206B1-253A-4BAA-9E23-25BB3A23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D07D2-A106-4289-924D-AB635A6C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E8885-8EBE-4026-81EB-D175D9E3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45EA9-1F75-4183-8F23-0596B763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C27B5-163D-448B-A25F-0A3D6889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21BE9-9D08-40B5-B405-A9CDCB2B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0A301-30B2-4AB5-98F5-09A7A651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2EB-BB7B-4FC5-9D25-78AAD285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11D06-F3C5-45DC-B67A-2D7CED3F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CA210-2735-44AA-9212-C7B132ED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71EB0-2F07-4E35-A5A9-F9E90F60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E4B8C-0E6D-4966-9E9B-C6738525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4EBA5-2A92-4E17-A5A9-DC4B01F9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AB714-FDCB-40AC-A81F-2D07B1B0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6F22A-2590-4485-9151-A660F769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8C744-5276-49AF-A9D7-E62AB982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4BC26-7F89-4FC5-AF47-65B759AA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25732-D608-4EAC-8F00-50B6C68A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9F9F-0DDC-4307-9472-39740431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6BA1E-0F5C-4634-AB7C-55ACC6B7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BAAEB-78B7-4C47-AB3E-9A1081D9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B2990-7A42-43BE-BAE0-DC7C46FB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2F318-F6FA-4879-A7F2-28F4BA79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10343-D88A-4BC2-B015-1BD02144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1AC21-969B-452B-B5DA-20664A5C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C3923-DEFD-4647-973F-E76508E0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FB861-0195-4E6B-8DC4-92248246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FF204-6970-4470-A22B-04E10112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9F199-0328-4A59-8512-B32BE6B8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2AB-08EA-40F3-A700-AC6D3D12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632F5-781E-4B5F-9604-E0989134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1E1C-8F22-469D-9E8C-A9B22E40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EF77-57A8-40AD-A9AA-055F38A9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C3C7-477C-421A-B141-1E95A40F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2B9A-FF3F-4303-8710-A3361D7B6F8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79D0-861B-466D-8D79-483EF501DA0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DA01-B66E-4D92-A8E7-BA921B58F19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6F51-6FBC-4B5D-B3EF-F5D6DCEDD6E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42BF-492A-49B4-8E12-AEC8ACB0937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52276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635280" y="4436640"/>
            <a:ext cx="5114880" cy="201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2a7c8"/>
                </a:solidFill>
                <a:latin typeface="Trebuchet MS"/>
              </a:rPr>
              <a:t>                                                                                       </a:t>
            </a:r>
            <a:r>
              <a:rPr b="0" lang="ru-RU" sz="2200" spc="-1" strike="noStrike">
                <a:solidFill>
                  <a:srgbClr val="e2a7c8"/>
                </a:solidFill>
                <a:latin typeface="Trebuchet MS"/>
              </a:rPr>
              <a:t>Выполнила ученица        6 «А» класса                        А.Костенко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2a7c8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e2a7c8"/>
                </a:solidFill>
                <a:latin typeface="Trebuchet MS"/>
              </a:rPr>
              <a:t>Проверил учитель      Цырмаева  А.С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2a7c8"/>
                </a:solidFill>
                <a:latin typeface="Trebuchet MS"/>
              </a:rPr>
              <a:t>                                                         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10333080" y="2998800"/>
            <a:ext cx="6235560" cy="7873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395280" y="836280"/>
            <a:ext cx="4176720" cy="56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Вариант 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3b7e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b23b7e"/>
                </a:solidFill>
                <a:latin typeface="Trebuchet MS"/>
              </a:rPr>
              <a:t>Записать   в   виде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б)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0" y="836280"/>
            <a:ext cx="407664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Вариант 2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3b7e"/>
                </a:solidFill>
                <a:latin typeface="Trebuchet MS"/>
              </a:rPr>
              <a:t>бесконечной дроб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)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960" indent="-264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1116000" y="1844640"/>
                <a:ext cx="647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1187280" y="2924280"/>
                <a:ext cx="505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5219640" y="1916280"/>
                <a:ext cx="576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5"/>
              <p:cNvSpPr txBox="1"/>
              <p:nvPr/>
            </p:nvSpPr>
            <p:spPr>
              <a:xfrm>
                <a:off x="5292720" y="2924280"/>
                <a:ext cx="503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Заголовок 1"/>
          <p:cNvSpPr/>
          <p:nvPr/>
        </p:nvSpPr>
        <p:spPr>
          <a:xfrm>
            <a:off x="684360" y="0"/>
            <a:ext cx="81835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Trebuchet MS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609480" y="476280"/>
            <a:ext cx="799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69800" y="334800"/>
            <a:ext cx="7991640" cy="10130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755640" y="691920"/>
            <a:ext cx="818352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)Актуальность выбранной тем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)Це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)Задач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)Введен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)Основная часть: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0.1)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 О происхождении дробей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0.2)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Дроби в Древнем Египт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0.3)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Дроби в Древнем Рим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0.4)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Вавилонские шестидесятеричные дроб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0.5)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Нумерация и дроби в Древней Гре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0.6)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Нумерация и дроби на Рус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0.7)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Дроби в других государствах древно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469800" y="334800"/>
            <a:ext cx="8064720" cy="1231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68360" y="1413000"/>
            <a:ext cx="8183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Актуальность выбранной темы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Эта тема актуальна нам, поскольку мы хотим узнать больше о рациональных числах, заглянуть в их историю происхождения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Цел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)Узнать о рациональных числах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2)Разыскать интересные факты о них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Задач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1) Найти информацию о рациональных числах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2)Сделать доклад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3) Сделать презентацию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4)Рассказать о найденной информации на уроке математик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98440" y="334800"/>
            <a:ext cx="8424720" cy="14446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68360" y="1413000"/>
            <a:ext cx="8183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числитель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-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целое число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а знаменатель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-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натуральное число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Например: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¼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Trebuchet MS"/>
              </a:rPr>
              <a:t>8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rebuchet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Рисунок 6" descr="\frac{m}{n}"/>
          <p:cNvPicPr/>
          <p:nvPr/>
        </p:nvPicPr>
        <p:blipFill>
          <a:blip r:embed="rId2"/>
          <a:stretch/>
        </p:blipFill>
        <p:spPr>
          <a:xfrm>
            <a:off x="684360" y="2205000"/>
            <a:ext cx="1008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334800" y="225360"/>
            <a:ext cx="8352000" cy="1195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503280" y="1267920"/>
            <a:ext cx="8183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0.1)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Дроби в Древнем Египт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ервая дробь, с которой познакомились люди, была, наверное, половина. За ней последовали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rebuchet MS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…, затем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,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rebuchet MS"/>
              </a:rPr>
              <a:t>6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т.д., то есть самые простые дроби, доли целого, называемые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единичными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ли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основными дробями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У них числитель всегда единица. Некоторые народы древности и, в первую очередь, египтяне выражали любую дробь в виде суммы только основных дробей. Лишь значительно позже у греков, затем у индийцев и других народов стали входить в употребление и дроби общего вида, называемые обыкновенными, у которых числитель и знаменатель могут быть любыми натуральными числам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401760" y="334800"/>
            <a:ext cx="8059680" cy="1122480"/>
          </a:xfrm>
          <a:prstGeom prst="rect">
            <a:avLst/>
          </a:prstGeom>
          <a:ln w="0">
            <a:noFill/>
          </a:ln>
        </p:spPr>
      </p:pic>
      <p:pic>
        <p:nvPicPr>
          <p:cNvPr id="232" name="Содержимое 2" descr=""/>
          <p:cNvPicPr/>
          <p:nvPr/>
        </p:nvPicPr>
        <p:blipFill>
          <a:blip r:embed="rId2"/>
          <a:stretch/>
        </p:blipFill>
        <p:spPr>
          <a:xfrm>
            <a:off x="463680" y="1341360"/>
            <a:ext cx="73580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91960" y="176040"/>
            <a:ext cx="9096480" cy="1427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503280" y="1412640"/>
            <a:ext cx="8183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0.4)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Вавилонские шестидесятеричные дроб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роисхождение шестидесятеричной системы счисления у вавилонян связано, как полагают ученые, с тем, что вавилонская денежная и весовая единицы измерения подразделялись в силу исторических условий на 60 равных частей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v 1 талант = 60 мин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v 1 мина = 60 шекел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Шестидесятые доли были привычны в жизни вавилонян. Вот почему они пользовались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шестидесятеричными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дробями, имеющими знаменателем всегда число 60 или его степени: 6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= 3600, 6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= 216000 и т.д. В этом отношении шестидесятеричные дроби можно сравнить с нашими десятичными дробям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91960" y="103320"/>
            <a:ext cx="9096480" cy="1427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79280" y="1484280"/>
            <a:ext cx="8183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0.5)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Нумерация и дроби в Древней Греци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 Древней Греции арифметику - учение об общих свойствах чисел - отделяли от логистики - искусства исчисления. Греки считали, что дроби можно использовать только в логистике. Здесь мы впервые встречаемся с общим понятием дроби вида </a:t>
            </a: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m/n.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Таким образом, можно считать, что впервые область натуральных чисел расширилась до области дополнительных </a:t>
            </a: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рациональных чисел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в Древней Греции не позднее V столетия до н. э. Греки свободно оперировали всеми арифметическими действиями с дробями, но числами их не признавал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 Древней Греции существовали две системы письменной нумерации: </a:t>
            </a: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аттическая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и</a:t>
            </a: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 ионийская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или </a:t>
            </a: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алфавитная.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Они были так названы по древнегреческим областям - Аттика и Иония. В аттической системе, названной также </a:t>
            </a: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геродиановой,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большинство числовых знаков являются первыми буквами греческих соответствующих числительных, например, ГЕNTE (генте или центе) - пять, ДЕКА (дека) - десять и т.д. Эту систему применяли в Аттике до I века н.э., но в других областях Древней Греции она была еще раньше заменена более удобной алфавитной нумерацией, быстро распространившейся по всей Греци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291960" y="30240"/>
            <a:ext cx="9096480" cy="14270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03280" y="1196640"/>
            <a:ext cx="8183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0.6)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Нумерация и дроби на Рус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 русских рукописных арифметиках XVII века дроби называли долями, позднее «ломаными числами». В старых руководствах находим следующие названия дробей на Руси: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половина, полтин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треть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четь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              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полтреть               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полчеть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полполтреть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16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полполчеть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24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полполполтреть (малая треть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32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полполполчеть (малая четь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5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пятин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7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седьмин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baseline="30000">
                <a:solidFill>
                  <a:srgbClr val="000000"/>
                </a:solidFill>
                <a:latin typeface="Trebuchet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10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- десятин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1:39:46Z</dcterms:created>
  <dc:creator>Наташа</dc:creator>
  <dc:description/>
  <dc:language>en-US</dc:language>
  <cp:lastModifiedBy>123</cp:lastModifiedBy>
  <dcterms:modified xsi:type="dcterms:W3CDTF">2013-05-01T09:03:07Z</dcterms:modified>
  <cp:revision>32</cp:revision>
  <dc:subject/>
  <dc:title>Рациональные числа</dc:title>
</cp:coreProperties>
</file>