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D7E-2118-4B87-AE2F-7F6257AC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F72-4B4F-457F-B629-22A6BF60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AFB-E72E-4222-9172-DEE50E63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C0A-46CF-44BA-B9C2-E6754E70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DBA1-F150-4818-9936-EF7E7896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9D5D-77F2-4ADC-A4CD-E50D0328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9D1A-F912-456A-A5FB-8FF4C5F7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5955-DBC4-4AFF-9964-C9FF3B7F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CB6A-8CA3-4568-8BC8-8672AC47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2182-0CDF-42B9-AF79-A60A4B2B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3670-E01B-41C2-AA26-73E3CBD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0CC-93B6-41F6-A76D-28E60B82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FB0B-03D9-4006-BB88-5D89CDE3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E151-9CC7-4980-A65B-F61ACC5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CBB8-91AF-4890-995C-9761A083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02CE-B8A4-4344-A4EF-C16C5CCA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D160-8B67-4DE9-8062-2698BAE6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6E01-82EA-492D-8919-AF00C070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0F07-ADC9-43CA-8F55-7BA62C26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C7AD-8A5B-4A31-B6B4-5E6D928C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DBBD-CD46-4A37-ADF2-BBDE4491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B7DE-D918-428C-AFEC-7316CDBE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B45-58AB-4273-9FD6-90EC7CBD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A7FA-89A3-4988-855A-908575DA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CB7D-F577-47AA-84A1-FB65D03F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7011-D1C5-496A-B811-8CE48FFF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BD3BF-0D74-4021-AC32-8FF16493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C3A7-A4D0-4B8B-996A-6AF2DC61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4ED3-A2A9-4B4C-8A5B-D111BD58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D4C47-1168-446B-96EB-79E0A4B4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69F5C-F30C-43CD-B1B1-7D8C45F4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A0D2F-8682-4ECE-84E5-72B56110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9B531-3C64-4371-9371-8A995AD4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A1E-C84C-4DF7-AAB6-2DA49B1E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65652-2E80-4E75-AB89-18FE3398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DA5EF-B785-44FC-A166-43A25605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820C8-A794-43D9-8D3E-C6603E29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F9AB-21C9-4BB5-A5AC-543E5776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4128-EC1A-4B33-B264-EFD8F9C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CAAA9-12C4-4591-93A8-6078D2EF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BAC0-6BC5-4ED9-9948-081CE299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45E01-80D3-4758-8639-349E7506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0ED9B-FD0D-46CD-A36C-277BA4AD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9B01F-8E61-42BB-8002-39DE5B8E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322-34C1-489F-9BAE-DFD87CC2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35F03-375B-4EED-85B1-D869D918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B2EF7-1D85-4043-836F-5E860219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98E5C-F51F-4E59-ACEE-7812862A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4B493-E074-4B8D-AB80-F3588D50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E477-2A64-4A04-8A57-EDBE30F6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2F57F-0A77-440B-8689-88C00F65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B2D2B-1CA1-4066-9F62-F4C0FCB4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CDA34-D8BD-4F8D-A9DF-E55AF4E8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9469C-90DE-47D3-9B15-6FEC9D73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9784-D356-4A14-914B-E867B26C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03C-6587-414E-BEB7-6F6262EA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5CC04-77A2-4B7E-A112-E0A8A2A9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64B-D9DE-4439-A4D6-0AA7FF77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4AF-6741-4137-AC6D-FEB24E8E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F77-A966-4280-A7DB-C9E182DC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BD60-38F3-47A3-8AA0-93187DD31CA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73A5-EDD5-4605-A7EF-671E112D14C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A736-3656-4F40-91E2-41A8E97A31B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EEC9-EA3A-4817-964A-90AB4C288C3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C064-7A30-46B4-92AA-8D82430369E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35280" y="4436640"/>
            <a:ext cx="5114880" cy="201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2a7c8"/>
                </a:solidFill>
                <a:latin typeface="Trebuchet MS"/>
              </a:rPr>
              <a:t>                                                                                       </a:t>
            </a:r>
            <a:r>
              <a:rPr b="0" lang="ru-RU" sz="2200" spc="-1" strike="noStrike">
                <a:solidFill>
                  <a:srgbClr val="e2a7c8"/>
                </a:solidFill>
                <a:latin typeface="Trebuchet MS"/>
              </a:rPr>
              <a:t>Выполнила ученица        6 «А» класса                        А.Костенко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2a7c8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e2a7c8"/>
                </a:solidFill>
                <a:latin typeface="Trebuchet MS"/>
              </a:rPr>
              <a:t>Проверил учитель      Цырмаева  А.С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2a7c8"/>
                </a:solidFill>
                <a:latin typeface="Trebuchet MS"/>
              </a:rPr>
              <a:t>                                         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10333080" y="2998800"/>
            <a:ext cx="6235560" cy="7873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95280" y="836280"/>
            <a:ext cx="417672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3b7e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b23b7e"/>
                </a:solidFill>
                <a:latin typeface="Trebuchet MS"/>
              </a:rPr>
              <a:t>Записать   в   виде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)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0" y="836280"/>
            <a:ext cx="407664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3b7e"/>
                </a:solidFill>
                <a:latin typeface="Trebuchet MS"/>
              </a:rPr>
              <a:t>бесконечной дроб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)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1116000" y="1844640"/>
                <a:ext cx="647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1187280" y="2924280"/>
                <a:ext cx="505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219640" y="1916280"/>
                <a:ext cx="57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5292720" y="2924280"/>
                <a:ext cx="503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Заголовок 1"/>
          <p:cNvSpPr/>
          <p:nvPr/>
        </p:nvSpPr>
        <p:spPr>
          <a:xfrm>
            <a:off x="684360" y="0"/>
            <a:ext cx="81835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Trebuchet MS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609480" y="476280"/>
            <a:ext cx="799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7991640" cy="1013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755640" y="691920"/>
            <a:ext cx="818352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)Актуальность выбранной тем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)Це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)Задач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)Введ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)Основная часть: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0.1)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О происхождении дробей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2)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Дроби в Древнем Египт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3)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Дроби в Древнем Рим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4)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Вавилонские шестидесятеричные дроб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5)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Нумерация и дроби в Древней Гре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6)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Нумерация и дроби на Рус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7)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Дроби в других государствах древ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8064720" cy="1231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68360" y="1413000"/>
            <a:ext cx="8183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Актуальность выбранной тем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Эта тема актуальна нам, поскольку мы хотим узнать больше о рациональных числах, заглянуть в их историю происхожден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Цел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)Узнать о рациональных числах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)Разыскать интересные факты о них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) Найти информацию о рациональных числах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)Сделать доклад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) Сделать презентацию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4)Рассказать о найденной информации на уроке математик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98440" y="334800"/>
            <a:ext cx="8424720" cy="1444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68360" y="1413000"/>
            <a:ext cx="8183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числитель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-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целое число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 знаменатель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-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натуральное числ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апример: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rebuchet MS"/>
              </a:rPr>
              <a:t>8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Рисунок 6" descr="\frac{m}{n}"/>
          <p:cNvPicPr/>
          <p:nvPr/>
        </p:nvPicPr>
        <p:blipFill>
          <a:blip r:embed="rId2"/>
          <a:stretch/>
        </p:blipFill>
        <p:spPr>
          <a:xfrm>
            <a:off x="684360" y="2205000"/>
            <a:ext cx="100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334800" y="225360"/>
            <a:ext cx="8352000" cy="1195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03280" y="1267920"/>
            <a:ext cx="818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0.1)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Дроби в Древнем Египт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вая дробь, с которой познакомились люди, была, наверное, половина. За ней последовали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…, затем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,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т.д., то есть самые простые дроби, доли целого, называемые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единичными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основными дробям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У них числитель всегда единица. Некоторые народы древности и, в первую очередь, египтяне выражали любую дробь в виде суммы только основных дробей. Лишь значительно позже у греков, затем у индийцев и других народов стали входить в употребление и дроби общего вида, называемые обыкновенными, у которых числитель и знаменатель могут быть любыми натуральными числа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01760" y="334800"/>
            <a:ext cx="8059680" cy="112248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2" descr=""/>
          <p:cNvPicPr/>
          <p:nvPr/>
        </p:nvPicPr>
        <p:blipFill>
          <a:blip r:embed="rId2"/>
          <a:stretch/>
        </p:blipFill>
        <p:spPr>
          <a:xfrm>
            <a:off x="463680" y="1341360"/>
            <a:ext cx="7358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91960" y="176040"/>
            <a:ext cx="9096480" cy="142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503280" y="1412640"/>
            <a:ext cx="8183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0.4)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Вавилонские шестидесятеричные дроб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исхождение шестидесятеричной системы счисления у вавилонян связано, как полагают ученые, с тем, что вавилонская денежная и весовая единицы измерения подразделялись в силу исторических условий на 60 равных частей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v 1 талант = 60 мин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v 1 мина = 60 шекел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Шестидесятые доли были привычны в жизни вавилонян. Вот почему они пользовались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шестидесятеричными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дробями, имеющими знаменателем всегда число 60 или его степени: 6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= 3600, 6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= 216000 и т.д. В этом отношении шестидесятеричные дроби можно сравнить с нашими десятичными дробя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91960" y="103320"/>
            <a:ext cx="9096480" cy="1427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79280" y="1484280"/>
            <a:ext cx="8183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0.5)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Нумерация и дроби в Древней Гре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 Древней Греции арифметику - учение об общих свойствах чисел - отделяли от логистики - искусства исчисления. Греки считали, что дроби можно использовать только в логистике. Здесь мы впервые встречаемся с общим понятием дроби вида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m/n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Таким образом, можно считать, что впервые область натуральных чисел расширилась до области дополнительных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рациональных чисел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в Древней Греции не позднее V столетия до н. э. Греки свободно оперировали всеми арифметическими действиями с дробями, но числами их не признавал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 Древней Греции существовали две системы письменной нумерации: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аттическая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 ионийская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алфавитная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Они были так названы по древнегреческим областям - Аттика и Иония. В аттической системе, названной также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геродиановой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большинство числовых знаков являются первыми буквами греческих соответствующих числительных, например, ГЕNTE (генте или центе) - пять, ДЕКА (дека) - десять и т.д. Эту систему применяли в Аттике до I века н.э., но в других областях Древней Греции она была еще раньше заменена более удобной алфавитной нумерацией, быстро распространившейся по всей Греци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91960" y="30240"/>
            <a:ext cx="9096480" cy="14270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03280" y="1196640"/>
            <a:ext cx="818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0.6)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Нумерация и дроби на Рус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 русских рукописных арифметиках XVII века дроби называли долями, позднее «ломаными числами». В старых руководствах находим следующие названия дробей на Руси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овина, полти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тре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че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треть         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че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полполтре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полче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24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полполтреть (малая треть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полполчеть (малая четь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яти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седьми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десяти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1:39:46Z</dcterms:created>
  <dc:creator>Наташа</dc:creator>
  <dc:description/>
  <dc:language>en-US</dc:language>
  <cp:lastModifiedBy>123</cp:lastModifiedBy>
  <dcterms:modified xsi:type="dcterms:W3CDTF">2013-05-01T09:03:07Z</dcterms:modified>
  <cp:revision>32</cp:revision>
  <dc:subject/>
  <dc:title>Рациональные числа</dc:title>
</cp:coreProperties>
</file>