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9.jpeg" ContentType="image/jpeg"/>
  <Override PartName="/ppt/media/image29.jpeg" ContentType="image/jpeg"/>
  <Override PartName="/ppt/media/image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23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8.wmf" ContentType="image/x-wmf"/>
  <Override PartName="/ppt/media/image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B93B-7E3E-4913-8849-4938E1A6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F665-EE2F-4814-82AD-DF9F6265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0F6-645F-4F4E-93B4-9C771A18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C29-1802-48CA-834B-4CD6715D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7592-7CC8-408B-9F4D-336CFB1B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5772-A0BF-4093-AC4C-B2DC675B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2C2A-19C2-4BD5-8781-8A5AECC8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3FB7-B661-42D5-81E5-4D59D838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9570-0422-44A0-9937-7A870240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AB5E-93DA-4749-B00F-A4C1B74D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FDFD-EDC4-4420-83CE-DF94BD0A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513-BA28-4C53-8A13-7759153F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7AE4-4D0A-4AEB-B400-5BE96A0D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E0A4-7081-4077-88CC-77567A5D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8A5F-A40C-470B-A177-50A87BF2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6050-D268-4B16-A829-4185A238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381D-6F93-45FA-A476-3FDE5615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D52-6849-4137-978C-3E234EC4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7706-10EC-4C96-856B-BBC0F302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957-CD09-43A5-B001-85CDD462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6B11-0B8B-4610-A265-1CC491A2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F58D-7A74-4700-99A8-4A7E27F6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8E57-6776-48D0-9BC2-CB4B9176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509-B0A7-4237-9A10-665EF106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89BB-55FA-4CD4-A496-E88BA0DC46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56B6-7BAA-436B-9585-DBDF25F9AF5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304560"/>
            <a:ext cx="586728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86950"/>
                </a:solidFill>
                <a:latin typeface="Times New Roman"/>
              </a:rPr>
              <a:t>И грянул бой, Полтавский бой!</a:t>
            </a:r>
            <a:endParaRPr b="0" lang="en-US" sz="5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630160" y="4876920"/>
            <a:ext cx="6513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0 июля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– День победы русской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армии под командованием Петра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   над шведами в Полтавском сражении              (1709).</a:t>
            </a:r>
            <a:endParaRPr b="0" lang="en-US" sz="28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514600"/>
            <a:ext cx="54864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янусь честью, что ни за что на свете я не хотел бы переменить Отечество или иметь другую историю, кроме истории наших предков, такой, какой нам Бог её да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.С. Пушк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4725720" cy="525780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9" name=""/>
          <p:cNvSpPr/>
          <p:nvPr/>
        </p:nvSpPr>
        <p:spPr>
          <a:xfrm>
            <a:off x="2930040" y="571500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Полтавская битва 1709 г.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равюра П. Пика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143160" y="228600"/>
            <a:ext cx="40957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14600" y="594360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ператор Пёт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.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еизвестный художни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95480" y="586728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заика М.В. Ломоносова «Полтавская баталия»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V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743200" y="304920"/>
            <a:ext cx="4792680" cy="548640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6400800" cy="477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905120" y="5486400"/>
            <a:ext cx="67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рагмент гравюры Ф. Симона «Полтавское сражение». XIX век. Государственный исторический музей. Москв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6896160" cy="392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4665600" cy="5181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3880" y="5562720"/>
            <a:ext cx="7239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ёт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ьёт за здоровье шведов, побеждённых им в Полтавской битве 1709 г.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удожник К.В. Лебеде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371600" y="304920"/>
            <a:ext cx="1052640" cy="1123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5497560" cy="5380200"/>
          </a:xfrm>
          <a:prstGeom prst="rect">
            <a:avLst/>
          </a:prstGeom>
          <a:ln cap="sq"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786950"/>
            </a:outerShdw>
          </a:effectLst>
        </p:spPr>
      </p:pic>
      <p:sp>
        <p:nvSpPr>
          <p:cNvPr id="121" name=""/>
          <p:cNvSpPr/>
          <p:nvPr/>
        </p:nvSpPr>
        <p:spPr>
          <a:xfrm>
            <a:off x="1905120" y="5867280"/>
            <a:ext cx="67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люстрация к поэме А.С. Пушкина «Полтава».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удожник Ю. Ива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295280" y="228600"/>
            <a:ext cx="1052640" cy="1123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0" t="0" r="16158" b="0"/>
          <a:stretch/>
        </p:blipFill>
        <p:spPr>
          <a:xfrm>
            <a:off x="2666880" y="304920"/>
            <a:ext cx="5000760" cy="559116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24" name=""/>
          <p:cNvSpPr/>
          <p:nvPr/>
        </p:nvSpPr>
        <p:spPr>
          <a:xfrm>
            <a:off x="1905120" y="5943600"/>
            <a:ext cx="67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люстрация к поэме А.С. Пушкина «Полтава».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удожник Ю. Ива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71600" y="304920"/>
            <a:ext cx="1052640" cy="1123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4824360" cy="5556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05120" y="586728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ётр Великий в Полтавской битве.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удожник И.Г. Тоннау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33720" y="990720"/>
            <a:ext cx="6324480" cy="37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ение и закрепление знаний учащихся    о Полтавском сражении, расширение кругозо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чувства гордости и уважения к историческому прошлому Родин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итие интереса к предметам ОБЖ и литерату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6324480" cy="474336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30" name=""/>
          <p:cNvSpPr/>
          <p:nvPr/>
        </p:nvSpPr>
        <p:spPr>
          <a:xfrm>
            <a:off x="1676520" y="54100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рковь, построенная по приказу Петр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память о славном для России дне и в знак своей благодарности к Бог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4246560" cy="472428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4038480" cy="301464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1525320" y="1143000"/>
            <a:ext cx="29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тава. Колонна слав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35812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ая беседка на Ивановой горе. Построена на месте основного бастиона Полтавской креп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5178600" cy="6400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19520" y="228600"/>
            <a:ext cx="5943600" cy="45972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ССКАЯ АРМИЯ В ЭПОХУ ПЕТР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62485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енадер лейб-гвардии Преображенского пол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7080" y="62485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фиц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13640" y="5181480"/>
            <a:ext cx="24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зилёр лейб-гвардии Семёновского пол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828800" y="5790960"/>
            <a:ext cx="45720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495680" y="5638320"/>
            <a:ext cx="15264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6248160" y="5181120"/>
            <a:ext cx="53316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>
            <a:biLevel thresh="50000"/>
            <a:lum bright="-24000"/>
          </a:blip>
          <a:stretch/>
        </p:blipFill>
        <p:spPr>
          <a:xfrm>
            <a:off x="1447920" y="228600"/>
            <a:ext cx="4170240" cy="6324480"/>
          </a:xfrm>
          <a:prstGeom prst="rect">
            <a:avLst/>
          </a:prstGeom>
          <a:ln cap="sq" w="12600">
            <a:solidFill>
              <a:srgbClr val="786950"/>
            </a:solidFill>
            <a:miter/>
          </a:ln>
          <a:effectLst>
            <a:outerShdw dist="107932" dir="2700000" blurRad="0" rotWithShape="0">
              <a:srgbClr val="786950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5943600" y="914400"/>
            <a:ext cx="2895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вая армию, Пёт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вёл подготовку офицеров в Семёновском и Преображенском полках, в которых дворяне проходили службу рядовыми, после чего назначались офицерами в полевые полки. Фузилёр Преображенского полка имел в распоряжении фузию (ружьё) и шпагу. У преображенцев кафтан был зелёны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>
            <a:biLevel thresh="50000"/>
            <a:lum bright="-30000"/>
          </a:blip>
          <a:stretch/>
        </p:blipFill>
        <p:spPr>
          <a:xfrm>
            <a:off x="1600200" y="228600"/>
            <a:ext cx="3624120" cy="5867280"/>
          </a:xfrm>
          <a:prstGeom prst="rect">
            <a:avLst/>
          </a:prstGeom>
          <a:ln cap="sq"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786950"/>
            </a:outerShdw>
          </a:effectLst>
        </p:spPr>
      </p:pic>
      <p:pic>
        <p:nvPicPr>
          <p:cNvPr id="146" name="" descr=""/>
          <p:cNvPicPr/>
          <p:nvPr/>
        </p:nvPicPr>
        <p:blipFill>
          <a:blip r:embed="rId2">
            <a:biLevel thresh="50000"/>
            <a:lum bright="-36000"/>
          </a:blip>
          <a:stretch/>
        </p:blipFill>
        <p:spPr>
          <a:xfrm>
            <a:off x="5410080" y="228600"/>
            <a:ext cx="3429000" cy="3505320"/>
          </a:xfrm>
          <a:prstGeom prst="rect">
            <a:avLst/>
          </a:prstGeom>
          <a:ln cap="sq"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786950"/>
            </a:outerShdw>
          </a:effectLst>
        </p:spPr>
      </p:pic>
      <p:sp>
        <p:nvSpPr>
          <p:cNvPr id="147" name=""/>
          <p:cNvSpPr/>
          <p:nvPr/>
        </p:nvSpPr>
        <p:spPr>
          <a:xfrm>
            <a:off x="1523880" y="6019920"/>
            <a:ext cx="7391520" cy="642600"/>
          </a:xfrm>
          <a:prstGeom prst="rect">
            <a:avLst/>
          </a:prstGeom>
          <a:solidFill>
            <a:srgbClr val="e9e2b6"/>
          </a:solidFill>
          <a:ln cap="sq"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ундирование солдат Армии Петр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твечало европейским образцам. Цвет мундиров соответствовал расцветке знамё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3886200"/>
            <a:ext cx="3581280" cy="2014200"/>
          </a:xfrm>
          <a:prstGeom prst="rect">
            <a:avLst/>
          </a:prstGeom>
          <a:solidFill>
            <a:srgbClr val="e9e2b6"/>
          </a:solidFill>
          <a:ln cap="sq"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валерийский штандарт. Знамя первой роты считалось полковым и имело белый цвет. Цвет остальных выбирал полковник. Срок службы знамён был пять лет, и их потеря считалась позорн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3446640" cy="6019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362320" y="5943600"/>
            <a:ext cx="167616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>
            <a:biLevel thresh="50000"/>
            <a:lum bright="-30000"/>
          </a:blip>
          <a:stretch/>
        </p:blipFill>
        <p:spPr>
          <a:xfrm>
            <a:off x="5181480" y="228600"/>
            <a:ext cx="3548160" cy="6006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315200" y="22860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228600"/>
            <a:ext cx="609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62485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онир - артиллери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62485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мбарди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>
            <a:biLevel thresh="50000"/>
            <a:lum bright="-30000"/>
          </a:blip>
          <a:stretch/>
        </p:blipFill>
        <p:spPr>
          <a:xfrm>
            <a:off x="5899320" y="228600"/>
            <a:ext cx="300348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>
            <a:biLevel thresh="50000"/>
            <a:lum bright="-30000"/>
          </a:blip>
          <a:stretch/>
        </p:blipFill>
        <p:spPr>
          <a:xfrm>
            <a:off x="3352680" y="2895480"/>
            <a:ext cx="2905200" cy="3740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>
            <a:biLevel thresh="50000"/>
            <a:lum bright="-30000"/>
          </a:blip>
          <a:stretch/>
        </p:blipFill>
        <p:spPr>
          <a:xfrm>
            <a:off x="1447920" y="228600"/>
            <a:ext cx="2832120" cy="3581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96252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сский драгун на вооружении имел пистолеты и ружьё, притороченное к седл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5943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ный гренад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3886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валергард – конный гвардеец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>
            <a:biLevel thresh="50000"/>
            <a:lum bright="-30000"/>
          </a:blip>
          <a:stretch/>
        </p:blipFill>
        <p:spPr>
          <a:xfrm>
            <a:off x="5257800" y="228600"/>
            <a:ext cx="337176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>
            <a:biLevel thresh="50000"/>
            <a:lum bright="-30000"/>
          </a:blip>
          <a:stretch/>
        </p:blipFill>
        <p:spPr>
          <a:xfrm>
            <a:off x="1523880" y="228600"/>
            <a:ext cx="3038760" cy="5715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523880" y="6095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сский артиллери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594216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фицер гренадёрской роты Преображенского полка в зелёном кафтане с красными обшлаг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>
            <a:biLevel thresh="50000"/>
            <a:lum bright="-42000"/>
          </a:blip>
          <a:stretch/>
        </p:blipFill>
        <p:spPr>
          <a:xfrm>
            <a:off x="5029200" y="2438280"/>
            <a:ext cx="3882960" cy="4191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934320" y="60199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сская фузея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>
            <a:biLevel thresh="50000"/>
            <a:lum bright="-30000"/>
          </a:blip>
          <a:stretch/>
        </p:blipFill>
        <p:spPr>
          <a:xfrm>
            <a:off x="1371600" y="228600"/>
            <a:ext cx="4495680" cy="3816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09680" y="2286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шкеты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609480"/>
            <a:ext cx="106704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743200" y="609480"/>
            <a:ext cx="45720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48520" y="457200"/>
            <a:ext cx="289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Шведское перо» (комбинация опорной вилки с холодным колюще-режущим оружием)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791320" y="1142640"/>
            <a:ext cx="38088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4419720"/>
            <a:ext cx="30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сская ручная мортира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200040" y="3657600"/>
            <a:ext cx="68580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600200" y="228600"/>
            <a:ext cx="6934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ловарь исторических сл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1371600"/>
            <a:ext cx="7315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енадё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оин отборных пехотных частей, вооружённый гранатами для мета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4419720"/>
            <a:ext cx="7086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рагу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оин-кавалерист, который вёл бой как в конном, так и в пешем строю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2209680"/>
            <a:ext cx="7162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узилё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мушкетёр, вооружённый фузеёй – военным ружьё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2971800"/>
            <a:ext cx="7238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мбарди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звание артиллериста, соответствующее чину ефрейтор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5181480"/>
            <a:ext cx="7238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валергар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оеннослужащий особой кавалерийской гвардейской части русской армии. Исполнял обязанности телохранителя и почётной императорской страж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3809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нони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рядовой артиллер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990720"/>
            <a:ext cx="67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(гренадёр, фузилёр, бомбардир, канонир, драгун, кавалергар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380880"/>
            <a:ext cx="4181400" cy="6191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43000" y="228600"/>
            <a:ext cx="380988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этап Полтавской бит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1752480"/>
            <a:ext cx="2895480" cy="48006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  <a:effectLst>
            <a:outerShdw dist="17819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762120"/>
            <a:ext cx="3124440" cy="59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верная война 1700-1721 г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7 июня 1709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30-35 тыс. чел.  + 4 орудия (28 остались в обозе из-за отсутствия боеприпасов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ёт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42 тыс. чел.                 + 72 оруд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ака шведов в 3 часа ноч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ведами захвачено 2 реду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тальоны генерала Росса (1,5 тыс. чел) разгромл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едывательный отряд Шлиппенбаха попал в пле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возь редуты пробились чуть более 4 тыс. пехотинцев и 52 эскадрона конниц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09680" y="297180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3352680"/>
            <a:ext cx="381240" cy="38124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373392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09680" y="411480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09680" y="4495680"/>
            <a:ext cx="381240" cy="38124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259092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2209680"/>
            <a:ext cx="381240" cy="38124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182880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487692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525780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5638680"/>
            <a:ext cx="381240" cy="38124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4f41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2209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22096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3920" y="2209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2209680"/>
            <a:ext cx="38124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71800" y="2209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2209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259092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297180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3352680"/>
            <a:ext cx="38124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3352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3352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3733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3733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3733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733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411480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47920" y="4114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4114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4495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4495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4495680"/>
            <a:ext cx="38124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4495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4495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4876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487692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4876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90920" y="4876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4876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25780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5257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525780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71800" y="5257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8800" y="5257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5638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90920" y="5638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5638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5638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297180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2209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33526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259092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37339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41148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44956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7920" y="48769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52578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563868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457200"/>
            <a:ext cx="3809880" cy="60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ный гвардеец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ка, на берегу которой русские полки нанесли сокрушительный удар шведской арм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ртиллерис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йна 1700-1721 г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м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андовал швед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гнестрельное оруж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андовал русски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ный пехотинец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раинский гетман, воевавший на стороне шве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дат отборных частей и соединений пехот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оронительное укрепл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144792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828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182880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1828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1828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1828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71800" y="1828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8288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3049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ссворд          «Полтавская битв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09680" y="297180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09680" y="3352680"/>
            <a:ext cx="381240" cy="38124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73392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411480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4495680"/>
            <a:ext cx="381240" cy="38124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09680" y="259092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09680" y="2209680"/>
            <a:ext cx="381240" cy="38124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09680" y="182880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487692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09680" y="5257800"/>
            <a:ext cx="381240" cy="3808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5638680"/>
            <a:ext cx="381240" cy="38124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2209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22096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33920" y="2209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2209680"/>
            <a:ext cx="38124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71800" y="2209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90920" y="2209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1480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3392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52680" y="259092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9092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2590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297180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7180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66680" y="3352680"/>
            <a:ext cx="38124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47920" y="3352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28800" y="3352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90920" y="3733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3733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373392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47920" y="3733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3733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6680" y="411480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47920" y="4114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28800" y="4114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4495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90920" y="4495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4495680"/>
            <a:ext cx="38124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4495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28800" y="4495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4876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487692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71800" y="4876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4876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487692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95680" y="525780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257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33920" y="5257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525780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71800" y="5257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0920" y="5257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5257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5638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90920" y="5638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5638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28800" y="5638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297180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2209680"/>
            <a:ext cx="380880" cy="381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33526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6680" y="259092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920" y="37339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47920" y="2971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41148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44956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48769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47920" y="52578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563868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05520" y="457200"/>
            <a:ext cx="3809880" cy="60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ный гвардеец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ка, на берегу которой русские полки нанесли сокрушительный удар шведской арм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ртиллерис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йна 1700-1721 г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м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андовал швед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гнестрельное оруж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андовал русски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ный пехотинец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раинский гетман, воевавший на стороне швед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дат отборных частей и соединений пехот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оронительное укрепл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09680" y="144792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1828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66680" y="1828800"/>
            <a:ext cx="38124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1828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0" y="1828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90920" y="1828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1828800"/>
            <a:ext cx="380880" cy="380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18288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3049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ссворд          «Полтавская битв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438280" y="914400"/>
            <a:ext cx="5943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ни воинской славы российс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гда отмечает нар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очёте всегда был защитни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очёте всегда патриот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ни славных побед, что сыгра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громную роль для стран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м память потомков сниска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кой России сы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ь подвигу, доблести, слав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б каждый из нас мог отдать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предков дела наших слав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ить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мнить и знать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981080" y="3808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впечатлений учащихся о проведённом уро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71800" y="1752480"/>
            <a:ext cx="579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Я удовлетворён уроком, он был полезен для меня. Я хорошо работал на уроке, получил заслуженную оценку, понимал всё, о чём говорилось и что происходило на урок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71800" y="3352680"/>
            <a:ext cx="571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Урок был интересным, и я принимал в нём активное участие. Урок был в определённой степени полезен для меня. Я отвечал с места, сумел выполнить ряд заданий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71800" y="510552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Пользы от урока я получил мало, не очень понимал, о чём идёт речь. Мне это не очень нужно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1905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3429000"/>
            <a:ext cx="914400" cy="914400"/>
          </a:xfrm>
          <a:prstGeom prst="smileyFace">
            <a:avLst>
              <a:gd name="adj" fmla="val -763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676520" y="5029200"/>
            <a:ext cx="914400" cy="914400"/>
          </a:xfrm>
          <a:prstGeom prst="smileyFace">
            <a:avLst>
              <a:gd name="adj" fmla="val -4652"/>
            </a:avLst>
          </a:prstGeom>
          <a:solidFill>
            <a:srgbClr val="00ff00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4176720" cy="464832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400800" y="380880"/>
            <a:ext cx="2125800" cy="236556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3" name=""/>
          <p:cNvSpPr/>
          <p:nvPr/>
        </p:nvSpPr>
        <p:spPr>
          <a:xfrm>
            <a:off x="6172200" y="292104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дрей Войнаровский был украинским казаком, племянником Мазепы и участником его заговора. После войны бежал в Германию. В 1718 г. выдан российскому правительству и сослан в Якутск, где умер через 2 года. Ему посвящена  поэма Рылеева «Войнаровский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4876920"/>
            <a:ext cx="495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828  году  Пушкин  написал поэму «Полтава». Первая мысль о ее создании возникла  у него при чтении «Войнаровского» Рылеева. Желание изобразить любовную историю старого гетмана Мазепы сподвигло Пушкина на написание этой  поэм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4589640" y="7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sotw9_temp0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3355920" cy="49975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7" name=""/>
          <p:cNvSpPr/>
          <p:nvPr/>
        </p:nvSpPr>
        <p:spPr>
          <a:xfrm>
            <a:off x="3886200" y="-42840"/>
            <a:ext cx="4933800" cy="66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ёт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елик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Романов Пётр Алексеевич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1672 – 17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усский царь с 1682 г., первый Российский император (1721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ающийся государственный и военный деятель России, политик и диплома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существил ряд важнейших преобразований: организация мануфактур, корабельных верфей, оружейных и горных заводов; развитие торговли, создание  Сената, коллегий, создание регулярных Армии и Флота; строительство городов, крепостей; открытие учебных заведений и многое другое.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ложил основы русской школы военного искусства, расширил и укрепил государство. Является автором и редактором первых уставов, ряда военно-исторических и научных трудов. Проявил военные способности во время Северной войны (1700 - 1721), успешно руководил войсками при взятии Нотебурга (1702), в сражениях при Лесной (1708) и под Полтавой (1709). Результативно провел Персидский поход (1722-1723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тельно подавлял попытки реакции препятствовать реформа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248520" cy="4686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943600" y="228600"/>
            <a:ext cx="3062160" cy="2998800"/>
          </a:xfrm>
          <a:prstGeom prst="rect">
            <a:avLst/>
          </a:prstGeom>
          <a:ln cap="sq" w="12600">
            <a:solidFill>
              <a:srgbClr val="c0c0c0"/>
            </a:solidFill>
            <a:miter/>
          </a:ln>
          <a:effectLst>
            <a:outerShdw dist="17819" dir="2700000" blurRad="0" rotWithShape="0">
              <a:srgbClr val="786950"/>
            </a:outerShdw>
          </a:effectLst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3911400" cy="5790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47920" y="228600"/>
            <a:ext cx="380988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этап Полтавской бит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914400"/>
            <a:ext cx="3657600" cy="60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така шведов (22 тыс. чел.)            началась в 9 часов ут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ближение сторон - 9 ми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сская артиллерия произвела 1471 выстре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опашная схватка длилась  около 30 ми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гство швед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гство Карл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итва завершилась к 11 утра страшным разгромом шведов:   9234 чел. убитыми и                  2874 пленны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тери русских: 1345 чел. убитыми и 3290 раненны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533520"/>
            <a:ext cx="3200400" cy="2057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miter/>
          </a:ln>
          <a:effectLst>
            <a:outerShdw dist="17819" dir="2700000" blurRad="0" rotWithShape="0">
              <a:srgbClr val="7869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0" r="15336" b="0"/>
          <a:stretch/>
        </p:blipFill>
        <p:spPr>
          <a:xfrm>
            <a:off x="2352600" y="333360"/>
            <a:ext cx="5589720" cy="6189840"/>
          </a:xfrm>
          <a:prstGeom prst="rect">
            <a:avLst/>
          </a:prstGeom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3105000" cy="5105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410080" y="304920"/>
            <a:ext cx="3071880" cy="5105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05120" y="5715000"/>
            <a:ext cx="67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люстрации к поэме А.С. Пушкина «Полтава».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удожник Ю. Ива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7:29:36Z</dcterms:created>
  <dc:creator>Ник</dc:creator>
  <dc:description/>
  <dc:language>en-US</dc:language>
  <cp:lastModifiedBy>Customer</cp:lastModifiedBy>
  <dcterms:modified xsi:type="dcterms:W3CDTF">2009-07-09T20:24:29Z</dcterms:modified>
  <cp:revision>146</cp:revision>
  <dc:subject/>
  <dc:title>Презентация PowerPoint</dc:title>
</cp:coreProperties>
</file>