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33.jpeg" ContentType="image/jpeg"/>
  <Override PartName="/ppt/media/image21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15.jpeg" ContentType="image/jpeg"/>
  <Override PartName="/ppt/media/image19.jpeg" ContentType="image/jpeg"/>
  <Override PartName="/ppt/media/image29.jpeg" ContentType="image/jpeg"/>
  <Override PartName="/ppt/media/image8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23.png" ContentType="image/png"/>
  <Override PartName="/ppt/media/image13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20.jpeg" ContentType="image/jpeg"/>
  <Override PartName="/ppt/media/image12.png" ContentType="image/png"/>
  <Override PartName="/ppt/media/image31.jpeg" ContentType="image/jpeg"/>
  <Override PartName="/ppt/media/image4.jpeg" ContentType="image/jpeg"/>
  <Override PartName="/ppt/media/image25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36.jpeg" ContentType="image/jpeg"/>
  <Override PartName="/ppt/media/image18.wmf" ContentType="image/x-wmf"/>
  <Override PartName="/ppt/media/image2.jpeg" ContentType="image/jpeg"/>
  <Override PartName="/ppt/media/image35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CA32-BA74-462A-BB05-CB180BEBF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2E52-AEA0-4621-A3EE-DCD3C71D0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388C-9DAB-49DD-B6F5-048D8E239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DCAA-CDF1-4043-AF68-5DEF25176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B2BBD-0FDE-45E4-9CB7-E45135D7B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52FA0-9EE9-4D9B-A6BD-C5027CBF2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907A8-160F-4DDE-978C-5D2C08127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6D033-6B64-4120-878A-06DFCFEC9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24E52-D4FA-40C7-81AD-09A04ACFD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7F71C-5EF1-4865-9F75-B32064EC6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D9C4C-EE90-4400-A780-1D1BF9FF5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1237-5146-4FEC-815C-F37DB4E8C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F567F-12D3-4BB8-BDB3-BAB4475CE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8E636-5F19-4794-898B-DF303E331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80A5A-3C3E-40BB-954E-5ECFA1068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41F58-F023-4B4F-8D7D-1B28939CA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2E798-FE3D-4189-A235-102FC9FA6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2C5E-DFA3-4CF5-B16E-775B788FD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447F-5A0C-4046-BE75-ED2444D1B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85BF-6099-4F8A-AE07-2A327C918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00CB-9D63-4D75-850F-68FBCEB6F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EC39-EBB0-45DC-902D-260F50BC3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3AE6-471C-46F2-8A50-E40CB4288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868D-779A-4851-9681-2E20B964B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53165-5F15-4319-ABDF-C6EAAC69675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19320" cy="6858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8695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1ED6E-2326-4936-B270-1F056E50FC66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695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05320" y="304560"/>
            <a:ext cx="5867280" cy="16002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786950"/>
                </a:solidFill>
                <a:latin typeface="Times New Roman"/>
              </a:rPr>
              <a:t>И грянул бой, Полтавский бой!</a:t>
            </a:r>
            <a:endParaRPr b="0" lang="en-US" sz="5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630160" y="4876920"/>
            <a:ext cx="65134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10 июля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 – День победы русской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 армии под командованием Петра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I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       над шведами в Полтавском сражении              (1709).</a:t>
            </a:r>
            <a:endParaRPr b="0" lang="en-US" sz="28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429000" y="2514600"/>
            <a:ext cx="548640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лянусь честью, что ни за что на свете я не хотел бы переменить Отечество или иметь другую историю, кроме истории наших предков, такой, какой нам Бог её дал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А.С. Пушкин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362320" y="304920"/>
            <a:ext cx="4725720" cy="5257800"/>
          </a:xfrm>
          <a:prstGeom prst="rect">
            <a:avLst/>
          </a:prstGeom>
          <a:ln w="9360">
            <a:solidFill>
              <a:srgbClr val="c0c0c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109" name=""/>
          <p:cNvSpPr/>
          <p:nvPr/>
        </p:nvSpPr>
        <p:spPr>
          <a:xfrm>
            <a:off x="2930040" y="5715000"/>
            <a:ext cx="3231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«Полтавская битва 1709 г.»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Гравюра П. Пикар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143160" y="228600"/>
            <a:ext cx="4095720" cy="5715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14600" y="5943600"/>
            <a:ext cx="525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мператор Пётр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VIII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в.          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Неизвестный художник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2895480" y="586728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озаика М.В. Ломоносова «Полтавская баталия»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XVIII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в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2743200" y="304920"/>
            <a:ext cx="4792680" cy="5486400"/>
          </a:xfrm>
          <a:prstGeom prst="rect">
            <a:avLst/>
          </a:prstGeom>
          <a:ln w="9360">
            <a:solidFill>
              <a:srgbClr val="c0c0c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81080" y="533520"/>
            <a:ext cx="6400800" cy="47782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905120" y="5486400"/>
            <a:ext cx="670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рагмент гравюры Ф. Симона «Полтавское сражение». XIX век. Государственный исторический музей. Москва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676520" y="914400"/>
            <a:ext cx="6896160" cy="3924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819520" y="228600"/>
            <a:ext cx="4665600" cy="51814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523880" y="5562720"/>
            <a:ext cx="7239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ётр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пьёт за здоровье шведов, побеждённых им в Полтавской битве 1709 г.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Художник К.В. Лебеде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1371600" y="304920"/>
            <a:ext cx="1052640" cy="11239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514600" y="380880"/>
            <a:ext cx="5497560" cy="5380200"/>
          </a:xfrm>
          <a:prstGeom prst="rect">
            <a:avLst/>
          </a:prstGeom>
          <a:ln cap="sq" w="12600">
            <a:solidFill>
              <a:srgbClr val="c0c0c0"/>
            </a:solidFill>
            <a:miter/>
          </a:ln>
          <a:effectLst>
            <a:outerShdw dist="17819" dir="2700000" blurRad="0" rotWithShape="0">
              <a:srgbClr val="786950"/>
            </a:outerShdw>
          </a:effectLst>
        </p:spPr>
      </p:pic>
      <p:sp>
        <p:nvSpPr>
          <p:cNvPr id="121" name=""/>
          <p:cNvSpPr/>
          <p:nvPr/>
        </p:nvSpPr>
        <p:spPr>
          <a:xfrm>
            <a:off x="1905120" y="5867280"/>
            <a:ext cx="670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ллюстрация к поэме А.С. Пушкина «Полтава».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Художник Ю. Иван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1295280" y="228600"/>
            <a:ext cx="1052640" cy="11239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rcRect l="0" t="0" r="16158" b="0"/>
          <a:stretch/>
        </p:blipFill>
        <p:spPr>
          <a:xfrm>
            <a:off x="2666880" y="304920"/>
            <a:ext cx="5000760" cy="5591160"/>
          </a:xfrm>
          <a:prstGeom prst="rect">
            <a:avLst/>
          </a:prstGeom>
          <a:ln w="9360">
            <a:solidFill>
              <a:srgbClr val="c0c0c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124" name=""/>
          <p:cNvSpPr/>
          <p:nvPr/>
        </p:nvSpPr>
        <p:spPr>
          <a:xfrm>
            <a:off x="1905120" y="5943600"/>
            <a:ext cx="670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ллюстрация к поэме А.С. Пушкина «Полтава».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Художник Ю. Иван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371600" y="304920"/>
            <a:ext cx="1052640" cy="11239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295280" y="22860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743200" y="304920"/>
            <a:ext cx="4824360" cy="55562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905120" y="5867280"/>
            <a:ext cx="655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ётр Великий в Полтавской битве.              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Художник И.Г. Тоннауе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133720" y="990720"/>
            <a:ext cx="6324480" cy="37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Цели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вторение и закрепление знаний учащихся    о Полтавском сражении, расширение кругозор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ормирование чувства гордости и уважения к историческому прошлому Родины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витие интереса к предметам ОБЖ и литератур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057400" y="457200"/>
            <a:ext cx="6324480" cy="4743360"/>
          </a:xfrm>
          <a:prstGeom prst="rect">
            <a:avLst/>
          </a:prstGeom>
          <a:ln w="9360">
            <a:solidFill>
              <a:srgbClr val="c0c0c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130" name=""/>
          <p:cNvSpPr/>
          <p:nvPr/>
        </p:nvSpPr>
        <p:spPr>
          <a:xfrm>
            <a:off x="1676520" y="5410080"/>
            <a:ext cx="716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Церковь, построенная по приказу Петр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в память о славном для России дне и в знак своей благодарности к Бог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371600" y="1676520"/>
            <a:ext cx="4246560" cy="4724280"/>
          </a:xfrm>
          <a:prstGeom prst="rect">
            <a:avLst/>
          </a:prstGeom>
          <a:ln w="9360">
            <a:solidFill>
              <a:srgbClr val="c0c0c0"/>
            </a:solidFill>
            <a:miter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4876920" y="228600"/>
            <a:ext cx="4038480" cy="3014640"/>
          </a:xfrm>
          <a:prstGeom prst="rect">
            <a:avLst/>
          </a:prstGeom>
          <a:ln w="9360">
            <a:solidFill>
              <a:srgbClr val="c0c0c0"/>
            </a:solidFill>
            <a:miter/>
          </a:ln>
        </p:spPr>
      </p:pic>
      <p:sp>
        <p:nvSpPr>
          <p:cNvPr id="133" name=""/>
          <p:cNvSpPr/>
          <p:nvPr/>
        </p:nvSpPr>
        <p:spPr>
          <a:xfrm>
            <a:off x="1525320" y="1143000"/>
            <a:ext cx="291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лтава. Колонна слав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72200" y="3581280"/>
            <a:ext cx="2743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елая беседка на Ивановой горе. Построена на месте основного бастиона Полтавской крепост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600200" y="228600"/>
            <a:ext cx="5178600" cy="64008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2819520" y="228600"/>
            <a:ext cx="5943600" cy="459720"/>
          </a:xfrm>
          <a:prstGeom prst="rect">
            <a:avLst/>
          </a:prstGeom>
          <a:solidFill>
            <a:srgbClr val="e9e2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УССКАЯ АРМИЯ В ЭПОХУ ПЕТРА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191120" y="6248520"/>
            <a:ext cx="495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ренадер лейб-гвардии Преображенского пол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97080" y="6248520"/>
            <a:ext cx="9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фице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713640" y="5181480"/>
            <a:ext cx="243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фузилёр лейб-гвардии Семёновского пол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1828800" y="5790960"/>
            <a:ext cx="457200" cy="5331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4495680" y="5638320"/>
            <a:ext cx="152640" cy="6858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6248160" y="5181120"/>
            <a:ext cx="533160" cy="3049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>
            <a:biLevel thresh="50000"/>
            <a:lum bright="-24000"/>
          </a:blip>
          <a:stretch/>
        </p:blipFill>
        <p:spPr>
          <a:xfrm>
            <a:off x="1447920" y="228600"/>
            <a:ext cx="4170240" cy="6324480"/>
          </a:xfrm>
          <a:prstGeom prst="rect">
            <a:avLst/>
          </a:prstGeom>
          <a:ln cap="sq" w="12600">
            <a:solidFill>
              <a:srgbClr val="786950"/>
            </a:solidFill>
            <a:miter/>
          </a:ln>
          <a:effectLst>
            <a:outerShdw dist="107932" dir="2700000" blurRad="0" rotWithShape="0">
              <a:srgbClr val="786950"/>
            </a:outerShdw>
          </a:effectLst>
        </p:spPr>
      </p:pic>
      <p:sp>
        <p:nvSpPr>
          <p:cNvPr id="144" name=""/>
          <p:cNvSpPr/>
          <p:nvPr/>
        </p:nvSpPr>
        <p:spPr>
          <a:xfrm>
            <a:off x="5943600" y="914400"/>
            <a:ext cx="28954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здавая армию, Пётр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ввёл подготовку офицеров в Семёновском и Преображенском полках, в которых дворяне проходили службу рядовыми, после чего назначались офицерами в полевые полки. Фузилёр Преображенского полка имел в распоряжении фузию (ружьё) и шпагу. У преображенцев кафтан был зелёны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>
            <a:biLevel thresh="50000"/>
            <a:lum bright="-30000"/>
          </a:blip>
          <a:stretch/>
        </p:blipFill>
        <p:spPr>
          <a:xfrm>
            <a:off x="1600200" y="228600"/>
            <a:ext cx="3624120" cy="5867280"/>
          </a:xfrm>
          <a:prstGeom prst="rect">
            <a:avLst/>
          </a:prstGeom>
          <a:ln cap="sq" w="12600">
            <a:solidFill>
              <a:srgbClr val="c0c0c0"/>
            </a:solidFill>
            <a:miter/>
          </a:ln>
          <a:effectLst>
            <a:outerShdw dist="17819" dir="2700000" blurRad="0" rotWithShape="0">
              <a:srgbClr val="786950"/>
            </a:outerShdw>
          </a:effectLst>
        </p:spPr>
      </p:pic>
      <p:pic>
        <p:nvPicPr>
          <p:cNvPr id="146" name="" descr=""/>
          <p:cNvPicPr/>
          <p:nvPr/>
        </p:nvPicPr>
        <p:blipFill>
          <a:blip r:embed="rId2">
            <a:biLevel thresh="50000"/>
            <a:lum bright="-36000"/>
          </a:blip>
          <a:stretch/>
        </p:blipFill>
        <p:spPr>
          <a:xfrm>
            <a:off x="5410080" y="228600"/>
            <a:ext cx="3429000" cy="3505320"/>
          </a:xfrm>
          <a:prstGeom prst="rect">
            <a:avLst/>
          </a:prstGeom>
          <a:ln cap="sq" w="12600">
            <a:solidFill>
              <a:srgbClr val="c0c0c0"/>
            </a:solidFill>
            <a:miter/>
          </a:ln>
          <a:effectLst>
            <a:outerShdw dist="17819" dir="2700000" blurRad="0" rotWithShape="0">
              <a:srgbClr val="786950"/>
            </a:outerShdw>
          </a:effectLst>
        </p:spPr>
      </p:pic>
      <p:sp>
        <p:nvSpPr>
          <p:cNvPr id="147" name=""/>
          <p:cNvSpPr/>
          <p:nvPr/>
        </p:nvSpPr>
        <p:spPr>
          <a:xfrm>
            <a:off x="1523880" y="6019920"/>
            <a:ext cx="7391520" cy="642600"/>
          </a:xfrm>
          <a:prstGeom prst="rect">
            <a:avLst/>
          </a:prstGeom>
          <a:solidFill>
            <a:srgbClr val="e9e2b6"/>
          </a:solidFill>
          <a:ln cap="sq" w="12600">
            <a:solidFill>
              <a:srgbClr val="c0c0c0"/>
            </a:solidFill>
            <a:miter/>
          </a:ln>
          <a:effectLst>
            <a:outerShdw dist="17819" dir="2700000" blurRad="0" rotWithShape="0">
              <a:srgbClr val="78695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мундирование солдат Армии Петра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отвечало европейским образцам. Цвет мундиров соответствовал расцветке знамён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334120" y="3886200"/>
            <a:ext cx="3581280" cy="2014200"/>
          </a:xfrm>
          <a:prstGeom prst="rect">
            <a:avLst/>
          </a:prstGeom>
          <a:solidFill>
            <a:srgbClr val="e9e2b6"/>
          </a:solidFill>
          <a:ln cap="sq" w="12600">
            <a:solidFill>
              <a:srgbClr val="c0c0c0"/>
            </a:solidFill>
            <a:miter/>
          </a:ln>
          <a:effectLst>
            <a:outerShdw dist="17819" dir="2700000" blurRad="0" rotWithShape="0">
              <a:srgbClr val="78695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авалерийский штандарт. Знамя первой роты считалось полковым и имело белый цвет. Цвет остальных выбирал полковник. Срок службы знамён был пять лет, и их потеря считалась позорной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523880" y="228600"/>
            <a:ext cx="3446640" cy="601992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2362320" y="5943600"/>
            <a:ext cx="1676160" cy="24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>
            <a:biLevel thresh="50000"/>
            <a:lum bright="-30000"/>
          </a:blip>
          <a:stretch/>
        </p:blipFill>
        <p:spPr>
          <a:xfrm>
            <a:off x="5181480" y="228600"/>
            <a:ext cx="3548160" cy="600696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315200" y="228600"/>
            <a:ext cx="13716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181480" y="228600"/>
            <a:ext cx="6098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410080" y="6248520"/>
            <a:ext cx="304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анонир - артиллерис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6248520"/>
            <a:ext cx="304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омбардир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>
            <a:biLevel thresh="50000"/>
            <a:lum bright="-30000"/>
          </a:blip>
          <a:stretch/>
        </p:blipFill>
        <p:spPr>
          <a:xfrm>
            <a:off x="5899320" y="228600"/>
            <a:ext cx="3003480" cy="36576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>
            <a:biLevel thresh="50000"/>
            <a:lum bright="-30000"/>
          </a:blip>
          <a:stretch/>
        </p:blipFill>
        <p:spPr>
          <a:xfrm>
            <a:off x="3352680" y="2895480"/>
            <a:ext cx="2905200" cy="37404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3">
            <a:biLevel thresh="50000"/>
            <a:lum bright="-30000"/>
          </a:blip>
          <a:stretch/>
        </p:blipFill>
        <p:spPr>
          <a:xfrm>
            <a:off x="1447920" y="228600"/>
            <a:ext cx="2832120" cy="35812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629400" y="3962520"/>
            <a:ext cx="2209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усский драгун на вооружении имел пистолеты и ружьё, притороченное к седлу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057400" y="594360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нный гренадер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447920" y="388620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авалергард – конный гвардеец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>
            <a:biLevel thresh="50000"/>
            <a:lum bright="-30000"/>
          </a:blip>
          <a:stretch/>
        </p:blipFill>
        <p:spPr>
          <a:xfrm>
            <a:off x="5257800" y="228600"/>
            <a:ext cx="3371760" cy="57150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>
            <a:biLevel thresh="50000"/>
            <a:lum bright="-30000"/>
          </a:blip>
          <a:stretch/>
        </p:blipFill>
        <p:spPr>
          <a:xfrm>
            <a:off x="1523880" y="228600"/>
            <a:ext cx="3038760" cy="57150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1523880" y="609588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усский артиллерис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334120" y="5942160"/>
            <a:ext cx="358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фицер гренадёрской роты Преображенского полка в зелёном кафтане с красными обшлагам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>
            <a:biLevel thresh="50000"/>
            <a:lum bright="-42000"/>
          </a:blip>
          <a:stretch/>
        </p:blipFill>
        <p:spPr>
          <a:xfrm>
            <a:off x="5029200" y="2438280"/>
            <a:ext cx="3882960" cy="41911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934320" y="601992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усская фузея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>
            <a:biLevel thresh="50000"/>
            <a:lum bright="-30000"/>
          </a:blip>
          <a:stretch/>
        </p:blipFill>
        <p:spPr>
          <a:xfrm>
            <a:off x="1371600" y="228600"/>
            <a:ext cx="4495680" cy="381636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2209680" y="22860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ушкеты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809880" y="609480"/>
            <a:ext cx="1067040" cy="2286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2743200" y="609480"/>
            <a:ext cx="457200" cy="5335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248520" y="457200"/>
            <a:ext cx="2895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«Шведское перо» (комбинация опорной вилки с холодным колюще-режущим оружием)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5791320" y="1142640"/>
            <a:ext cx="380880" cy="1522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76520" y="4419720"/>
            <a:ext cx="3047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усская ручная мортира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200040" y="3657600"/>
            <a:ext cx="685800" cy="7621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600200" y="228600"/>
            <a:ext cx="69343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ловарь исторических слов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600200" y="1371600"/>
            <a:ext cx="73152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ренадёр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– воин отборных пехотных частей, вооружённый гранатами для метания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600200" y="4419720"/>
            <a:ext cx="70866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рагун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– воин-кавалерист, который вёл бой как в конном, так и в пешем строю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00200" y="2209680"/>
            <a:ext cx="71629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фузилёр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– мушкетёр, вооружённый фузеёй – военным ружьём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0200" y="2971800"/>
            <a:ext cx="72388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омбардир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– звание артиллериста, соответствующее чину ефрейтор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5181480"/>
            <a:ext cx="72388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авалергард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– военнослужащий особой кавалерийской гвардейской части русской армии. Исполнял обязанности телохранителя и почётной императорской страж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600200" y="3809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анонир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– рядовой артиллерии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990720"/>
            <a:ext cx="670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(гренадёр, фузилёр, бомбардир, канонир, драгун, кавалергард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648320" y="380880"/>
            <a:ext cx="4181400" cy="61912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143000" y="228600"/>
            <a:ext cx="3809880" cy="459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этап Полтавской битв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648320" y="1752480"/>
            <a:ext cx="2895480" cy="4800600"/>
          </a:xfrm>
          <a:prstGeom prst="ellipse">
            <a:avLst/>
          </a:prstGeom>
          <a:noFill/>
          <a:ln w="12600">
            <a:solidFill>
              <a:srgbClr val="ffffff"/>
            </a:solidFill>
            <a:prstDash val="dash"/>
            <a:miter/>
          </a:ln>
          <a:effectLst>
            <a:outerShdw dist="17819" dir="2700000" blurRad="0" rotWithShape="0">
              <a:srgbClr val="78695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295280" y="762120"/>
            <a:ext cx="3124440" cy="59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еверная война 1700-1721 гг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7 июня 1709 г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арл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II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(30-35 тыс. чел.  + 4 орудия (28 остались в обозе из-за отсутствия боеприпасов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ётр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(42 тыс. чел.                 + 72 орудия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така шведов в 3 часа ноч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Шведами захвачено 2 редут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атальоны генерала Росса (1,5 тыс. чел) разгромлен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зведывательный отряд Шлиппенбаха попал в пле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квозь редуты пробились чуть более 4 тыс. пехотинцев и 52 эскадрона конниц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2209680" y="2971800"/>
            <a:ext cx="381240" cy="38088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54f41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09680" y="3352680"/>
            <a:ext cx="381240" cy="38124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54f41"/>
                </a:solidFill>
                <a:latin typeface="Times New Roman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09680" y="3733920"/>
            <a:ext cx="381240" cy="38088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54f41"/>
                </a:solidFill>
                <a:latin typeface="Times New Roman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209680" y="4114800"/>
            <a:ext cx="381240" cy="38088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54f41"/>
                </a:solidFill>
                <a:latin typeface="Times New Roman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09680" y="4495680"/>
            <a:ext cx="381240" cy="38124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54f41"/>
                </a:solidFill>
                <a:latin typeface="Times New Roman"/>
              </a:rPr>
              <a:t>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09680" y="2590920"/>
            <a:ext cx="381240" cy="38088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54f41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09680" y="2209680"/>
            <a:ext cx="381240" cy="38124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54f41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09680" y="1828800"/>
            <a:ext cx="381240" cy="38088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54f41"/>
                </a:solidFill>
                <a:latin typeface="Times New Roman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209680" y="4876920"/>
            <a:ext cx="381240" cy="38088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54f41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209680" y="5257800"/>
            <a:ext cx="381240" cy="38088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54f41"/>
                </a:solidFill>
                <a:latin typeface="Times New Roman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209680" y="5638680"/>
            <a:ext cx="381240" cy="38124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54f41"/>
                </a:solidFill>
                <a:latin typeface="Times New Roman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828800" y="2209680"/>
            <a:ext cx="380880" cy="3812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447920" y="22096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733920" y="2209680"/>
            <a:ext cx="380880" cy="3812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352680" y="2209680"/>
            <a:ext cx="381240" cy="3812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971800" y="2209680"/>
            <a:ext cx="380880" cy="3812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590920" y="2209680"/>
            <a:ext cx="380880" cy="3812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114800" y="2590920"/>
            <a:ext cx="380880" cy="380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733920" y="2590920"/>
            <a:ext cx="380880" cy="380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352680" y="2590920"/>
            <a:ext cx="381240" cy="380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971800" y="2590920"/>
            <a:ext cx="380880" cy="380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590920" y="2590920"/>
            <a:ext cx="380880" cy="380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447920" y="2590920"/>
            <a:ext cx="380880" cy="380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828800" y="2590920"/>
            <a:ext cx="380880" cy="380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590920" y="2971800"/>
            <a:ext cx="380880" cy="380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114800" y="2971800"/>
            <a:ext cx="380880" cy="380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733920" y="2971800"/>
            <a:ext cx="380880" cy="380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352680" y="2971800"/>
            <a:ext cx="381240" cy="380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2971800"/>
            <a:ext cx="380880" cy="380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828800" y="2971800"/>
            <a:ext cx="380880" cy="380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066680" y="3352680"/>
            <a:ext cx="381240" cy="3812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447920" y="3352680"/>
            <a:ext cx="380880" cy="3812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828800" y="3352680"/>
            <a:ext cx="380880" cy="3812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590920" y="3733920"/>
            <a:ext cx="380880" cy="380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85800" y="3733920"/>
            <a:ext cx="380880" cy="380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066680" y="3733920"/>
            <a:ext cx="381240" cy="380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447920" y="3733920"/>
            <a:ext cx="380880" cy="380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3733920"/>
            <a:ext cx="380880" cy="380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066680" y="4114800"/>
            <a:ext cx="381240" cy="380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447920" y="4114800"/>
            <a:ext cx="380880" cy="380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828800" y="4114800"/>
            <a:ext cx="380880" cy="380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4495680"/>
            <a:ext cx="380880" cy="3812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590920" y="4495680"/>
            <a:ext cx="380880" cy="3812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066680" y="4495680"/>
            <a:ext cx="381240" cy="3812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4495680"/>
            <a:ext cx="380880" cy="3812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828800" y="4495680"/>
            <a:ext cx="380880" cy="3812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733920" y="4876920"/>
            <a:ext cx="380880" cy="380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352680" y="4876920"/>
            <a:ext cx="381240" cy="380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971800" y="4876920"/>
            <a:ext cx="380880" cy="380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590920" y="4876920"/>
            <a:ext cx="380880" cy="380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828800" y="4876920"/>
            <a:ext cx="380880" cy="380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95680" y="5257800"/>
            <a:ext cx="381240" cy="380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114800" y="5257800"/>
            <a:ext cx="380880" cy="380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733920" y="5257800"/>
            <a:ext cx="380880" cy="380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352680" y="5257800"/>
            <a:ext cx="381240" cy="380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71800" y="5257800"/>
            <a:ext cx="380880" cy="380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590920" y="5257800"/>
            <a:ext cx="380880" cy="380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828800" y="5257800"/>
            <a:ext cx="380880" cy="380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971800" y="5638680"/>
            <a:ext cx="380880" cy="3812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590920" y="5638680"/>
            <a:ext cx="380880" cy="3812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447920" y="5638680"/>
            <a:ext cx="380880" cy="3812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828800" y="5638680"/>
            <a:ext cx="380880" cy="3812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066680" y="2971800"/>
            <a:ext cx="3812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114800" y="2209680"/>
            <a:ext cx="380880" cy="3812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85800" y="33526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66680" y="2590920"/>
            <a:ext cx="3812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04920" y="3733920"/>
            <a:ext cx="380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447920" y="2971800"/>
            <a:ext cx="380880" cy="380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85800" y="4114800"/>
            <a:ext cx="380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" y="44956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447920" y="4876920"/>
            <a:ext cx="380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447920" y="5257800"/>
            <a:ext cx="380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066680" y="5638680"/>
            <a:ext cx="3812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105520" y="457200"/>
            <a:ext cx="3809880" cy="605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нный гвардеец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ека, на берегу которой русские полки нанесли сокрушительный удар шведской арми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ртиллерист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ойна 1700-1721 гг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нам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мандовал шведам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гнестрельное оружи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мандовал русским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нный пехотинец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краинский гетман, воевавший на стороне шведов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лдат отборных частей и соединений пехоты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оронительное укреплени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209680" y="1447920"/>
            <a:ext cx="3812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1828800"/>
            <a:ext cx="380880" cy="380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066680" y="1828800"/>
            <a:ext cx="381240" cy="380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447920" y="1828800"/>
            <a:ext cx="380880" cy="380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828800" y="1828800"/>
            <a:ext cx="380880" cy="380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590920" y="1828800"/>
            <a:ext cx="380880" cy="380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971800" y="1828800"/>
            <a:ext cx="380880" cy="380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04920" y="1828800"/>
            <a:ext cx="380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33520" y="304920"/>
            <a:ext cx="396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россворд          «Полтавская битва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500"/>
                            </p:stCondLst>
                            <p:childTnLst>
                              <p:par>
                                <p:cTn id="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500"/>
                            </p:stCondLst>
                            <p:childTnLst>
                              <p:par>
                                <p:cTn id="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3000"/>
                            </p:stCondLst>
                            <p:childTnLst>
                              <p:par>
                                <p:cTn id="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3500"/>
                            </p:stCondLst>
                            <p:childTnLst>
                              <p:par>
                                <p:cTn id="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4000"/>
                            </p:stCondLst>
                            <p:childTnLst>
                              <p:par>
                                <p:cTn id="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4500"/>
                            </p:stCondLst>
                            <p:childTnLst>
                              <p:par>
                                <p:cTn id="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0"/>
                            </p:stCondLst>
                            <p:childTnLst>
                              <p:par>
                                <p:cTn id="10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500"/>
                            </p:stCondLst>
                            <p:childTnLst>
                              <p:par>
                                <p:cTn id="10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2209680" y="2971800"/>
            <a:ext cx="381240" cy="38088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209680" y="3352680"/>
            <a:ext cx="381240" cy="38124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09680" y="3733920"/>
            <a:ext cx="381240" cy="38088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209680" y="4114800"/>
            <a:ext cx="381240" cy="38088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4495680"/>
            <a:ext cx="381240" cy="38124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09680" y="2590920"/>
            <a:ext cx="381240" cy="38088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209680" y="2209680"/>
            <a:ext cx="381240" cy="38124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209680" y="1828800"/>
            <a:ext cx="381240" cy="38088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209680" y="4876920"/>
            <a:ext cx="381240" cy="38088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209680" y="5257800"/>
            <a:ext cx="381240" cy="38088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209680" y="5638680"/>
            <a:ext cx="381240" cy="38124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828800" y="2209680"/>
            <a:ext cx="380880" cy="3812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447920" y="22096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733920" y="2209680"/>
            <a:ext cx="380880" cy="3812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352680" y="2209680"/>
            <a:ext cx="381240" cy="3812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971800" y="2209680"/>
            <a:ext cx="380880" cy="3812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590920" y="2209680"/>
            <a:ext cx="380880" cy="3812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114800" y="2590920"/>
            <a:ext cx="380880" cy="380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733920" y="2590920"/>
            <a:ext cx="380880" cy="380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352680" y="2590920"/>
            <a:ext cx="381240" cy="380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971800" y="2590920"/>
            <a:ext cx="380880" cy="380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590920" y="2590920"/>
            <a:ext cx="380880" cy="380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447920" y="2590920"/>
            <a:ext cx="380880" cy="380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828800" y="2590920"/>
            <a:ext cx="380880" cy="380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590920" y="2971800"/>
            <a:ext cx="380880" cy="380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14800" y="2971800"/>
            <a:ext cx="380880" cy="380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733920" y="2971800"/>
            <a:ext cx="380880" cy="380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352680" y="2971800"/>
            <a:ext cx="381240" cy="380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971800" y="2971800"/>
            <a:ext cx="380880" cy="380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828800" y="2971800"/>
            <a:ext cx="380880" cy="380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066680" y="3352680"/>
            <a:ext cx="381240" cy="3812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447920" y="3352680"/>
            <a:ext cx="380880" cy="3812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828800" y="3352680"/>
            <a:ext cx="380880" cy="3812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590920" y="3733920"/>
            <a:ext cx="380880" cy="380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85800" y="3733920"/>
            <a:ext cx="380880" cy="380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066680" y="3733920"/>
            <a:ext cx="381240" cy="380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447920" y="3733920"/>
            <a:ext cx="380880" cy="380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828800" y="3733920"/>
            <a:ext cx="380880" cy="380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066680" y="4114800"/>
            <a:ext cx="381240" cy="380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447920" y="4114800"/>
            <a:ext cx="380880" cy="380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828800" y="4114800"/>
            <a:ext cx="380880" cy="380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971800" y="4495680"/>
            <a:ext cx="380880" cy="3812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590920" y="4495680"/>
            <a:ext cx="380880" cy="3812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066680" y="4495680"/>
            <a:ext cx="381240" cy="3812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447920" y="4495680"/>
            <a:ext cx="380880" cy="3812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828800" y="4495680"/>
            <a:ext cx="380880" cy="3812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733920" y="4876920"/>
            <a:ext cx="380880" cy="380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4876920"/>
            <a:ext cx="381240" cy="380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971800" y="4876920"/>
            <a:ext cx="380880" cy="380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590920" y="4876920"/>
            <a:ext cx="380880" cy="380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828800" y="4876920"/>
            <a:ext cx="380880" cy="380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495680" y="5257800"/>
            <a:ext cx="381240" cy="380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114800" y="5257800"/>
            <a:ext cx="380880" cy="380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733920" y="5257800"/>
            <a:ext cx="380880" cy="380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352680" y="5257800"/>
            <a:ext cx="381240" cy="380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971800" y="5257800"/>
            <a:ext cx="380880" cy="380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590920" y="5257800"/>
            <a:ext cx="380880" cy="380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828800" y="5257800"/>
            <a:ext cx="380880" cy="380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971800" y="5638680"/>
            <a:ext cx="380880" cy="3812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590920" y="5638680"/>
            <a:ext cx="380880" cy="3812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447920" y="5638680"/>
            <a:ext cx="380880" cy="3812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828800" y="5638680"/>
            <a:ext cx="380880" cy="3812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066680" y="2971800"/>
            <a:ext cx="3812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114800" y="2209680"/>
            <a:ext cx="380880" cy="3812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85800" y="33526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066680" y="2590920"/>
            <a:ext cx="3812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04920" y="3733920"/>
            <a:ext cx="380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447920" y="2971800"/>
            <a:ext cx="380880" cy="380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85800" y="4114800"/>
            <a:ext cx="380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85800" y="44956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447920" y="4876920"/>
            <a:ext cx="380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447920" y="5257800"/>
            <a:ext cx="380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066680" y="5638680"/>
            <a:ext cx="3812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105520" y="457200"/>
            <a:ext cx="3809880" cy="605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нный гвардеец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ека, на берегу которой русские полки нанесли сокрушительный удар шведской арми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ртиллерист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ойна 1700-1721 гг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нам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мандовал шведам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гнестрельное оружи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мандовал русским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нный пехотинец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краинский гетман, воевавший на стороне шведов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лдат отборных частей и соединений пехоты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оронительное укреплени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209680" y="1447920"/>
            <a:ext cx="3812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85800" y="1828800"/>
            <a:ext cx="380880" cy="380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066680" y="1828800"/>
            <a:ext cx="381240" cy="380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447920" y="1828800"/>
            <a:ext cx="380880" cy="380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828800" y="1828800"/>
            <a:ext cx="380880" cy="380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590920" y="1828800"/>
            <a:ext cx="380880" cy="380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971800" y="1828800"/>
            <a:ext cx="380880" cy="380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04920" y="1828800"/>
            <a:ext cx="380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33520" y="304920"/>
            <a:ext cx="396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россворд          «Полтавская битва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" descr=""/>
          <p:cNvPicPr/>
          <p:nvPr/>
        </p:nvPicPr>
        <p:blipFill>
          <a:blip r:embed="rId1"/>
          <a:stretch/>
        </p:blipFill>
        <p:spPr>
          <a:xfrm>
            <a:off x="1219320" y="0"/>
            <a:ext cx="7924680" cy="685800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/>
          <p:nvPr/>
        </p:nvSpPr>
        <p:spPr>
          <a:xfrm>
            <a:off x="2438280" y="914400"/>
            <a:ext cx="59436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Дни воинской славы российско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сегда отмечает народ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 почёте всегда был защитник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 почёте всегда патриот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Дни славных побед, что сыграл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громную роль для страны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Там память потомков снискал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еликой России сын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Дань подвигу, доблести, слав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Чтоб каждый из нас мог отдать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Ты предков дела наших славны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язан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чтить,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мнить и знать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1981080" y="380880"/>
            <a:ext cx="655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ценка впечатлений учащихся о проведённом урок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971800" y="1752480"/>
            <a:ext cx="5791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«Я удовлетворён уроком, он был полезен для меня. Я хорошо работал на уроке, получил заслуженную оценку, понимал всё, о чём говорилось и что происходило на уроке»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971800" y="3352680"/>
            <a:ext cx="5715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«Урок был интересным, и я принимал в нём активное участие. Урок был в определённой степени полезен для меня. Я отвечал с места, сумел выполнить ряд заданий»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971800" y="5105520"/>
            <a:ext cx="5638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«Пользы от урока я получил мало, не очень понимал, о чём идёт речь. Мне это не очень нужно»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600200" y="190512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cap="sq"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78695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600200" y="3429000"/>
            <a:ext cx="914400" cy="914400"/>
          </a:xfrm>
          <a:prstGeom prst="smileyFace">
            <a:avLst>
              <a:gd name="adj" fmla="val -763"/>
            </a:avLst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78695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676520" y="5029200"/>
            <a:ext cx="914400" cy="914400"/>
          </a:xfrm>
          <a:prstGeom prst="smileyFace">
            <a:avLst>
              <a:gd name="adj" fmla="val -4652"/>
            </a:avLst>
          </a:prstGeom>
          <a:solidFill>
            <a:srgbClr val="00ff00"/>
          </a:solidFill>
          <a:ln cap="sq"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78695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447920" y="228600"/>
            <a:ext cx="4176720" cy="4648320"/>
          </a:xfrm>
          <a:prstGeom prst="rect">
            <a:avLst/>
          </a:prstGeom>
          <a:ln w="9360">
            <a:solidFill>
              <a:srgbClr val="c0c0c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6400800" y="380880"/>
            <a:ext cx="2125800" cy="2365560"/>
          </a:xfrm>
          <a:prstGeom prst="rect">
            <a:avLst/>
          </a:prstGeom>
          <a:ln w="9360">
            <a:solidFill>
              <a:srgbClr val="c0c0c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93" name=""/>
          <p:cNvSpPr/>
          <p:nvPr/>
        </p:nvSpPr>
        <p:spPr>
          <a:xfrm>
            <a:off x="6172200" y="2921040"/>
            <a:ext cx="2743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ндрей Войнаровский был украинским казаком, племянником Мазепы и участником его заговора. После войны бежал в Германию. В 1718 г. выдан российскому правительству и сослан в Якутск, где умер через 2 года. Ему посвящена  поэма Рылеева «Войнаровский»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371600" y="4876920"/>
            <a:ext cx="4952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1828  году  Пушкин  написал поэму «Полтава». Первая мысль о ее создании возникла  у него при чтении «Войнаровского» Рылеева. Желание изобразить любовную историю старого гетмана Мазепы сподвигло Пушкина на написание этой  поэмы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-4589640" y="74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msotw9_temp0" descr=""/>
          <p:cNvPicPr/>
          <p:nvPr/>
        </p:nvPicPr>
        <p:blipFill>
          <a:blip r:embed="rId1"/>
          <a:stretch/>
        </p:blipFill>
        <p:spPr>
          <a:xfrm>
            <a:off x="457200" y="914400"/>
            <a:ext cx="3355920" cy="499752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97" name=""/>
          <p:cNvSpPr/>
          <p:nvPr/>
        </p:nvSpPr>
        <p:spPr>
          <a:xfrm>
            <a:off x="3886200" y="-42840"/>
            <a:ext cx="4933800" cy="66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Пётр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Великий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Романов Пётр Алексеевич)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1672 – 172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Русский царь с 1682 г., первый Российский император (1721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Выдающийся государственный и военный деятель России, политик и дипломат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Осуществил ряд важнейших преобразований: организация мануфактур, корабельных верфей, оружейных и горных заводов; развитие торговли, создание  Сената, коллегий, создание регулярных Армии и Флота; строительство городов, крепостей; открытие учебных заведений и многое другое.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Заложил основы русской школы военного искусства, расширил и укрепил государство. Является автором и редактором первых уставов, ряда военно-исторических и научных трудов. Проявил военные способности во время Северной войны (1700 - 1721), успешно руководил войсками при взятии Нотебурга (1702), в сражениях при Лесной (1708) и под Полтавой (1709). Результативно провел Персидский поход (1722-1723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Решительно подавлял попытки реакции препятствовать реформам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523880" y="1752480"/>
            <a:ext cx="6248520" cy="46864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5943600" y="228600"/>
            <a:ext cx="3062160" cy="2998800"/>
          </a:xfrm>
          <a:prstGeom prst="rect">
            <a:avLst/>
          </a:prstGeom>
          <a:ln cap="sq" w="12600">
            <a:solidFill>
              <a:srgbClr val="c0c0c0"/>
            </a:solidFill>
            <a:miter/>
          </a:ln>
          <a:effectLst>
            <a:outerShdw dist="17819" dir="2700000" blurRad="0" rotWithShape="0">
              <a:srgbClr val="786950"/>
            </a:outerShdw>
          </a:effectLst>
        </p:spPr>
      </p:pic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876920" y="533520"/>
            <a:ext cx="3911400" cy="57909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447920" y="228600"/>
            <a:ext cx="3809880" cy="459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этап Полтавской битв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219320" y="914400"/>
            <a:ext cx="3657600" cy="60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така шведов (22 тыс. чел.)            началась в 9 часов утр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ближение сторон - 9 мин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усская артиллерия произвела 1471 выстре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укопашная схватка длилась  около 30 мин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егство швед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егство Карла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итва завершилась к 11 утра страшным разгромом шведов:   9234 чел. убитыми и                  2874 пленным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тери русских: 1345 чел. убитыми и 3290 раненным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533520"/>
            <a:ext cx="3200400" cy="2057400"/>
          </a:xfrm>
          <a:prstGeom prst="ellipse">
            <a:avLst/>
          </a:prstGeom>
          <a:noFill/>
          <a:ln w="12600">
            <a:solidFill>
              <a:srgbClr val="ffffff"/>
            </a:solidFill>
            <a:prstDash val="dash"/>
            <a:miter/>
          </a:ln>
          <a:effectLst>
            <a:outerShdw dist="17819" dir="2700000" blurRad="0" rotWithShape="0">
              <a:srgbClr val="78695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rcRect l="0" t="0" r="15336" b="0"/>
          <a:stretch/>
        </p:blipFill>
        <p:spPr>
          <a:xfrm>
            <a:off x="2352600" y="333360"/>
            <a:ext cx="5589720" cy="6189840"/>
          </a:xfrm>
          <a:prstGeom prst="rect">
            <a:avLst/>
          </a:prstGeom>
          <a:ln w="9360">
            <a:solidFill>
              <a:srgbClr val="c0c0c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05120" y="304920"/>
            <a:ext cx="3105000" cy="51051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5410080" y="304920"/>
            <a:ext cx="3071880" cy="51051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905120" y="5715000"/>
            <a:ext cx="670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ллюстрации к поэме А.С. Пушкина «Полтава».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Художник Ю. Иван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7T17:29:36Z</dcterms:created>
  <dc:creator>Ник</dc:creator>
  <dc:description/>
  <dc:language>en-US</dc:language>
  <cp:lastModifiedBy>Customer</cp:lastModifiedBy>
  <dcterms:modified xsi:type="dcterms:W3CDTF">2009-07-09T20:24:29Z</dcterms:modified>
  <cp:revision>146</cp:revision>
  <dc:subject/>
  <dc:title>Презентация PowerPoint</dc:title>
</cp:coreProperties>
</file>