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63D-3070-4878-8896-7252FC57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F6B-FFBC-4355-8AEE-F6F1BFF1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F22-715C-4662-ADEB-950B624E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83D-F696-4624-A37C-43526B84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4BA4-E8C8-4574-8594-BF7A3C12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5BBF-448B-480A-97BE-51B34092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F7FD-8BE0-4718-85E9-4F1B8C7A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752D-98A9-4B08-B986-8A2229A0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76CC-5C62-4590-8BE6-D4565170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E5A3-02CC-4B6D-8C5F-6A2CA431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46C5-1518-4D08-9767-496C140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DBE-042A-492B-8C90-BA1329F3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49EA-CDB4-40B6-8DF4-9488C21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6F52-E235-48C5-9F92-B77E1585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07F4-7835-4E99-8EE3-00C229F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B797-5262-41E1-BD81-7ACDBF26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C4A5-8DFF-41DD-827A-7C66FBA1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F458-D81F-40D6-A78C-578F6A82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394A-313E-4495-9CFE-743D5D5A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5720-2904-44B4-A50D-1A7C93CF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C8C5-E56A-47FA-BC78-E615099B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BCC9-03C7-4795-918E-8141FDF6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4D4-6E57-4B1D-BFA6-7D8353F3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D978-3E7E-4F0F-AEAB-91A26FF6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AEF7-188F-44EF-8985-8582EB49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4DAE-BFB6-4A88-ABD8-FB672888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6501-5E1A-4202-BAEF-A0445AD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ABE3-AD86-4BE3-9B5B-E610C6C4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D71E-CAC4-4D1C-8B1A-3DD2C070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26D6-85E4-4C54-AB10-3CBDCCE2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B34E-352F-4700-ADE1-AC3D61B5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3DA7-EFA8-4134-B111-9B42E15B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2F31-DCF4-4A52-BB55-56C05FCE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F12-4104-45FD-9AF5-E48471C3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E462-06C7-4D62-ACF4-EC49F3D8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BC5AE-A196-42CF-B170-B337CBCD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89D4-21FB-49BF-9792-59C6AA26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E91B-02FC-4AE1-928A-C7800F6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B650-F891-48D5-8A2F-980E93E8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1856-914E-47AC-8D31-8367AF84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F9C6-FEA2-46E1-9A3A-9C1013FB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B48C-67C2-4443-90C1-74889C80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C820-52FA-4F07-AD32-4163F8FD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0BE-7961-4981-960C-3EA854D5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760-D726-4E0F-A226-4CD9D344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1C6-37B1-4DE7-8E7F-F6268DD3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62E-D150-43F4-9CE3-62AA8E26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88E-2166-4611-9E4F-EA74FDA3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4CF-0A2E-433A-9FF6-FC9755C1AC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8B83-66BC-4AA6-990C-19EBD9D8E5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4055-9200-4C0E-B3ED-86B4CA6784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C95-E8AF-4178-802D-6AFDE8CFE5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1274760"/>
            <a:ext cx="8286840" cy="25718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Урок русского  языка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4000" spc="-1" strike="noStrike">
                <a:solidFill>
                  <a:srgbClr val="262626"/>
                </a:solidFill>
                <a:latin typeface="Comic Sans MS"/>
              </a:rPr>
              <a:t>Обобщение знаний о падежах имён существительных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3029040" y="5105520"/>
            <a:ext cx="6114960" cy="17524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0000"/>
                </a:solidFill>
                <a:latin typeface="Comic Sans MS"/>
              </a:rPr>
              <a:t>Чернова Юлия Владимировн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0000"/>
                </a:solidFill>
                <a:latin typeface="Comic Sans MS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0000"/>
                </a:solidFill>
                <a:latin typeface="Comic Sans MS"/>
              </a:rPr>
              <a:t>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0000"/>
                </a:solidFill>
                <a:latin typeface="Comic Sans MS"/>
              </a:rPr>
              <a:t>МОУ «СОШ №19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63640" y="404280"/>
            <a:ext cx="5040360" cy="792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cc"/>
                </a:solidFill>
                <a:latin typeface="Comic Sans MS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2700000" y="1484280"/>
            <a:ext cx="554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год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лле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рог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еж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и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ж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ё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лудь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osen-derev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Октябрьская осе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Comic Sans MS"/>
              </a:rPr>
              <a:t>Восстанови 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8501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етер охапками швыряет листву под ноги прохож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 деревьев осыпаются листья и устилают зем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дворе стоит золотая осен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</a:rPr>
              <a:t>МОЛОДЦЫ !</a:t>
            </a:r>
            <a:br>
              <a:rPr sz="8000"/>
            </a:br>
            <a:br>
              <a:rPr sz="6000"/>
            </a:b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ff00"/>
                </a:solidFill>
                <a:latin typeface="Times New Roman"/>
              </a:rPr>
              <a:t>СПАСИБО</a:t>
            </a:r>
            <a:r>
              <a:rPr b="1" lang="ru-RU" sz="6000" spc="-1" strike="noStrike">
                <a:solidFill>
                  <a:srgbClr val="00ff00"/>
                </a:solidFill>
                <a:latin typeface="Times New Roman"/>
              </a:rPr>
              <a:t>  </a:t>
            </a:r>
            <a:br>
              <a:rPr sz="6000"/>
            </a:br>
            <a:r>
              <a:rPr b="1" lang="ru-RU" sz="6000" spc="-1" strike="noStrike">
                <a:solidFill>
                  <a:srgbClr val="00ff00"/>
                </a:solidFill>
                <a:latin typeface="Times New Roman"/>
              </a:rPr>
              <a:t>ЗА   УРОК !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4:27Z</dcterms:created>
  <dc:creator>Димок и Миля</dc:creator>
  <dc:description/>
  <dc:language>en-US</dc:language>
  <cp:lastModifiedBy>11</cp:lastModifiedBy>
  <dcterms:modified xsi:type="dcterms:W3CDTF">2013-05-01T06:38:42Z</dcterms:modified>
  <cp:revision>9</cp:revision>
  <dc:subject/>
  <dc:title>Проверь себя:</dc:title>
</cp:coreProperties>
</file>