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ED95-12DC-44CA-81DB-03B535228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0590-E4A2-4CB3-8D62-593734A0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FB41-B70D-4B4F-863D-496F3293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111E-1EDA-4AC2-898E-91DCF9353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2ECA-60C8-4F80-8993-A1B8BE398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15EB-FD2A-4E71-B43A-7890D014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978B-B52C-445B-AC44-E2785832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3D58-5DC1-47AF-9E2C-57C86ECA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D609-5F56-405D-8D57-28EF61F7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D242-53E2-4E3D-893D-B5ECE27B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209D-911A-4201-AB11-04179F98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6905-0D2A-4F9B-B614-B40E77E6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349C-8E68-41AC-A27E-458F1E59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4B2F-A3FA-4201-B92E-ECE805FF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C8DC-5F5B-4407-AC14-2D4B793A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28E0-B643-4E4F-AC25-238AD5059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8151-A396-422F-8420-11F56667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019B4-B0B7-43BF-9D5F-8EAFE3865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C5A75-EDFD-4E58-A896-85F96290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C1BF1-1253-4FE9-A7BD-F966252F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6F5E2-8732-4042-B417-B30F3D16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7A060-9ABD-4F0F-8BF4-57CD4E99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1B6D-C201-42A8-A2D2-11B5F67C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9E3F3-DB31-457E-A366-BA2791C4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3B2F6-C005-449D-A63F-C1E67F41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9FF1F-1562-4551-8412-304A8A9F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A583A-87EF-4E7F-A5D7-A5053E09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1030F-1383-49EB-9A3D-61BC302C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3AF21-2B15-40D1-8243-8D2664226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26321-2A66-4DE0-A7AB-3DCFD65E1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A1EC5-0521-40E9-A5A4-F7E15A963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6C3C2-8419-4CD8-AF73-33046458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8E4E6-0BB6-45FA-BD27-16F57C38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69EC-DA79-4274-A067-5EB735F6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E8BEB-5EDD-40B6-97E6-5C662FF2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4D353-1915-4CAD-B8AD-24E1EE86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58128-495A-478E-BD8D-E1B7C325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88D86-8D0F-4B53-839F-89538B75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3FD18-E404-4C7A-8275-751E316A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E58BB-F83F-4908-B4BB-3B350177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FB96A-845D-4F2D-A146-B4B63FD3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BDC55-5E6A-420B-B43E-35AAC8E3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84DF4-AE89-4B8D-B60D-1662540E6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A1F9-63AA-4B1D-B36C-E3375769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EC5C-28B7-421C-9A82-CCB5A5B0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DF80-2E0A-4274-8D1D-723CE11D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8585-729B-46AD-A7DD-10F11664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470F-1604-49CE-B345-B625C3FF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E251-2F8B-42A1-B8A2-A2AB765575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8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FB16-E5A6-4EAB-A4E6-516A973589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4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5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5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5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5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6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6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3008-BAB1-4327-99F9-B008032309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3983-41E6-4CEE-B59F-CD95C951A36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000" y="1274760"/>
            <a:ext cx="8286840" cy="25718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Урок русского  языка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1" lang="ru-RU" sz="4000" spc="-1" strike="noStrike">
                <a:solidFill>
                  <a:srgbClr val="262626"/>
                </a:solidFill>
                <a:latin typeface="Comic Sans MS"/>
              </a:rPr>
              <a:t>Обобщение знаний о падежах имён существительных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3029040" y="5105520"/>
            <a:ext cx="6114960" cy="17524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f0000"/>
                </a:solidFill>
                <a:latin typeface="Comic Sans MS"/>
              </a:rPr>
              <a:t>Чернова Юлия Владимировна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f0000"/>
                </a:solidFill>
                <a:latin typeface="Comic Sans MS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f0000"/>
                </a:solidFill>
                <a:latin typeface="Comic Sans MS"/>
              </a:rPr>
              <a:t>высшей квалификационной категор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f0000"/>
                </a:solidFill>
                <a:latin typeface="Comic Sans MS"/>
              </a:rPr>
              <a:t>МОУ «СОШ №19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563640" y="404280"/>
            <a:ext cx="5040360" cy="792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cc"/>
                </a:solidFill>
                <a:latin typeface="Comic Sans MS"/>
              </a:rPr>
              <a:t>Проверь себя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2700000" y="1484280"/>
            <a:ext cx="5543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п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Comic Sans MS"/>
              </a:rPr>
              <a:t>о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год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Comic Sans MS"/>
              </a:rPr>
              <a:t>а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лле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д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Comic Sans MS"/>
              </a:rPr>
              <a:t>о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рог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еж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Comic Sans MS"/>
              </a:rPr>
              <a:t>е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вик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ж</a:t>
            </a:r>
            <a:r>
              <a:rPr b="1" lang="ru-RU" sz="4800" spc="-1" strike="noStrike" u="sng">
                <a:solidFill>
                  <a:srgbClr val="ff0000"/>
                </a:solidFill>
                <a:uFillTx/>
                <a:latin typeface="Comic Sans MS"/>
              </a:rPr>
              <a:t>ё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лудь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4" descr="osen-derev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5" descr="Октябрьская осен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763640" y="476280"/>
            <a:ext cx="518472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Comic Sans MS"/>
              </a:rPr>
              <a:t>Восстанови текс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78501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етер охапками швыряет листву под ноги прохожи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 деревьев осыпаются листья и устилают земл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а дворе стоит золотая осен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Times New Roman"/>
              </a:rPr>
              <a:t>МОЛОДЦЫ !</a:t>
            </a:r>
            <a:br>
              <a:rPr sz="8000"/>
            </a:br>
            <a:br>
              <a:rPr sz="6000"/>
            </a:br>
            <a:r>
              <a:rPr b="1" lang="ru-RU" sz="6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8000" spc="-1" strike="noStrike">
                <a:solidFill>
                  <a:srgbClr val="00ff00"/>
                </a:solidFill>
                <a:latin typeface="Times New Roman"/>
              </a:rPr>
              <a:t>СПАСИБО</a:t>
            </a:r>
            <a:r>
              <a:rPr b="1" lang="ru-RU" sz="6000" spc="-1" strike="noStrike">
                <a:solidFill>
                  <a:srgbClr val="00ff00"/>
                </a:solidFill>
                <a:latin typeface="Times New Roman"/>
              </a:rPr>
              <a:t>  </a:t>
            </a:r>
            <a:br>
              <a:rPr sz="6000"/>
            </a:br>
            <a:r>
              <a:rPr b="1" lang="ru-RU" sz="6000" spc="-1" strike="noStrike">
                <a:solidFill>
                  <a:srgbClr val="00ff00"/>
                </a:solidFill>
                <a:latin typeface="Times New Roman"/>
              </a:rPr>
              <a:t>ЗА   УРОК !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34:27Z</dcterms:created>
  <dc:creator>Димок и Миля</dc:creator>
  <dc:description/>
  <dc:language>en-US</dc:language>
  <cp:lastModifiedBy>11</cp:lastModifiedBy>
  <dcterms:modified xsi:type="dcterms:W3CDTF">2013-05-01T06:38:42Z</dcterms:modified>
  <cp:revision>9</cp:revision>
  <dc:subject/>
  <dc:title>Проверь себя:</dc:title>
</cp:coreProperties>
</file>