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5FE-F852-44D9-8032-68F10D67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728-D178-4072-A4C6-9A021F0F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7C02-FC10-426E-B047-22DD55F2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B9A-0F25-43E0-8625-A0AF97FC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F4C-EB81-4A3B-9CC2-36EAD08E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9F2-8A19-4095-B7BF-4FC0965E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A832-EDCF-4AD3-AD22-A82A843D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1FA0-9C8F-485A-A667-26420FF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D31-63BB-408A-B100-B1191E95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A74A-4A00-4E5B-8F8F-861C245E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9647-376F-4F4C-9BB0-AA00BA1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F4C-7D74-4D3B-8D0C-879267E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6DC5-C037-4560-AD9D-0B53BAE5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F9B9-A6A9-4ECF-8CC8-9828E47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3FD8-D469-4DFC-950C-52C5D8FF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AE5F-9762-4101-B300-8C574917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33AC-8DA1-487E-BC15-37AC9261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C66-47FB-4245-BD1E-0B3E71B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939-8FC6-4661-BC8E-9C123ADB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4E5-2798-42B1-BD3C-19E9DE3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25F-6085-4DDE-B18C-EB155298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3DE-520A-4ABB-98D2-DB9E413A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6BF-4537-4486-A494-8DAEFDB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437-ABD9-4F74-BF92-25ED8617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D717-6730-4BC0-ADF8-B15835BF3B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70B1-BBA2-4189-B886-F751A1BAE5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блемы сбережений и инвестиц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ил Мхитарян Гевор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.е. попытка общества больше сберегать (кривая сбережений вверх) оказывается тщетной в связи с многократным снижением равновесного дох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 класс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нежный рынок эффективно увязывает решения о сбережениям и инвестициях- сдвиг кривой сбережений сдвигает вверх и кривую инвестиций, поэтому равновесный НД  сохранится на прежнем уровн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менится структура производства: больше инвестиционных товаров приведут к ускоренным темпам экономического рос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то же произойдет с кривой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S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классики)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е домохозяйств больше сберегать переместит кривую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низ и темпы инфляции снизятся Увеличение сбережений в этом случае будут способствовать снижению инфля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Функция планируемых расходов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35280" y="201780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= C +I + G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ображается как функция потребления и сдвинута вверх на величи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I + G + X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автономные инвест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4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87280" y="6165720"/>
            <a:ext cx="381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6"/>
          <p:cNvSpPr/>
          <p:nvPr/>
        </p:nvSpPr>
        <p:spPr>
          <a:xfrm flipV="1">
            <a:off x="1187280" y="4221000"/>
            <a:ext cx="2808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272200" y="3156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487680" y="378936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53640" y="26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280200" y="5892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4574880" y="6165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790160" y="621648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оход, реальный рас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879480" y="466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6"/>
          <p:cNvSpPr/>
          <p:nvPr/>
        </p:nvSpPr>
        <p:spPr>
          <a:xfrm rot="16200000">
            <a:off x="219600" y="5333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+I+G+X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ейнсианский крес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64000" y="201780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ния планируемых расходов пересекает линию  реальных и планируемых расходов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точке А),  - это график  «Кейнсианского креста». В точке А доход = планируемым расходам и планируемые инвестиции = фактическим инвестициям = сбережениям, т.е. достигается макроэкономическое равновес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187280" y="609300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8"/>
          <p:cNvSpPr/>
          <p:nvPr/>
        </p:nvSpPr>
        <p:spPr>
          <a:xfrm flipV="1">
            <a:off x="1187280" y="27082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9"/>
          <p:cNvSpPr/>
          <p:nvPr/>
        </p:nvSpPr>
        <p:spPr>
          <a:xfrm flipV="1">
            <a:off x="1187280" y="2997360"/>
            <a:ext cx="3024360" cy="30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10"/>
          <p:cNvSpPr/>
          <p:nvPr/>
        </p:nvSpPr>
        <p:spPr>
          <a:xfrm flipV="1">
            <a:off x="1187280" y="3995640"/>
            <a:ext cx="3529080" cy="9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2700360" y="4508640"/>
            <a:ext cx="4680" cy="162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532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99840" y="242100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(планируемые расход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3924360" y="2708280"/>
            <a:ext cx="71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3995640" y="270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214160" y="24354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399564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1"/>
          <p:cNvSpPr/>
          <p:nvPr/>
        </p:nvSpPr>
        <p:spPr>
          <a:xfrm flipV="1">
            <a:off x="3995640" y="3860280"/>
            <a:ext cx="216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3694680" y="350028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736160" y="6093000"/>
            <a:ext cx="27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оход, реальные расходы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2561760" y="609300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енст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 = A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модели «Кейснсианского креста» достигается без вмешательства  государства (Правительства) – механизмом достижения является колебания за- пасов в ТМ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ест Кейнса конкретизирует модел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-A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целей краткосрочного макроэкономического анализа с "жесткими" ценами и не может быть использован для исследования долгосрочных последствий макроэкономической политики, связанных с ростом или снижением уровня инфля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вновесие в экономике не является оптимальной ситуацией. Если инвестиции низки, уровень равновесия предполагает большую безработицу. Если инвестиции начинают превышать сбережения, это становится импульсом к инфляционному росту це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 качестве желаемой цели выступает уровень национального дохода в условиях полной занятости, то отклонения от этого уровня означают дефляционный и инфляционный разрыв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Задача анализа макроэкономического                                    равновес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пределить не только равновесный объем производства, но и дать ему оценку, т.е. сравнить его с потенциальным уровн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вновесие между инвестициями и сбережениями как важнейшее условие макроэкономического равновесия. Модел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–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ель совокупных расходов и доходов (Кейнсианский крест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блема превращения сбережений в инвестиции в современной Росс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ецессионный разрыв – это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итуация при которой равновесный объем производства меньше  его потенциального уровня.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187280" y="6165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6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7"/>
          <p:cNvSpPr/>
          <p:nvPr/>
        </p:nvSpPr>
        <p:spPr>
          <a:xfrm flipV="1">
            <a:off x="1187280" y="2781000"/>
            <a:ext cx="396108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Line 9"/>
          <p:cNvSpPr/>
          <p:nvPr/>
        </p:nvSpPr>
        <p:spPr>
          <a:xfrm flipV="1">
            <a:off x="1187280" y="3573360"/>
            <a:ext cx="4608720" cy="122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3492360" y="4149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716360" y="314172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4716360" y="3141720"/>
            <a:ext cx="142920" cy="71892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18920"/>
              <a:gd name="textAreaBottom" fmla="*/ 7002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rc 13"/>
          <p:cNvSpPr/>
          <p:nvPr/>
        </p:nvSpPr>
        <p:spPr>
          <a:xfrm>
            <a:off x="1476360" y="587700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600200" y="58053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34800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3324600" y="3732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4546080" y="2795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8"/>
          <p:cNvSpPr/>
          <p:nvPr/>
        </p:nvSpPr>
        <p:spPr>
          <a:xfrm flipH="1">
            <a:off x="4859280" y="2492280"/>
            <a:ext cx="2174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507672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4932000" y="314172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3"/>
          <p:cNvSpPr/>
          <p:nvPr/>
        </p:nvSpPr>
        <p:spPr>
          <a:xfrm flipH="1" flipV="1">
            <a:off x="5219640" y="3789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572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5"/>
          <p:cNvSpPr/>
          <p:nvPr/>
        </p:nvSpPr>
        <p:spPr>
          <a:xfrm>
            <a:off x="950760" y="242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6"/>
          <p:cNvSpPr/>
          <p:nvPr/>
        </p:nvSpPr>
        <p:spPr>
          <a:xfrm>
            <a:off x="3353760" y="616572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27"/>
          <p:cNvSpPr/>
          <p:nvPr/>
        </p:nvSpPr>
        <p:spPr>
          <a:xfrm>
            <a:off x="457956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28"/>
          <p:cNvSpPr/>
          <p:nvPr/>
        </p:nvSpPr>
        <p:spPr>
          <a:xfrm>
            <a:off x="543564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6203880" y="373212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5435640" y="220500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451120" y="279576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цессионный разры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787800" y="5964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33"/>
          <p:cNvSpPr/>
          <p:nvPr/>
        </p:nvSpPr>
        <p:spPr>
          <a:xfrm>
            <a:off x="3975120" y="603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3943800" y="623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Рецессионый разрыв это величина, на которую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меньше уровня производств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цессионный разрыв оказывает депрессивное (сужающее) воздействие на экономику -  отставание фактического  НД от потенциального равна : отставание равно - его объем умноженный на мультипликато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фляционный разрыв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– это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итуация при которой равновесный объем производства больше его потенциального уровня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1187280" y="6165720"/>
            <a:ext cx="56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1187280" y="278100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1187280" y="3068280"/>
            <a:ext cx="417672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7"/>
          <p:cNvSpPr/>
          <p:nvPr/>
        </p:nvSpPr>
        <p:spPr>
          <a:xfrm flipV="1">
            <a:off x="1187280" y="3573360"/>
            <a:ext cx="46087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492360" y="3716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4572000" y="371628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1"/>
          <p:cNvSpPr/>
          <p:nvPr/>
        </p:nvSpPr>
        <p:spPr>
          <a:xfrm>
            <a:off x="1476360" y="5877000"/>
            <a:ext cx="142920" cy="288720"/>
          </a:xfrm>
          <a:custGeom>
            <a:avLst/>
            <a:gdLst>
              <a:gd name="textAreaLeft" fmla="*/ 0 w 142920"/>
              <a:gd name="textAreaRight" fmla="*/ 143280 w 142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1600200" y="580536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348000" y="378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442440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4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16"/>
          <p:cNvSpPr/>
          <p:nvPr/>
        </p:nvSpPr>
        <p:spPr>
          <a:xfrm flipH="1">
            <a:off x="4858920" y="2637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521964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19"/>
          <p:cNvSpPr/>
          <p:nvPr/>
        </p:nvSpPr>
        <p:spPr>
          <a:xfrm flipH="1" flipV="1">
            <a:off x="5219640" y="378900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20"/>
          <p:cNvSpPr/>
          <p:nvPr/>
        </p:nvSpPr>
        <p:spPr>
          <a:xfrm>
            <a:off x="572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950760" y="2421000"/>
            <a:ext cx="3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353760" y="616572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4363560" y="61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43564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6203880" y="3732120"/>
            <a:ext cx="1436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=C+I+G+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435640" y="2205000"/>
            <a:ext cx="16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=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258920" y="29973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фляционны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ры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6735240" y="6165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9"/>
          <p:cNvSpPr/>
          <p:nvPr/>
        </p:nvSpPr>
        <p:spPr>
          <a:xfrm>
            <a:off x="2268360" y="3500280"/>
            <a:ext cx="1008360" cy="57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3276720" y="3716280"/>
            <a:ext cx="215640" cy="720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3943800" y="623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нфляционный разрыв – это величина, на которую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превышают уровень дохода при полной занятости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инфляционном разрыве большая часть дохода идет на потребление, возросший спрос давит на цены в сторону увеличения, возникает инфляция спроса. Перегрев равен -  его величина умноженная на мультипликато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одоление рецессионного и инфляционного разрывов возможно только с помощью регулирующего воздействия Правительства и Центрального бан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угими словами, если равенств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= AS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стигается, в принципе, автоматически, то равенство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= AS = Y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ет быть достигнуто только в результате такого вмешательст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езультате к начальным двум элементам спроса – потреблению и инвестициям – добавляются государственные расходы, характеризующие спрос со стороны государст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ьтернативный выб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бо экономический рост в будущем при ограничении текущего потребл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бо отказ от ограничений в текущем потреблении ценой ухудшения условий долгосрочного экономического рос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пятствия, стоящие на пути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новационно-технологического развития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9936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нвестиционные и кредитные банковские рис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совершенство российского законодательства         ( часто меняются законы и норм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тсутствие прозрачности российского бизне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й уровень развития производ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кая энергоемкость российского производ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зкие доходы основной массы насел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сокая инфля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476280"/>
            <a:ext cx="77058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Государственное регулирование инвестиционной деятельности  РФ, осуществляемой в форме  капиталовлож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Создание благоприят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условий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щита финансового рынка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логовый и амортизационный механиз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щита интересов инвесто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витие финансового лизин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ведение переоценок основных фондов в соответствии с темпом инфляци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Прямое участие государств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работка и финансирование инвестиционных проектов за счет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дставление на конкурентной основе гарантий по инвестиционным проек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спользование на конкурентной основе средств бюджета для инвестиционных проектов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ведение экспертизы инвестиционных проек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работка и утверждение стандартов норм и прави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Решение проблемы превращения сбережений в инвестиции- важнейшее условие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инновационно-технологического развития Росси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Функционирование системы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сбережения          банк           инвести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Picture 5" descr="j0149481"/>
          <p:cNvPicPr/>
          <p:nvPr/>
        </p:nvPicPr>
        <p:blipFill>
          <a:blip r:embed="rId1"/>
          <a:stretch/>
        </p:blipFill>
        <p:spPr>
          <a:xfrm>
            <a:off x="3780000" y="3141720"/>
            <a:ext cx="1949400" cy="1981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j0285360"/>
          <p:cNvPicPr/>
          <p:nvPr/>
        </p:nvPicPr>
        <p:blipFill>
          <a:blip r:embed="rId2"/>
          <a:stretch/>
        </p:blipFill>
        <p:spPr>
          <a:xfrm>
            <a:off x="6588000" y="3213000"/>
            <a:ext cx="1474920" cy="1817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j0222021"/>
          <p:cNvPicPr/>
          <p:nvPr/>
        </p:nvPicPr>
        <p:blipFill>
          <a:blip r:embed="rId3"/>
          <a:stretch/>
        </p:blipFill>
        <p:spPr>
          <a:xfrm>
            <a:off x="1042920" y="31417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13"/>
          <p:cNvSpPr/>
          <p:nvPr/>
        </p:nvSpPr>
        <p:spPr>
          <a:xfrm>
            <a:off x="3276720" y="5516640"/>
            <a:ext cx="718920" cy="360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14"/>
          <p:cNvSpPr/>
          <p:nvPr/>
        </p:nvSpPr>
        <p:spPr>
          <a:xfrm>
            <a:off x="5219640" y="5516640"/>
            <a:ext cx="720720" cy="36180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70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8218440" cy="45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ейнсианский подход сложился на основе фактологических материалов  после Великой депрессии (1929-1933г.г.), когда приходит понимание, что во избежание значительных потерь от спада производства необходима активная государственная политика по его регулировани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11280" y="54936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ейнсианская экономическая теория – теория совокупного спрос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Классическая и Кейнсианская концепц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ческая. экономическая теор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экономик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на ситуац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 =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цены гибкие ( Р, з/пл, % ) и денежный рынок всегд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спечивае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( i ) = I ( i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колебание процентной ставк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езработица доброво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нейтральность государ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ейнсианская экономическая теор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полная занятость факторов производства явление случайно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экономике характерно неравновесие, причиной является несовпаде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т.к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 (i ) = S (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)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безработица вынужден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координирующее вмешательство государст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2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рмы инвестиц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актические инвестиции это сумма запланированных и незапланированных инвестиц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запланированные инвестиции есть непредусмотренные товарно-материальные запасы фир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уемые расходы это сумма товаров и услуг, которые домашние хозяйства, фирмы, правительство и внешний мир планируют истрат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втономные инвестиции – их величина не зависит от Н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7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тимулируемые (индуцированные) инвестиции – их величина зависит от колебаний совокупного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Модель «Инвестиции – Сбережения»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ется для определения равновесного объема производства наряду с моделью « доходы – расход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1692360" y="22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692360" y="522936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2771640" y="2636640"/>
            <a:ext cx="388800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692360" y="4221000"/>
            <a:ext cx="511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372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458360" y="1860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7795800" y="49561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ine 12"/>
          <p:cNvSpPr/>
          <p:nvPr/>
        </p:nvSpPr>
        <p:spPr>
          <a:xfrm flipV="1">
            <a:off x="2771640" y="422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428472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5796000" y="3213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256176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414612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5585760" y="522936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189680" y="3876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5867280" y="3500280"/>
            <a:ext cx="21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копление ТМ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2028600" y="33004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кращение ТМ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3059280" y="3645000"/>
            <a:ext cx="28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2484360" y="3645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4918680" y="518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3262680" y="518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bat-Bold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643080" y="23637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6933600" y="40194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ъем производства больше равновесного (т.А) есть превышение уровня сбережений, что означает сокращение потребления, следствием чего является снижение производства и выпуска (рост ТМЗ) и наоборот – сокращение сбережений ведет к увеличению потребления и росту объема  выпуска (сокращение ТМЗ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одель «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 – S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» может использоваться для  иллюстрации так называемого «парадокса бережливости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64000" y="2017800"/>
            <a:ext cx="36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увеличении населением сбережений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двиг криво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лево вверх), сокращается потребление и совокупный спрос, а следовательно, и равновесный объем производ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8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187280" y="595008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7"/>
          <p:cNvSpPr/>
          <p:nvPr/>
        </p:nvSpPr>
        <p:spPr>
          <a:xfrm flipV="1">
            <a:off x="1187280" y="292392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1187280" y="494172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 flipH="1">
            <a:off x="1641600" y="4005360"/>
            <a:ext cx="10382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3203640" y="4005360"/>
            <a:ext cx="1038240" cy="180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 flipH="1">
            <a:off x="2484360" y="465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810720" y="27241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06120" y="36450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001400" y="36450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72880" y="481176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708360" y="494172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2124000" y="49417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985400" y="595008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569760" y="5950080"/>
            <a:ext cx="38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862160" y="59500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22"/>
          <p:cNvSpPr/>
          <p:nvPr/>
        </p:nvSpPr>
        <p:spPr>
          <a:xfrm>
            <a:off x="3527640" y="4572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950480" y="463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чему растут сбережен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ростом накопления капитала снижается предельная эффективность его функциониров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ростом дохода увеличивается доля сбережений, т.к. сбережения – есть возрастающая функция дох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6:17:00Z</dcterms:created>
  <dc:creator>Customer</dc:creator>
  <dc:description/>
  <dc:language>en-US</dc:language>
  <cp:lastModifiedBy>Админ</cp:lastModifiedBy>
  <dcterms:modified xsi:type="dcterms:W3CDTF">2013-02-13T06:45:26Z</dcterms:modified>
  <cp:revision>55</cp:revision>
  <dc:subject/>
  <dc:title>Занятие 3</dc:title>
</cp:coreProperties>
</file>