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551-5680-4766-9025-AA102210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FBB-EF83-4EC2-8A97-1EC5126A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178-FA8F-4F76-A2C9-C087CC0A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E70-59DD-486D-AC5D-1ED84B79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A9CA-E1D7-4568-BFCC-E896F7CA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D1E4-85AD-42AE-BE83-E75D423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7518-D33A-4A90-9D06-9502902D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C41C-6E2D-4EA9-B93B-CC7FFB8E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B171-5D8A-44FA-AB99-61E5D638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E36-49F4-47FB-979D-068CF0EB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0C03-16AD-4BDD-A103-B0F8A04D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F87-B1BC-4FC8-A1D6-163CB91A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6D12-104F-437E-87A7-293FA70E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E559-A1DA-449C-AD9E-0F500EC5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23EB-CF83-4304-956F-CE4D8626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656D-8974-4740-9490-4951708E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AD9F-3690-4192-83DB-E3E6C83B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2DD-3411-4E35-A50B-3E801A7D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00E-30F5-4E02-AAEC-329B3CA5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F94-34DC-4816-A520-45836768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290-9DE3-495C-8FCC-422C1195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E39-C1BE-49CD-9B2A-5D72BCEA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EB3-2713-4886-9807-BED4658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1DF-4346-4A89-8C5A-8F2EE671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FA98-AF45-4CCB-8521-BED7AC894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4F7E-1961-4811-A355-491AEC0221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блемы сбережений и инвестиц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олнил Мхитарян Гевор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.е. попытка общества больше сберегать (кривая сбережений вверх) оказывается тщетной в связи с многократным снижением равновесного дох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 класси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нежный рынок эффективно увязывает решения о сбережениям и инвестициях- сдвиг кривой сбережений сдвигает вверх и кривую инвестиций, поэтому равновесный НД  сохранится на прежнем уров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менится структура производства: больше инвестиционных товаров приведут к ускоренным темпам экономического рос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Что же произойдет с кривой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S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(классики)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е домохозяйств больше сберегать переместит кривую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из и темпы инфляции снизятся Увеличение сбережений в этом случае будут способствовать снижению инфля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Функция планируемых расходов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35280" y="201780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= C +I + G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ображается как функция потребления и сдвинута вверх на величин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I + G + X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автономные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4"/>
          <p:cNvSpPr/>
          <p:nvPr/>
        </p:nvSpPr>
        <p:spPr>
          <a:xfrm flipV="1">
            <a:off x="1187280" y="2781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187280" y="6165720"/>
            <a:ext cx="381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6"/>
          <p:cNvSpPr/>
          <p:nvPr/>
        </p:nvSpPr>
        <p:spPr>
          <a:xfrm flipV="1">
            <a:off x="1187280" y="4221000"/>
            <a:ext cx="2808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272200" y="3156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487680" y="3789360"/>
            <a:ext cx="1436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=C+I+G+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53640" y="26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280200" y="5892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574880" y="6165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4790160" y="621648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оход, реальный рас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879480" y="466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6"/>
          <p:cNvSpPr/>
          <p:nvPr/>
        </p:nvSpPr>
        <p:spPr>
          <a:xfrm rot="16200000">
            <a:off x="219600" y="5333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+I+G+X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ейнсианский кре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64000" y="201780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ия планируемых расходов пересекает линию  реальных и планируемых расходов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точке А),  - это график  «Кейнсианского креста». В точке А доход = планируемым расходам и планируемые инвестиции = фактическим инвестициям = сбережениям, т.е. достигается макроэкономическое равновес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1187280" y="609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1187280" y="270828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9"/>
          <p:cNvSpPr/>
          <p:nvPr/>
        </p:nvSpPr>
        <p:spPr>
          <a:xfrm flipV="1">
            <a:off x="1187280" y="2997360"/>
            <a:ext cx="302436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10"/>
          <p:cNvSpPr/>
          <p:nvPr/>
        </p:nvSpPr>
        <p:spPr>
          <a:xfrm flipV="1">
            <a:off x="1187280" y="3995640"/>
            <a:ext cx="3529080" cy="9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2700360" y="4508640"/>
            <a:ext cx="4680" cy="162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532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99840" y="242100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(планируемые расход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7"/>
          <p:cNvSpPr/>
          <p:nvPr/>
        </p:nvSpPr>
        <p:spPr>
          <a:xfrm flipH="1">
            <a:off x="3924360" y="270828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8"/>
          <p:cNvSpPr/>
          <p:nvPr/>
        </p:nvSpPr>
        <p:spPr>
          <a:xfrm>
            <a:off x="3995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214160" y="24354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399564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1"/>
          <p:cNvSpPr/>
          <p:nvPr/>
        </p:nvSpPr>
        <p:spPr>
          <a:xfrm flipV="1">
            <a:off x="3995640" y="3860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3694680" y="350028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=C+I+G+X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736160" y="6093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оход, реальные расходы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2561760" y="609300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венст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 = A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одели «Кейснсианского креста» достигается без вмешательства  государства (Правительства) – механизмом достижения является колебания за- пасов в ТМ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ест Кейнса конкретизирует модел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-A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целей краткосрочного макроэкономического анализа с "жесткими" ценами и не может быть использован для исследования долгосрочных последствий макроэкономической политики, связанных с ростом или снижением уровня инф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вновесие в экономике не является оптимальной ситуацией. Если инвестиции низки, уровень равновесия предполагает большую безработицу. Если инвестиции начинают превышать сбережения, это становится импульсом к инфляционному росту це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 качестве желаемой цели выступает уровень национального дохода в условиях полной занятости, то отклонения от этого уровня означают дефляционный и инфляционный разрыв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Задача анализа макроэкономического                                    равновес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еделить не только равновесный объем производства, но и дать ему оценку, т.е. сравнить его с потенциальным уровн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вновесие между инвестициями и сбережениями как важнейшее условие макроэкономического равновесия. Модел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–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ель совокупных расходов и доходов (Кейнсианский крест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блема превращения сбережений в инвестиции в современной Росс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Рецессионный разрыв – это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итуация при которой равновесный объем производства меньше  его потенциального уровня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187280" y="616572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6"/>
          <p:cNvSpPr/>
          <p:nvPr/>
        </p:nvSpPr>
        <p:spPr>
          <a:xfrm flipV="1">
            <a:off x="1187280" y="2781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7"/>
          <p:cNvSpPr/>
          <p:nvPr/>
        </p:nvSpPr>
        <p:spPr>
          <a:xfrm flipV="1">
            <a:off x="1187280" y="2781000"/>
            <a:ext cx="3961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1187280" y="3573360"/>
            <a:ext cx="460872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3492360" y="4149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4716360" y="3141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4716360" y="3141720"/>
            <a:ext cx="142920" cy="71892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rc 13"/>
          <p:cNvSpPr/>
          <p:nvPr/>
        </p:nvSpPr>
        <p:spPr>
          <a:xfrm>
            <a:off x="1476360" y="587700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1600200" y="580536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348000" y="37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3324600" y="3732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4546080" y="2795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8"/>
          <p:cNvSpPr/>
          <p:nvPr/>
        </p:nvSpPr>
        <p:spPr>
          <a:xfrm flipH="1">
            <a:off x="4859280" y="2492280"/>
            <a:ext cx="2174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507672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4932000" y="314172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23"/>
          <p:cNvSpPr/>
          <p:nvPr/>
        </p:nvSpPr>
        <p:spPr>
          <a:xfrm flipH="1" flipV="1">
            <a:off x="5219640" y="378900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572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950760" y="2421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3353760" y="616572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457956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5435640" y="220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6203880" y="3732120"/>
            <a:ext cx="1436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=C+I+G+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5435640" y="2205000"/>
            <a:ext cx="16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451120" y="279576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цессионный разры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787800" y="59641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3975120" y="603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3943800" y="623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Рецессионый разрыв это величина, на которую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меньше уровня производств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цессионный разрыв оказывает депрессивное (сужающее) воздействие на экономику -  отставание фактического  НД от потенциального равна : отставание равно - его объем умноженный на мультипликат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нфляционный разры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– это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итуация при которой равновесный объем производства больше его потенциального уровня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187280" y="616572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5"/>
          <p:cNvSpPr/>
          <p:nvPr/>
        </p:nvSpPr>
        <p:spPr>
          <a:xfrm flipV="1">
            <a:off x="1187280" y="2781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1187280" y="3068280"/>
            <a:ext cx="4176720" cy="30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7"/>
          <p:cNvSpPr/>
          <p:nvPr/>
        </p:nvSpPr>
        <p:spPr>
          <a:xfrm flipV="1">
            <a:off x="1187280" y="3573360"/>
            <a:ext cx="4608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492360" y="371628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4572000" y="371628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1"/>
          <p:cNvSpPr/>
          <p:nvPr/>
        </p:nvSpPr>
        <p:spPr>
          <a:xfrm>
            <a:off x="1476360" y="587700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1600200" y="580536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348000" y="37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4424400" y="3284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4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4858920" y="2637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521964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9"/>
          <p:cNvSpPr/>
          <p:nvPr/>
        </p:nvSpPr>
        <p:spPr>
          <a:xfrm flipH="1" flipV="1">
            <a:off x="5219640" y="378900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20"/>
          <p:cNvSpPr/>
          <p:nvPr/>
        </p:nvSpPr>
        <p:spPr>
          <a:xfrm>
            <a:off x="572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950760" y="2421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3353760" y="616572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436356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435640" y="220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6203880" y="3732120"/>
            <a:ext cx="1436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=C+I+G+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435640" y="2205000"/>
            <a:ext cx="16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258920" y="29973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нфляционны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ры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6735240" y="6165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2268360" y="3500280"/>
            <a:ext cx="1008360" cy="57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30"/>
          <p:cNvSpPr/>
          <p:nvPr/>
        </p:nvSpPr>
        <p:spPr>
          <a:xfrm>
            <a:off x="3276720" y="3716280"/>
            <a:ext cx="215640" cy="72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32"/>
          <p:cNvSpPr/>
          <p:nvPr/>
        </p:nvSpPr>
        <p:spPr>
          <a:xfrm>
            <a:off x="3943800" y="623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нфляционный разрыв – это величина, на которую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превышают уровень дохода при полной занятости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инфляционном разрыве большая часть дохода идет на потребление, возросший спрос давит на цены в сторону увеличения, возникает инфляция спроса. Перегрев равен -  его величина умноженная на мультипликат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одоление рецессионного и инфляционного разрывов возможно только с помощью регулирующего воздействия Правительства и Центрального бан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ругими словами, если равенств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= AS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стигается, в принципе, автоматически, то равенств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= AS = Y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ет быть достигнуто только в результате такого вмешатель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езультате к начальным двум элементам спроса – потреблению и инвестициям – добавляются государственные расходы, характеризующие спрос со стороны государ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ьтернативный выб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бо экономический рост в будущем при ограничении текущего потреб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бо отказ от ограничений в текущем потреблении ценой ухудшения условий долгосрочного экономического рос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пятствия, стоящие на пу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новационно-технологического развития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9936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вестиционные и кредитные банковские рис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совершенство российского законодательства         ( часто меняются законы и норм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утствие прозрачности российского бизне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зкий уровень развития производ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сокая энергоемкость российского производ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зкие доходы основной массы насел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сокая инфля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705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Государственное регулирование инвестиционной деятельности  РФ, осуществляемой в форме  капиталовложени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Создание благоприят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условий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щита финансового рынк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логовый и амортизационный механиз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щита интересов инвесто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витие финансового лизин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ведение переоценок основных фондов в соответствии с темпом инфляц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Прямое участие государств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работка и финансирование инвестиционных проектов за счет федерального бюдже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едставление на конкурентной основе гарантий по инвестиционным проек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спользование на конкурентной основе средств бюджета для инвестиционных проектов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ведение экспертизы инвестиционных проек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работка и утверждение стандартов норм и прави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Решение проблемы превращения сбережений в инвестиции- важнейшее условие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инновационно-технологического развития Росси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Функционирование системы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сбережения          банк           инвести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Picture 5" descr="j0149481"/>
          <p:cNvPicPr/>
          <p:nvPr/>
        </p:nvPicPr>
        <p:blipFill>
          <a:blip r:embed="rId1"/>
          <a:stretch/>
        </p:blipFill>
        <p:spPr>
          <a:xfrm>
            <a:off x="3780000" y="3141720"/>
            <a:ext cx="1949400" cy="1981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j0285360"/>
          <p:cNvPicPr/>
          <p:nvPr/>
        </p:nvPicPr>
        <p:blipFill>
          <a:blip r:embed="rId2"/>
          <a:stretch/>
        </p:blipFill>
        <p:spPr>
          <a:xfrm>
            <a:off x="6588000" y="3213000"/>
            <a:ext cx="1474920" cy="1817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j0222021"/>
          <p:cNvPicPr/>
          <p:nvPr/>
        </p:nvPicPr>
        <p:blipFill>
          <a:blip r:embed="rId3"/>
          <a:stretch/>
        </p:blipFill>
        <p:spPr>
          <a:xfrm>
            <a:off x="1042920" y="31417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13"/>
          <p:cNvSpPr/>
          <p:nvPr/>
        </p:nvSpPr>
        <p:spPr>
          <a:xfrm>
            <a:off x="3276720" y="5516640"/>
            <a:ext cx="718920" cy="360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5219640" y="5516640"/>
            <a:ext cx="720720" cy="36180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349360"/>
            <a:ext cx="821844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ейнсианский подход сложился на основе фактологических материалов  после Великой депрессии (1929-1933г.г.), когда приходит понимание, что во избежание значительных потерь от спада производства необходима активная государственная политика по его регулирован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11280" y="54936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ейнсианская экономическая теория – теория совокупного спро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лассическая и Кейнсианская концеп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ческая. экономическая теор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экономик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на ситуац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=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цены гибкие ( Р, з/пл, % ) и денежный рынок всегд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еспечивае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( i ) = I ( i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колебание процентной став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безработица доброволь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нейтральность государ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ейнсианская экономическая теор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полная занятость факторов производства явление случайно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экономике характерно неравновесие, причиной является несовпаде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.к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 (i ) = S (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безработица вынужден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координирующее вмешательство государ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ормы инвестиц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актические инвестиции это сумма запланированных и незапланированных инвестиц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езапланированные инвестиции есть непредусмотренные товарно-материальные запасы фир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уемые расходы это сумма товаров и услуг, которые домашние хозяйства, фирмы, правительство и внешний мир планируют истрати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втономные инвестиции – их величина не зависит от Н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имулируемые (индуцированные) инвестиции – их величина зависит от колебаний совокупного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Модель «Инвестиции – Сбережения»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ется для определения равновесного объема производства наряду с моделью « доходы – расходы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1692360" y="220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692360" y="522936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2771640" y="2636640"/>
            <a:ext cx="3888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692360" y="4221000"/>
            <a:ext cx="511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37236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458360" y="1860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7795800" y="49561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2"/>
          <p:cNvSpPr/>
          <p:nvPr/>
        </p:nvSpPr>
        <p:spPr>
          <a:xfrm flipV="1">
            <a:off x="2771640" y="422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4284720" y="4221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5796000" y="3213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2561760" y="522936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146120" y="522936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5585760" y="522936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189680" y="3876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5867280" y="3500280"/>
            <a:ext cx="21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копление ТМ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2028600" y="33004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кращение ТМ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3059280" y="3645000"/>
            <a:ext cx="288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2484360" y="3645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918680" y="518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3262680" y="518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6643080" y="23637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6933600" y="4019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ъем производства больше равновесного (т.А) есть превышение уровня сбережений, что означает сокращение потребления, следствием чего является снижение производства и выпуска (рост ТМЗ) и наоборот – сокращение сбережений ведет к увеличению потребления и росту объема  выпуска (сокращение ТМЗ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дель «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 – S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» может использоваться для  иллюстрации так называемого «парадокса бережливост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64000" y="2017800"/>
            <a:ext cx="36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увеличении населением сбережен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двиг криво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ево вверх), сокращается потребление и совокупный спрос, а следовательно, и равновесный объем производ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8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187280" y="595008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1187280" y="292392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1187280" y="494172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9"/>
          <p:cNvSpPr/>
          <p:nvPr/>
        </p:nvSpPr>
        <p:spPr>
          <a:xfrm flipH="1">
            <a:off x="1641600" y="4005360"/>
            <a:ext cx="103824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3203640" y="4005360"/>
            <a:ext cx="103824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2484360" y="465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0720" y="27241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06120" y="36450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001400" y="36450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772880" y="481176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70836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2124000" y="49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985400" y="595008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569760" y="595008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86216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3527640" y="4572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950480" y="4635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чему растут сбережения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 ростом накопления капитала снижается предельная эффективность его функционир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 ростом дохода увеличивается доля сбережений, т.к. сбережения – есть возрастающая функция дох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6:17:00Z</dcterms:created>
  <dc:creator>Customer</dc:creator>
  <dc:description/>
  <dc:language>en-US</dc:language>
  <cp:lastModifiedBy>Админ</cp:lastModifiedBy>
  <dcterms:modified xsi:type="dcterms:W3CDTF">2013-02-13T06:45:26Z</dcterms:modified>
  <cp:revision>55</cp:revision>
  <dc:subject/>
  <dc:title>Занятие 3</dc:title>
</cp:coreProperties>
</file>