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jpeg" ContentType="image/jpeg"/>
  <Override PartName="/ppt/media/image8.png" ContentType="image/png"/>
  <Override PartName="/ppt/media/image12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10.jpeg" ContentType="image/jpeg"/>
  <Override PartName="/ppt/media/image2.gif" ContentType="image/gif"/>
  <Override PartName="/ppt/media/image5.png" ContentType="image/png"/>
  <Override PartName="/ppt/media/image25.gif" ContentType="image/gif"/>
  <Override PartName="/ppt/media/image23.gif" ContentType="image/gif"/>
  <Override PartName="/ppt/media/image6.gif" ContentType="image/gif"/>
  <Override PartName="/ppt/media/image20.gif" ContentType="image/gif"/>
  <Override PartName="/ppt/media/image18.jpeg" ContentType="image/jpeg"/>
  <Override PartName="/ppt/media/image3.gif" ContentType="image/gif"/>
  <Override PartName="/ppt/media/image19.gif" ContentType="image/gif"/>
  <Override PartName="/ppt/media/image21.jpeg" ContentType="image/jpeg"/>
  <Override PartName="/ppt/media/image17.gif" ContentType="image/gif"/>
  <Override PartName="/ppt/media/image15.gif" ContentType="image/gif"/>
  <Override PartName="/ppt/media/image1.jpeg" ContentType="image/jpeg"/>
  <Override PartName="/ppt/media/image22.jpeg" ContentType="image/jpeg"/>
  <Override PartName="/ppt/media/image24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28E-3992-4265-9799-582051E3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3C2F-045B-4682-832E-87D853BC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4ECB-1F35-4EC3-B45A-B821BF63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AA2-DB6D-4061-A365-D5730D85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FA2-AA51-41AA-BF81-45ABA940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BFA-6D36-4B81-A3A8-1FACD256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EC64-69AE-4B89-B0EA-3DB29F1E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8AE-E702-4137-B63D-518347E0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E2E-F015-4FAD-978D-39ABAF88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E0BD-1F0D-42D6-926E-922140D0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460-EA69-4090-AE93-BEDE61BD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71F-422F-4530-9232-6868DD16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0441-D5DE-4385-83BB-234A1DFDC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443640" y="1413000"/>
            <a:ext cx="92556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TH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300720" y="2349360"/>
            <a:ext cx="119556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VAIN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84720" y="3357720"/>
            <a:ext cx="171936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MOU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5651640" y="4149720"/>
            <a:ext cx="251928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622840" y="836640"/>
            <a:ext cx="3205080" cy="5003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692360" y="3789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788000" y="17733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932360" y="364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2484360" y="549360"/>
            <a:ext cx="85572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14680" y="2205000"/>
            <a:ext cx="4218120" cy="465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48000" cy="6095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932360" y="0"/>
            <a:ext cx="21812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629160" cy="3919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64000" y="260280"/>
            <a:ext cx="3489480" cy="3673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4000" y="198900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484360" y="1700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1332000" y="83664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5720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8102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035080" y="0"/>
            <a:ext cx="507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419800" y="3467160"/>
            <a:ext cx="3724200" cy="3390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580000" y="2276640"/>
            <a:ext cx="33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OODBYE!!!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804000" y="189000"/>
            <a:ext cx="142884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16:46:33Z</dcterms:created>
  <dc:creator>Admin</dc:creator>
  <dc:description/>
  <dc:language>en-US</dc:language>
  <cp:lastModifiedBy>Admin</cp:lastModifiedBy>
  <dcterms:modified xsi:type="dcterms:W3CDTF">2011-03-13T12:38:13Z</dcterms:modified>
  <cp:revision>5</cp:revision>
  <dc:subject/>
  <dc:title>Слайд 1</dc:title>
</cp:coreProperties>
</file>