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8.png" ContentType="image/png"/>
  <Override PartName="/ppt/media/image12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10.jpeg" ContentType="image/jpeg"/>
  <Override PartName="/ppt/media/image2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6.gif" ContentType="image/gif"/>
  <Override PartName="/ppt/media/image20.gif" ContentType="image/gif"/>
  <Override PartName="/ppt/media/image18.jpeg" ContentType="image/jpeg"/>
  <Override PartName="/ppt/media/image3.gif" ContentType="image/gif"/>
  <Override PartName="/ppt/media/image19.gif" ContentType="image/gif"/>
  <Override PartName="/ppt/media/image21.jpeg" ContentType="image/jpeg"/>
  <Override PartName="/ppt/media/image17.gif" ContentType="image/gif"/>
  <Override PartName="/ppt/media/image15.gif" ContentType="image/gif"/>
  <Override PartName="/ppt/media/image1.jpeg" ContentType="image/jpeg"/>
  <Override PartName="/ppt/media/image22.jpeg" ContentType="image/jpeg"/>
  <Override PartName="/ppt/media/image24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9BB-AFB2-4F10-B05A-0D440EB0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CF4-9BC9-4452-9771-911930F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26C-0A14-4637-B3B4-D75E2F6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91D-557D-4B77-ACDD-5B55EF84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E12-F11D-4302-BAB6-F3F40C4E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7C2-CEDB-43DE-AC60-3BCD0E2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F89-BEB1-42CF-ABD5-CA43D5CC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ED9-6F77-463E-B2E8-B0F72236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29E-15A0-491F-80AA-080FF54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FAA-F711-4F96-AF8D-60028EF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370-0E2F-4D65-B696-27868A7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AF1-E711-4A45-B04B-1F6E81D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FB49-9782-4E88-BAD1-C48957EB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443640" y="1413000"/>
            <a:ext cx="92556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TH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300720" y="2349360"/>
            <a:ext cx="119556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VAIN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84720" y="3357720"/>
            <a:ext cx="171936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MO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651640" y="4149720"/>
            <a:ext cx="251928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22840" y="836640"/>
            <a:ext cx="3205080" cy="5003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692360" y="3789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932360" y="364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484360" y="549360"/>
            <a:ext cx="8557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4680" y="2205000"/>
            <a:ext cx="4218120" cy="4653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48000" cy="6095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932360" y="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629160" cy="39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64000" y="260280"/>
            <a:ext cx="3489480" cy="367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95220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2484360" y="1700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332000" y="83664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8102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035080" y="0"/>
            <a:ext cx="507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419800" y="3467160"/>
            <a:ext cx="3724200" cy="3390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580000" y="2276640"/>
            <a:ext cx="33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BYE!!!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804000" y="189000"/>
            <a:ext cx="14288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6:46:33Z</dcterms:created>
  <dc:creator>Admin</dc:creator>
  <dc:description/>
  <dc:language>en-US</dc:language>
  <cp:lastModifiedBy>Admin</cp:lastModifiedBy>
  <dcterms:modified xsi:type="dcterms:W3CDTF">2011-03-13T12:38:13Z</dcterms:modified>
  <cp:revision>5</cp:revision>
  <dc:subject/>
  <dc:title>Слайд 1</dc:title>
</cp:coreProperties>
</file>