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0.png" ContentType="image/png"/>
  <Override PartName="/ppt/media/image35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5C33-650D-4E1B-AACA-7648F6E3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795672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400" y="4119480"/>
            <a:ext cx="795672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FB04-C92D-4540-9549-A8C077F5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400" y="411948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400" y="411948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A89A-67B4-46C4-A8F3-107ACF3F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1680" y="178092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960" y="178092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400" y="411948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1680" y="411948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960" y="411948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1674-B2D5-45E2-96DA-D6CC58C1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E9AA-770E-4919-A476-FF2B0F00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780920"/>
            <a:ext cx="795672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6D8F-C24F-4128-BC16-BECA68C4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795672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2FF2-DD7E-4A2A-9B0B-9AF54A84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6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400" y="1780920"/>
            <a:ext cx="38826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EB96-A95C-452F-965A-1D902A5A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BBDB-6C24-402B-8C5D-1ACFD386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040" y="25524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F2E8-4189-469C-B743-9BE3351D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400" y="1780920"/>
            <a:ext cx="38826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11948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CF93-DE21-4E9D-90CD-A3370D15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400" y="1780920"/>
            <a:ext cx="795672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21CA-5A40-454F-A9E0-0BFAD21E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6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400" y="411948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9B71-4C59-408E-832E-8122AC8F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119480"/>
            <a:ext cx="795672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8342-A044-44D6-8024-FCFFFD4E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795672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119480"/>
            <a:ext cx="795672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4BAA-C2AF-421F-A473-E105865E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11948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400" y="411948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63C5-2899-4B12-AABA-AB18D679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1680" y="178092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960" y="178092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11948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1680" y="411948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960" y="411948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0321-2F28-44E7-AF54-A1745B69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71400" y="1780920"/>
            <a:ext cx="795672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795672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6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48400" y="1780920"/>
            <a:ext cx="38826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795672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4CA6-A9DD-4139-9EB5-7C5D731D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71040" y="25524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48400" y="1780920"/>
            <a:ext cx="38826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71400" y="411948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6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48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48400" y="411948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48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1400" y="4119480"/>
            <a:ext cx="795672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795672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71400" y="4119480"/>
            <a:ext cx="795672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8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71400" y="411948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48400" y="411948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61680" y="178092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1960" y="178092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71400" y="411948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61680" y="411948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1960" y="4119480"/>
            <a:ext cx="256176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6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400" y="1780920"/>
            <a:ext cx="38826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BF31-ADBD-429D-AC0F-88BC813D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1EEB-312A-458C-981E-804B607E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25524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61A1-F7AC-47F8-842B-298F9A56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400" y="1780920"/>
            <a:ext cx="38826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400" y="411948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D50F-95D0-4385-A0CA-6AA2C1FE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60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400" y="411948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4D0A-601B-453B-9435-26B035DA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400" y="1780920"/>
            <a:ext cx="388260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400" y="4119480"/>
            <a:ext cx="795672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200B-E6E0-4DAE-9A3F-30EE9CE7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933324-44C5-4C09-BFBE-5EF8207D4AF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72D21F-D0AC-4A0F-B1B5-75E81181BD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1040" y="2552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1400" y="1780920"/>
            <a:ext cx="7956720" cy="4476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657360" y="6419880"/>
            <a:ext cx="8486640" cy="87120"/>
          </a:xfrm>
          <a:prstGeom prst="roundRect">
            <a:avLst>
              <a:gd name="adj" fmla="val 1852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1803240" y="6611760"/>
            <a:ext cx="7340760" cy="87480"/>
          </a:xfrm>
          <a:prstGeom prst="roundRect">
            <a:avLst>
              <a:gd name="adj" fmla="val 1852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1120" y="18576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dcff"/>
                </a:solidFill>
                <a:latin typeface="Arial"/>
              </a:rPr>
              <a:t>Учитель специальной коррекционной школы №4</a:t>
            </a:r>
            <a:br>
              <a:rPr sz="2400"/>
            </a:br>
            <a:r>
              <a:rPr b="0" lang="ru-RU" sz="2400" spc="-1" strike="noStrike">
                <a:solidFill>
                  <a:srgbClr val="00dcff"/>
                </a:solidFill>
                <a:latin typeface="Arial"/>
              </a:rPr>
              <a:t>гор. Санкт-Петербург</a:t>
            </a:r>
            <a:br>
              <a:rPr sz="2400"/>
            </a:br>
            <a:r>
              <a:rPr b="1" lang="ru-RU" sz="2400" spc="-1" strike="noStrike">
                <a:solidFill>
                  <a:srgbClr val="00dcff"/>
                </a:solidFill>
                <a:latin typeface="Arial"/>
              </a:rPr>
              <a:t>Форш Мария Ким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161892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к математики на т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4700b8"/>
                </a:solidFill>
                <a:latin typeface="Arial"/>
              </a:rPr>
              <a:t>Действия с именованными числами на примере расчета коммунальных платеж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6 -7 классов школы 8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1400" y="25524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ГАЗ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9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49840" y="1780920"/>
            <a:ext cx="38829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5040360" y="2340000"/>
            <a:ext cx="3240000" cy="2700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900000" y="2160720"/>
            <a:ext cx="3240360" cy="2879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считайте,какую сумму надо оплат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457200" y="1600200"/>
            <a:ext cx="40165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4673520" y="1600200"/>
            <a:ext cx="40165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457200" y="3963960"/>
            <a:ext cx="40165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154080" y="3959280"/>
            <a:ext cx="4346640" cy="234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"/>
          <p:cNvPicPr/>
          <p:nvPr/>
        </p:nvPicPr>
        <p:blipFill>
          <a:blip r:embed="rId2"/>
          <a:stretch/>
        </p:blipFill>
        <p:spPr>
          <a:xfrm>
            <a:off x="4859280" y="1440000"/>
            <a:ext cx="3780000" cy="2160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3"/>
          <a:stretch/>
        </p:blipFill>
        <p:spPr>
          <a:xfrm>
            <a:off x="4859280" y="3959280"/>
            <a:ext cx="3959280" cy="2340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"/>
          <p:cNvPicPr/>
          <p:nvPr/>
        </p:nvPicPr>
        <p:blipFill>
          <a:blip r:embed="rId4"/>
          <a:stretch/>
        </p:blipFill>
        <p:spPr>
          <a:xfrm>
            <a:off x="179280" y="1440000"/>
            <a:ext cx="4319640" cy="234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60р.90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 426р.40к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91р.00к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5р.50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523р.80к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платы в Сбербанке в банкомат вставили 5000 купюру. Сколько денег останется после уплаты всех платеж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57200" y="3963960"/>
            <a:ext cx="82296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р.00ко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3523р.80ко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76р.20ко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1 месяц на оплату всех платежей мы расходуем примерно 3500 рублей. Сколько денег мы израсходуем за г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457200" y="3963960"/>
            <a:ext cx="82296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500руб. х 12 = 42000ру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1400" y="25524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                      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Спасибо за работу!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71400" y="1781280"/>
            <a:ext cx="795816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0" name="WordArt 3"/>
          <p:cNvSpPr txBox="1"/>
          <p:nvPr/>
        </p:nvSpPr>
        <p:spPr>
          <a:xfrm>
            <a:off x="2340000" y="-1800360"/>
            <a:ext cx="360036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480000"/>
                <a:gd name="adj2" fmla="val 41972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Fontwork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900000" y="1979640"/>
            <a:ext cx="7380360" cy="395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Н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025640" y="1600200"/>
            <a:ext cx="2878200" cy="2158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5610240" y="1600200"/>
            <a:ext cx="2143080" cy="2158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3"/>
          <a:stretch/>
        </p:blipFill>
        <p:spPr>
          <a:xfrm>
            <a:off x="1260360" y="4140360"/>
            <a:ext cx="2878200" cy="2158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4"/>
          <a:stretch/>
        </p:blipFill>
        <p:spPr>
          <a:xfrm>
            <a:off x="5761080" y="3960720"/>
            <a:ext cx="2158920" cy="2158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читайте сум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457200" y="1600200"/>
            <a:ext cx="40165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4673520" y="1600200"/>
            <a:ext cx="40165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673520" y="3963960"/>
            <a:ext cx="40165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5759280" y="19796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1800360" y="1979640"/>
            <a:ext cx="1419120" cy="1428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3"/>
          <a:stretch/>
        </p:blipFill>
        <p:spPr>
          <a:xfrm>
            <a:off x="1260360" y="4151160"/>
            <a:ext cx="1828800" cy="1428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"/>
          <p:cNvPicPr/>
          <p:nvPr/>
        </p:nvPicPr>
        <p:blipFill>
          <a:blip r:embed="rId4"/>
          <a:stretch/>
        </p:blipFill>
        <p:spPr>
          <a:xfrm>
            <a:off x="5884920" y="4319640"/>
            <a:ext cx="149544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ПЮ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457200" y="1600200"/>
            <a:ext cx="40165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419640" y="1800360"/>
            <a:ext cx="21603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021360" y="1600200"/>
            <a:ext cx="26496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6021360" y="3963960"/>
            <a:ext cx="26496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3240000" y="3963960"/>
            <a:ext cx="26496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240000" y="3959280"/>
            <a:ext cx="26496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360360" y="1979640"/>
            <a:ext cx="2857680" cy="1800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2"/>
          <a:stretch/>
        </p:blipFill>
        <p:spPr>
          <a:xfrm>
            <a:off x="6119640" y="1979640"/>
            <a:ext cx="251964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3"/>
          <a:stretch/>
        </p:blipFill>
        <p:spPr>
          <a:xfrm>
            <a:off x="3419640" y="4606920"/>
            <a:ext cx="2339640" cy="1512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"/>
          <p:cNvPicPr/>
          <p:nvPr/>
        </p:nvPicPr>
        <p:blipFill>
          <a:blip r:embed="rId4"/>
          <a:stretch/>
        </p:blipFill>
        <p:spPr>
          <a:xfrm>
            <a:off x="3240000" y="1982880"/>
            <a:ext cx="2340000" cy="1617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"/>
          <p:cNvPicPr/>
          <p:nvPr/>
        </p:nvPicPr>
        <p:blipFill>
          <a:blip r:embed="rId5"/>
          <a:stretch/>
        </p:blipFill>
        <p:spPr>
          <a:xfrm>
            <a:off x="179280" y="4680000"/>
            <a:ext cx="2857680" cy="1589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"/>
          <p:cNvPicPr/>
          <p:nvPr/>
        </p:nvPicPr>
        <p:blipFill>
          <a:blip r:embed="rId6"/>
          <a:stretch/>
        </p:blipFill>
        <p:spPr>
          <a:xfrm>
            <a:off x="6119640" y="4680000"/>
            <a:ext cx="231804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копее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55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б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б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б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п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б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п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84200" y="1619280"/>
            <a:ext cx="4016520" cy="38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30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52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671400" y="255600"/>
            <a:ext cx="78091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  <a:ea typeface="Lucida Sans Unicode"/>
              </a:rPr>
              <a:t>КОММУНАЛЬНЫЕ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  <a:ea typeface="Lucida Sans Unicode"/>
              </a:rPr>
              <a:t>ПЛАТЕ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671400" y="1781280"/>
            <a:ext cx="388296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240000" y="1600200"/>
            <a:ext cx="26496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021360" y="1600200"/>
            <a:ext cx="26496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6021360" y="3963960"/>
            <a:ext cx="26496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240000" y="3963960"/>
            <a:ext cx="26496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457200" y="3963960"/>
            <a:ext cx="26496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8" descr=""/>
          <p:cNvPicPr/>
          <p:nvPr/>
        </p:nvPicPr>
        <p:blipFill>
          <a:blip r:embed="rId1"/>
          <a:stretch/>
        </p:blipFill>
        <p:spPr>
          <a:xfrm>
            <a:off x="720720" y="1800360"/>
            <a:ext cx="2160720" cy="1800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"/>
          <p:cNvPicPr/>
          <p:nvPr/>
        </p:nvPicPr>
        <p:blipFill>
          <a:blip r:embed="rId2"/>
          <a:stretch/>
        </p:blipFill>
        <p:spPr>
          <a:xfrm>
            <a:off x="3419640" y="1979640"/>
            <a:ext cx="2160360" cy="1800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"/>
          <p:cNvPicPr/>
          <p:nvPr/>
        </p:nvPicPr>
        <p:blipFill>
          <a:blip r:embed="rId3"/>
          <a:stretch/>
        </p:blipFill>
        <p:spPr>
          <a:xfrm>
            <a:off x="6195960" y="1979640"/>
            <a:ext cx="2265480" cy="180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/>
          <p:cNvPicPr/>
          <p:nvPr/>
        </p:nvPicPr>
        <p:blipFill>
          <a:blip r:embed="rId4"/>
          <a:stretch/>
        </p:blipFill>
        <p:spPr>
          <a:xfrm>
            <a:off x="720720" y="4319640"/>
            <a:ext cx="2160720" cy="1789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"/>
          <p:cNvPicPr/>
          <p:nvPr/>
        </p:nvPicPr>
        <p:blipFill>
          <a:blip r:embed="rId5"/>
          <a:stretch/>
        </p:blipFill>
        <p:spPr>
          <a:xfrm>
            <a:off x="3475080" y="4680000"/>
            <a:ext cx="2286000" cy="1428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"/>
          <p:cNvPicPr/>
          <p:nvPr/>
        </p:nvPicPr>
        <p:blipFill>
          <a:blip r:embed="rId6"/>
          <a:stretch/>
        </p:blipFill>
        <p:spPr>
          <a:xfrm>
            <a:off x="5916600" y="4511520"/>
            <a:ext cx="254304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125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125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125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125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125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125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1400" y="25524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ЭЛЕКТРОЭНЕРГИЯ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9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49840" y="1780920"/>
            <a:ext cx="38829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5040360" y="2340000"/>
            <a:ext cx="3060720" cy="270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>
            <a:off x="900000" y="1979640"/>
            <a:ext cx="341964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457200" y="176040"/>
            <a:ext cx="82296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  <a:ea typeface="Lucida Sans Unicode"/>
              </a:rPr>
              <a:t>ЭЛЕКТРОПРИБО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6021360" y="1600200"/>
            <a:ext cx="26496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021360" y="1600200"/>
            <a:ext cx="26496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240000" y="3963960"/>
            <a:ext cx="26496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240000" y="3963960"/>
            <a:ext cx="26496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900000" y="4319640"/>
            <a:ext cx="2160720" cy="1800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2"/>
          <a:stretch/>
        </p:blipFill>
        <p:spPr>
          <a:xfrm>
            <a:off x="3419640" y="4319640"/>
            <a:ext cx="2160360" cy="1800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3"/>
          <a:stretch/>
        </p:blipFill>
        <p:spPr>
          <a:xfrm>
            <a:off x="6300720" y="4319640"/>
            <a:ext cx="1979640" cy="1789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4"/>
          <a:stretch/>
        </p:blipFill>
        <p:spPr>
          <a:xfrm>
            <a:off x="841320" y="1979640"/>
            <a:ext cx="2038320" cy="1619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"/>
          <p:cNvPicPr/>
          <p:nvPr/>
        </p:nvPicPr>
        <p:blipFill>
          <a:blip r:embed="rId5"/>
          <a:stretch/>
        </p:blipFill>
        <p:spPr>
          <a:xfrm>
            <a:off x="6300720" y="1979640"/>
            <a:ext cx="1979640" cy="1619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"/>
          <p:cNvPicPr/>
          <p:nvPr/>
        </p:nvPicPr>
        <p:blipFill>
          <a:blip r:embed="rId6"/>
          <a:stretch/>
        </p:blipFill>
        <p:spPr>
          <a:xfrm>
            <a:off x="3240000" y="1979640"/>
            <a:ext cx="1979640" cy="16081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125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5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5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125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125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125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125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125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125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1400" y="25524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ТЕЛЕФОН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ИНТЕРНЕТ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71400" y="1780920"/>
            <a:ext cx="38829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49840" y="1780920"/>
            <a:ext cx="38829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4859280" y="2160720"/>
            <a:ext cx="3240000" cy="3240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2"/>
          <a:stretch/>
        </p:blipFill>
        <p:spPr>
          <a:xfrm>
            <a:off x="539640" y="1979640"/>
            <a:ext cx="3600720" cy="341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ия</dc:creator>
  <dc:description/>
  <dc:language>en-US</dc:language>
  <cp:lastModifiedBy>Мария</cp:lastModifiedBy>
  <dcterms:modified xsi:type="dcterms:W3CDTF">2013-05-01T08:48:0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