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3C9-8811-489D-911B-96774809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098-4B7B-45D9-998A-3E0E9566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F98-BF31-49AE-810E-0FBBF7B5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168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168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89B-1D48-40F1-9BDC-39E93312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BFF-2A1B-4597-BDF9-011C8AAB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F385-7121-48D7-BDB6-9C15F4B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C4A2-8C3A-4AC6-9765-0131BAE5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3AD9-52ED-40DF-8FE7-5E00E3FF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D01-EF08-49E1-9FE3-5003999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255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54E1-BBBA-4E97-AF07-60DB2BF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D268-76E3-45EE-B9A7-6998FE8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FDC-1CFF-4B5E-9B2A-E0BD2080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D4CE-63C0-424E-BB44-7FF470D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BCF6-72DB-4F98-BD6B-077C3AE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F3E9-86FC-4FC4-AA3D-ECF19EA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1F5A-C6F4-4DD2-BECD-2DC30E37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168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96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168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96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D8FE-9EAF-4F0A-98E2-E2E8ABF4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A4B-12E5-4C60-88F7-EAFBE46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1040" y="255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168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96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7140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168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96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D15-311D-4E4D-B35B-9821F888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C1B-550C-42B1-AD5D-8567438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255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248-8729-4495-9FFA-A8A99A99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21B-8B89-4350-8A0F-25B2717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364-D038-4DC9-8677-1F105389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A88-56A6-4CD3-9BBF-52512FB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56B4AB-181A-4CC6-9FD5-63216FC7266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A3F610-5CF6-470C-98ED-6CC0CC941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657360" y="6419880"/>
            <a:ext cx="8486640" cy="8712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803240" y="6611760"/>
            <a:ext cx="734076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dcff"/>
                </a:solidFill>
                <a:latin typeface="Arial"/>
              </a:rPr>
              <a:t>Учитель специальной коррекционной школы №4</a:t>
            </a:r>
            <a:br>
              <a:rPr sz="2400"/>
            </a:br>
            <a:r>
              <a:rPr b="0" lang="ru-RU" sz="2400" spc="-1" strike="noStrike">
                <a:solidFill>
                  <a:srgbClr val="00dcff"/>
                </a:solidFill>
                <a:latin typeface="Arial"/>
              </a:rPr>
              <a:t>гор. Санкт-Петербург</a:t>
            </a:r>
            <a:br>
              <a:rPr sz="2400"/>
            </a:br>
            <a:r>
              <a:rPr b="1" lang="ru-RU" sz="2400" spc="-1" strike="noStrike">
                <a:solidFill>
                  <a:srgbClr val="00dcff"/>
                </a:solidFill>
                <a:latin typeface="Arial"/>
              </a:rPr>
              <a:t>Форш Мария Ким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математики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700b8"/>
                </a:solidFill>
                <a:latin typeface="Arial"/>
              </a:rPr>
              <a:t>Действия с именованными числами на примере расчета коммунальных платеж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6 -7 классов школы 8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ГАЗ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984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040360" y="2340000"/>
            <a:ext cx="3240000" cy="27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324036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читайте,какую сумму надо опла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45720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67352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57200" y="396396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54080" y="3959280"/>
            <a:ext cx="4346640" cy="23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4859280" y="1440000"/>
            <a:ext cx="37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4859280" y="3959280"/>
            <a:ext cx="3959280" cy="234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179280" y="1440000"/>
            <a:ext cx="431964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0р.90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426р.40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91р.00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5р.50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23р.80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латы в Сбербанке в банкомат вставили 5000 купюру. Сколько денег останется после уплаты всех платеж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396396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р.00к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523р.80к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76р.20к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1 месяц на оплату всех платежей мы расходуем примерно 3500 рублей. Сколько денег мы израсходуем за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396396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00руб. х 12 = 42000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                     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Спасибо за работу!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71400" y="1781280"/>
            <a:ext cx="795816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340000" y="-1800360"/>
            <a:ext cx="3600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480000"/>
                <a:gd name="adj2" fmla="val 419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Font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900000" y="1979640"/>
            <a:ext cx="738036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25640" y="160020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610240" y="1600200"/>
            <a:ext cx="214308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1260360" y="414036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5761080" y="396072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читайте су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67352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73520" y="396396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5759280" y="1979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800360" y="197964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1260360" y="415116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5884920" y="4319640"/>
            <a:ext cx="14954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Ю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419640" y="1800360"/>
            <a:ext cx="216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021360" y="160020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021360" y="396396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0" y="396396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40000" y="395928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285768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6119640" y="1979640"/>
            <a:ext cx="251964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3419640" y="4606920"/>
            <a:ext cx="2339640" cy="151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3240000" y="1982880"/>
            <a:ext cx="2340000" cy="161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179280" y="4680000"/>
            <a:ext cx="2857680" cy="1589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6"/>
          <a:stretch/>
        </p:blipFill>
        <p:spPr>
          <a:xfrm>
            <a:off x="6119640" y="4680000"/>
            <a:ext cx="23180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пе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84200" y="1619280"/>
            <a:ext cx="40165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5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671400" y="25560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  <a:ea typeface="Lucida Sans Unicode"/>
              </a:rPr>
              <a:t>КОММУНАЛЬНЫЕ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  <a:ea typeface="Lucida Sans Unicode"/>
              </a:rPr>
              <a:t>ПЛАТЕ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71400" y="1781280"/>
            <a:ext cx="38829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4000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2136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02136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2400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572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3419640" y="197964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3"/>
          <a:stretch/>
        </p:blipFill>
        <p:spPr>
          <a:xfrm>
            <a:off x="6195960" y="1979640"/>
            <a:ext cx="226548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720720" y="4319640"/>
            <a:ext cx="2160720" cy="178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3475080" y="46800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>
            <a:off x="5916600" y="4511520"/>
            <a:ext cx="25430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25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2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2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2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2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2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ЭЛЕКТРОЭНЕРГИЯ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984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040360" y="2340000"/>
            <a:ext cx="3060720" cy="27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900000" y="1979640"/>
            <a:ext cx="34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176040"/>
            <a:ext cx="8229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  <a:ea typeface="Lucida Sans Unicode"/>
              </a:rPr>
              <a:t>ЭЛЕКТРОПРИБ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602136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2136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400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900000" y="4319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3419640" y="431964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6300720" y="4319640"/>
            <a:ext cx="1979640" cy="178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841320" y="1979640"/>
            <a:ext cx="2038320" cy="1619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5"/>
          <a:stretch/>
        </p:blipFill>
        <p:spPr>
          <a:xfrm>
            <a:off x="6300720" y="1979640"/>
            <a:ext cx="197964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6"/>
          <a:stretch/>
        </p:blipFill>
        <p:spPr>
          <a:xfrm>
            <a:off x="3240000" y="1979640"/>
            <a:ext cx="197964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12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2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2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2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2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12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12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ЕЛЕФОН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ИНТЕРНЕТ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984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859280" y="216072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39640" y="1979640"/>
            <a:ext cx="360072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я</dc:creator>
  <dc:description/>
  <dc:language>en-US</dc:language>
  <cp:lastModifiedBy>Мария</cp:lastModifiedBy>
  <dcterms:modified xsi:type="dcterms:W3CDTF">2013-05-01T08:48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