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73BC-4C7D-42E2-B0DB-8F6F275DC8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3A14-5103-462D-8C27-31E77DCBFD2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969C-38EF-4542-8C6C-833F7A9F022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015A-DE20-4D3D-AA0C-75F3B56C5F4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3751-130F-4575-9853-49AFA2DA152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44C-F2F5-402C-8D45-A7DC53D1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A38-28F2-489E-A0A1-3CCA1574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25C-9EA6-462A-A136-4142984E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272-32C8-4649-A38E-27566949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28AE-90D9-434D-AAF7-0F106E47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1E3F-7A7B-48B2-88A4-918CCB1F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7733-9923-46DC-9EB1-359069D9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CE8F-E20C-4D4A-B4AB-0ACDD299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2B0C-67F6-4432-8E3D-7FF6143A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1628-67E4-437B-BACA-4A9433CA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7D8C-BCA0-4073-918B-B70F66C0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375-1B59-4F36-8B77-09CB36D1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3F1A-02C9-4A40-BB14-E05ADF89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9DFA-7A5E-4E3E-AE2E-EB5057FE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72EE-0A7E-4634-B8A5-C337FEBB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E54D-D750-4C75-BB12-A4AF0CE4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2676-31B0-449C-B3B7-05A3EBE1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04F-58FB-4543-844D-DB009B3F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278-68B8-4D80-A67F-AAE0120D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B7C-2C99-45DD-BB99-80068EC2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300-039A-4246-8CCE-7E5AD204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1ED-7A84-4988-9742-6D320F14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4C6-B045-48B7-B526-4EE579BE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236-CEA1-4B74-9996-4E05578E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8480" cy="6950160"/>
            <a:chOff x="-86760" y="-93600"/>
            <a:chExt cx="27784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92800" cy="3119040"/>
              <a:chOff x="-1080" y="2601000"/>
              <a:chExt cx="26928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8560"/>
                <a:ext cx="1838160" cy="1671480"/>
                <a:chOff x="853560" y="4048560"/>
                <a:chExt cx="1838160" cy="167148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81240" y="3928320"/>
                  <a:ext cx="477360" cy="1258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58200"/>
                    <a:gd name="textAreaBottom" fmla="*/ 1258560 h 1258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82840" y="4978800"/>
                  <a:ext cx="110520" cy="5158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5880"/>
                    <a:gd name="textAreaBottom" fmla="*/ 516240 h 5158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7680" y="5564520"/>
                  <a:ext cx="200880" cy="907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ED59-623A-432F-B198-4301B543F9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8480" cy="6950160"/>
            <a:chOff x="-86760" y="-93600"/>
            <a:chExt cx="277848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92800" cy="3119040"/>
              <a:chOff x="-1080" y="2601000"/>
              <a:chExt cx="2692800" cy="311904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3560" y="4048560"/>
                <a:ext cx="1838160" cy="1671480"/>
                <a:chOff x="853560" y="4048560"/>
                <a:chExt cx="1838160" cy="167148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81240" y="3928320"/>
                  <a:ext cx="477360" cy="1258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58200"/>
                    <a:gd name="textAreaBottom" fmla="*/ 1258560 h 1258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82840" y="4978800"/>
                  <a:ext cx="110520" cy="5158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5880"/>
                    <a:gd name="textAreaBottom" fmla="*/ 516240 h 5158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497680" y="5564520"/>
                  <a:ext cx="200880" cy="907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2"/>
          <p:cNvGrpSpPr/>
          <p:nvPr/>
        </p:nvGrpSpPr>
        <p:grpSpPr>
          <a:xfrm>
            <a:off x="-19800" y="0"/>
            <a:ext cx="9049680" cy="6858000"/>
            <a:chOff x="-19800" y="0"/>
            <a:chExt cx="904968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5377680" y="61560"/>
              <a:ext cx="3652200" cy="6141600"/>
              <a:chOff x="5377680" y="61560"/>
              <a:chExt cx="3652200" cy="6141600"/>
            </a:xfrm>
          </p:grpSpPr>
          <p:sp>
            <p:nvSpPr>
              <p:cNvPr id="129" name="Freeform 4"/>
              <p:cNvSpPr/>
              <p:nvPr/>
            </p:nvSpPr>
            <p:spPr>
              <a:xfrm flipV="1" rot="11970000">
                <a:off x="6575040" y="347400"/>
                <a:ext cx="2122200" cy="2357640"/>
              </a:xfrm>
              <a:custGeom>
                <a:avLst/>
                <a:gdLst>
                  <a:gd name="textAreaLeft" fmla="*/ 0 w 2122200"/>
                  <a:gd name="textAreaRight" fmla="*/ 2122560 w 21222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V="1" rot="11970000">
                <a:off x="7404120" y="1966320"/>
                <a:ext cx="909000" cy="84276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V="1" rot="11970000">
                <a:off x="6816600" y="2589840"/>
                <a:ext cx="440640" cy="3952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V="1" rot="11970000">
                <a:off x="7245720" y="676440"/>
                <a:ext cx="390240" cy="55080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V="1" rot="11970000">
                <a:off x="7126200" y="265032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V="1" rot="11970000">
                <a:off x="7122600" y="1239120"/>
                <a:ext cx="190800" cy="142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V="1" rot="11970000">
                <a:off x="5907960" y="2940120"/>
                <a:ext cx="525240" cy="3268440"/>
              </a:xfrm>
              <a:custGeom>
                <a:avLst/>
                <a:gdLst>
                  <a:gd name="textAreaLeft" fmla="*/ 0 w 525240"/>
                  <a:gd name="textAreaRight" fmla="*/ 525600 w 5252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" name="Freeform 11"/>
            <p:cNvSpPr/>
            <p:nvPr/>
          </p:nvSpPr>
          <p:spPr>
            <a:xfrm flipH="1" rot="373800">
              <a:off x="34200" y="3106800"/>
              <a:ext cx="514080" cy="1030320"/>
            </a:xfrm>
            <a:custGeom>
              <a:avLst/>
              <a:gdLst>
                <a:gd name="textAreaLeft" fmla="*/ 360 w 514080"/>
                <a:gd name="textAreaRight" fmla="*/ 514800 w 5140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267480" y="2000160"/>
              <a:ext cx="2004840" cy="2432160"/>
            </a:xfrm>
            <a:custGeom>
              <a:avLst/>
              <a:gdLst>
                <a:gd name="textAreaLeft" fmla="*/ 0 w 2004840"/>
                <a:gd name="textAreaRight" fmla="*/ 2004840 w 200484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0" y="4143240"/>
              <a:ext cx="1275120" cy="728640"/>
            </a:xfrm>
            <a:custGeom>
              <a:avLst/>
              <a:gdLst>
                <a:gd name="textAreaLeft" fmla="*/ 0 w 1275120"/>
                <a:gd name="textAreaRight" fmla="*/ 1275480 w 12751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flipH="1" rot="373800">
              <a:off x="1429920" y="4532040"/>
              <a:ext cx="563400" cy="736560"/>
            </a:xfrm>
            <a:custGeom>
              <a:avLst/>
              <a:gdLst>
                <a:gd name="textAreaLeft" fmla="*/ -360 w 563400"/>
                <a:gd name="textAreaRight" fmla="*/ 563400 w 5634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flipH="1" rot="373800">
              <a:off x="1271160" y="4728960"/>
              <a:ext cx="138600" cy="43488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895040" y="5195880"/>
              <a:ext cx="1764360" cy="1662120"/>
            </a:xfrm>
            <a:custGeom>
              <a:avLst/>
              <a:gdLst>
                <a:gd name="textAreaLeft" fmla="*/ 0 w 1764360"/>
                <a:gd name="textAreaRight" fmla="*/ 1764720 w 17643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4163400" y="1032480"/>
              <a:ext cx="1017720" cy="1263960"/>
              <a:chOff x="4163400" y="1032480"/>
              <a:chExt cx="1017720" cy="1263960"/>
            </a:xfrm>
          </p:grpSpPr>
          <p:sp>
            <p:nvSpPr>
              <p:cNvPr id="143" name="Freeform 18"/>
              <p:cNvSpPr/>
              <p:nvPr/>
            </p:nvSpPr>
            <p:spPr>
              <a:xfrm rot="3220200">
                <a:off x="4579920" y="1069920"/>
                <a:ext cx="285840" cy="37980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3220200">
                <a:off x="4664520" y="1603800"/>
                <a:ext cx="488880" cy="31536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360"/>
                  <a:gd name="textAreaBottom" fmla="*/ 315360 h 315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3220200">
                <a:off x="4123800" y="196272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5646240" y="237240"/>
              <a:ext cx="896040" cy="827280"/>
              <a:chOff x="5646240" y="237240"/>
              <a:chExt cx="896040" cy="827280"/>
            </a:xfrm>
          </p:grpSpPr>
          <p:sp>
            <p:nvSpPr>
              <p:cNvPr id="147" name="Freeform 22"/>
              <p:cNvSpPr/>
              <p:nvPr/>
            </p:nvSpPr>
            <p:spPr>
              <a:xfrm rot="14908200">
                <a:off x="5758200" y="732600"/>
                <a:ext cx="179280" cy="36324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3240"/>
                  <a:gd name="textAreaBottom" fmla="*/ 363600 h 363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14908200">
                <a:off x="5708160" y="412920"/>
                <a:ext cx="306360" cy="3016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14908200">
                <a:off x="6252480" y="336960"/>
                <a:ext cx="319320" cy="15372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25"/>
            <p:cNvGrpSpPr/>
            <p:nvPr/>
          </p:nvGrpSpPr>
          <p:grpSpPr>
            <a:xfrm>
              <a:off x="972360" y="5237280"/>
              <a:ext cx="1060920" cy="831240"/>
              <a:chOff x="972360" y="5237280"/>
              <a:chExt cx="1060920" cy="831240"/>
            </a:xfrm>
          </p:grpSpPr>
          <p:sp>
            <p:nvSpPr>
              <p:cNvPr id="151" name="Freeform 26"/>
              <p:cNvSpPr/>
              <p:nvPr/>
            </p:nvSpPr>
            <p:spPr>
              <a:xfrm rot="8524800">
                <a:off x="1715760" y="5500800"/>
                <a:ext cx="251640" cy="3006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8524800">
                <a:off x="1196640" y="5713200"/>
                <a:ext cx="430920" cy="248760"/>
              </a:xfrm>
              <a:custGeom>
                <a:avLst/>
                <a:gdLst>
                  <a:gd name="textAreaLeft" fmla="*/ 0 w 430920"/>
                  <a:gd name="textAreaRight" fmla="*/ 431280 w 43092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8524800">
                <a:off x="963360" y="5362200"/>
                <a:ext cx="450360" cy="12672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29"/>
            <p:cNvGrpSpPr/>
            <p:nvPr/>
          </p:nvGrpSpPr>
          <p:grpSpPr>
            <a:xfrm>
              <a:off x="377280" y="399960"/>
              <a:ext cx="1694880" cy="1146600"/>
              <a:chOff x="377280" y="399960"/>
              <a:chExt cx="1694880" cy="1146600"/>
            </a:xfrm>
          </p:grpSpPr>
          <p:sp>
            <p:nvSpPr>
              <p:cNvPr id="155" name="Freeform 30"/>
              <p:cNvSpPr/>
              <p:nvPr/>
            </p:nvSpPr>
            <p:spPr>
              <a:xfrm flipH="1" rot="4107000">
                <a:off x="1581840" y="1017720"/>
                <a:ext cx="355320" cy="53172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flipH="1" rot="4107000">
                <a:off x="1027080" y="542880"/>
                <a:ext cx="608400" cy="44208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2080"/>
                  <a:gd name="textAreaBottom" fmla="*/ 442440 h 4420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flipH="1" rot="4107000">
                <a:off x="280440" y="1058040"/>
                <a:ext cx="636120" cy="22500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33"/>
            <p:cNvGrpSpPr/>
            <p:nvPr/>
          </p:nvGrpSpPr>
          <p:grpSpPr>
            <a:xfrm>
              <a:off x="7452720" y="3711600"/>
              <a:ext cx="1159560" cy="1608840"/>
              <a:chOff x="7452720" y="3711600"/>
              <a:chExt cx="1159560" cy="1608840"/>
            </a:xfrm>
          </p:grpSpPr>
          <p:sp>
            <p:nvSpPr>
              <p:cNvPr id="159" name="Freeform 34"/>
              <p:cNvSpPr/>
              <p:nvPr/>
            </p:nvSpPr>
            <p:spPr>
              <a:xfrm flipH="1" rot="10015800">
                <a:off x="7507800" y="4756320"/>
                <a:ext cx="356400" cy="530640"/>
              </a:xfrm>
              <a:custGeom>
                <a:avLst/>
                <a:gdLst>
                  <a:gd name="textAreaLeft" fmla="*/ 0 w 356400"/>
                  <a:gd name="textAreaRight" fmla="*/ 356400 w 35640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 flipH="1" rot="10015800">
                <a:off x="7959960" y="4455000"/>
                <a:ext cx="610200" cy="441000"/>
              </a:xfrm>
              <a:custGeom>
                <a:avLst/>
                <a:gdLst>
                  <a:gd name="textAreaLeft" fmla="*/ -360 w 610200"/>
                  <a:gd name="textAreaRight" fmla="*/ 610200 w 61020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flipH="1" rot="10015800">
                <a:off x="7651800" y="3780720"/>
                <a:ext cx="637920" cy="224280"/>
              </a:xfrm>
              <a:custGeom>
                <a:avLst/>
                <a:gdLst>
                  <a:gd name="textAreaLeft" fmla="*/ 360 w 637920"/>
                  <a:gd name="textAreaRight" fmla="*/ 638640 w 63792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" name="Freeform 37"/>
            <p:cNvSpPr/>
            <p:nvPr/>
          </p:nvSpPr>
          <p:spPr>
            <a:xfrm>
              <a:off x="1937880" y="3240"/>
              <a:ext cx="1372320" cy="1406520"/>
            </a:xfrm>
            <a:custGeom>
              <a:avLst/>
              <a:gdLst>
                <a:gd name="textAreaLeft" fmla="*/ 0 w 1372320"/>
                <a:gd name="textAreaRight" fmla="*/ 1372680 w 137232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V="1" rot="9832800">
              <a:off x="3435840" y="161640"/>
              <a:ext cx="1084320" cy="94140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V="1" rot="9832800">
              <a:off x="3179160" y="1361520"/>
              <a:ext cx="525240" cy="44100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V="1" rot="9832800">
              <a:off x="3541320" y="1281960"/>
              <a:ext cx="195840" cy="37044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2552400" y="0"/>
              <a:ext cx="197280" cy="19224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V="1" rot="9832800">
              <a:off x="3460320" y="1964160"/>
              <a:ext cx="625680" cy="36514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8D58-F267-4CDC-BEB5-944A12E689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otodeti.ru/" TargetMode="External"/><Relationship Id="rId2" Type="http://schemas.openxmlformats.org/officeDocument/2006/relationships/hyperlink" Target="http://priroda77.narod.ru/animation/anima_1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13840" y="1428480"/>
            <a:ext cx="8929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Классный час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«Вместе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весело шагать»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Oval 7"/>
          <p:cNvSpPr/>
          <p:nvPr/>
        </p:nvSpPr>
        <p:spPr>
          <a:xfrm>
            <a:off x="2214720" y="285840"/>
            <a:ext cx="1857240" cy="178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ыше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24240" y="2350080"/>
            <a:ext cx="737640" cy="657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txBody>
          <a:bodyPr anchor="ctr" anchorCtr="1">
            <a:normAutofit fontScale="92000"/>
          </a:bodyPr>
          <a:p>
            <a:pPr marL="315360" indent="-3153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4357800" y="4786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1571760" y="4786200"/>
            <a:ext cx="1490400" cy="158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есл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6429240" y="285840"/>
            <a:ext cx="1924200" cy="1928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друг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6643800" y="4143240"/>
            <a:ext cx="1635120" cy="158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ут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4" descr="f342"/>
          <p:cNvPicPr/>
          <p:nvPr/>
        </p:nvPicPr>
        <p:blipFill>
          <a:blip r:embed="rId1"/>
          <a:stretch/>
        </p:blipFill>
        <p:spPr>
          <a:xfrm>
            <a:off x="857160" y="2214720"/>
            <a:ext cx="2027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61680" y="1804680"/>
            <a:ext cx="184788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a1d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1d06"/>
                </a:solidFill>
                <a:latin typeface="Times New Roman"/>
              </a:rPr>
              <a:t>друг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1428840" y="3571920"/>
            <a:ext cx="1635120" cy="128592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1d06"/>
                </a:solidFill>
                <a:latin typeface="Verdana"/>
              </a:rPr>
              <a:t>тр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357720" y="500040"/>
            <a:ext cx="2500200" cy="15717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1d06"/>
                </a:solidFill>
                <a:latin typeface="Verdana"/>
              </a:rPr>
              <a:t>веселы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6143760" y="2786040"/>
            <a:ext cx="2449440" cy="150012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1d06"/>
                </a:solidFill>
                <a:latin typeface="Verdana"/>
              </a:rPr>
              <a:t>танкис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4357800" y="5214960"/>
            <a:ext cx="1635120" cy="1214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1d06"/>
                </a:solidFill>
                <a:latin typeface="Verdana"/>
              </a:rPr>
              <a:t>тр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4" descr="f342"/>
          <p:cNvPicPr/>
          <p:nvPr/>
        </p:nvPicPr>
        <p:blipFill>
          <a:blip r:embed="rId1"/>
          <a:stretch/>
        </p:blipFill>
        <p:spPr>
          <a:xfrm>
            <a:off x="3429000" y="2357280"/>
            <a:ext cx="20271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268360" y="692280"/>
            <a:ext cx="4321440" cy="1295280"/>
          </a:xfrm>
          <a:prstGeom prst="ellipse">
            <a:avLst/>
          </a:prstGeom>
          <a:solidFill>
            <a:srgbClr val="fa1d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99"/>
                </a:solidFill>
                <a:latin typeface="Verdana"/>
              </a:rPr>
              <a:t>простора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168600" y="2112840"/>
            <a:ext cx="1849320" cy="889200"/>
          </a:xfrm>
          <a:prstGeom prst="rect">
            <a:avLst/>
          </a:prstGeom>
          <a:solidFill>
            <a:srgbClr val="fa1d06"/>
          </a:solidFill>
          <a:ln w="9360">
            <a:solidFill>
              <a:srgbClr val="000000"/>
            </a:solidFill>
            <a:round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99"/>
                </a:solidFill>
                <a:latin typeface="Verdana"/>
              </a:rPr>
              <a:t>п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Oval 4"/>
          <p:cNvSpPr/>
          <p:nvPr/>
        </p:nvSpPr>
        <p:spPr>
          <a:xfrm>
            <a:off x="1000080" y="4929120"/>
            <a:ext cx="2714760" cy="1357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99"/>
                </a:solidFill>
                <a:latin typeface="Verdana"/>
              </a:rPr>
              <a:t>вмест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1785960" y="2643120"/>
            <a:ext cx="2158920" cy="1368360"/>
          </a:xfrm>
          <a:prstGeom prst="ellipse">
            <a:avLst/>
          </a:prstGeom>
          <a:solidFill>
            <a:srgbClr val="fa1d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99"/>
                </a:solidFill>
                <a:latin typeface="Verdana"/>
              </a:rPr>
              <a:t>весел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5429160" y="4357800"/>
            <a:ext cx="1995480" cy="1276200"/>
          </a:xfrm>
          <a:prstGeom prst="ellipse">
            <a:avLst/>
          </a:prstGeom>
          <a:solidFill>
            <a:srgbClr val="fa1d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99"/>
                </a:solidFill>
                <a:latin typeface="Verdana"/>
              </a:rPr>
              <a:t>шагат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f342"/>
          <p:cNvPicPr/>
          <p:nvPr/>
        </p:nvPicPr>
        <p:blipFill>
          <a:blip r:embed="rId1"/>
          <a:stretch/>
        </p:blipFill>
        <p:spPr>
          <a:xfrm>
            <a:off x="3714840" y="2571840"/>
            <a:ext cx="2027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9"/>
          <p:cNvSpPr/>
          <p:nvPr/>
        </p:nvSpPr>
        <p:spPr>
          <a:xfrm>
            <a:off x="642960" y="0"/>
            <a:ext cx="3492360" cy="208764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поделис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464880" y="1490040"/>
            <a:ext cx="1449000" cy="1124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 fontScale="83000"/>
          </a:bodyPr>
          <a:p>
            <a:pPr marL="284400" indent="-2844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вернетс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AutoShape 13"/>
          <p:cNvSpPr/>
          <p:nvPr/>
        </p:nvSpPr>
        <p:spPr>
          <a:xfrm>
            <a:off x="1000080" y="2000160"/>
            <a:ext cx="1892520" cy="179568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ещ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AutoShape 10"/>
          <p:cNvSpPr/>
          <p:nvPr/>
        </p:nvSpPr>
        <p:spPr>
          <a:xfrm>
            <a:off x="7415280" y="5000760"/>
            <a:ext cx="1728720" cy="15843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он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AutoShape 11"/>
          <p:cNvSpPr/>
          <p:nvPr/>
        </p:nvSpPr>
        <p:spPr>
          <a:xfrm>
            <a:off x="1214280" y="4572000"/>
            <a:ext cx="3714840" cy="20001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улыбкою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3857760" y="1857240"/>
            <a:ext cx="1490400" cy="172728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н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5000760" y="4000680"/>
            <a:ext cx="1357200" cy="77148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4286160" y="214200"/>
            <a:ext cx="1800360" cy="171468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свое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7286760" y="3071880"/>
            <a:ext cx="1655640" cy="156348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4572000" y="5286240"/>
            <a:ext cx="1800360" cy="12258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теб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AutoShape 12"/>
          <p:cNvSpPr/>
          <p:nvPr/>
        </p:nvSpPr>
        <p:spPr>
          <a:xfrm>
            <a:off x="2357280" y="3143160"/>
            <a:ext cx="1490760" cy="172728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раз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4" descr="f342"/>
          <p:cNvPicPr/>
          <p:nvPr/>
        </p:nvPicPr>
        <p:blipFill>
          <a:blip r:embed="rId1"/>
          <a:stretch/>
        </p:blipFill>
        <p:spPr>
          <a:xfrm>
            <a:off x="285840" y="3857760"/>
            <a:ext cx="1670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214200"/>
            <a:ext cx="86868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Times New Roman"/>
              </a:rPr>
              <a:t>доброта, честность, злоба, ум, смелость, неряшливость, сила, трудолюбие, жадность, чувство юмора, щедрость, аккуратность, оскорбления, преданность, целеустремленность, мужество, умение держать слово, согласие, умение слушать и уступать другу, доверие, лень, хвастовство, насмешки над своим товарищем, поддержка в озорстве и хулиганстве, уважение,  терпимость, обязательность, умение признавать свои ошибки, терпение, ответственность за друга, волнение, переживание, подлость радость за друга, зависть, умение давать полезные советы, умение оказывать помощь, трусость, поддержка в хорошем дел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drawingml/2006/table">
            <a:tbl>
              <a:tblPr/>
              <a:tblGrid>
                <a:gridCol w="5340240"/>
                <a:gridCol w="3803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Положительные качест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Отрицательные качест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cc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доброта, честность, ум, смелость, сила,</a:t>
                      </a:r>
                      <a:r>
                        <a:rPr b="0" lang="ru-RU" sz="2400" spc="-1" strike="noStrike">
                          <a:solidFill>
                            <a:srgbClr val="6600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трудолюбие, чувство юмора, щедрость, аккуратность, преданность, целеустремленность, мужество, умение держать слово, согласие, умение слушать и уступать другу, доверие, уважение,  терпимость, обязательность, умение признавать свои ошибки, терпение, несёт ответственность за друга, волнение, переживание, радость за друга, умение давать полезные советы, умение оказывать помощь, поддержка в хорошем де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злоба, лень, хвастовство, жадность, зависть, трусость, неряшливость, подлость, оскорбления, насмешки над своим товарищем,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поддержка в озорстве и хулиганств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44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00cc"/>
                </a:solidFill>
                <a:uFillTx/>
                <a:latin typeface="Verdana"/>
              </a:rPr>
              <a:t>Законы дружбы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928800"/>
            <a:ext cx="8686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6600cc"/>
                </a:solidFill>
                <a:latin typeface="Verdana"/>
              </a:rPr>
              <a:t>* </a:t>
            </a: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Один за всех и все за одног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* С хорошим другом веселей при удаче, легче в бед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* Не ссорься и не спорь с другом по пустяка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* Не ябедничай, лучше сам поправ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* В разговоре, в игре не будь грубым, не крич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* Не бойся просить прощ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571760" y="2285640"/>
            <a:ext cx="711504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Давайте дружно будем ж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И нашей дружбой дорожит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И никогда не ссорить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Тогда дела все спорятс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Picture 5" descr="J:\классный час\5742c64de29c0fa8960ed1a63542e99f_3.gif"/>
          <p:cNvPicPr/>
          <p:nvPr/>
        </p:nvPicPr>
        <p:blipFill>
          <a:blip r:embed="rId1"/>
          <a:stretch/>
        </p:blipFill>
        <p:spPr>
          <a:xfrm>
            <a:off x="0" y="0"/>
            <a:ext cx="2128680" cy="2143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J:\классный час\5742c64de29c0fa8960ed1a63542e99f_3.gif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J:\классный час\wwwonlinerws15bl3.jpeg"/>
          <p:cNvPicPr/>
          <p:nvPr/>
        </p:nvPicPr>
        <p:blipFill>
          <a:blip r:embed="rId1"/>
          <a:stretch/>
        </p:blipFill>
        <p:spPr>
          <a:xfrm>
            <a:off x="0" y="0"/>
            <a:ext cx="92934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707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6600ff"/>
                </a:solidFill>
                <a:latin typeface="Monotype Corsiva"/>
              </a:rPr>
              <a:t>Дарите друг </a:t>
            </a:r>
            <a:br>
              <a:rPr sz="8800"/>
            </a:br>
            <a:r>
              <a:rPr b="1" i="1" lang="ru-RU" sz="8800" spc="-1" strike="noStrike">
                <a:solidFill>
                  <a:srgbClr val="6600ff"/>
                </a:solidFill>
                <a:latin typeface="Monotype Corsiva"/>
              </a:rPr>
              <a:t>другу сердца и </a:t>
            </a:r>
            <a:br>
              <a:rPr sz="8800"/>
            </a:br>
            <a:r>
              <a:rPr b="1" i="1" lang="ru-RU" sz="8800" spc="-1" strike="noStrike">
                <a:solidFill>
                  <a:srgbClr val="6600ff"/>
                </a:solidFill>
                <a:latin typeface="Monotype Corsiva"/>
              </a:rPr>
              <a:t>улыбки , тогда вы сможете стать настоящими друзьями !!!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5" descr="J:\классный час\5742c64de29c0fa8960ed1a63542e99f_3.gif"/>
          <p:cNvPicPr/>
          <p:nvPr/>
        </p:nvPicPr>
        <p:blipFill>
          <a:blip r:embed="rId2"/>
          <a:stretch/>
        </p:blipFill>
        <p:spPr>
          <a:xfrm>
            <a:off x="7215120" y="4714920"/>
            <a:ext cx="2129040" cy="2143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J:\классный час\5742c64de29c0fa8960ed1a63542e99f_3.gif"/>
          <p:cNvPicPr/>
          <p:nvPr/>
        </p:nvPicPr>
        <p:blipFill>
          <a:blip r:embed="rId3"/>
          <a:stretch/>
        </p:blipFill>
        <p:spPr>
          <a:xfrm>
            <a:off x="-214200" y="0"/>
            <a:ext cx="2128680" cy="2143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714240"/>
            <a:ext cx="82440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99"/>
                </a:solidFill>
                <a:uFillTx/>
                <a:latin typeface="Verdana"/>
                <a:hlinkClick r:id="rId1"/>
              </a:rPr>
              <a:t>http://www.fotodeti.ru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Прямоугольник 3"/>
          <p:cNvSpPr/>
          <p:nvPr/>
        </p:nvSpPr>
        <p:spPr>
          <a:xfrm>
            <a:off x="428760" y="3105000"/>
            <a:ext cx="8286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99"/>
                </a:solidFill>
                <a:uFillTx/>
                <a:latin typeface="Verdana"/>
                <a:hlinkClick r:id="rId2"/>
              </a:rPr>
              <a:t>http://priroda77.narod.ru/animation/anima_1.htm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642960" y="741960"/>
            <a:ext cx="807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Verdana"/>
                <a:ea typeface="Times New Roman"/>
              </a:rPr>
              <a:t>Зеб дурга в зинжи гуто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6600cc"/>
                </a:solidFill>
                <a:latin typeface="Verdana"/>
                <a:ea typeface="Times New Roman"/>
              </a:rPr>
              <a:t>Дург напозсяет в дебе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6600cc"/>
                </a:solidFill>
                <a:latin typeface="Verdana"/>
                <a:ea typeface="Times New Roman"/>
              </a:rPr>
              <a:t>Дурга щии, а дешьнай гереб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6600cc"/>
                </a:solidFill>
                <a:latin typeface="Verdana"/>
                <a:ea typeface="Times New Roman"/>
              </a:rPr>
              <a:t>Не мийе тос бурлей, а мийе ост зудрей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6600cc"/>
                </a:solidFill>
                <a:latin typeface="Verdana"/>
                <a:ea typeface="Times New Roman"/>
              </a:rPr>
              <a:t>Сатрый дург чулше выхно вдух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1571760" y="21420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6600cc"/>
                </a:solidFill>
                <a:latin typeface="Verdana"/>
              </a:rPr>
              <a:t>Верните буквы на свои мес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/>
          <p:nvPr/>
        </p:nvSpPr>
        <p:spPr>
          <a:xfrm>
            <a:off x="357120" y="714240"/>
            <a:ext cx="850104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 rot="20584800">
            <a:off x="463320" y="1542960"/>
            <a:ext cx="83088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6600cc"/>
                </a:solidFill>
                <a:latin typeface="Verdana"/>
              </a:rPr>
              <a:t> </a:t>
            </a:r>
            <a:r>
              <a:rPr b="0" i="1" lang="en-US" sz="1800" spc="1" strike="noStrike">
                <a:ln w="0">
                  <a:noFill/>
                </a:ln>
                <a:solidFill>
                  <a:srgbClr val="6600cc"/>
                </a:solidFill>
                <a:latin typeface="Verdana"/>
              </a:rPr>
              <a:t>Друг познается в беде.</a:t>
            </a:r>
            <a:endParaRPr b="0" i="1" lang="en-US" sz="1800" spc="1" strike="noStrike">
              <a:ln w="0">
                <a:noFill/>
              </a:ln>
              <a:solidFill>
                <a:srgbClr val="6600cc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4"/>
          <p:cNvSpPr txBox="1"/>
          <p:nvPr/>
        </p:nvSpPr>
        <p:spPr>
          <a:xfrm>
            <a:off x="428760" y="981000"/>
            <a:ext cx="8215200" cy="31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руга     ищи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  найдешь -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5"/>
          <p:cNvSpPr txBox="1"/>
          <p:nvPr/>
        </p:nvSpPr>
        <p:spPr>
          <a:xfrm>
            <a:off x="4211640" y="3789360"/>
            <a:ext cx="3313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7632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ги.</a:t>
            </a:r>
            <a:endParaRPr b="0" lang="en-US" sz="1800" spc="1" strike="noStrike">
              <a:ln w="7632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468360" y="0"/>
            <a:ext cx="799128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е им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ублей, а им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рузе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5" name="WordArt 5"/>
          <p:cNvSpPr txBox="1"/>
          <p:nvPr/>
        </p:nvSpPr>
        <p:spPr>
          <a:xfrm rot="1128600">
            <a:off x="6948000" y="765000"/>
            <a:ext cx="1656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a1d06"/>
                    </a:gs>
                  </a:gsLst>
                  <a:lin ang="4272000"/>
                </a:gradFill>
                <a:latin typeface="Times New Roman"/>
              </a:rPr>
              <a:t>1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a1d06"/>
                  </a:gs>
                </a:gsLst>
                <a:lin ang="4272000"/>
              </a:gradFill>
              <a:latin typeface="Times New Roman"/>
              <a:ea typeface="Times New Roman"/>
            </a:endParaRPr>
          </a:p>
        </p:txBody>
      </p:sp>
      <p:sp>
        <p:nvSpPr>
          <p:cNvPr id="226" name="WordArt 5"/>
          <p:cNvSpPr txBox="1"/>
          <p:nvPr/>
        </p:nvSpPr>
        <p:spPr>
          <a:xfrm rot="20735400">
            <a:off x="531360" y="4532040"/>
            <a:ext cx="1656000" cy="21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a1d06"/>
                    </a:gs>
                  </a:gsLst>
                  <a:lin ang="6264000"/>
                </a:gradFill>
                <a:latin typeface="Times New Roman"/>
              </a:rPr>
              <a:t>1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a1d06"/>
                  </a:gs>
                </a:gsLst>
                <a:lin ang="6264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1143000" y="1125360"/>
            <a:ext cx="771516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рый друг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учше новых двух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4280" y="1071360"/>
            <a:ext cx="7678800" cy="28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6600cc"/>
                </a:solidFill>
                <a:latin typeface="Times New Roman"/>
              </a:rPr>
              <a:t>Настоящий </a:t>
            </a:r>
            <a:br>
              <a:rPr sz="8800"/>
            </a:br>
            <a:r>
              <a:rPr b="1" i="1" lang="ru-RU" sz="8800" spc="-1" strike="noStrike">
                <a:solidFill>
                  <a:srgbClr val="6600cc"/>
                </a:solidFill>
                <a:latin typeface="Times New Roman"/>
              </a:rPr>
              <a:t>друг, какой он?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5" descr="смайлик 2"/>
          <p:cNvPicPr/>
          <p:nvPr/>
        </p:nvPicPr>
        <p:blipFill>
          <a:blip r:embed="rId1"/>
          <a:stretch/>
        </p:blipFill>
        <p:spPr>
          <a:xfrm>
            <a:off x="6311880" y="3987720"/>
            <a:ext cx="2260800" cy="2513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смайлик 1"/>
          <p:cNvPicPr/>
          <p:nvPr/>
        </p:nvPicPr>
        <p:blipFill>
          <a:blip r:embed="rId2"/>
          <a:stretch/>
        </p:blipFill>
        <p:spPr>
          <a:xfrm>
            <a:off x="2857680" y="4143240"/>
            <a:ext cx="2286000" cy="2318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85"/>
          <p:cNvPicPr/>
          <p:nvPr/>
        </p:nvPicPr>
        <p:blipFill>
          <a:blip r:embed="rId3"/>
          <a:stretch/>
        </p:blipFill>
        <p:spPr>
          <a:xfrm>
            <a:off x="7215120" y="0"/>
            <a:ext cx="2087640" cy="1943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79280" y="7138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Настоящий друг – это тот, кт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ебя уважает, помогает в трудную минуту, радуется твоим удачам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не льстит тебе, а говорит правду о твоих недостатках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помогает бескорыстно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умеет хранить тай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12:47Z</dcterms:created>
  <dc:creator>Admin</dc:creator>
  <dc:description/>
  <dc:language>en-US</dc:language>
  <cp:lastModifiedBy>123</cp:lastModifiedBy>
  <dcterms:modified xsi:type="dcterms:W3CDTF">2013-05-01T06:19:17Z</dcterms:modified>
  <cp:revision>82</cp:revision>
  <dc:subject/>
  <dc:title>Слайд 1</dc:title>
</cp:coreProperties>
</file>