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9.png" ContentType="image/png"/>
  <Override PartName="/ppt/media/image6.wmf" ContentType="image/x-wmf"/>
  <Override PartName="/ppt/media/image19.jpeg" ContentType="image/jpeg"/>
  <Override PartName="/ppt/media/image12.jpeg" ContentType="image/jpeg"/>
  <Override PartName="/ppt/media/image7.jpeg" ContentType="image/jpeg"/>
  <Override PartName="/ppt/media/image5.wmf" ContentType="image/x-wmf"/>
  <Override PartName="/ppt/media/image22.wmf" ContentType="image/x-wmf"/>
  <Override PartName="/ppt/media/image20.wmf" ContentType="image/x-wmf"/>
  <Override PartName="/ppt/media/image13.jpeg" ContentType="image/jpeg"/>
  <Override PartName="/ppt/media/image4.wmf" ContentType="image/x-wmf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wmf" ContentType="image/x-wmf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CAFD-ED4A-420B-A596-A6A82BF6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3EB9-105B-4076-9D61-A04A1082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93F6-CC39-49B8-9B67-F99B5EB9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3546-E48E-4559-A06D-EE10A319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26BB-6270-4218-82EB-7CBE94D1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EC4C-7BDF-49E0-A0B2-F6716FA7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2794-2837-47B9-9C18-D79FC248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084B-682F-4C3D-B8C9-13867175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70EE-78C3-4607-974D-23F3EECC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6D2A-BEBE-4135-95C6-940A63CC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2A1B-4E17-4539-BBC2-E35F80DC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01A6-067E-4788-9ADF-045AE8D0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9C40-D766-4CA8-9D8B-90A7F8B4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6B11-DEE3-4975-B161-215C607F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A559-C78A-4565-AF7E-11BF3868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9497-0EBD-4256-A308-9CB35EBC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5B7E-F501-4847-A2DA-7A604134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21C9-31A1-46C8-8CC3-E5B5A0F5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1D70-8932-4D37-B21F-B2A0D1D5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4AAE-507A-467E-909D-D3A88973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D6BD-C89C-4C4B-AC76-3B48A7CA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6052-EBCB-4105-BFDA-6D3724E7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C157-1DA7-4BC3-89A0-C1F8338E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D358-B9A7-4AF0-87DD-B92FC4D1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417E-E48F-4DC8-A444-F627A090F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A267-826C-4B7B-9CF6-51072B15F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7920" y="685800"/>
            <a:ext cx="716256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Тема: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и, передаваемые половым путём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ы профилактики. СПИД и его профилактика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bd00080_" descr=""/>
          <p:cNvPicPr/>
          <p:nvPr/>
        </p:nvPicPr>
        <p:blipFill>
          <a:blip r:embed="rId1"/>
          <a:stretch/>
        </p:blipFill>
        <p:spPr>
          <a:xfrm>
            <a:off x="6858000" y="4114800"/>
            <a:ext cx="1455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msotw9_temp0" descr=""/>
          <p:cNvPicPr/>
          <p:nvPr/>
        </p:nvPicPr>
        <p:blipFill>
          <a:blip r:embed="rId1"/>
          <a:srcRect l="0" t="2947" r="3845" b="0"/>
          <a:stretch/>
        </p:blipFill>
        <p:spPr>
          <a:xfrm>
            <a:off x="2068560" y="457200"/>
            <a:ext cx="2568600" cy="2590920"/>
          </a:xfrm>
          <a:prstGeom prst="rect">
            <a:avLst/>
          </a:prstGeom>
          <a:ln w="9360">
            <a:solidFill>
              <a:srgbClr val="7ec0d8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</p:pic>
      <p:pic>
        <p:nvPicPr>
          <p:cNvPr id="126" name="msotw9_temp0" descr=""/>
          <p:cNvPicPr/>
          <p:nvPr/>
        </p:nvPicPr>
        <p:blipFill>
          <a:blip r:embed="rId2"/>
          <a:srcRect l="0" t="2607" r="3845" b="0"/>
          <a:stretch/>
        </p:blipFill>
        <p:spPr>
          <a:xfrm>
            <a:off x="1143000" y="3276720"/>
            <a:ext cx="2093760" cy="3124080"/>
          </a:xfrm>
          <a:prstGeom prst="rect">
            <a:avLst/>
          </a:prstGeom>
          <a:ln w="9360">
            <a:solidFill>
              <a:srgbClr val="7ec0d8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</p:pic>
      <p:pic>
        <p:nvPicPr>
          <p:cNvPr id="127" name="msotw9_temp0" descr=""/>
          <p:cNvPicPr/>
          <p:nvPr/>
        </p:nvPicPr>
        <p:blipFill>
          <a:blip r:embed="rId3"/>
          <a:srcRect l="0" t="2681" r="7691" b="0"/>
          <a:stretch/>
        </p:blipFill>
        <p:spPr>
          <a:xfrm>
            <a:off x="4876920" y="457200"/>
            <a:ext cx="3373200" cy="5105520"/>
          </a:xfrm>
          <a:prstGeom prst="rect">
            <a:avLst/>
          </a:prstGeom>
          <a:ln w="9360">
            <a:solidFill>
              <a:srgbClr val="7ec0d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28" name=""/>
          <p:cNvSpPr/>
          <p:nvPr/>
        </p:nvSpPr>
        <p:spPr>
          <a:xfrm>
            <a:off x="5029200" y="5562720"/>
            <a:ext cx="3505320" cy="914400"/>
          </a:xfrm>
          <a:prstGeom prst="wedgeRoundRectCallout">
            <a:avLst>
              <a:gd name="adj1" fmla="val -7018"/>
              <a:gd name="adj2" fmla="val -70662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Бугорковый сифилис в виде изъязвленных очагов на коже голени при третичном сифилис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371600"/>
            <a:ext cx="1371600" cy="1600200"/>
          </a:xfrm>
          <a:prstGeom prst="wedgeRoundRectCallout">
            <a:avLst>
              <a:gd name="adj1" fmla="val 75231"/>
              <a:gd name="adj2" fmla="val 35319"/>
              <a:gd name="adj3" fmla="val 16667"/>
            </a:avLst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ыпь при вторичном рецидивном сифилисе на коже лиц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3962520"/>
            <a:ext cx="1447560" cy="1600200"/>
          </a:xfrm>
          <a:prstGeom prst="wedgeRoundRectCallout">
            <a:avLst>
              <a:gd name="adj1" fmla="val -66120"/>
              <a:gd name="adj2" fmla="val 3374"/>
              <a:gd name="adj3" fmla="val 16667"/>
            </a:avLst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ыпь при вторичном рецидивном сифилисе на коже стоп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95280" y="457200"/>
            <a:ext cx="716292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оноре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енерическое заболевание, вызываемо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онококо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нкубационный период в среднем составляет 3-6 дн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знаки заболе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боль и резь во время мочеиспускания, обильные гнойные выделения из мочеиспускательного канала, воспаление, частые позывы к мочеиспускан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заболевание не лечить, то возбудителем поражаются суставы, сердце, моз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4648320"/>
            <a:ext cx="7391160" cy="1679400"/>
          </a:xfrm>
          <a:prstGeom prst="rect">
            <a:avLst/>
          </a:prstGeom>
          <a:noFill/>
          <a:ln w="38160">
            <a:solidFill>
              <a:srgbClr val="fc3e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офилактика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после случайного полового контакта тщательно обмыть тёплой водой с мылом половые органы и прилегающие области, обработка и спринцевание раствором перманганата калия, профилактический медосмотр (мазок на гонококи), использование презерватив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95280" y="457200"/>
            <a:ext cx="71629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енитальный герпес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язвенное поражение половых органов, возбудителем которого является вирус простого герпеса (заболевание, характерное пузырьковыми высыпаниями на коже). Передаётся половым путём и вызывает болячки и язвы на половых органах и вокруг ни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3352680"/>
            <a:ext cx="71629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Хламидиоз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олезнь, возбудителем которой является микроорганизм, называемый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ламиди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паразитирует в половых и мочевыделительных органах). Симптомы проявляются через 1-4 недели. У мужчин они такие, как и при гонорее. У женщин часто протекает незамет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304920"/>
            <a:ext cx="73152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ПИ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синдром приобретённого иммунодефицита. Это финальная стадия инфекционного заболевания, вызываемая вирусом иммунодефицита человека (ВИЧ) и передающаяся при половом контакте и с кров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0800000">
            <a:off x="1142640" y="2590920"/>
            <a:ext cx="762120" cy="3124080"/>
          </a:xfrm>
          <a:custGeom>
            <a:avLst/>
            <a:gdLst>
              <a:gd name="textAreaLeft" fmla="*/ 37080 w 762120"/>
              <a:gd name="textAreaRight" fmla="*/ 725040 w 762120"/>
              <a:gd name="textAreaTop" fmla="*/ 37080 h 3124080"/>
              <a:gd name="textAreaBottom" fmla="*/ 3087000 h 3124080"/>
            </a:gdLst>
            <a:ahLst/>
            <a:rect l="textAreaLeft" t="textAreaTop" r="textAreaRight" b="textAreaBottom"/>
            <a:pathLst>
              <a:path w="21600" h="88511">
                <a:moveTo>
                  <a:pt x="3600" y="0"/>
                </a:moveTo>
                <a:arcTo wR="3600" hR="3600" stAng="16200000" swAng="-5400000"/>
                <a:lnTo>
                  <a:pt x="0" y="84911"/>
                </a:lnTo>
                <a:arcTo wR="3600" hR="3600" stAng="10800000" swAng="-5400000"/>
                <a:lnTo>
                  <a:pt x="18000" y="885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ути  переда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2590920"/>
            <a:ext cx="6476760" cy="3808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половом сноше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124080"/>
            <a:ext cx="6476760" cy="3812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переливании крови и её компон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3657600"/>
            <a:ext cx="6476760" cy="9144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использовании медицинского инструмент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грязненного кровью с возбудител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4724280"/>
            <a:ext cx="6476760" cy="9144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внутривенных инъекциях нестерильны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прицами среди наркоман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5943600"/>
            <a:ext cx="7772400" cy="459720"/>
          </a:xfrm>
          <a:prstGeom prst="rect">
            <a:avLst/>
          </a:prstGeom>
          <a:noFill/>
          <a:ln w="9360">
            <a:solidFill>
              <a:srgbClr val="fc3e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динственный путь борьбы со СПИДом – профилакт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66680" y="380880"/>
            <a:ext cx="7620120" cy="1371600"/>
          </a:xfrm>
          <a:custGeom>
            <a:avLst/>
            <a:gdLst>
              <a:gd name="textAreaLeft" fmla="*/ 1739520 w 7620120"/>
              <a:gd name="textAreaRight" fmla="*/ 5880600 w 762012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694b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иоды ВИЧ-инфе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1828800"/>
            <a:ext cx="7543800" cy="7621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694b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Инкубационный пери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родолжается от 3 дней д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скольких месяце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666880"/>
            <a:ext cx="7543800" cy="7621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694b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Период первичных проявлени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длится от нескольк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ней до 2,5 месяца, но может затянуться до 1 г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505320"/>
            <a:ext cx="7543800" cy="76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694b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Период вторичных проявлени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родолжается 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скольких месяцев до 8-10 л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4343400"/>
            <a:ext cx="7543800" cy="7621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694b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Период поражени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родолжается от нескольк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сяцев до 3-5 л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518148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лавной причиной заболеваемости и смертности от СПИДа является не сам вирус, а другие инфекции и заболевания, которым организм не может сопротивляться в результате действия ВИЧ-инфек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msotw9_temp0" descr=""/>
          <p:cNvPicPr/>
          <p:nvPr/>
        </p:nvPicPr>
        <p:blipFill>
          <a:blip r:embed="rId1"/>
          <a:srcRect l="0" t="2636" r="1264" b="0"/>
          <a:stretch/>
        </p:blipFill>
        <p:spPr>
          <a:xfrm>
            <a:off x="1447920" y="457200"/>
            <a:ext cx="1981080" cy="2819520"/>
          </a:xfrm>
          <a:prstGeom prst="rect">
            <a:avLst/>
          </a:prstGeom>
          <a:ln w="9360">
            <a:solidFill>
              <a:srgbClr val="7ec0d8"/>
            </a:solidFill>
            <a:miter/>
          </a:ln>
          <a:effectLst>
            <a:outerShdw dist="17819" dir="2700000" blurRad="0" rotWithShape="0">
              <a:srgbClr val="cbbd83"/>
            </a:outerShdw>
          </a:effectLst>
        </p:spPr>
      </p:pic>
      <p:pic>
        <p:nvPicPr>
          <p:cNvPr id="149" name="msotw9_temp0" descr=""/>
          <p:cNvPicPr/>
          <p:nvPr/>
        </p:nvPicPr>
        <p:blipFill>
          <a:blip r:embed="rId2"/>
          <a:srcRect l="0" t="2636" r="5057" b="0"/>
          <a:stretch/>
        </p:blipFill>
        <p:spPr>
          <a:xfrm>
            <a:off x="1447920" y="3429000"/>
            <a:ext cx="2008080" cy="2971800"/>
          </a:xfrm>
          <a:prstGeom prst="rect">
            <a:avLst/>
          </a:prstGeom>
          <a:ln w="9360">
            <a:solidFill>
              <a:srgbClr val="7ec0d8"/>
            </a:solidFill>
            <a:miter/>
          </a:ln>
          <a:effectLst>
            <a:outerShdw dist="17819" dir="2700000" blurRad="0" rotWithShape="0">
              <a:srgbClr val="cbbd83"/>
            </a:outerShdw>
          </a:effectLst>
        </p:spPr>
      </p:pic>
      <p:pic>
        <p:nvPicPr>
          <p:cNvPr id="150" name="msotw9_temp0" descr=""/>
          <p:cNvPicPr/>
          <p:nvPr/>
        </p:nvPicPr>
        <p:blipFill>
          <a:blip r:embed="rId3"/>
          <a:srcRect l="0" t="3845" r="4840" b="0"/>
          <a:stretch/>
        </p:blipFill>
        <p:spPr>
          <a:xfrm>
            <a:off x="3733920" y="1523880"/>
            <a:ext cx="4724280" cy="3295800"/>
          </a:xfrm>
          <a:prstGeom prst="rect">
            <a:avLst/>
          </a:prstGeom>
          <a:ln w="9360">
            <a:solidFill>
              <a:srgbClr val="7ec0d8"/>
            </a:solidFill>
            <a:miter/>
          </a:ln>
          <a:effectLst>
            <a:outerShdw dist="17819" dir="2700000" blurRad="0" rotWithShape="0">
              <a:srgbClr val="cbbd83"/>
            </a:outerShdw>
          </a:effectLst>
        </p:spPr>
      </p:pic>
      <p:sp>
        <p:nvSpPr>
          <p:cNvPr id="151" name=""/>
          <p:cNvSpPr/>
          <p:nvPr/>
        </p:nvSpPr>
        <p:spPr>
          <a:xfrm>
            <a:off x="3581280" y="533520"/>
            <a:ext cx="5029200" cy="609480"/>
          </a:xfrm>
          <a:prstGeom prst="wedgeRoundRectCallout">
            <a:avLst>
              <a:gd name="adj1" fmla="val -53884"/>
              <a:gd name="adj2" fmla="val 10416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ркома Капоши кожи лица и слизистой оболочки мягкого и твёрдого нёба у больного СПИДо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5715000"/>
            <a:ext cx="4038840" cy="609480"/>
          </a:xfrm>
          <a:prstGeom prst="wedgeRoundRectCallout">
            <a:avLst>
              <a:gd name="adj1" fmla="val -63050"/>
              <a:gd name="adj2" fmla="val -11250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ъязвления саркомы Капоши в области левой голени у больного СПИДо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91320" y="4952880"/>
            <a:ext cx="2286000" cy="381240"/>
          </a:xfrm>
          <a:prstGeom prst="wedgeRoundRectCallout">
            <a:avLst>
              <a:gd name="adj1" fmla="val 50069"/>
              <a:gd name="adj2" fmla="val -12666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Больной СПИДо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457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тветственность за заражение ВИЧ-инфекцией, предусмотренная ст. 122 УК РФ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1905120"/>
            <a:ext cx="73911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ведомое поставление другого лица в опасность заражения ВИЧ-инфекцией наказывается ограничением свободы на срок до трёх лет, либо арестом на срок о  трёх до шести месяцев, либо лишением свободы на срок до одного г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ражение другого лица ВИЧ-инфекцией лицом, знавшем о наличии у него этой болезни, наказывается лишением свободы на срок до пяти л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BS00285_" descr=""/>
          <p:cNvPicPr/>
          <p:nvPr/>
        </p:nvPicPr>
        <p:blipFill>
          <a:blip r:embed="rId1"/>
          <a:stretch/>
        </p:blipFill>
        <p:spPr>
          <a:xfrm>
            <a:off x="4419720" y="5257800"/>
            <a:ext cx="11430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038480" y="3200400"/>
            <a:ext cx="4572000" cy="3200400"/>
          </a:xfrm>
          <a:custGeom>
            <a:avLst/>
            <a:gdLst>
              <a:gd name="textAreaLeft" fmla="*/ 1043640 w 4572000"/>
              <a:gd name="textAreaRight" fmla="*/ 3528360 w 4572000"/>
              <a:gd name="textAreaTop" fmla="*/ 730440 h 3200400"/>
              <a:gd name="textAreaBottom" fmla="*/ 246996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694b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ПИД неизлечи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 неизбежно ведё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 смерти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so01885_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3809880" cy="3629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694b6"/>
            </a:outerShdw>
          </a:effectLst>
        </p:spPr>
      </p:pic>
      <p:sp>
        <p:nvSpPr>
          <p:cNvPr id="159" name=""/>
          <p:cNvSpPr/>
          <p:nvPr/>
        </p:nvSpPr>
        <p:spPr>
          <a:xfrm>
            <a:off x="990720" y="304920"/>
            <a:ext cx="3962160" cy="2286000"/>
          </a:xfrm>
          <a:custGeom>
            <a:avLst/>
            <a:gdLst>
              <a:gd name="textAreaLeft" fmla="*/ 904320 w 3962160"/>
              <a:gd name="textAreaRight" fmla="*/ 3057840 w 3962160"/>
              <a:gd name="textAreaTop" fmla="*/ 521640 h 2286000"/>
              <a:gd name="textAreaBottom" fmla="*/ 1764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694b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акцины 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Ч-инфе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Т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380880"/>
            <a:ext cx="3581280" cy="2667240"/>
          </a:xfrm>
          <a:custGeom>
            <a:avLst/>
            <a:gdLst>
              <a:gd name="textAreaLeft" fmla="*/ 817560 w 3581280"/>
              <a:gd name="textAreaRight" fmla="*/ 2763720 w 3581280"/>
              <a:gd name="textAreaTop" fmla="*/ 608760 h 2667240"/>
              <a:gd name="textAreaBottom" fmla="*/ 205848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694b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дикаль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тода л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Т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312408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ы сам выбираешь свой путь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j0078768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7010280" cy="5989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694b6"/>
            </a:outerShdw>
          </a:effectLst>
        </p:spPr>
      </p:pic>
      <p:sp>
        <p:nvSpPr>
          <p:cNvPr id="163" name=""/>
          <p:cNvSpPr/>
          <p:nvPr/>
        </p:nvSpPr>
        <p:spPr>
          <a:xfrm>
            <a:off x="3505320" y="1447920"/>
            <a:ext cx="4038480" cy="241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3e2a"/>
                </a:solidFill>
                <a:latin typeface="Times New Roman"/>
              </a:rPr>
              <a:t>19 мая 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3e2a"/>
                </a:solidFill>
                <a:latin typeface="Times New Roman"/>
              </a:rPr>
              <a:t>Всемирный день памяти умерших от от ВИЧ и СПИ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33920" y="556272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5410080"/>
            <a:ext cx="5715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А вы знаете что 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00200" y="914400"/>
            <a:ext cx="6781680" cy="36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ть представление об основных болезнях, передаваемых половым путём (БППП), мерах профилактики этих заболева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ить причины и способы заражения кожно-венерическими заболевания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накомить учащихся с заболеванием СПИДом и мерами его профилакт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d00079_" descr=""/>
          <p:cNvPicPr/>
          <p:nvPr/>
        </p:nvPicPr>
        <p:blipFill>
          <a:blip r:embed="rId1"/>
          <a:stretch/>
        </p:blipFill>
        <p:spPr>
          <a:xfrm>
            <a:off x="7467480" y="4114800"/>
            <a:ext cx="109692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95280" y="45720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нерические болез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от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Венер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богиня любви и красоты в римской мифологии) – это группа инфекционных болезней, возбудители которых передаются преимущественно половым путё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3581280"/>
            <a:ext cx="7010280" cy="247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последние годы количество заболеваний, передаваемых половым путём, увеличилось в несколько раз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на из главных причин – это более свободный взгляд на секс и сексуальные отношения молодых люд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2362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настоящее время насчитывается более 20 ИПП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828800" y="457200"/>
            <a:ext cx="6019920" cy="990720"/>
          </a:xfrm>
          <a:prstGeom prst="roundRect">
            <a:avLst>
              <a:gd name="adj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Чем опасны БПП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1600200"/>
            <a:ext cx="7238880" cy="685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ражением внутренних орган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2438280"/>
            <a:ext cx="7238880" cy="6098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араличом и нарушением псих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3200400"/>
            <a:ext cx="7238880" cy="609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есплод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4038480"/>
            <a:ext cx="7238880" cy="6098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ждением больных детей и уро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4800600"/>
            <a:ext cx="7238880" cy="609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адом семь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5638680"/>
            <a:ext cx="7238880" cy="6098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рождением н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j0079115" descr=""/>
          <p:cNvPicPr/>
          <p:nvPr/>
        </p:nvPicPr>
        <p:blipFill>
          <a:blip r:embed="rId1"/>
          <a:stretch/>
        </p:blipFill>
        <p:spPr>
          <a:xfrm>
            <a:off x="7162920" y="3048120"/>
            <a:ext cx="1774800" cy="3477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4" name="j0079114" descr=""/>
          <p:cNvPicPr/>
          <p:nvPr/>
        </p:nvPicPr>
        <p:blipFill>
          <a:blip r:embed="rId2"/>
          <a:stretch/>
        </p:blipFill>
        <p:spPr>
          <a:xfrm>
            <a:off x="609480" y="3048120"/>
            <a:ext cx="1533600" cy="3473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3880" y="457200"/>
            <a:ext cx="6782040" cy="50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татистика                                        за последние год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болеваемость сифилисом возросла в 4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исло случаев врождённого сифилиса возросло в 2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ППП помолодели и ими начинают болеть с 12-14 л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иболее часты эти заболевания у лиц в возрасте 20-21 года, на втором месте – 15-19-лет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3880" y="533520"/>
            <a:ext cx="6553440" cy="7617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щие правила профилак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1828800"/>
            <a:ext cx="6858000" cy="762120"/>
          </a:xfrm>
          <a:prstGeom prst="flowChartTerminator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здержание от случайных половых контак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2819520"/>
            <a:ext cx="6858000" cy="761760"/>
          </a:xfrm>
          <a:prstGeom prst="flowChartTerminator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заимная верность молодых люд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809880"/>
            <a:ext cx="6858000" cy="762120"/>
          </a:xfrm>
          <a:prstGeom prst="flowChartTerminator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пользование средств предохран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4800600"/>
            <a:ext cx="6858000" cy="762120"/>
          </a:xfrm>
          <a:prstGeom prst="flowChartTerminator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случае подозрения на зараж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ращаться в лечебное учреж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95280" y="457200"/>
            <a:ext cx="71629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ифили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читается самой страшной венерической болезнью. Возбудитель –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ледная трепоне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падает в кровь не только половым путём, но и через порезы, ссадины, даже поцелуи, курение с больным одной сигареты, пользование предметами домашнего обихода (зубная щётка, ложк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38098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знаки заболевания проявляются через             3-4 недели после конта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msotw9_temp0" descr=""/>
          <p:cNvPicPr/>
          <p:nvPr/>
        </p:nvPicPr>
        <p:blipFill>
          <a:blip r:embed="rId1"/>
          <a:srcRect l="0" t="3591" r="0" b="0"/>
          <a:stretch/>
        </p:blipFill>
        <p:spPr>
          <a:xfrm>
            <a:off x="1295280" y="457200"/>
            <a:ext cx="3276720" cy="3276720"/>
          </a:xfrm>
          <a:prstGeom prst="rect">
            <a:avLst/>
          </a:prstGeom>
          <a:ln w="0">
            <a:noFill/>
          </a:ln>
        </p:spPr>
      </p:pic>
      <p:pic>
        <p:nvPicPr>
          <p:cNvPr id="114" name="msotw9_temp0" descr=""/>
          <p:cNvPicPr/>
          <p:nvPr/>
        </p:nvPicPr>
        <p:blipFill>
          <a:blip r:embed="rId2"/>
          <a:stretch/>
        </p:blipFill>
        <p:spPr>
          <a:xfrm>
            <a:off x="5181480" y="380880"/>
            <a:ext cx="2541600" cy="2590920"/>
          </a:xfrm>
          <a:prstGeom prst="rect">
            <a:avLst/>
          </a:prstGeom>
          <a:ln w="0">
            <a:noFill/>
          </a:ln>
        </p:spPr>
      </p:pic>
      <p:pic>
        <p:nvPicPr>
          <p:cNvPr id="115" name="msotw9_temp0" descr=""/>
          <p:cNvPicPr/>
          <p:nvPr/>
        </p:nvPicPr>
        <p:blipFill>
          <a:blip r:embed="rId3"/>
          <a:stretch/>
        </p:blipFill>
        <p:spPr>
          <a:xfrm>
            <a:off x="5638680" y="3048120"/>
            <a:ext cx="2992680" cy="2895480"/>
          </a:xfrm>
          <a:prstGeom prst="rect">
            <a:avLst/>
          </a:prstGeom>
          <a:ln w="0">
            <a:noFill/>
          </a:ln>
        </p:spPr>
      </p:pic>
      <p:pic>
        <p:nvPicPr>
          <p:cNvPr id="116" name="msotw9_temp0" descr=""/>
          <p:cNvPicPr/>
          <p:nvPr/>
        </p:nvPicPr>
        <p:blipFill>
          <a:blip r:embed="rId4"/>
          <a:srcRect l="0" t="3591" r="0" b="0"/>
          <a:stretch/>
        </p:blipFill>
        <p:spPr>
          <a:xfrm>
            <a:off x="1143000" y="3809880"/>
            <a:ext cx="2666880" cy="2590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38480" y="2895480"/>
            <a:ext cx="1295640" cy="1981440"/>
          </a:xfrm>
          <a:prstGeom prst="wedgeRoundRectCallout">
            <a:avLst>
              <a:gd name="adj1" fmla="val -67523"/>
              <a:gd name="adj2" fmla="val -39583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огове-вающие высыпания на коже подошвы при сифилис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5029200"/>
            <a:ext cx="1143000" cy="1447920"/>
          </a:xfrm>
          <a:prstGeom prst="wedgeRoundRectCallout">
            <a:avLst>
              <a:gd name="adj1" fmla="val -50555"/>
              <a:gd name="adj2" fmla="val -93203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пен-новидная сыпь на коже при сифилис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1219320"/>
            <a:ext cx="1295280" cy="1218960"/>
          </a:xfrm>
          <a:prstGeom prst="wedgeRoundRectCallout">
            <a:avLst>
              <a:gd name="adj1" fmla="val -64828"/>
              <a:gd name="adj2" fmla="val -87370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апулезная сыпь на языке при сифилис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5943600"/>
            <a:ext cx="3809880" cy="685800"/>
          </a:xfrm>
          <a:prstGeom prst="wedgeRoundRectCallout">
            <a:avLst>
              <a:gd name="adj1" fmla="val -17416"/>
              <a:gd name="adj2" fmla="val -52777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ыпь в виде эктим на коже туловища и верхней конечности при сифилис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 flipH="1" rot="10800000">
            <a:off x="1142640" y="457200"/>
            <a:ext cx="838080" cy="586728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5867280"/>
              <a:gd name="textAreaBottom" fmla="*/ 5826600 h 5867280"/>
            </a:gdLst>
            <a:ahLst/>
            <a:rect l="textAreaLeft" t="textAreaTop" r="textAreaRight" b="textAreaBottom"/>
            <a:pathLst>
              <a:path w="21600" h="151163">
                <a:moveTo>
                  <a:pt x="3600" y="0"/>
                </a:moveTo>
                <a:arcTo wR="3600" hR="3600" stAng="16200000" swAng="-5400000"/>
                <a:lnTo>
                  <a:pt x="0" y="147563"/>
                </a:lnTo>
                <a:arcTo wR="3600" hR="3600" stAng="10800000" swAng="-5400000"/>
                <a:lnTo>
                  <a:pt x="18000" y="1511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ec0d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ериоды заболе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457200"/>
            <a:ext cx="6248520" cy="1600200"/>
          </a:xfrm>
          <a:prstGeom prst="roundRect">
            <a:avLst>
              <a:gd name="adj" fmla="val 16667"/>
            </a:avLst>
          </a:prstGeom>
          <a:solidFill>
            <a:srgbClr val="cdf8f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ичный пери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характеризуется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лением эрозии или язвы (твёрд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анкр) 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сте внедрени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репоне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чаще всего в обла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вых орган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286000"/>
            <a:ext cx="6248520" cy="1905120"/>
          </a:xfrm>
          <a:prstGeom prst="roundRect">
            <a:avLst>
              <a:gd name="adj" fmla="val 16667"/>
            </a:avLst>
          </a:prstGeom>
          <a:solidFill>
            <a:srgbClr val="cdf8f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торичный перио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(через 1-2 месяца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является сыпь на коже туловища, подошв, ладонях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лизистой оболочке половых органов, постоян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оловные боли, боли в костях, увеличиваютс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имфатические узл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4419720"/>
            <a:ext cx="6248520" cy="1904760"/>
          </a:xfrm>
          <a:prstGeom prst="roundRect">
            <a:avLst>
              <a:gd name="adj" fmla="val 16667"/>
            </a:avLst>
          </a:prstGeom>
          <a:solidFill>
            <a:srgbClr val="cdf8f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етичный перио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характеризуется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ражением кожи и слизистой оболочки, внутренни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ганов, костей, нервной системы, теряетс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увствительность ног, поражаются зубы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валивается но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5:47:39Z</dcterms:created>
  <dc:creator>Ник</dc:creator>
  <dc:description/>
  <dc:language>en-US</dc:language>
  <cp:lastModifiedBy>Ник</cp:lastModifiedBy>
  <dcterms:modified xsi:type="dcterms:W3CDTF">2007-09-13T17:13:02Z</dcterms:modified>
  <cp:revision>88</cp:revision>
  <dc:subject/>
  <dc:title>Презентация PowerPoint</dc:title>
</cp:coreProperties>
</file>