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5.wmf" ContentType="image/x-wmf"/>
  <Override PartName="/ppt/media/image22.wmf" ContentType="image/x-wmf"/>
  <Override PartName="/ppt/media/image20.wmf" ContentType="image/x-wmf"/>
  <Override PartName="/ppt/media/image13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4E9-1777-4452-986A-48CE0A9E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2EA-DDF0-4BEA-BC1B-A6B14E41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FA9-B907-4AEE-AE11-4930D739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1BB-B019-42C7-8048-3330D5FB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1970-2763-4BB4-B22D-19EA0C82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F99E-7CE7-494D-B08D-B24AAB00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C8D4-55C4-4B44-A714-8A19105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9C82-8301-47C4-BB17-93881F3F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6940-838F-4EB2-9D37-A3A6FE31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D91-3B79-40D5-8DA0-F2C0653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B8D0-E9A4-4D1C-977A-DCA9BDC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184-9FE3-47E2-B47D-69ADA4D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0B6E-41A3-4DDB-9736-1F2E449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E906-F92F-4054-AAF1-CD7CC35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2D09-EDD7-4F25-BE7F-7A1E5D3A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F189-6D0D-47D2-9778-243B9B0C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723D-C7C2-41DE-A968-44442962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548-FF7C-4D87-854E-DC36EF3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0CC-7EC4-4BF3-997D-E5788ED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37-2A9A-40EF-89E8-77EC22E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BF6-3E4E-4040-8924-FFD25821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4AF-517E-4C7D-938C-D1343DA5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98B-53B3-4062-B16F-358CFBE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90F-F870-4C39-844D-A8B7DED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B9E-CC1B-4BFB-8523-8FBEB7625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CDD-E03D-43E8-AA18-BEE61E76E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685800"/>
            <a:ext cx="71625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, передаваемые половым путём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ки. СПИД и его профилактика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d00080_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45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msotw9_temp0" descr=""/>
          <p:cNvPicPr/>
          <p:nvPr/>
        </p:nvPicPr>
        <p:blipFill>
          <a:blip r:embed="rId1"/>
          <a:srcRect l="0" t="2947" r="3845" b="0"/>
          <a:stretch/>
        </p:blipFill>
        <p:spPr>
          <a:xfrm>
            <a:off x="2068560" y="457200"/>
            <a:ext cx="2568600" cy="259092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</p:pic>
      <p:pic>
        <p:nvPicPr>
          <p:cNvPr id="126" name="msotw9_temp0" descr=""/>
          <p:cNvPicPr/>
          <p:nvPr/>
        </p:nvPicPr>
        <p:blipFill>
          <a:blip r:embed="rId2"/>
          <a:srcRect l="0" t="2607" r="3845" b="0"/>
          <a:stretch/>
        </p:blipFill>
        <p:spPr>
          <a:xfrm>
            <a:off x="1143000" y="3276720"/>
            <a:ext cx="2093760" cy="312408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</p:pic>
      <p:pic>
        <p:nvPicPr>
          <p:cNvPr id="127" name="msotw9_temp0" descr=""/>
          <p:cNvPicPr/>
          <p:nvPr/>
        </p:nvPicPr>
        <p:blipFill>
          <a:blip r:embed="rId3"/>
          <a:srcRect l="0" t="2681" r="7691" b="0"/>
          <a:stretch/>
        </p:blipFill>
        <p:spPr>
          <a:xfrm>
            <a:off x="4876920" y="457200"/>
            <a:ext cx="3373200" cy="510552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8" name=""/>
          <p:cNvSpPr/>
          <p:nvPr/>
        </p:nvSpPr>
        <p:spPr>
          <a:xfrm>
            <a:off x="5029200" y="5562720"/>
            <a:ext cx="3505320" cy="914400"/>
          </a:xfrm>
          <a:prstGeom prst="wedgeRoundRectCallout">
            <a:avLst>
              <a:gd name="adj1" fmla="val -7018"/>
              <a:gd name="adj2" fmla="val -7066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угорковый сифилис в виде изъязвленных очагов на коже голени при третичном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1371600" cy="1600200"/>
          </a:xfrm>
          <a:prstGeom prst="wedgeRoundRectCallout">
            <a:avLst>
              <a:gd name="adj1" fmla="val 75231"/>
              <a:gd name="adj2" fmla="val 35319"/>
              <a:gd name="adj3" fmla="val 16667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ыпь при вторичном рецидивном сифилисе на коже лиц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962520"/>
            <a:ext cx="1447560" cy="1600200"/>
          </a:xfrm>
          <a:prstGeom prst="wedgeRoundRectCallout">
            <a:avLst>
              <a:gd name="adj1" fmla="val -66120"/>
              <a:gd name="adj2" fmla="val 3374"/>
              <a:gd name="adj3" fmla="val 16667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ыпь при вторичном рецидивном сифилисе на коже ст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457200"/>
            <a:ext cx="716292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нор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нерическое заболевание, вызываемо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нокок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нкубационный период в среднем составляет 3-6 д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знаки заболе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оль и резь во время мочеиспускания, обильные гнойные выделения из мочеиспускательного канала, воспаление, частые позывы к мочеиспуск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заболевание не лечить, то возбудителем поражаются суставы, сердце, моз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4648320"/>
            <a:ext cx="7391160" cy="1679400"/>
          </a:xfrm>
          <a:prstGeom prst="rect">
            <a:avLst/>
          </a:prstGeom>
          <a:noFill/>
          <a:ln w="38160">
            <a:solidFill>
              <a:srgbClr val="fc3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лактик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после случайного полового контакта тщательно обмыть тёплой водой с мылом половые органы и прилегающие области, обработка и спринцевание раствором перманганата калия, профилактический медосмотр (мазок на гонококи), использование презерватив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457200"/>
            <a:ext cx="71629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итальный герпес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звенное поражение половых органов, возбудителем которого является вирус простого герпеса (заболевание, характерное пузырьковыми высыпаниями на коже). Передаётся половым путём и вызывает болячки и язвы на половых органах и вокруг н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352680"/>
            <a:ext cx="7162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ламидиоз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езнь, возбудителем которой является микроорганизм,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ламид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паразитирует в половых и мочевыделительных органах). Симптомы проявляются через 1-4 недели. У мужчин они такие, как и при гонорее. У женщин часто протекает незаме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304920"/>
            <a:ext cx="73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И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индром приобретённого иммунодефицита. Это финальная стадия инфекционного заболевания, вызываемая вирусом иммунодефицита человека (ВИЧ) и передающаяся при половом контакте и с кров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142640" y="2590920"/>
            <a:ext cx="762120" cy="312408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3124080"/>
              <a:gd name="textAreaBottom" fmla="*/ 3087000 h 3124080"/>
            </a:gdLst>
            <a:ahLst/>
            <a:rect l="textAreaLeft" t="textAreaTop" r="textAreaRight" b="textAreaBottom"/>
            <a:pathLst>
              <a:path w="21600" h="88511">
                <a:moveTo>
                  <a:pt x="3600" y="0"/>
                </a:moveTo>
                <a:arcTo wR="3600" hR="3600" stAng="16200000" swAng="-5400000"/>
                <a:lnTo>
                  <a:pt x="0" y="84911"/>
                </a:lnTo>
                <a:arcTo wR="3600" hR="3600" stAng="10800000" swAng="-5400000"/>
                <a:lnTo>
                  <a:pt x="18000" y="88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ти  пере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90920"/>
            <a:ext cx="6476760" cy="380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оловом снош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124080"/>
            <a:ext cx="6476760" cy="3812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ереливании крови и её компон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3657600"/>
            <a:ext cx="6476760" cy="914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использовании медицинского инструмент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грязненного кровью с возбуди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4724280"/>
            <a:ext cx="6476760" cy="914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нутривенных инъекциях нестериль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прицами среди нарком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943600"/>
            <a:ext cx="7772400" cy="459720"/>
          </a:xfrm>
          <a:prstGeom prst="rect">
            <a:avLst/>
          </a:prstGeom>
          <a:noFill/>
          <a:ln w="9360">
            <a:solidFill>
              <a:srgbClr val="fc3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инственный путь борьбы со СПИДом – профилак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380880"/>
            <a:ext cx="7620120" cy="1371600"/>
          </a:xfrm>
          <a:custGeom>
            <a:avLst/>
            <a:gdLst>
              <a:gd name="textAreaLeft" fmla="*/ 1739520 w 7620120"/>
              <a:gd name="textAreaRight" fmla="*/ 5880600 w 76201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иоды ВИЧ-инфе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828800"/>
            <a:ext cx="7543800" cy="762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Инкубационный пери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должается от 3 дней 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кольких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666880"/>
            <a:ext cx="754380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Период первичных проявл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ится от несколь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ней до 2,5 месяца, но может затянуться до 1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505320"/>
            <a:ext cx="754380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Период вторичных проявл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должается 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кольких месяцев до 8-10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343400"/>
            <a:ext cx="754380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Период пораж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должается от несколь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яцев до 3-5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51814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ой причиной заболеваемости и смертности от СПИДа является не сам вирус, а другие инфекции и заболевания, которым организм не может сопротивляться в результате действия ВИЧ-инфе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msotw9_temp0" descr=""/>
          <p:cNvPicPr/>
          <p:nvPr/>
        </p:nvPicPr>
        <p:blipFill>
          <a:blip r:embed="rId1"/>
          <a:srcRect l="0" t="2636" r="1264" b="0"/>
          <a:stretch/>
        </p:blipFill>
        <p:spPr>
          <a:xfrm>
            <a:off x="1447920" y="457200"/>
            <a:ext cx="1981080" cy="281952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</p:pic>
      <p:pic>
        <p:nvPicPr>
          <p:cNvPr id="149" name="msotw9_temp0" descr=""/>
          <p:cNvPicPr/>
          <p:nvPr/>
        </p:nvPicPr>
        <p:blipFill>
          <a:blip r:embed="rId2"/>
          <a:srcRect l="0" t="2636" r="5057" b="0"/>
          <a:stretch/>
        </p:blipFill>
        <p:spPr>
          <a:xfrm>
            <a:off x="1447920" y="3429000"/>
            <a:ext cx="2008080" cy="297180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</p:pic>
      <p:pic>
        <p:nvPicPr>
          <p:cNvPr id="150" name="msotw9_temp0" descr=""/>
          <p:cNvPicPr/>
          <p:nvPr/>
        </p:nvPicPr>
        <p:blipFill>
          <a:blip r:embed="rId3"/>
          <a:srcRect l="0" t="3845" r="4840" b="0"/>
          <a:stretch/>
        </p:blipFill>
        <p:spPr>
          <a:xfrm>
            <a:off x="3733920" y="1523880"/>
            <a:ext cx="4724280" cy="329580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</p:pic>
      <p:sp>
        <p:nvSpPr>
          <p:cNvPr id="151" name=""/>
          <p:cNvSpPr/>
          <p:nvPr/>
        </p:nvSpPr>
        <p:spPr>
          <a:xfrm>
            <a:off x="3581280" y="533520"/>
            <a:ext cx="5029200" cy="609480"/>
          </a:xfrm>
          <a:prstGeom prst="wedgeRoundRectCallout">
            <a:avLst>
              <a:gd name="adj1" fmla="val -53884"/>
              <a:gd name="adj2" fmla="val 10416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ркома Капоши кожи лица и слизистой оболочки мягкого и твёрдого нёба у больного СПИ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5715000"/>
            <a:ext cx="4038840" cy="609480"/>
          </a:xfrm>
          <a:prstGeom prst="wedgeRoundRectCallout">
            <a:avLst>
              <a:gd name="adj1" fmla="val -63050"/>
              <a:gd name="adj2" fmla="val -11250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ъязвления саркомы Капоши в области левой голени у больного СПИ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952880"/>
            <a:ext cx="2286000" cy="381240"/>
          </a:xfrm>
          <a:prstGeom prst="wedgeRoundRectCallout">
            <a:avLst>
              <a:gd name="adj1" fmla="val 50069"/>
              <a:gd name="adj2" fmla="val -12666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ольной СПИ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ветственность за заражение ВИЧ-инфекцией, предусмотренная ст. 122 УК Р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905120"/>
            <a:ext cx="73911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едомое поставление другого лица в опасность заражения ВИЧ-инфекцией наказывается ограничением свободы на срок до трёх лет, либо арестом на срок о  трёх до шести месяцев, либо лишением свободы на срок до одного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ражение другого лица ВИЧ-инфекцией лицом, знавшем о наличии у него этой болезни, наказывается лишением свободы на срок до пяти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S00285_" descr=""/>
          <p:cNvPicPr/>
          <p:nvPr/>
        </p:nvPicPr>
        <p:blipFill>
          <a:blip r:embed="rId1"/>
          <a:stretch/>
        </p:blipFill>
        <p:spPr>
          <a:xfrm>
            <a:off x="4419720" y="5257800"/>
            <a:ext cx="1143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038480" y="3200400"/>
            <a:ext cx="4572000" cy="3200400"/>
          </a:xfrm>
          <a:custGeom>
            <a:avLst/>
            <a:gdLst>
              <a:gd name="textAreaLeft" fmla="*/ 1043640 w 4572000"/>
              <a:gd name="textAreaRight" fmla="*/ 3528360 w 4572000"/>
              <a:gd name="textAreaTop" fmla="*/ 730440 h 3200400"/>
              <a:gd name="textAreaBottom" fmla="*/ 24699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ИД неизлеч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неизбежно ведё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 смерт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o01885_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809880" cy="362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694b6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990720" y="304920"/>
            <a:ext cx="3962160" cy="228600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кцины 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Ч-инфе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380880"/>
            <a:ext cx="3581280" cy="266724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608760 h 2667240"/>
              <a:gd name="textAreaBottom" fmla="*/ 205848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дикаль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ода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1240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ы сам выбираешь свой пут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j0078768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7010280" cy="598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694b6"/>
            </a:outerShdw>
          </a:effectLst>
        </p:spPr>
      </p:pic>
      <p:sp>
        <p:nvSpPr>
          <p:cNvPr id="163" name=""/>
          <p:cNvSpPr/>
          <p:nvPr/>
        </p:nvSpPr>
        <p:spPr>
          <a:xfrm>
            <a:off x="3505320" y="1447920"/>
            <a:ext cx="4038480" cy="241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e2a"/>
                </a:solidFill>
                <a:latin typeface="Times New Roman"/>
              </a:rPr>
              <a:t>19 мая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e2a"/>
                </a:solidFill>
                <a:latin typeface="Times New Roman"/>
              </a:rPr>
              <a:t>Всемирный день памяти умерших от от ВИЧ и СПИ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55627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10080"/>
            <a:ext cx="5715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А вы знаете что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914400"/>
            <a:ext cx="678168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представление об основных болезнях, передаваемых половым путём (БППП), мерах профилактики этих заболев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причины и способы заражения кожно-венерическими заболевани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заболеванием СПИДом и мерами его профилак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0079_" descr=""/>
          <p:cNvPicPr/>
          <p:nvPr/>
        </p:nvPicPr>
        <p:blipFill>
          <a:blip r:embed="rId1"/>
          <a:stretch/>
        </p:blipFill>
        <p:spPr>
          <a:xfrm>
            <a:off x="7467480" y="4114800"/>
            <a:ext cx="1096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4572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нерические болез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ене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богиня любви и красоты в римской мифологии) – это группа инфекционных болезней, возбудители которых передаются преимущественно половым путё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701028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последние годы количество заболеваний, передаваемых половым путём, увеличилось в несколько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а из главных причин – это более свободный взгляд на секс и сексуальные отношения молоды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ется более 20 ИП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28800" y="45720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ем опасны БП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600200"/>
            <a:ext cx="7238880" cy="685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ажением внутренних орг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438280"/>
            <a:ext cx="72388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аличом и нарушением псих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200400"/>
            <a:ext cx="72388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сплод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038480"/>
            <a:ext cx="72388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ждением больных детей и у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800600"/>
            <a:ext cx="72388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адом 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5638680"/>
            <a:ext cx="72388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ождением 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j0079115" descr=""/>
          <p:cNvPicPr/>
          <p:nvPr/>
        </p:nvPicPr>
        <p:blipFill>
          <a:blip r:embed="rId1"/>
          <a:stretch/>
        </p:blipFill>
        <p:spPr>
          <a:xfrm>
            <a:off x="7162920" y="3048120"/>
            <a:ext cx="1774800" cy="3477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4" name="j0079114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1533600" cy="347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457200"/>
            <a:ext cx="67820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атистика                                        за последние год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болеваемость сифилисом возросла в 4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исло случаев врождённого сифилиса возросло в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ППП помолодели и ими начинают болеть с 12-14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часты эти заболевания у лиц в возрасте 20-21 года, на втором месте – 15-19-лет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3880" y="533520"/>
            <a:ext cx="6553440" cy="761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ие правила профилак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828800"/>
            <a:ext cx="6858000" cy="76212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ержание от случайных половых конт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819520"/>
            <a:ext cx="6858000" cy="76176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аимная верность молодых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809880"/>
            <a:ext cx="6858000" cy="76212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 средств предо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800600"/>
            <a:ext cx="6858000" cy="76212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лучае подозрения на за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щаться в лечебное учре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457200"/>
            <a:ext cx="7162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фили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читается самой страшной венерической болезнью. Возбудитель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ледная трепон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падает в кровь не только половым путём, но и через порезы, ссадины, даже поцелуи, курение с больным одной сигареты, пользование предметами домашнего обихода (зубная щётка, ложк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809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знаки заболевания проявляются через             3-4 недели после конта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msotw9_temp0" descr=""/>
          <p:cNvPicPr/>
          <p:nvPr/>
        </p:nvPicPr>
        <p:blipFill>
          <a:blip r:embed="rId1"/>
          <a:srcRect l="0" t="3591" r="0" b="0"/>
          <a:stretch/>
        </p:blipFill>
        <p:spPr>
          <a:xfrm>
            <a:off x="1295280" y="4572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msotw9_temp0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25416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msotw9_temp0" descr=""/>
          <p:cNvPicPr/>
          <p:nvPr/>
        </p:nvPicPr>
        <p:blipFill>
          <a:blip r:embed="rId3"/>
          <a:stretch/>
        </p:blipFill>
        <p:spPr>
          <a:xfrm>
            <a:off x="5638680" y="3048120"/>
            <a:ext cx="299268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msotw9_temp0" descr=""/>
          <p:cNvPicPr/>
          <p:nvPr/>
        </p:nvPicPr>
        <p:blipFill>
          <a:blip r:embed="rId4"/>
          <a:srcRect l="0" t="3591" r="0" b="0"/>
          <a:stretch/>
        </p:blipFill>
        <p:spPr>
          <a:xfrm>
            <a:off x="1143000" y="38098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38480" y="2895480"/>
            <a:ext cx="1295640" cy="1981440"/>
          </a:xfrm>
          <a:prstGeom prst="wedgeRoundRectCallout">
            <a:avLst>
              <a:gd name="adj1" fmla="val -67523"/>
              <a:gd name="adj2" fmla="val -39583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огове-вающие высыпания на коже подошвы при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5029200"/>
            <a:ext cx="1143000" cy="1447920"/>
          </a:xfrm>
          <a:prstGeom prst="wedgeRoundRectCallout">
            <a:avLst>
              <a:gd name="adj1" fmla="val -50555"/>
              <a:gd name="adj2" fmla="val -93203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пен-новидная сыпь на коже при сифили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219320"/>
            <a:ext cx="1295280" cy="1218960"/>
          </a:xfrm>
          <a:prstGeom prst="wedgeRoundRectCallout">
            <a:avLst>
              <a:gd name="adj1" fmla="val -64828"/>
              <a:gd name="adj2" fmla="val -87370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пулезная сыпь на языке при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943600"/>
            <a:ext cx="3809880" cy="685800"/>
          </a:xfrm>
          <a:prstGeom prst="wedgeRoundRectCallout">
            <a:avLst>
              <a:gd name="adj1" fmla="val -17416"/>
              <a:gd name="adj2" fmla="val -52777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пь в виде эктим на коже туловища и верхней конечности при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H="1" rot="10800000">
            <a:off x="1142640" y="457200"/>
            <a:ext cx="838080" cy="58672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5867280"/>
              <a:gd name="textAreaBottom" fmla="*/ 5826600 h 5867280"/>
            </a:gdLst>
            <a:ahLst/>
            <a:rect l="textAreaLeft" t="textAreaTop" r="textAreaRight" b="textAreaBottom"/>
            <a:pathLst>
              <a:path w="21600" h="151163">
                <a:moveTo>
                  <a:pt x="3600" y="0"/>
                </a:moveTo>
                <a:arcTo wR="3600" hR="3600" stAng="16200000" swAng="-5400000"/>
                <a:lnTo>
                  <a:pt x="0" y="147563"/>
                </a:lnTo>
                <a:arcTo wR="3600" hR="3600" stAng="10800000" swAng="-5400000"/>
                <a:lnTo>
                  <a:pt x="18000" y="151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ec0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иоды заболе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57200"/>
            <a:ext cx="6248520" cy="1600200"/>
          </a:xfrm>
          <a:prstGeom prst="roundRect">
            <a:avLst>
              <a:gd name="adj" fmla="val 16667"/>
            </a:avLst>
          </a:prstGeom>
          <a:solidFill>
            <a:srgbClr val="cdf8f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характеризуется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м эрозии или язвы (твёрд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нкр)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е внедр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репон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чаще всего в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в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286000"/>
            <a:ext cx="6248520" cy="1905120"/>
          </a:xfrm>
          <a:prstGeom prst="roundRect">
            <a:avLst>
              <a:gd name="adj" fmla="val 16667"/>
            </a:avLst>
          </a:prstGeom>
          <a:solidFill>
            <a:srgbClr val="cdf8f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ый пери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через 1-2 месяц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вляется сыпь на коже туловища, подошв, ладоня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изистой оболочке половых органов, постоя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ловные боли, боли в костях, увеличив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мфатические уз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419720"/>
            <a:ext cx="6248520" cy="1904760"/>
          </a:xfrm>
          <a:prstGeom prst="roundRect">
            <a:avLst>
              <a:gd name="adj" fmla="val 16667"/>
            </a:avLst>
          </a:prstGeom>
          <a:solidFill>
            <a:srgbClr val="cdf8f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тичный пери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характеризуется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ажением кожи и слизистой оболочки, внутренн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ов, костей, нервной системы, теряе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увствительность ног, поражаются зуб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аливается н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47:39Z</dcterms:created>
  <dc:creator>Ник</dc:creator>
  <dc:description/>
  <dc:language>en-US</dc:language>
  <cp:lastModifiedBy>Ник</cp:lastModifiedBy>
  <dcterms:modified xsi:type="dcterms:W3CDTF">2007-09-13T17:13:02Z</dcterms:modified>
  <cp:revision>88</cp:revision>
  <dc:subject/>
  <dc:title>Презентация PowerPoint</dc:title>
</cp:coreProperties>
</file>