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B88-6073-4888-8D5D-47F9EFFF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6800" y="304560"/>
            <a:ext cx="640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6800" y="2133720"/>
            <a:ext cx="640548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26800" y="5267160"/>
            <a:ext cx="640548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1D29-2E89-4164-B3F6-5CBF42D0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6800" y="304560"/>
            <a:ext cx="640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6800" y="2133720"/>
            <a:ext cx="312552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08920" y="2133720"/>
            <a:ext cx="312552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26800" y="5267160"/>
            <a:ext cx="312552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508920" y="5267160"/>
            <a:ext cx="312552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075D-CB32-450A-8D74-E9D432C1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6800" y="304560"/>
            <a:ext cx="640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6800" y="2133720"/>
            <a:ext cx="206244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392920" y="2133720"/>
            <a:ext cx="206244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8680" y="2133720"/>
            <a:ext cx="206244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26800" y="5267160"/>
            <a:ext cx="206244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392920" y="5267160"/>
            <a:ext cx="206244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558680" y="5267160"/>
            <a:ext cx="206244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9448-4228-40E8-A370-AFBAC06E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EDBC-96B4-4355-8E3E-4CE88CB4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6800" y="304560"/>
            <a:ext cx="640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226800" y="2133720"/>
            <a:ext cx="6405480" cy="59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3F7A-034D-4150-981C-3DD09921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800" y="304560"/>
            <a:ext cx="640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6800" y="2133720"/>
            <a:ext cx="6405480" cy="59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0CFB-DD98-4828-BC79-4E90CAFF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6800" y="304560"/>
            <a:ext cx="640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6800" y="2133720"/>
            <a:ext cx="3125520" cy="59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08920" y="2133720"/>
            <a:ext cx="3125520" cy="59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40C1-A1DE-44E1-853D-08E092C0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6800" y="304560"/>
            <a:ext cx="640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6CDA-B9B8-48B1-9E2D-34DC23E1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226800" y="304560"/>
            <a:ext cx="6405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849A-5394-4393-94DA-8A4C4DE0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6800" y="304560"/>
            <a:ext cx="640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6800" y="2133720"/>
            <a:ext cx="312552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508920" y="2133720"/>
            <a:ext cx="3125520" cy="59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226800" y="5267160"/>
            <a:ext cx="312552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9F90-CE89-419E-8DF2-46ACDEB6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6800" y="304560"/>
            <a:ext cx="640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26800" y="2133720"/>
            <a:ext cx="6405480" cy="59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7684-B944-4371-9B8D-9132A853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6800" y="304560"/>
            <a:ext cx="640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6800" y="2133720"/>
            <a:ext cx="3125520" cy="59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508920" y="2133720"/>
            <a:ext cx="312552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508920" y="5267160"/>
            <a:ext cx="312552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C2D9-5457-471A-9E1F-B57BA253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6800" y="304560"/>
            <a:ext cx="640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6800" y="2133720"/>
            <a:ext cx="312552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08920" y="2133720"/>
            <a:ext cx="312552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226800" y="5267160"/>
            <a:ext cx="640548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5BC7-59E4-4468-BC8D-52BD3BC7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6800" y="304560"/>
            <a:ext cx="640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6800" y="2133720"/>
            <a:ext cx="640548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26800" y="5267160"/>
            <a:ext cx="640548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250D-A813-4188-BCEF-AAC4A41F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6800" y="304560"/>
            <a:ext cx="640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26800" y="2133720"/>
            <a:ext cx="312552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08920" y="2133720"/>
            <a:ext cx="312552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226800" y="5267160"/>
            <a:ext cx="312552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3508920" y="5267160"/>
            <a:ext cx="312552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1965-8204-4009-A729-00059F10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6800" y="304560"/>
            <a:ext cx="640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6800" y="2133720"/>
            <a:ext cx="206244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392920" y="2133720"/>
            <a:ext cx="206244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58680" y="2133720"/>
            <a:ext cx="206244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226800" y="5267160"/>
            <a:ext cx="206244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392920" y="5267160"/>
            <a:ext cx="206244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4558680" y="5267160"/>
            <a:ext cx="206244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8568-E14E-428B-8D7B-EE08734B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6800" y="304560"/>
            <a:ext cx="640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6800" y="2133720"/>
            <a:ext cx="6405480" cy="59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75C-F1DF-4909-93F0-C67AB082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6800" y="304560"/>
            <a:ext cx="640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" y="2133720"/>
            <a:ext cx="3125520" cy="59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08920" y="2133720"/>
            <a:ext cx="3125520" cy="59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4718-0458-4254-883B-1419EB09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6800" y="304560"/>
            <a:ext cx="640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6D8-AA9F-4875-BA22-EB09CA37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26800" y="304560"/>
            <a:ext cx="6405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8F2-D996-4E94-AA51-85F386D9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6800" y="304560"/>
            <a:ext cx="640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6800" y="2133720"/>
            <a:ext cx="312552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08920" y="2133720"/>
            <a:ext cx="3125520" cy="59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26800" y="5267160"/>
            <a:ext cx="312552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A841-0487-4BCA-AA97-01CFF9D3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6800" y="304560"/>
            <a:ext cx="640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6800" y="2133720"/>
            <a:ext cx="3125520" cy="59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08920" y="2133720"/>
            <a:ext cx="312552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508920" y="5267160"/>
            <a:ext cx="312552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55D3-5012-46FE-A8BB-59EF3C15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6800" y="304560"/>
            <a:ext cx="640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6800" y="2133720"/>
            <a:ext cx="312552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08920" y="2133720"/>
            <a:ext cx="312552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26800" y="5267160"/>
            <a:ext cx="6405480" cy="28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7946-A8B5-4105-9457-94DB3C8F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8000" y="1897200"/>
            <a:ext cx="6878880" cy="7246080"/>
            <a:chOff x="-18000" y="1897200"/>
            <a:chExt cx="6878880" cy="7246080"/>
          </a:xfrm>
        </p:grpSpPr>
        <p:grpSp>
          <p:nvGrpSpPr>
            <p:cNvPr id="1" name=""/>
            <p:cNvGrpSpPr/>
            <p:nvPr/>
          </p:nvGrpSpPr>
          <p:grpSpPr>
            <a:xfrm>
              <a:off x="23760" y="1897200"/>
              <a:ext cx="6837120" cy="7246080"/>
              <a:chOff x="23760" y="1897200"/>
              <a:chExt cx="6837120" cy="7246080"/>
            </a:xfrm>
          </p:grpSpPr>
          <p:sp>
            <p:nvSpPr>
              <p:cNvPr id="2" name=""/>
              <p:cNvSpPr/>
              <p:nvPr/>
            </p:nvSpPr>
            <p:spPr>
              <a:xfrm>
                <a:off x="1665720" y="2362680"/>
                <a:ext cx="3351960" cy="446544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9920" y="2362680"/>
                <a:ext cx="4722480" cy="5007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3760" y="2263320"/>
                <a:ext cx="6825600" cy="657504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288000" y="2423880"/>
                <a:ext cx="6563520" cy="584100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763240" y="2083320"/>
                <a:ext cx="940680" cy="251604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159600" y="1897200"/>
                <a:ext cx="689400" cy="23637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918600" y="2049480"/>
                <a:ext cx="2942280" cy="507024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817000" y="2259000"/>
                <a:ext cx="1666080" cy="285480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090400" y="4299120"/>
                <a:ext cx="1495440" cy="171396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469680" y="7356960"/>
                <a:ext cx="3391200" cy="166752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481080" y="1952280"/>
                <a:ext cx="379800" cy="180720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898960" y="7552080"/>
                <a:ext cx="768960" cy="829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9400" y="5079960"/>
                <a:ext cx="3257640" cy="40633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-18000" y="4855320"/>
              <a:ext cx="1667160" cy="3588480"/>
              <a:chOff x="-18000" y="4855320"/>
              <a:chExt cx="1667160" cy="358848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39240" y="8222760"/>
                <a:ext cx="1587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4680" y="8215920"/>
                <a:ext cx="15804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-27000" y="8205480"/>
                <a:ext cx="15804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216720" y="8224560"/>
                <a:ext cx="1461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184680" y="8235360"/>
                <a:ext cx="1458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149040" y="8233200"/>
                <a:ext cx="1458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14120" y="8228880"/>
                <a:ext cx="1461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399960" y="8192880"/>
                <a:ext cx="1461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363600" y="8199720"/>
                <a:ext cx="1458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327960" y="8209800"/>
                <a:ext cx="1458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289800" y="8220960"/>
                <a:ext cx="1458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585000" y="810828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549360" y="811872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513360" y="814860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477720" y="815472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761400" y="796680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725400" y="800460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691560" y="8028000"/>
                <a:ext cx="13284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655200" y="805536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921960" y="779940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889920" y="783324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857880" y="787140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824400" y="790740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098360" y="7592040"/>
                <a:ext cx="820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069920" y="7632000"/>
                <a:ext cx="820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011240" y="7678800"/>
                <a:ext cx="1458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982800" y="771696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222200" y="7350120"/>
                <a:ext cx="820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200600" y="7401240"/>
                <a:ext cx="820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178280" y="7448040"/>
                <a:ext cx="820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153080" y="7500960"/>
                <a:ext cx="820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324800" y="7100640"/>
                <a:ext cx="892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309680" y="7149240"/>
                <a:ext cx="820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292400" y="7204320"/>
                <a:ext cx="820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266480" y="7248600"/>
                <a:ext cx="820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395000" y="6825240"/>
                <a:ext cx="961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383120" y="6878880"/>
                <a:ext cx="961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373400" y="6933600"/>
                <a:ext cx="961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357920" y="6993000"/>
                <a:ext cx="892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441800" y="6552720"/>
                <a:ext cx="96120" cy="248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429920" y="6607440"/>
                <a:ext cx="961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428840" y="6660000"/>
                <a:ext cx="961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415160" y="6715800"/>
                <a:ext cx="961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451160" y="6275520"/>
                <a:ext cx="10260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452600" y="632988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452600" y="638100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451160" y="6436440"/>
                <a:ext cx="964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436760" y="601740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443960" y="606168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447560" y="611244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451160" y="6169320"/>
                <a:ext cx="10260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386720" y="5771520"/>
                <a:ext cx="10260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400040" y="5825160"/>
                <a:ext cx="102240" cy="248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409040" y="587340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420920" y="591588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310400" y="556236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325880" y="5598000"/>
                <a:ext cx="10260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344240" y="564516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359720" y="568116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206720" y="5371560"/>
                <a:ext cx="10260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231920" y="541188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249560" y="544788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271520" y="548136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78520" y="5424840"/>
                <a:ext cx="214200" cy="31932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825840" y="6647040"/>
                <a:ext cx="25941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4680" y="6658200"/>
                <a:ext cx="1227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042920" y="5238360"/>
                <a:ext cx="1710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070280" y="5265720"/>
                <a:ext cx="1710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095480" y="5290560"/>
                <a:ext cx="1818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159200" y="531036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903960" y="5139000"/>
                <a:ext cx="1587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936000" y="5155560"/>
                <a:ext cx="1587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959040" y="5170320"/>
                <a:ext cx="1710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989280" y="5196240"/>
                <a:ext cx="1710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738360" y="5075640"/>
                <a:ext cx="15804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771480" y="5088240"/>
                <a:ext cx="1587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807480" y="5099040"/>
                <a:ext cx="1587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843120" y="5106960"/>
                <a:ext cx="15804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567000" y="5073840"/>
                <a:ext cx="1461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599760" y="5068800"/>
                <a:ext cx="1587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636120" y="5063040"/>
                <a:ext cx="1587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673200" y="5064480"/>
                <a:ext cx="15804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390960" y="5113440"/>
                <a:ext cx="1458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426960" y="5103000"/>
                <a:ext cx="1458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465840" y="5094360"/>
                <a:ext cx="1458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502920" y="5084280"/>
                <a:ext cx="1461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216360" y="520668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253440" y="518580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288000" y="516456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316440" y="5141520"/>
                <a:ext cx="1458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-22680" y="539964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47160" y="5331600"/>
                <a:ext cx="13284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80640" y="529956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12680" y="527832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150120" y="5248800"/>
                <a:ext cx="13284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7117560"/>
                <a:ext cx="892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495720" y="7367040"/>
                <a:ext cx="51192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-70920" y="5927760"/>
                <a:ext cx="51192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833400" y="6033960"/>
                <a:ext cx="3772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173520" y="8291160"/>
                <a:ext cx="2919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-13680" y="8291520"/>
                <a:ext cx="3045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367920" y="8245080"/>
                <a:ext cx="27972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559440" y="8147520"/>
                <a:ext cx="2790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736200" y="8001000"/>
                <a:ext cx="2790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906120" y="7811280"/>
                <a:ext cx="27972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116360" y="7581600"/>
                <a:ext cx="15696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82800" y="5308920"/>
                <a:ext cx="2790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100800" y="5154480"/>
                <a:ext cx="2790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468000" y="5009040"/>
                <a:ext cx="2916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640800" y="5000760"/>
                <a:ext cx="3171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808560" y="5054400"/>
                <a:ext cx="3279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957960" y="5147640"/>
                <a:ext cx="3531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171440" y="5285160"/>
                <a:ext cx="1987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279440" y="5470920"/>
                <a:ext cx="2059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365120" y="5688720"/>
                <a:ext cx="1987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425960" y="5936400"/>
                <a:ext cx="1987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450080" y="6201360"/>
                <a:ext cx="1987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443600" y="6489000"/>
                <a:ext cx="1987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339920" y="7062840"/>
                <a:ext cx="17856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239480" y="7333920"/>
                <a:ext cx="1663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011960" y="6637680"/>
                <a:ext cx="243000" cy="25380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2680" y="5761080"/>
                <a:ext cx="106920" cy="16488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5560" y="5610960"/>
                <a:ext cx="119880" cy="1882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05680" y="7412040"/>
                <a:ext cx="98640" cy="16488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18880" y="5888520"/>
                <a:ext cx="106920" cy="1519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69200" y="5748840"/>
                <a:ext cx="106920" cy="17748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280" y="8120880"/>
                <a:ext cx="6840" cy="2520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280" y="5407920"/>
                <a:ext cx="35640" cy="1015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280" y="8133840"/>
                <a:ext cx="42840" cy="13932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400760" y="6774840"/>
                <a:ext cx="191520" cy="248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281160" y="5055480"/>
                <a:ext cx="2916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65240" y="7562160"/>
                <a:ext cx="171360" cy="32580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704880" y="7545960"/>
                <a:ext cx="143640" cy="8208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79720" y="5298120"/>
                <a:ext cx="414360" cy="269172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351720" y="6448680"/>
                <a:ext cx="263160" cy="3682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6800" y="304560"/>
            <a:ext cx="640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226800" y="8326440"/>
            <a:ext cx="17161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7175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91FD-B435-4CFD-AB51-7886546DA4E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226800" y="2133720"/>
            <a:ext cx="6405480" cy="59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-18000" y="1897200"/>
            <a:ext cx="6878880" cy="7246080"/>
            <a:chOff x="-18000" y="1897200"/>
            <a:chExt cx="6878880" cy="7246080"/>
          </a:xfrm>
        </p:grpSpPr>
        <p:grpSp>
          <p:nvGrpSpPr>
            <p:cNvPr id="193" name=""/>
            <p:cNvGrpSpPr/>
            <p:nvPr/>
          </p:nvGrpSpPr>
          <p:grpSpPr>
            <a:xfrm>
              <a:off x="23760" y="1897200"/>
              <a:ext cx="6837120" cy="7246080"/>
              <a:chOff x="23760" y="1897200"/>
              <a:chExt cx="6837120" cy="7246080"/>
            </a:xfrm>
          </p:grpSpPr>
          <p:sp>
            <p:nvSpPr>
              <p:cNvPr id="194" name=""/>
              <p:cNvSpPr/>
              <p:nvPr/>
            </p:nvSpPr>
            <p:spPr>
              <a:xfrm>
                <a:off x="1665720" y="2362680"/>
                <a:ext cx="3351960" cy="446544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99920" y="2362680"/>
                <a:ext cx="4722480" cy="5007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760" y="2263320"/>
                <a:ext cx="6825600" cy="657504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8000" y="2423880"/>
                <a:ext cx="6563520" cy="584100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63240" y="2083320"/>
                <a:ext cx="940680" cy="251604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159600" y="1897200"/>
                <a:ext cx="689400" cy="23637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18600" y="2049480"/>
                <a:ext cx="2942280" cy="507024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817000" y="2259000"/>
                <a:ext cx="1666080" cy="285480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090400" y="4299120"/>
                <a:ext cx="1495440" cy="171396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69680" y="7356960"/>
                <a:ext cx="3391200" cy="166752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81080" y="1952280"/>
                <a:ext cx="379800" cy="180720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898960" y="7552080"/>
                <a:ext cx="768960" cy="829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9400" y="5079960"/>
                <a:ext cx="3257640" cy="40633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-18000" y="4855320"/>
              <a:ext cx="1667160" cy="3588480"/>
              <a:chOff x="-18000" y="4855320"/>
              <a:chExt cx="1667160" cy="358848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39240" y="8222760"/>
                <a:ext cx="1587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4680" y="8215920"/>
                <a:ext cx="15804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-27000" y="8205480"/>
                <a:ext cx="15804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216720" y="8224560"/>
                <a:ext cx="1461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184680" y="8235360"/>
                <a:ext cx="1458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149040" y="8233200"/>
                <a:ext cx="1458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14120" y="8228880"/>
                <a:ext cx="1461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399960" y="8192880"/>
                <a:ext cx="1461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363600" y="8199720"/>
                <a:ext cx="1458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327960" y="8209800"/>
                <a:ext cx="1458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289800" y="8220960"/>
                <a:ext cx="1458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585000" y="810828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549360" y="811872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513360" y="814860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477720" y="815472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761400" y="796680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725400" y="800460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691560" y="8028000"/>
                <a:ext cx="13284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655200" y="805536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921960" y="779940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889920" y="783324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857880" y="787140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824400" y="790740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098360" y="7592040"/>
                <a:ext cx="820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069920" y="7632000"/>
                <a:ext cx="820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011240" y="7678800"/>
                <a:ext cx="1458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982800" y="771696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222200" y="7350120"/>
                <a:ext cx="820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200600" y="7401240"/>
                <a:ext cx="820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178280" y="7448040"/>
                <a:ext cx="820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153080" y="7500960"/>
                <a:ext cx="820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324800" y="7100640"/>
                <a:ext cx="892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309680" y="7149240"/>
                <a:ext cx="820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292400" y="7204320"/>
                <a:ext cx="820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266480" y="7248600"/>
                <a:ext cx="820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395000" y="6825240"/>
                <a:ext cx="961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383120" y="6878880"/>
                <a:ext cx="961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373400" y="6933600"/>
                <a:ext cx="961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357920" y="6993000"/>
                <a:ext cx="892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441800" y="6552720"/>
                <a:ext cx="96120" cy="248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429920" y="6607440"/>
                <a:ext cx="961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428840" y="6660000"/>
                <a:ext cx="961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415160" y="6715800"/>
                <a:ext cx="961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451160" y="6275520"/>
                <a:ext cx="10260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452600" y="632988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452600" y="638100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451160" y="6436440"/>
                <a:ext cx="964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436760" y="601740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443960" y="606168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447560" y="611244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451160" y="6169320"/>
                <a:ext cx="10260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386720" y="5771520"/>
                <a:ext cx="10260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400040" y="5825160"/>
                <a:ext cx="102240" cy="248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409040" y="587340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420920" y="591588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310400" y="556236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325880" y="5598000"/>
                <a:ext cx="10260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344240" y="564516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359720" y="568116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206720" y="5371560"/>
                <a:ext cx="10260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231920" y="541188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249560" y="544788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271520" y="548136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8520" y="5424840"/>
                <a:ext cx="214200" cy="31932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825840" y="6647040"/>
                <a:ext cx="25941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4680" y="6658200"/>
                <a:ext cx="1227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042920" y="5238360"/>
                <a:ext cx="1710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070280" y="5265720"/>
                <a:ext cx="1710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095480" y="5290560"/>
                <a:ext cx="1818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159200" y="5310360"/>
                <a:ext cx="10224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903960" y="5139000"/>
                <a:ext cx="1587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936000" y="5155560"/>
                <a:ext cx="1587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959040" y="5170320"/>
                <a:ext cx="1710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989280" y="5196240"/>
                <a:ext cx="1710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738360" y="5075640"/>
                <a:ext cx="15804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771480" y="5088240"/>
                <a:ext cx="1587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807480" y="5099040"/>
                <a:ext cx="1587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843120" y="5106960"/>
                <a:ext cx="15804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567000" y="5073840"/>
                <a:ext cx="1461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599760" y="5068800"/>
                <a:ext cx="1587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636120" y="5063040"/>
                <a:ext cx="1587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673200" y="5064480"/>
                <a:ext cx="15804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390960" y="5113440"/>
                <a:ext cx="1458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426960" y="5103000"/>
                <a:ext cx="1458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465840" y="5094360"/>
                <a:ext cx="1458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502920" y="5084280"/>
                <a:ext cx="1461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216360" y="520668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253440" y="518580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288000" y="516456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316440" y="5141520"/>
                <a:ext cx="1458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-22680" y="539964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47160" y="5331600"/>
                <a:ext cx="13284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80640" y="529956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12680" y="5278320"/>
                <a:ext cx="1332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150120" y="5248800"/>
                <a:ext cx="13284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7117560"/>
                <a:ext cx="892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495720" y="7367040"/>
                <a:ext cx="51192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-70920" y="5927760"/>
                <a:ext cx="51192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833400" y="6033960"/>
                <a:ext cx="37728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173520" y="8291160"/>
                <a:ext cx="2919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-13680" y="8291520"/>
                <a:ext cx="3045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367920" y="8245080"/>
                <a:ext cx="27972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559440" y="8147520"/>
                <a:ext cx="2790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736200" y="8001000"/>
                <a:ext cx="2790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906120" y="7811280"/>
                <a:ext cx="27972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116360" y="7581600"/>
                <a:ext cx="15696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82800" y="5308920"/>
                <a:ext cx="2790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100800" y="5154480"/>
                <a:ext cx="2790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468000" y="5009040"/>
                <a:ext cx="2916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640800" y="5000760"/>
                <a:ext cx="3171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808560" y="5054400"/>
                <a:ext cx="3279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957960" y="5147640"/>
                <a:ext cx="35316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171440" y="5285160"/>
                <a:ext cx="1987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279440" y="5470920"/>
                <a:ext cx="2059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365120" y="5688720"/>
                <a:ext cx="1987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425960" y="5936400"/>
                <a:ext cx="1987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450080" y="6201360"/>
                <a:ext cx="1987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443600" y="6489000"/>
                <a:ext cx="1987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339920" y="7062840"/>
                <a:ext cx="17856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239480" y="7333920"/>
                <a:ext cx="166320" cy="252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011960" y="6637680"/>
                <a:ext cx="243000" cy="25380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680" y="5761080"/>
                <a:ext cx="106920" cy="16488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15560" y="5610960"/>
                <a:ext cx="119880" cy="1882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05680" y="7412040"/>
                <a:ext cx="98640" cy="16488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18880" y="5888520"/>
                <a:ext cx="106920" cy="1519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69200" y="5748840"/>
                <a:ext cx="106920" cy="17748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280" y="8120880"/>
                <a:ext cx="6840" cy="2520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280" y="5407920"/>
                <a:ext cx="35640" cy="1015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280" y="8133840"/>
                <a:ext cx="42840" cy="13932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400760" y="6774840"/>
                <a:ext cx="191520" cy="248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281160" y="5055480"/>
                <a:ext cx="291600" cy="140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65240" y="7562160"/>
                <a:ext cx="171360" cy="32580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704880" y="7545960"/>
                <a:ext cx="143640" cy="8208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79720" y="5298120"/>
                <a:ext cx="414360" cy="269172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351720" y="6448680"/>
                <a:ext cx="263160" cy="3682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14440" y="2357280"/>
            <a:ext cx="58291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228240" y="8331120"/>
            <a:ext cx="171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714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6D7D-FF8D-41BA-B088-01A37E3A22A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76280" y="826920"/>
            <a:ext cx="6192720" cy="57787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404640" y="133200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Родина там, где живеш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 значит должен знать историю своего нар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52640" y="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нографический музей Республики Коми  в ЦДТ пгт. Войво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29000" y="6877080"/>
            <a:ext cx="297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ту выполн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ханова Д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з «Б» клас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БОУ «СОШ» пгт. Войво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33360" y="250920"/>
            <a:ext cx="61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Мы в музее побывали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И историю узнали.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Как развивалась и росла 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Наша  Коми зем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36640" y="1908000"/>
            <a:ext cx="5184720" cy="30639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1197000" y="5796000"/>
            <a:ext cx="4680000" cy="2876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419840" y="5148360"/>
            <a:ext cx="39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тория появления народа Ко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60280" y="40831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т, оказывается, откуда наш Коми край возник!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404640" y="468360"/>
            <a:ext cx="5977080" cy="34560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620640" y="4716360"/>
            <a:ext cx="58327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852640" y="4083120"/>
            <a:ext cx="190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33360" y="82692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2531160" y="25092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ми - из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3500280" y="1116000"/>
            <a:ext cx="3238560" cy="24480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333360" y="3780000"/>
            <a:ext cx="5183280" cy="23763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1413000" y="6516720"/>
            <a:ext cx="5184720" cy="19429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329560" y="615636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машнее убран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789360" y="684360"/>
            <a:ext cx="2735280" cy="3816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0" y="195120"/>
            <a:ext cx="37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т бы нам такую - порыбачить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467520" y="329076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т это лыжи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42240" y="480384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й, как интересно!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260280" y="5435640"/>
            <a:ext cx="6337440" cy="33843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260280" y="684360"/>
            <a:ext cx="302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3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3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573360" y="108000"/>
            <a:ext cx="2951280" cy="39592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260280" y="108000"/>
            <a:ext cx="3024360" cy="39592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64880" y="2282760"/>
            <a:ext cx="32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т бы маме на воротник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710520" y="50760"/>
            <a:ext cx="282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мне бы такие снаст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 на рыбалочку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89000" y="44434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ёшины мечты в муз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260280" y="5076720"/>
            <a:ext cx="6408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499760" y="3867120"/>
            <a:ext cx="35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, жили же люди в старину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260280" y="250920"/>
            <a:ext cx="6264360" cy="33843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260280" y="4572000"/>
            <a:ext cx="6337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052640" y="415440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 Р А С О Т А    П Р И Р О Д Ы  КОМИ РЕСПУБЛИКИ ! !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189000" y="250920"/>
            <a:ext cx="6553080" cy="37447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189000" y="5148360"/>
            <a:ext cx="6553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7:15:14Z</dcterms:created>
  <dc:creator>Диана</dc:creator>
  <dc:description/>
  <dc:language>en-US</dc:language>
  <cp:lastModifiedBy>Диана</cp:lastModifiedBy>
  <dcterms:modified xsi:type="dcterms:W3CDTF">2012-11-11T17:31:43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