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9911-262F-421F-8C0F-E4DB35D6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437-57E2-49A5-82FD-78048D29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E84-3537-4189-8B88-47CF93FB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361B-B7C4-4CC3-BF49-D70CF1E1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F46D-4946-482C-8D79-5D2049D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F83-0816-4152-8EA5-47E50228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7D3-2A7B-48A3-B4DD-347EF61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D03-45CD-49EC-94B5-0FD74554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4FD-A7CD-4CFD-8A4F-61B07C4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5A5-A9C2-4F81-98CD-485CF930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896-EC7C-4F3A-ABCD-8BD3BC5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3F0-76F5-4AFA-9A72-F0E6D5C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3BF7-822A-45A1-9358-B64362FEAD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зяйство Самарской обл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721512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Часть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: Королева Светлана Владимир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Учитель географии ГБОУ СОШ №3 с. Приволжье муниципального района Приволжский Самарской области, первая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ктроэнерг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м источником электроэнергии области является Волжская ГЭС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. Жигулевс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1958 году мощная плотина перегородила р. Волгу и на 28 метров подняла воду в Куйбышевском водохранилищ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0b38384281c3b5cae2919722aed72657"/>
          <p:cNvPicPr/>
          <p:nvPr/>
        </p:nvPicPr>
        <p:blipFill>
          <a:blip r:embed="rId1"/>
          <a:stretch/>
        </p:blipFill>
        <p:spPr>
          <a:xfrm>
            <a:off x="4648320" y="1357200"/>
            <a:ext cx="42814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жская ГЭ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548-700x467"/>
          <p:cNvPicPr/>
          <p:nvPr/>
        </p:nvPicPr>
        <p:blipFill>
          <a:blip r:embed="rId1"/>
          <a:stretch/>
        </p:blipFill>
        <p:spPr>
          <a:xfrm>
            <a:off x="357120" y="1285920"/>
            <a:ext cx="8572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жская ГЭ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jiguli-ges-teplomett"/>
          <p:cNvPicPr/>
          <p:nvPr/>
        </p:nvPicPr>
        <p:blipFill>
          <a:blip r:embed="rId1"/>
          <a:stretch/>
        </p:blipFill>
        <p:spPr>
          <a:xfrm>
            <a:off x="285840" y="1214280"/>
            <a:ext cx="8358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лжская ГЭ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22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пловая энерг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упнейшие тепловые электростанции – Новокуйбышевская и Тольяттинская ТЭЦ (по 250 тыс. кВт каждая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articol_8bdf4301fcd721e05085c663fd758018"/>
          <p:cNvPicPr/>
          <p:nvPr/>
        </p:nvPicPr>
        <p:blipFill>
          <a:blip r:embed="rId1"/>
          <a:stretch/>
        </p:blipFill>
        <p:spPr>
          <a:xfrm>
            <a:off x="4143240" y="128592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шиностро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арской области производя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урбины гидравлическ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аллорежущие станки, в том числе с числовым программным управлением, дробил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льниц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бо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шипни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шины для городского коммунального хозяйств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гковые автомобили и так дале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мобильная промышл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дер производства легковых автомобилей в России – ОАО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втоВА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. Предприятием производится свыше 80% отечественных легковых автомобилей. Более 300 самарских предприятий поставляют автомобильные компоненты и материалы для ОАО «АвтоВАЗ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276520"/>
          <p:cNvPicPr/>
          <p:nvPr/>
        </p:nvPicPr>
        <p:blipFill>
          <a:blip r:embed="rId1"/>
          <a:stretch/>
        </p:blipFill>
        <p:spPr>
          <a:xfrm>
            <a:off x="4572000" y="1357200"/>
            <a:ext cx="435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ВА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image298471"/>
          <p:cNvPicPr/>
          <p:nvPr/>
        </p:nvPicPr>
        <p:blipFill>
          <a:blip r:embed="rId1"/>
          <a:stretch/>
        </p:blipFill>
        <p:spPr>
          <a:xfrm>
            <a:off x="285840" y="1214280"/>
            <a:ext cx="85723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цион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амарской области расположено ведущее в России предприятие по созданию, производству и запуску ракет-носителей и космических аппаратов ФГУП ГНПРКЦ 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СК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, на базе которого и сформировался авиационно-космический класт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вакуированный в годы войны из центра страны завод быстро был восстановлен и исправно посылал фронту грозные И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перь фирма АВИС создали надежные и удобные для пассажиров ТУ -304, ТУ-2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иацион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uploads_images_zavod_33"/>
          <p:cNvPicPr/>
          <p:nvPr/>
        </p:nvPicPr>
        <p:blipFill>
          <a:blip r:embed="rId1"/>
          <a:stretch/>
        </p:blipFill>
        <p:spPr>
          <a:xfrm>
            <a:off x="214200" y="1285920"/>
            <a:ext cx="85726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накомить учащихся с историей развития хозяйства области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особенностями размещения и специализацией ведущих отраслей промышлен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aviacor_01"/>
          <p:cNvPicPr/>
          <p:nvPr/>
        </p:nvPicPr>
        <p:blipFill>
          <a:blip r:embed="rId1"/>
          <a:stretch/>
        </p:blipFill>
        <p:spPr>
          <a:xfrm>
            <a:off x="214200" y="28584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_2bad_ce59e573_XL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60203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шипниковая промышл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ра – столица подшипниковой промышленности. К началу ВОВ в стране был единственный подшипниковый завод в г. Москве, который фашисты с первых же дней усиленно бомбили. А западные страны прекратили нам поставку подшипников. Они понимали, что без подшипников не пойдут ни танки, ни самолеты, ни автомобили. И вот в январе 1942 года в Самару пришли эшелоны с оборудованием Московского ГПЗ. А уже с весны 1942 года в городе стали самостоятельно производить подшип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1003984-1"/>
          <p:cNvPicPr/>
          <p:nvPr/>
        </p:nvPicPr>
        <p:blipFill>
          <a:blip r:embed="rId1"/>
          <a:srcRect l="0" t="20381" r="0" b="2038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шипниковая промышл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нас производят самые миниатюрные подшипники, которые можно разглядеть только с помощью увеличения. Они нужны для точных приборов, в том числе и для тех, что устанавливают на космических корабля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подшипники так велики, что если поставить один такой подшипник на дорогу, то внутри него пройдет легковой автомоби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иганты –подшипники нужны для турбин ГЭС, шагающих экскаваторов, прокатных ста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лектротехническая промышлен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ьяттинский электротехнический завод производит трансформат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рский электротехнический завод производит высоковольтную и низковольтную аппарату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_real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naladka_i_isputanie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ко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неволжский станкостроительный завод выпускает высококачественные станки с числовым программным управле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19"/>
          <p:cNvPicPr/>
          <p:nvPr/>
        </p:nvPicPr>
        <p:blipFill>
          <a:blip r:embed="rId1"/>
          <a:stretch/>
        </p:blipFill>
        <p:spPr>
          <a:xfrm>
            <a:off x="4357800" y="1357200"/>
            <a:ext cx="4329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пливно-энергетический комплекс (ТЭ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опливная промышле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Нефтя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Газов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голь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Сланцевая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Торфяна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энерге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00360" y="24289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ГЭ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ТЭ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Э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*подчеркнуто то, что имеется в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ко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4280"/>
            <a:ext cx="4038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ой завод – координатно-расточных станков производ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горизонтальные станки высокой точ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а них можно выполнять сверление, растачивание, фрезерование, подрез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foto6817"/>
          <p:cNvPicPr/>
          <p:nvPr/>
        </p:nvPicPr>
        <p:blipFill>
          <a:blip r:embed="rId1"/>
          <a:stretch/>
        </p:blipFill>
        <p:spPr>
          <a:xfrm>
            <a:off x="3857760" y="1285920"/>
            <a:ext cx="51433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ругие заводы машиностро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автотрактор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оборудования имени  имени  А.М. Тарасо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ственное объединение «Бурмаш» производит машины для бурения скважи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станочных узлов в г. Похвистне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медицинского оборудования в г. Сызра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 нефтяного машиностроения (ОАО "Завод Нефтемаш") в г.Отрад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чайкина И.Р., Лопухов Н.П.., Воронин В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ография Самарской области: Учебное пособие для учащихся 8-9 классов средней школы. Самара 2003 год, 125 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икипед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Яндекс. Карти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яная и нефтеперерабатывающ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в 20-ые 20 века годы жители нашей области не знали, что в глубине нашей земли есть «черное золото». Впервые оно было получено в 1936 году под Сызранью. Затем нефтью порадовали Жигулевские го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алась война. Фашистам удалось отрезать страну от нефтяных районов Кавказа. Вот тогда все надежды были возложены на нашу область. В решающей битве под Сталинградом нашим бензином ежедневно заправлялось более 1000 тан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44 году была добыта миллиардная тонна неф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в области открыто около 350 месторожд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яная промышле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43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шей области создан мощный комплекс нефтепереработ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роены 3 нефте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рабатывающ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да(НПЗ): Новокуйбышев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рский, Сызранск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article"/>
          <p:cNvPicPr/>
          <p:nvPr/>
        </p:nvPicPr>
        <p:blipFill>
          <a:blip r:embed="rId1"/>
          <a:stretch/>
        </p:blipFill>
        <p:spPr>
          <a:xfrm>
            <a:off x="4786200" y="1571760"/>
            <a:ext cx="41436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фтепереработ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56840"/>
            <a:ext cx="4038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заводах получаю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нзи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роси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зельное топливо, маз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шинное масло, гудро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творите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рную кислоту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тум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ие проду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hoto-12-novokuybyshevsk-russia"/>
          <p:cNvPicPr/>
          <p:nvPr/>
        </p:nvPicPr>
        <p:blipFill>
          <a:blip r:embed="rId1"/>
          <a:stretch/>
        </p:blipFill>
        <p:spPr>
          <a:xfrm>
            <a:off x="4357800" y="1428840"/>
            <a:ext cx="43290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арский НП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pic344"/>
          <p:cNvPicPr/>
          <p:nvPr/>
        </p:nvPicPr>
        <p:blipFill>
          <a:blip r:embed="rId1"/>
          <a:stretch/>
        </p:blipFill>
        <p:spPr>
          <a:xfrm>
            <a:off x="500040" y="1285920"/>
            <a:ext cx="82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ызранский НП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photo_001_pic373"/>
          <p:cNvPicPr/>
          <p:nvPr/>
        </p:nvPicPr>
        <p:blipFill>
          <a:blip r:embed="rId1"/>
          <a:stretch/>
        </p:blipFill>
        <p:spPr>
          <a:xfrm>
            <a:off x="357120" y="1285920"/>
            <a:ext cx="84297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фтепро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picture"/>
          <p:cNvPicPr/>
          <p:nvPr/>
        </p:nvPicPr>
        <p:blipFill>
          <a:blip r:embed="rId1"/>
          <a:stretch/>
        </p:blipFill>
        <p:spPr>
          <a:xfrm>
            <a:off x="214200" y="1285920"/>
            <a:ext cx="86439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02T16:01:57Z</dcterms:modified>
  <cp:revision>18</cp:revision>
  <dc:subject/>
  <dc:title>Хозяйство Самарской области </dc:title>
</cp:coreProperties>
</file>