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A2D3-324F-4E87-A131-BA53B005E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A074-8D71-4742-AACD-7A1EBC414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3D3F-FCCF-4150-A214-3D4082BE6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5F51-668D-465C-88D0-1F3A65C42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42F3-28CF-456C-84B7-6DAE3B9E0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6D12-AE19-492F-BEF0-C3C0D9348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0CDD-8B82-4227-B04F-6BDF05CEE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7545-D61D-4362-8F9A-D1ED71E1A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2AAD-7902-489B-8322-09D9E92A7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CB7C-19FA-4553-BE04-A77508B2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0685-1778-4BE3-8DE1-DB8EF031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5F83-A167-4B0A-81B1-BB44DD9C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F1CB6-93C8-4947-9CFD-1D726369A0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озяйство Самарской област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28800" y="3143160"/>
            <a:ext cx="7215120" cy="24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Часть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Автор: Королева Светлана Владимиро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Учитель географии ГБОУ СОШ №3 с. Приволжье муниципального района Приволжский Самарской области, первая квалификационная категор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лектроэнерге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56840"/>
            <a:ext cx="403848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новным источником электроэнергии области является Волжская ГЭС 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. Жигулевск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 1958 году мощная плотина перегородила р. Волгу и на 28 метров подняла воду в Куйбышевском водохранилищ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0b38384281c3b5cae2919722aed72657"/>
          <p:cNvPicPr/>
          <p:nvPr/>
        </p:nvPicPr>
        <p:blipFill>
          <a:blip r:embed="rId1"/>
          <a:stretch/>
        </p:blipFill>
        <p:spPr>
          <a:xfrm>
            <a:off x="4648320" y="1357200"/>
            <a:ext cx="428148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лжская ГЭС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548-700x467"/>
          <p:cNvPicPr/>
          <p:nvPr/>
        </p:nvPicPr>
        <p:blipFill>
          <a:blip r:embed="rId1"/>
          <a:stretch/>
        </p:blipFill>
        <p:spPr>
          <a:xfrm>
            <a:off x="357120" y="1285920"/>
            <a:ext cx="857268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лжская ГЭ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jiguli-ges-teplomett"/>
          <p:cNvPicPr/>
          <p:nvPr/>
        </p:nvPicPr>
        <p:blipFill>
          <a:blip r:embed="rId1"/>
          <a:stretch/>
        </p:blipFill>
        <p:spPr>
          <a:xfrm>
            <a:off x="285840" y="1214280"/>
            <a:ext cx="835812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лжская ГЭ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6" descr="22"/>
          <p:cNvPicPr/>
          <p:nvPr/>
        </p:nvPicPr>
        <p:blipFill>
          <a:blip r:embed="rId1"/>
          <a:stretch/>
        </p:blipFill>
        <p:spPr>
          <a:xfrm>
            <a:off x="214200" y="1214280"/>
            <a:ext cx="871560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пловая энерге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6840" y="1600200"/>
            <a:ext cx="3614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рупнейшие тепловые электростанции – Новокуйбышевская и Тольяттинская ТЭЦ (по 250 тыс. кВт каждая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articol_8bdf4301fcd721e05085c663fd758018"/>
          <p:cNvPicPr/>
          <p:nvPr/>
        </p:nvPicPr>
        <p:blipFill>
          <a:blip r:embed="rId1"/>
          <a:stretch/>
        </p:blipFill>
        <p:spPr>
          <a:xfrm>
            <a:off x="4143240" y="1285920"/>
            <a:ext cx="471492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ашинострое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Самарской области производят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урбины гидравлические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таллорежущие станки, в том числе с числовым программным управлением, дробилки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льницы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боты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шипники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ашины для городского коммунального хозяйства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егковые автомобили и так дале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втомобильная промышленно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356840"/>
            <a:ext cx="403848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идер производства легковых автомобилей в России – ОАО «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втоВАЗ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». Предприятием производится свыше 80% отечественных легковых автомобилей. Более 300 самарских предприятий поставляют автомобильные компоненты и материалы для ОАО «АвтоВАЗ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276520"/>
          <p:cNvPicPr/>
          <p:nvPr/>
        </p:nvPicPr>
        <p:blipFill>
          <a:blip r:embed="rId1"/>
          <a:stretch/>
        </p:blipFill>
        <p:spPr>
          <a:xfrm>
            <a:off x="4572000" y="1357200"/>
            <a:ext cx="43578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втоВА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3" descr="image298471"/>
          <p:cNvPicPr/>
          <p:nvPr/>
        </p:nvPicPr>
        <p:blipFill>
          <a:blip r:embed="rId1"/>
          <a:stretch/>
        </p:blipFill>
        <p:spPr>
          <a:xfrm>
            <a:off x="285840" y="1214280"/>
            <a:ext cx="857232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виационная промышлен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Самарской области расположено ведущее в России предприятие по созданию, производству и запуску ракет-носителей и космических аппаратов ФГУП ГНПРКЦ «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ЦСКБ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», на базе которого и сформировался авиационно-космический класте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вакуированный в годы войны из центра страны завод быстро был восстановлен и исправно посылал фронту грозные Ил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перь фирма АВИС создали надежные и удобные для пассажиров ТУ -304, ТУ-204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виационная промышлен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uploads_images_zavod_33"/>
          <p:cNvPicPr/>
          <p:nvPr/>
        </p:nvPicPr>
        <p:blipFill>
          <a:blip r:embed="rId1"/>
          <a:stretch/>
        </p:blipFill>
        <p:spPr>
          <a:xfrm>
            <a:off x="214200" y="1285920"/>
            <a:ext cx="857268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знакомить учащихся с историей развития хозяйства области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 особенностями размещения и специализацией ведущих отраслей промышленност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aviacor_01"/>
          <p:cNvPicPr/>
          <p:nvPr/>
        </p:nvPicPr>
        <p:blipFill>
          <a:blip r:embed="rId1"/>
          <a:stretch/>
        </p:blipFill>
        <p:spPr>
          <a:xfrm>
            <a:off x="214200" y="285840"/>
            <a:ext cx="864396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0_2bad_ce59e573_XL"/>
          <p:cNvPicPr/>
          <p:nvPr/>
        </p:nvPicPr>
        <p:blipFill>
          <a:blip r:embed="rId1"/>
          <a:stretch/>
        </p:blipFill>
        <p:spPr>
          <a:xfrm>
            <a:off x="214200" y="214200"/>
            <a:ext cx="871560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60203"/>
          <p:cNvPicPr/>
          <p:nvPr/>
        </p:nvPicPr>
        <p:blipFill>
          <a:blip r:embed="rId1"/>
          <a:stretch/>
        </p:blipFill>
        <p:spPr>
          <a:xfrm>
            <a:off x="285840" y="285840"/>
            <a:ext cx="857232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дшипниковая промышленно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амара – столица подшипниковой промышленности. К началу ВОВ в стране был единственный подшипниковый завод в г. Москве, который фашисты с первых же дней усиленно бомбили. А западные страны прекратили нам поставку подшипников. Они понимали, что без подшипников не пойдут ни танки, ни самолеты, ни автомобили. И вот в январе 1942 года в Самару пришли эшелоны с оборудованием Московского ГПЗ. А уже с весны 1942 года в городе стали самостоятельно производить подшипни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1003984-1"/>
          <p:cNvPicPr/>
          <p:nvPr/>
        </p:nvPicPr>
        <p:blipFill>
          <a:blip r:embed="rId1"/>
          <a:srcRect l="0" t="20381" r="0" b="20381"/>
          <a:stretch/>
        </p:blipFill>
        <p:spPr>
          <a:xfrm>
            <a:off x="285840" y="214200"/>
            <a:ext cx="864396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дшипниковая промышленн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 нас производят самые миниатюрные подшипники, которые можно разглядеть только с помощью увеличения. Они нужны для точных приборов, в том числе и для тех, что устанавливают на космических корабля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мые крупные подшипники так велики, что если поставить один такой подшипник на дорогу, то внутри него пройдет легковой автомобил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иганты –подшипники нужны для турбин ГЭС, шагающих экскаваторов, прокатных стан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Электротехническая промышленн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льяттинский электротехнический завод производит трансформатор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амарский электротехнический завод производит высоковольтную и низковольтную аппаратур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1_real"/>
          <p:cNvPicPr/>
          <p:nvPr/>
        </p:nvPicPr>
        <p:blipFill>
          <a:blip r:embed="rId1"/>
          <a:stretch/>
        </p:blipFill>
        <p:spPr>
          <a:xfrm>
            <a:off x="285840" y="214200"/>
            <a:ext cx="857232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naladka_i_isputanie"/>
          <p:cNvPicPr/>
          <p:nvPr/>
        </p:nvPicPr>
        <p:blipFill>
          <a:blip r:embed="rId1"/>
          <a:stretch/>
        </p:blipFill>
        <p:spPr>
          <a:xfrm>
            <a:off x="214200" y="214200"/>
            <a:ext cx="871560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анкостро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3828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редневолжский станкостроительный завод выпускает высококачественные станки с числовым программным управление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19"/>
          <p:cNvPicPr/>
          <p:nvPr/>
        </p:nvPicPr>
        <p:blipFill>
          <a:blip r:embed="rId1"/>
          <a:stretch/>
        </p:blipFill>
        <p:spPr>
          <a:xfrm>
            <a:off x="4357800" y="1357200"/>
            <a:ext cx="432900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опливно-энергетический комплекс (ТЭК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опливная промышлен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0000"/>
                </a:solidFill>
                <a:uFillTx/>
                <a:latin typeface="Calibri"/>
              </a:rPr>
              <a:t>Нефтяна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Газова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Угольна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0000"/>
                </a:solidFill>
                <a:uFillTx/>
                <a:latin typeface="Calibri"/>
              </a:rPr>
              <a:t>Сланцевая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Торфяна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лектроэнергет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00360" y="242892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0000"/>
                </a:solidFill>
                <a:uFillTx/>
                <a:latin typeface="Calibri"/>
              </a:rPr>
              <a:t>ГЭ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0000"/>
                </a:solidFill>
                <a:uFillTx/>
                <a:latin typeface="Calibri"/>
              </a:rPr>
              <a:t>ТЭ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АЭ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__________________________________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*подчеркнуто то, что имеется в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анкостро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214280"/>
            <a:ext cx="403848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ругой завод – координатно-расточных станков производит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горизонтальные станки высокой точност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На них можно выполнять сверление, растачивание, фрезерование, подрез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3" descr="foto6817"/>
          <p:cNvPicPr/>
          <p:nvPr/>
        </p:nvPicPr>
        <p:blipFill>
          <a:blip r:embed="rId1"/>
          <a:stretch/>
        </p:blipFill>
        <p:spPr>
          <a:xfrm>
            <a:off x="3857760" y="1285920"/>
            <a:ext cx="514332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ругие заводы машиностроен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вод автотракторног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лектрооборудования имени  имени  А.М. Тарасов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изводственное объединение «Бурмаш» производит машины для бурения скважи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вод станочных узлов в г. Похвистнев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вод медицинского оборудования в г. Сызран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вод нефтяного машиностроения (ОАО "Завод Нефтемаш") в г.Отрадны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точники информаци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Учайкина И.Р., Лопухов Н.П.., Воронин В.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еография Самарской области: Учебное пособие для учащихся 8-9 классов средней школы. Самара 2003 год, 125 с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Википед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Яндекс. Картин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ефтяная и нефтеперерабатывающая промышлен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ще в 20-ые 20 века годы жители нашей области не знали, что в глубине нашей земли есть «черное золото». Впервые оно было получено в 1936 году под Сызранью. Затем нефтью порадовали Жигулевские гор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чалась война. Фашистам удалось отрезать страну от нефтяных районов Кавказа. Вот тогда все надежды были возложены на нашу область. В решающей битве под Сталинградом нашим бензином ежедневно заправлялось более 1000 тан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1944 году была добыта миллиардная тонна неф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сего в области открыто около 350 месторожде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ефтяная промышлен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1600200"/>
            <a:ext cx="432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нашей области создан мощный комплекс нефтепереработк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троены 3 нефте 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ерабатывающи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вода(НПЗ): Новокуйбышевский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амарский, Сызранск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article"/>
          <p:cNvPicPr/>
          <p:nvPr/>
        </p:nvPicPr>
        <p:blipFill>
          <a:blip r:embed="rId1"/>
          <a:stretch/>
        </p:blipFill>
        <p:spPr>
          <a:xfrm>
            <a:off x="4786200" y="1571760"/>
            <a:ext cx="414360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ефтепереработка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356840"/>
            <a:ext cx="403848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заводах получаю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ензин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еросин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изельное топливо, мазут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ашинное масло, гудрон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творители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ерную кислоту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итум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ругие продук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photo-12-novokuybyshevsk-russia"/>
          <p:cNvPicPr/>
          <p:nvPr/>
        </p:nvPicPr>
        <p:blipFill>
          <a:blip r:embed="rId1"/>
          <a:stretch/>
        </p:blipFill>
        <p:spPr>
          <a:xfrm>
            <a:off x="4357800" y="1428840"/>
            <a:ext cx="432900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амарский НП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pic344"/>
          <p:cNvPicPr/>
          <p:nvPr/>
        </p:nvPicPr>
        <p:blipFill>
          <a:blip r:embed="rId1"/>
          <a:stretch/>
        </p:blipFill>
        <p:spPr>
          <a:xfrm>
            <a:off x="500040" y="1285920"/>
            <a:ext cx="828684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ызранский НП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photo_001_pic373"/>
          <p:cNvPicPr/>
          <p:nvPr/>
        </p:nvPicPr>
        <p:blipFill>
          <a:blip r:embed="rId1"/>
          <a:stretch/>
        </p:blipFill>
        <p:spPr>
          <a:xfrm>
            <a:off x="357120" y="1285920"/>
            <a:ext cx="842976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ефтепров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picture"/>
          <p:cNvPicPr/>
          <p:nvPr/>
        </p:nvPicPr>
        <p:blipFill>
          <a:blip r:embed="rId1"/>
          <a:stretch/>
        </p:blipFill>
        <p:spPr>
          <a:xfrm>
            <a:off x="214200" y="1285920"/>
            <a:ext cx="864396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5-02T16:01:57Z</dcterms:modified>
  <cp:revision>18</cp:revision>
  <dc:subject/>
  <dc:title>Хозяйство Самарской области </dc:title>
</cp:coreProperties>
</file>