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19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C643-6FED-4CAF-AEAC-985996BC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7B8-5962-4A18-8E27-009A472D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67A6-67C4-4E51-88E7-3A7F946E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F6DA-9972-4FFB-AB49-274B30FC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C80-D584-448A-B190-52F4454D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A99-CE14-47EE-AE61-44FEDDAA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A549-E8A0-4699-8463-0D9A4F2E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0C65-851E-4EF0-BE3E-13B0F126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2D1E-E0CF-4D15-8167-383CAD5C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5DC2-34B9-4114-96F8-213DB4B8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1437-0BBD-4511-9A5D-CA04DE52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2ED8-3C97-4230-988D-2A46576A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1AEC-5479-4CE6-9A33-0EFD663B5C4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зяйство Самарской област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2857680"/>
            <a:ext cx="640080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Часть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Автор: Королева Светлана Владими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Учитель географии ГБОУ СОШ №3 с. Приволжье муниципального района Приволжский Самарской области, первая 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дра области богаты минеральными строительными материал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оло 100 месторождений известняка и доломи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пс и ангидр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туминозные пор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оительный камень, щеб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ски(балластные, строительные, формовочные стекольны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л и другие материа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быча известня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4a8bc1e142138"/>
          <p:cNvPicPr/>
          <p:nvPr/>
        </p:nvPicPr>
        <p:blipFill>
          <a:blip r:embed="rId1"/>
          <a:stretch/>
        </p:blipFill>
        <p:spPr>
          <a:xfrm>
            <a:off x="285840" y="1214280"/>
            <a:ext cx="4214880" cy="550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izvestkovyjscheben"/>
          <p:cNvPicPr/>
          <p:nvPr/>
        </p:nvPicPr>
        <p:blipFill>
          <a:blip r:embed="rId2"/>
          <a:stretch/>
        </p:blipFill>
        <p:spPr>
          <a:xfrm>
            <a:off x="4648320" y="1285920"/>
            <a:ext cx="4209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инеральные строительные материа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428840"/>
            <a:ext cx="4040280" cy="42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ип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39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с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ee1b1c979bd1"/>
          <p:cNvPicPr/>
          <p:nvPr/>
        </p:nvPicPr>
        <p:blipFill>
          <a:blip r:embed="rId1"/>
          <a:stretch/>
        </p:blipFill>
        <p:spPr>
          <a:xfrm>
            <a:off x="501480" y="2174760"/>
            <a:ext cx="3951360" cy="4326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Admin\Рабочий стол\мамино\Ивченкова, 4 класс\полезные ископаемые\горные породы и минералы\песок.jpg"/>
          <p:cNvPicPr/>
          <p:nvPr/>
        </p:nvPicPr>
        <p:blipFill>
          <a:blip r:embed="rId2"/>
          <a:stretch/>
        </p:blipFill>
        <p:spPr>
          <a:xfrm>
            <a:off x="4645080" y="2143080"/>
            <a:ext cx="4041720" cy="4357800"/>
          </a:xfrm>
          <a:prstGeom prst="rect">
            <a:avLst/>
          </a:prstGeom>
          <a:ln w="9360">
            <a:solidFill>
              <a:srgbClr val="98480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инеральные строительные материал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anhydrit"/>
          <p:cNvPicPr/>
          <p:nvPr/>
        </p:nvPicPr>
        <p:blipFill>
          <a:blip r:embed="rId2"/>
          <a:stretch/>
        </p:blipFill>
        <p:spPr>
          <a:xfrm>
            <a:off x="214200" y="1643040"/>
            <a:ext cx="42865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гулевский комбинат стройматериа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ломи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акторы размещ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4720" y="2174760"/>
            <a:ext cx="404172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ичие запасов сырь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дежная энергетическая база (ГЭ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добство транспортных путей (Волга, железные и автомобильные дорог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дукци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ифер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сбестоцементные труб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ажденный мел и щеб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dolomit"/>
          <p:cNvPicPr/>
          <p:nvPr/>
        </p:nvPicPr>
        <p:blipFill>
          <a:blip r:embed="rId1"/>
          <a:stretch/>
        </p:blipFill>
        <p:spPr>
          <a:xfrm>
            <a:off x="285840" y="2357280"/>
            <a:ext cx="42148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348132133_image470994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 агропромышленного комплек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57120" y="1714680"/>
            <a:ext cx="7943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П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Прямая со стрелкой 4"/>
          <p:cNvCxnSpPr/>
          <p:nvPr/>
        </p:nvCxnSpPr>
        <p:spPr>
          <a:xfrm flipH="1">
            <a:off x="1713960" y="2142000"/>
            <a:ext cx="185796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6"/>
          <p:cNvCxnSpPr/>
          <p:nvPr/>
        </p:nvCxnSpPr>
        <p:spPr>
          <a:xfrm>
            <a:off x="5428800" y="2214720"/>
            <a:ext cx="171540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11"/>
          <p:cNvCxnSpPr/>
          <p:nvPr/>
        </p:nvCxnSpPr>
        <p:spPr>
          <a:xfrm flipH="1">
            <a:off x="4357080" y="2214720"/>
            <a:ext cx="10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87" name=""/>
          <p:cNvGraphicFramePr/>
          <p:nvPr/>
        </p:nvGraphicFramePr>
        <p:xfrm>
          <a:off x="571680" y="3000240"/>
          <a:ext cx="8072280" cy="3094200"/>
        </p:xfrm>
        <a:graphic>
          <a:graphicData uri="http://schemas.openxmlformats.org/drawingml/2006/table">
            <a:tbl>
              <a:tblPr/>
              <a:tblGrid>
                <a:gridCol w="2643120"/>
                <a:gridCol w="2833560"/>
                <a:gridCol w="2595600"/>
              </a:tblGrid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лок   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лок 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лок 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13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о средств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льск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трасли, занимающиеся переработкой, транспортировкой, хранением, реализацией готовой продукции (легкая, пищевая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гкая промышл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гкую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мышлен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ласт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едставляют 33 крупных и средних предприятия, которые подразделяются на 4 отрасли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икотажную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швейную, обувную и мехову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наиболее крупным предприятиям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икотажно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трасли относятся: ЗАО «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марск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икотаж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ОО «Тольяттинский трикотаж» и ЗАО «Новокуйбышевская фабрика трикотажного полотна», которые производят изделия верхнего, спортивного, бельевого трикотажа и трикотажные полотна. Из предприятий швейной отрасли следует отметить наиболее значимые: ЗАО «Сызранская швейная фабрика», ЗАО «Октябрьская швейная фабрика», ЗАО «Красная Звезда», ОАО «Новокуйбышевская швейная фабрика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ускаемый ассортимент: пальто, костюмы, плащи, рабочая, специальная и ведомственная одеж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ховая промышл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2011-01-11_8745"/>
          <p:cNvPicPr/>
          <p:nvPr/>
        </p:nvPicPr>
        <p:blipFill>
          <a:blip r:embed="rId1"/>
          <a:stretch/>
        </p:blipFill>
        <p:spPr>
          <a:xfrm>
            <a:off x="285840" y="1357200"/>
            <a:ext cx="4000320" cy="1643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gal_01"/>
          <p:cNvPicPr/>
          <p:nvPr/>
        </p:nvPicPr>
        <p:blipFill>
          <a:blip r:embed="rId2"/>
          <a:stretch/>
        </p:blipFill>
        <p:spPr>
          <a:xfrm>
            <a:off x="4643280" y="1357200"/>
            <a:ext cx="4214880" cy="5214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18984"/>
          <p:cNvPicPr/>
          <p:nvPr/>
        </p:nvPicPr>
        <p:blipFill>
          <a:blip r:embed="rId3"/>
          <a:stretch/>
        </p:blipFill>
        <p:spPr>
          <a:xfrm>
            <a:off x="357120" y="3357720"/>
            <a:ext cx="40719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gal_09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должить знакомство учащихся с историей развития хозяйства области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 особенностями размещения и специализацией ведущих отраслей промышлен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ищевая промышл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вестна и популярна в стране продукция пищевой промышленности обла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феты, шоколад, макаронные и мясные издел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b1106a527526c384feae8efb18d52624"/>
          <p:cNvPicPr/>
          <p:nvPr/>
        </p:nvPicPr>
        <p:blipFill>
          <a:blip r:embed="rId1"/>
          <a:stretch/>
        </p:blipFill>
        <p:spPr>
          <a:xfrm>
            <a:off x="4648320" y="1357200"/>
            <a:ext cx="42098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виды проду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яс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басные изде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ясные полуфабрик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вотное мас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лочная продук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ервы6 мясные, овощные, томатные, фруктов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хар-песок, хлебобулочная продукция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околадная фабрика «Росс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70 году был произведен первый шокола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995 году держателем контрольного пакета акций ОАО Кондитерское объединение «Россия» стала компания Нест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1356840"/>
            <a:ext cx="4038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2001 году рождается бренд «Россия – щедрая душ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сегодняшний день предприятие производит более 150 наименований продук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ство начинается с переработки какао-бобов и заканчивается упаковк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довой объем продукции составляет 85 тысяч тон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околадная фабр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nestle"/>
          <p:cNvPicPr/>
          <p:nvPr/>
        </p:nvPicPr>
        <p:blipFill>
          <a:blip r:embed="rId1"/>
          <a:stretch/>
        </p:blipFill>
        <p:spPr>
          <a:xfrm>
            <a:off x="357120" y="1214280"/>
            <a:ext cx="85010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post-3-13250921311905"/>
          <p:cNvPicPr/>
          <p:nvPr/>
        </p:nvPicPr>
        <p:blipFill>
          <a:blip r:embed="rId1"/>
          <a:srcRect l="0" t="0" r="0" b="10639"/>
          <a:stretch/>
        </p:blipFill>
        <p:spPr>
          <a:xfrm>
            <a:off x="285840" y="285840"/>
            <a:ext cx="85723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10000003"/>
          <p:cNvPicPr/>
          <p:nvPr/>
        </p:nvPicPr>
        <p:blipFill>
          <a:blip r:embed="rId1"/>
          <a:srcRect l="0" t="0" r="0" b="6567"/>
          <a:stretch/>
        </p:blipFill>
        <p:spPr>
          <a:xfrm>
            <a:off x="285840" y="285840"/>
            <a:ext cx="85010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абрика «Добрые Вест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image-95-big"/>
          <p:cNvPicPr/>
          <p:nvPr/>
        </p:nvPicPr>
        <p:blipFill>
          <a:blip r:embed="rId1"/>
          <a:stretch/>
        </p:blipFill>
        <p:spPr>
          <a:xfrm>
            <a:off x="285840" y="1285920"/>
            <a:ext cx="85723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дукция фабр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bee-s01"/>
          <p:cNvPicPr/>
          <p:nvPr/>
        </p:nvPicPr>
        <p:blipFill>
          <a:blip r:embed="rId1"/>
          <a:stretch/>
        </p:blipFill>
        <p:spPr>
          <a:xfrm>
            <a:off x="214200" y="1214280"/>
            <a:ext cx="4281480" cy="5357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490218"/>
          <p:cNvPicPr/>
          <p:nvPr/>
        </p:nvPicPr>
        <p:blipFill>
          <a:blip r:embed="rId2"/>
          <a:stretch/>
        </p:blipFill>
        <p:spPr>
          <a:xfrm>
            <a:off x="4714920" y="1214280"/>
            <a:ext cx="41432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арский кондит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samarskij_konditer_logo"/>
          <p:cNvPicPr/>
          <p:nvPr/>
        </p:nvPicPr>
        <p:blipFill>
          <a:blip r:embed="rId1"/>
          <a:stretch/>
        </p:blipFill>
        <p:spPr>
          <a:xfrm>
            <a:off x="5429160" y="4143240"/>
            <a:ext cx="3000600" cy="2357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1369"/>
          <p:cNvPicPr/>
          <p:nvPr/>
        </p:nvPicPr>
        <p:blipFill>
          <a:blip r:embed="rId2"/>
          <a:stretch/>
        </p:blipFill>
        <p:spPr>
          <a:xfrm>
            <a:off x="5214960" y="1214280"/>
            <a:ext cx="3429000" cy="2928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13d6d7f8c024"/>
          <p:cNvPicPr/>
          <p:nvPr/>
        </p:nvPicPr>
        <p:blipFill>
          <a:blip r:embed="rId3"/>
          <a:stretch/>
        </p:blipFill>
        <p:spPr>
          <a:xfrm>
            <a:off x="500040" y="1428840"/>
            <a:ext cx="42148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SP3"/>
          <p:cNvPicPr/>
          <p:nvPr/>
        </p:nvPicPr>
        <p:blipFill>
          <a:blip r:embed="rId1"/>
          <a:stretch/>
        </p:blipFill>
        <p:spPr>
          <a:xfrm>
            <a:off x="214200" y="285840"/>
            <a:ext cx="86439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ая промышл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ы, способствующие развитию отрас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Наличие сырьевой базы (нефть, попутные и отходящие газы, сера, горючие сланцы, поваренная соль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беспеченность транспорт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Обеспеченность водными ресурс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Обеспеченность электроэнергией и квалифицированными кадр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77025_w640_h640_milkline2"/>
          <p:cNvPicPr/>
          <p:nvPr/>
        </p:nvPicPr>
        <p:blipFill>
          <a:blip r:embed="rId1"/>
          <a:stretch/>
        </p:blipFill>
        <p:spPr>
          <a:xfrm>
            <a:off x="285840" y="214200"/>
            <a:ext cx="850104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ясная продук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3" descr="tovar-430303"/>
          <p:cNvPicPr/>
          <p:nvPr/>
        </p:nvPicPr>
        <p:blipFill>
          <a:blip r:embed="rId1"/>
          <a:stretch/>
        </p:blipFill>
        <p:spPr>
          <a:xfrm>
            <a:off x="357120" y="1214280"/>
            <a:ext cx="84297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лебобулочная промышл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19"/>
          <p:cNvPicPr/>
          <p:nvPr/>
        </p:nvPicPr>
        <p:blipFill>
          <a:blip r:embed="rId1"/>
          <a:stretch/>
        </p:blipFill>
        <p:spPr>
          <a:xfrm>
            <a:off x="285840" y="1285920"/>
            <a:ext cx="86439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Учайкина И.Р., Лопухов Н.П.., Воронин В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ография Самарской области: Учебное пособие для учащихся 8-9 классов средней школы. Самара 2003 год, 125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Википед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Яндекс. Картин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ые виды продукции химической и нефтехимической промышленности Самар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785960"/>
            <a:ext cx="40384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ммиак синтет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мические средства защиты раст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рная кисл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устическая с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нтетические смол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321f118bce099801e3c37532ccec20b3"/>
          <p:cNvPicPr/>
          <p:nvPr/>
        </p:nvPicPr>
        <p:blipFill>
          <a:blip r:embed="rId1"/>
          <a:stretch/>
        </p:blipFill>
        <p:spPr>
          <a:xfrm>
            <a:off x="4572000" y="1643040"/>
            <a:ext cx="3786120" cy="20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HJvZHVjdF9waG90by9kMThhMjM0NzViZmFmNGQyM2UwZTUzZGYzZTU2ZTE5NC5qcGVn"/>
          <p:cNvPicPr/>
          <p:nvPr/>
        </p:nvPicPr>
        <p:blipFill>
          <a:blip r:embed="rId2"/>
          <a:srcRect l="0" t="0" r="0" b="4732"/>
          <a:stretch/>
        </p:blipFill>
        <p:spPr>
          <a:xfrm>
            <a:off x="4572000" y="3786120"/>
            <a:ext cx="39481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виды продукции химической и нефтехимической промышленности Самар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астмас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тетический кауч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кокрасочные материа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зиновая обув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убы из термоплас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неральные удобрения (азотные, фосфатные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image051"/>
          <p:cNvPicPr/>
          <p:nvPr/>
        </p:nvPicPr>
        <p:blipFill>
          <a:blip r:embed="rId1"/>
          <a:stretch/>
        </p:blipFill>
        <p:spPr>
          <a:xfrm>
            <a:off x="4429080" y="1714680"/>
            <a:ext cx="42861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amara_b_73144"/>
          <p:cNvPicPr/>
          <p:nvPr/>
        </p:nvPicPr>
        <p:blipFill>
          <a:blip r:embed="rId1"/>
          <a:srcRect l="0" t="0" r="13506" b="0"/>
          <a:stretch/>
        </p:blipFill>
        <p:spPr>
          <a:xfrm>
            <a:off x="428760" y="428760"/>
            <a:ext cx="84294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ая промышл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нтры химической промышлен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льятти, Сызрань, Чапаевск, Новокуйбышевс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им из ведущих предприятий этой отрасли является ОАО «Тольяттиазот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вод производит аммиак и карбамид – азотное удобрение, повышающее урожайность всех сельскохозяйственных культу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tol"/>
          <p:cNvPicPr/>
          <p:nvPr/>
        </p:nvPicPr>
        <p:blipFill>
          <a:blip r:embed="rId1"/>
          <a:stretch/>
        </p:blipFill>
        <p:spPr>
          <a:xfrm>
            <a:off x="4500720" y="5500800"/>
            <a:ext cx="4019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ммиак –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ценное химическое сырь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71680" y="1643040"/>
            <a:ext cx="352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Тольятти через Горловку до г. Одесса проложен мощный трубопровод для перекачки жидкого аммиа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Одессы морями аммиак экспортируется в зарубежные стран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96659"/>
          <p:cNvPicPr/>
          <p:nvPr/>
        </p:nvPicPr>
        <p:blipFill>
          <a:blip r:embed="rId1"/>
          <a:stretch/>
        </p:blipFill>
        <p:spPr>
          <a:xfrm>
            <a:off x="4000680" y="1571760"/>
            <a:ext cx="49291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мышленность строительных материал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приятия Самарской области производят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Цемент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борные железобетонные конструкции и дета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ирпич красный, кирпич силикатны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ягкие кровельные материал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сбестоцементные трубы, нерудные строительные материалы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инеральную вату и изделия из не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ерамическую плитк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инолеу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о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ерепиц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ластиковые окна и двери и так дале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5-02T16:20:13Z</dcterms:modified>
  <cp:revision>26</cp:revision>
  <dc:subject/>
  <dc:title>Хозяйство Самарской области </dc:title>
</cp:coreProperties>
</file>