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5F2-E757-4230-A9CC-C5A05DFC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AD8-441B-44DD-9590-3339E8A7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AC4-84C1-428B-B5DE-4442835C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58D-86C4-4399-B204-56908417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F06-F066-4541-94BC-384D1560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574-F0A6-4155-BEF3-EEC0AE75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B99-BFFC-45F5-9169-39D8C1B0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95C-225A-4B3B-80CE-138972DF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2B9-3CFD-4150-BB0F-5D4D9228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8AA-EFFB-4740-A2D6-CEC9EEEC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298-484A-40AE-8A34-FE0C12C2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D63-932F-4226-85AE-80BBD286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AD50-CCF4-4A98-91EC-75DDFA1A60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зяйство Самарской обла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857680"/>
            <a:ext cx="640080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Часть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втор: Королева Светлан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читель географии ГБОУ СОШ №3 с. Приволжье муниципального района Приволжский Самарской области, перв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дра области богаты минеральными строительными материал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100 месторождений известняка и долом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с и ангидр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туминозные по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ительный камень, щеб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ски(балластные, строительные, формовочные стеколь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 и другие материа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ыча известня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4a8bc1e142138"/>
          <p:cNvPicPr/>
          <p:nvPr/>
        </p:nvPicPr>
        <p:blipFill>
          <a:blip r:embed="rId1"/>
          <a:stretch/>
        </p:blipFill>
        <p:spPr>
          <a:xfrm>
            <a:off x="285840" y="1214280"/>
            <a:ext cx="4214880" cy="550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izvestkovyjscheben"/>
          <p:cNvPicPr/>
          <p:nvPr/>
        </p:nvPicPr>
        <p:blipFill>
          <a:blip r:embed="rId2"/>
          <a:stretch/>
        </p:blipFill>
        <p:spPr>
          <a:xfrm>
            <a:off x="4648320" y="1285920"/>
            <a:ext cx="4209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неральные строительны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п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3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с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ee1b1c979bd1"/>
          <p:cNvPicPr/>
          <p:nvPr/>
        </p:nvPicPr>
        <p:blipFill>
          <a:blip r:embed="rId1"/>
          <a:stretch/>
        </p:blipFill>
        <p:spPr>
          <a:xfrm>
            <a:off x="501480" y="2174760"/>
            <a:ext cx="3951360" cy="4326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Admin\Рабочий стол\мамино\Ивченкова, 4 класс\полезные ископаемые\горные породы и минералы\песок.jpg"/>
          <p:cNvPicPr/>
          <p:nvPr/>
        </p:nvPicPr>
        <p:blipFill>
          <a:blip r:embed="rId2"/>
          <a:stretch/>
        </p:blipFill>
        <p:spPr>
          <a:xfrm>
            <a:off x="4645080" y="2143080"/>
            <a:ext cx="4041720" cy="43578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неральные строительные материал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anhydrit"/>
          <p:cNvPicPr/>
          <p:nvPr/>
        </p:nvPicPr>
        <p:blipFill>
          <a:blip r:embed="rId2"/>
          <a:stretch/>
        </p:blipFill>
        <p:spPr>
          <a:xfrm>
            <a:off x="214200" y="1643040"/>
            <a:ext cx="4286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гулевский комбинат стройматер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ом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ы размещ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запасов сыр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ежная энергетическая база (ГЭ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бство транспортных путей (Волга, железные и автомобильные дорог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ифе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сбестоцементные труб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ажденный мел и щеб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dolomit"/>
          <p:cNvPicPr/>
          <p:nvPr/>
        </p:nvPicPr>
        <p:blipFill>
          <a:blip r:embed="rId1"/>
          <a:stretch/>
        </p:blipFill>
        <p:spPr>
          <a:xfrm>
            <a:off x="285840" y="2357280"/>
            <a:ext cx="42148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348132133_image470994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 агропромышленного компле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120" y="17146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Прямая со стрелкой 4"/>
          <p:cNvCxnSpPr/>
          <p:nvPr/>
        </p:nvCxnSpPr>
        <p:spPr>
          <a:xfrm flipH="1">
            <a:off x="1713960" y="2142000"/>
            <a:ext cx="18579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6"/>
          <p:cNvCxnSpPr/>
          <p:nvPr/>
        </p:nvCxnSpPr>
        <p:spPr>
          <a:xfrm>
            <a:off x="5428800" y="2214720"/>
            <a:ext cx="17154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11"/>
          <p:cNvCxnSpPr/>
          <p:nvPr/>
        </p:nvCxnSpPr>
        <p:spPr>
          <a:xfrm flipH="1">
            <a:off x="4357080" y="2214720"/>
            <a:ext cx="10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87" name=""/>
          <p:cNvGraphicFramePr/>
          <p:nvPr/>
        </p:nvGraphicFramePr>
        <p:xfrm>
          <a:off x="571680" y="3000240"/>
          <a:ext cx="8072280" cy="3094200"/>
        </p:xfrm>
        <a:graphic>
          <a:graphicData uri="http://schemas.openxmlformats.org/drawingml/2006/table">
            <a:tbl>
              <a:tblPr/>
              <a:tblGrid>
                <a:gridCol w="2643120"/>
                <a:gridCol w="2833560"/>
                <a:gridCol w="2595600"/>
              </a:tblGrid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ок 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ок 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ок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средст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асли, занимающиеся переработкой, транспортировкой, хранением, реализацией готовой продукции (легкая, пищева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гк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гку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ла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ставляют 33 крупных и средних предприятия, которые подразделяются на 4 отрасли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икотажну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швейную, обувную и мехову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аиболее крупным предприятия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икотаж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расли относятся: ЗАО «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арск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икотаж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ОО «Тольяттинский трикотаж» и ЗАО «Новокуйбышевская фабрика трикотажного полотна», которые производят изделия верхнего, спортивного, бельевого трикотажа и трикотажные полотна. Из предприятий швейной отрасли следует отметить наиболее значимые: ЗАО «Сызранская швейная фабрика», ЗАО «Октябрьская швейная фабрика», ЗАО «Красная Звезда», ОАО «Новокуйбышевская швейная фабрик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ускаемый ассортимент: пальто, костюмы, плащи, рабочая, специальная и ведомственная одеж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ов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2011-01-11_8745"/>
          <p:cNvPicPr/>
          <p:nvPr/>
        </p:nvPicPr>
        <p:blipFill>
          <a:blip r:embed="rId1"/>
          <a:stretch/>
        </p:blipFill>
        <p:spPr>
          <a:xfrm>
            <a:off x="285840" y="1357200"/>
            <a:ext cx="4000320" cy="1643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gal_01"/>
          <p:cNvPicPr/>
          <p:nvPr/>
        </p:nvPicPr>
        <p:blipFill>
          <a:blip r:embed="rId2"/>
          <a:stretch/>
        </p:blipFill>
        <p:spPr>
          <a:xfrm>
            <a:off x="4643280" y="1357200"/>
            <a:ext cx="4214880" cy="521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18984"/>
          <p:cNvPicPr/>
          <p:nvPr/>
        </p:nvPicPr>
        <p:blipFill>
          <a:blip r:embed="rId3"/>
          <a:stretch/>
        </p:blipFill>
        <p:spPr>
          <a:xfrm>
            <a:off x="357120" y="3357720"/>
            <a:ext cx="40719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al_09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должить знакомство учащихся с историей развития хозяйства области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особенностями размещения и специализацией ведущих отраслей промышлен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щев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а и популярна в стране продукция пищевой промышленности обла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феты, шоколад, макаронные и мясные издел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b1106a527526c384feae8efb18d52624"/>
          <p:cNvPicPr/>
          <p:nvPr/>
        </p:nvPicPr>
        <p:blipFill>
          <a:blip r:embed="rId1"/>
          <a:stretch/>
        </p:blipFill>
        <p:spPr>
          <a:xfrm>
            <a:off x="4648320" y="1357200"/>
            <a:ext cx="42098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виды проду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басные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ные полуфабрик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отное ма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чная проду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ервы6 мясные, овощные, томатные, фрукто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хар-песок, хлебобулочная продукция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околадная фабрика «Росс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70 году был произведен первый шокол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95 году держателем контрольного пакета акций ОАО Кондитерское объединение «Россия» стала компания Нест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1 году рождается бренд «Россия – щедрая душ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егодняшний день предприятие производит более 150 наименований проду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начинается с переработки какао-бобов и заканчивается упаков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довой объем продукции составляет 85 тысяч тон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околадная фаб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nestle"/>
          <p:cNvPicPr/>
          <p:nvPr/>
        </p:nvPicPr>
        <p:blipFill>
          <a:blip r:embed="rId1"/>
          <a:stretch/>
        </p:blipFill>
        <p:spPr>
          <a:xfrm>
            <a:off x="357120" y="1214280"/>
            <a:ext cx="8501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ost-3-13250921311905"/>
          <p:cNvPicPr/>
          <p:nvPr/>
        </p:nvPicPr>
        <p:blipFill>
          <a:blip r:embed="rId1"/>
          <a:srcRect l="0" t="0" r="0" b="10639"/>
          <a:stretch/>
        </p:blipFill>
        <p:spPr>
          <a:xfrm>
            <a:off x="285840" y="285840"/>
            <a:ext cx="8572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0000003"/>
          <p:cNvPicPr/>
          <p:nvPr/>
        </p:nvPicPr>
        <p:blipFill>
          <a:blip r:embed="rId1"/>
          <a:srcRect l="0" t="0" r="0" b="6567"/>
          <a:stretch/>
        </p:blipFill>
        <p:spPr>
          <a:xfrm>
            <a:off x="285840" y="28584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брика «Добрые Вес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image-95-big"/>
          <p:cNvPicPr/>
          <p:nvPr/>
        </p:nvPicPr>
        <p:blipFill>
          <a:blip r:embed="rId1"/>
          <a:stretch/>
        </p:blipFill>
        <p:spPr>
          <a:xfrm>
            <a:off x="285840" y="1285920"/>
            <a:ext cx="8572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ция фаб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bee-s01"/>
          <p:cNvPicPr/>
          <p:nvPr/>
        </p:nvPicPr>
        <p:blipFill>
          <a:blip r:embed="rId1"/>
          <a:stretch/>
        </p:blipFill>
        <p:spPr>
          <a:xfrm>
            <a:off x="214200" y="1214280"/>
            <a:ext cx="4281480" cy="535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490218"/>
          <p:cNvPicPr/>
          <p:nvPr/>
        </p:nvPicPr>
        <p:blipFill>
          <a:blip r:embed="rId2"/>
          <a:stretch/>
        </p:blipFill>
        <p:spPr>
          <a:xfrm>
            <a:off x="4714920" y="1214280"/>
            <a:ext cx="4143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арский конди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samarskij_konditer_logo"/>
          <p:cNvPicPr/>
          <p:nvPr/>
        </p:nvPicPr>
        <p:blipFill>
          <a:blip r:embed="rId1"/>
          <a:stretch/>
        </p:blipFill>
        <p:spPr>
          <a:xfrm>
            <a:off x="5429160" y="4143240"/>
            <a:ext cx="3000600" cy="235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1369"/>
          <p:cNvPicPr/>
          <p:nvPr/>
        </p:nvPicPr>
        <p:blipFill>
          <a:blip r:embed="rId2"/>
          <a:stretch/>
        </p:blipFill>
        <p:spPr>
          <a:xfrm>
            <a:off x="5214960" y="1214280"/>
            <a:ext cx="3429000" cy="29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13d6d7f8c024"/>
          <p:cNvPicPr/>
          <p:nvPr/>
        </p:nvPicPr>
        <p:blipFill>
          <a:blip r:embed="rId3"/>
          <a:stretch/>
        </p:blipFill>
        <p:spPr>
          <a:xfrm>
            <a:off x="500040" y="1428840"/>
            <a:ext cx="4214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P3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способствующие развитию отра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личие сырьевой базы (нефть, попутные и отходящие газы, сера, горючие сланцы, поваренная сол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беспеченность транспор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Обеспеченность водными ресурс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Обеспеченность электроэнергией и квалифицированными кад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77025_w640_h640_milkline2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ясная продук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tovar-430303"/>
          <p:cNvPicPr/>
          <p:nvPr/>
        </p:nvPicPr>
        <p:blipFill>
          <a:blip r:embed="rId1"/>
          <a:stretch/>
        </p:blipFill>
        <p:spPr>
          <a:xfrm>
            <a:off x="357120" y="1214280"/>
            <a:ext cx="842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лебобулоч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19"/>
          <p:cNvPicPr/>
          <p:nvPr/>
        </p:nvPicPr>
        <p:blipFill>
          <a:blip r:embed="rId1"/>
          <a:stretch/>
        </p:blipFill>
        <p:spPr>
          <a:xfrm>
            <a:off x="285840" y="1285920"/>
            <a:ext cx="86439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Учайкина И.Р., Лопухов Н.П.., Воронин В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ография Самарской области: Учебное пособие для учащихся 8-9 классов средней школы. Самара 2003 год, 125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икипед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ндекс. Карти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виды продукции химической и нефтехимической промышленности Самар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85960"/>
            <a:ext cx="4038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миак синт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е средства защиты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устическая с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тетические см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321f118bce099801e3c37532ccec20b3"/>
          <p:cNvPicPr/>
          <p:nvPr/>
        </p:nvPicPr>
        <p:blipFill>
          <a:blip r:embed="rId1"/>
          <a:stretch/>
        </p:blipFill>
        <p:spPr>
          <a:xfrm>
            <a:off x="4572000" y="164304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JvZHVjdF9waG90by9kMThhMjM0NzViZmFmNGQyM2UwZTUzZGYzZTU2ZTE5NC5qcGVn"/>
          <p:cNvPicPr/>
          <p:nvPr/>
        </p:nvPicPr>
        <p:blipFill>
          <a:blip r:embed="rId2"/>
          <a:srcRect l="0" t="0" r="0" b="4732"/>
          <a:stretch/>
        </p:blipFill>
        <p:spPr>
          <a:xfrm>
            <a:off x="4572000" y="3786120"/>
            <a:ext cx="3948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виды продукции химической и нефтехимической промышленности Самар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стмас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тетический кауч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кокрасочные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зиновая обу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бы из термоплас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еральные удобрения (азотные, фосфатны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image051"/>
          <p:cNvPicPr/>
          <p:nvPr/>
        </p:nvPicPr>
        <p:blipFill>
          <a:blip r:embed="rId1"/>
          <a:stretch/>
        </p:blipFill>
        <p:spPr>
          <a:xfrm>
            <a:off x="4429080" y="1714680"/>
            <a:ext cx="4286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amara_b_73144"/>
          <p:cNvPicPr/>
          <p:nvPr/>
        </p:nvPicPr>
        <p:blipFill>
          <a:blip r:embed="rId1"/>
          <a:srcRect l="0" t="0" r="13506" b="0"/>
          <a:stretch/>
        </p:blipFill>
        <p:spPr>
          <a:xfrm>
            <a:off x="428760" y="428760"/>
            <a:ext cx="84294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ы химической промышлен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ьятти, Сызрань, Чапаевск, Новокуйбышев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им из ведущих предприятий этой отрасли является ОАО «Тольяттиазот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од производит аммиак и карбамид – азотное удобрение, повышающее урожайность всех сельскохозяйственных культу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tol"/>
          <p:cNvPicPr/>
          <p:nvPr/>
        </p:nvPicPr>
        <p:blipFill>
          <a:blip r:embed="rId1"/>
          <a:stretch/>
        </p:blipFill>
        <p:spPr>
          <a:xfrm>
            <a:off x="4500720" y="5500800"/>
            <a:ext cx="4019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ммиак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ценное химическое сырь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71680" y="164304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Тольятти через Горловку до г. Одесса проложен мощный трубопровод для перекачки жидкого аммиа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Одессы морями аммиак экспортируется в зарубежные стран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96659"/>
          <p:cNvPicPr/>
          <p:nvPr/>
        </p:nvPicPr>
        <p:blipFill>
          <a:blip r:embed="rId1"/>
          <a:stretch/>
        </p:blipFill>
        <p:spPr>
          <a:xfrm>
            <a:off x="4000680" y="1571760"/>
            <a:ext cx="4929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мышленность строительных материа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приятия Самарской области производя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мент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борные железобетонные конструкции и дета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рпич красный, кирпич силикатны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ягкие кровельные материал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сбестоцементные трубы, нерудные строительные материал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еральную вату и изделия из не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ерамическую плит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нолеу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репи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астиковые окна и двери и так дал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02T16:20:13Z</dcterms:modified>
  <cp:revision>26</cp:revision>
  <dc:subject/>
  <dc:title>Хозяйство Самарской области </dc:title>
</cp:coreProperties>
</file>