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1B3-53B6-4A8E-BB83-35CCB419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C4EB-AA5D-4CB3-A29A-310045E2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CA29-D178-47A5-B064-819DFF37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64C3-2C68-4563-80BB-C946EAD2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E6F7-814E-4165-A08E-2D93C34D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3C3-5B51-4088-B86E-E3EB3519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7977-32C4-4EEE-AE58-76A9DF90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8132-53C2-4DA7-A06B-F28EE3A5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83B-9BFD-43A6-9A42-EFD36C75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C5F2-9788-4CFA-B4A7-B4A88F39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FF6A-897A-455E-9DFA-B762F3F2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47A1-D0BE-45D9-8A27-82D28C13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B168-EEB4-4FFC-A30C-39A4A1694F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youtu.be/S4mwkJy-Qu4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J:\Новая папка11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&amp;Icy;&amp;scy;&amp;pcy;&amp;ocy;&amp;lcy;&amp;softcy;&amp;zcy;&amp;ocy;&amp;vcy;&amp;acy;&amp;ncy;&amp;icy;&amp;iecy; &amp;mcy;&amp;yacy;&amp;gcy;&amp;kcy;&amp;icy;&amp;khcy; &amp;mcy;&amp;ocy;&amp;dcy;&amp;ucy;&amp;lcy;&amp;iecy;&amp;jcy; «&amp;Rcy;&amp;ocy;&amp;mcy;&amp;acy;&amp;shcy;&amp;kcy;&amp;acy;» &amp;vcy; &amp;Ncy;&amp;Ocy;&amp;Dcy; &amp;fcy;&amp;icy;&amp;zcy;&amp;kcy;&amp;ucy;&amp;lcy;&amp;softcy;&amp;tcy;&amp;ucy;&amp;rcy;&amp;ocy;&amp;jcy;. "/>
          <p:cNvPicPr/>
          <p:nvPr/>
        </p:nvPicPr>
        <p:blipFill>
          <a:blip r:embed="rId2"/>
          <a:stretch/>
        </p:blipFill>
        <p:spPr>
          <a:xfrm>
            <a:off x="2843280" y="1268280"/>
            <a:ext cx="4176720" cy="31356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692360" y="333360"/>
            <a:ext cx="71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ел образования и по делам молодежи муниципального образования «Медведевский муниципальный район»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МДОБУ «Новоарбанский детский сад «Радуг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042920" y="4292640"/>
            <a:ext cx="78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Использование мягких модулей «Ромашка» в НОД физкультуро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708360" y="537372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ыполнила: Никольская Л.Г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нструктор по физической куль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&amp;SHcy;&amp;acy;&amp;bcy;&amp;lcy;&amp;ocy;&amp;ncy; &quot;&amp;Rcy;&amp;acy;&amp;dcy;&amp;ucy;&amp;g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403280" y="54936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Виде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Использование мягких модулей «Ромашка» в НОД физкульту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900000" y="285264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youtu.be/S4mwkJy-Qu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3780000" y="2133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Фрагмент Н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1476360" y="4508640"/>
            <a:ext cx="6912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J:\Новая папка11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1835280" y="131400"/>
            <a:ext cx="684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Каждый модуль помещён в чехол из полимерной ткани, модули мягкие, лёгкие, цветные, ярк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www.maaam.ru/upload/blogs/dd8b7c560262c2a8688a3dbaf084e1ef.jpg.jpg"/>
          <p:cNvPicPr/>
          <p:nvPr/>
        </p:nvPicPr>
        <p:blipFill>
          <a:blip r:embed="rId2"/>
          <a:stretch/>
        </p:blipFill>
        <p:spPr>
          <a:xfrm>
            <a:off x="2050920" y="2421000"/>
            <a:ext cx="511344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&amp;SHcy;&amp;acy;&amp;bcy;&amp;lcy;&amp;ocy;&amp;ncy; &quot;&amp;Rcy;&amp;acy;&amp;dcy;&amp;ucy;&amp;g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1692360" y="423720"/>
            <a:ext cx="6624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 помощью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абора мягких модулей «Ромашка» можно изучать, формировать и развивать у де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- cенсорно – персептивные и моторные компоненты деятельности (простую зрительную – моторную координацию, мышечную выносливость, способность перемещаться в пространстве на основе выбора ориентира для движения по заданному признаку: форма, цвет, пространственное расположе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- предметно-практическую и игровую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- произвольность и осознанность выполняемых действий в процессе физической, игровой и предметно- практ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- способствовать к точному управлению движений в пространстве (чувство пространст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- вним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&amp;SHcy;&amp;acy;&amp;bcy;&amp;lcy;&amp;ocy;&amp;ncy; &quot;&amp;Rcy;&amp;acy;&amp;dcy;&amp;ucy;&amp;g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1547640" y="260280"/>
            <a:ext cx="720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В НОД по физическому воспитанию, детали набора используются в качестве спортивных снарядов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, т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ренажёров для  упражнения в равновесии, лазание, ползание, играх т.п.  Расположенные определенным образом (по прямой,  извилистой линии или по кругу) они становятся удобным ориентиром для передвижения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 flipV="1" rot="10800000">
            <a:off x="1476000" y="2565000"/>
            <a:ext cx="59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Проползание на животе по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д</a:t>
            </a: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 ду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http://www.maaam.ru/upload/blogs/ff3b94296722962fa6eec97d36ed9994.jpg.jpg"/>
          <p:cNvPicPr/>
          <p:nvPr/>
        </p:nvPicPr>
        <p:blipFill>
          <a:blip r:embed="rId2"/>
          <a:stretch/>
        </p:blipFill>
        <p:spPr>
          <a:xfrm>
            <a:off x="611280" y="3213000"/>
            <a:ext cx="3960720" cy="2971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http://www.maaam.ru/upload/blogs/3b07facf80b5f4a8a47d265ff00135fd.jpg.jpg"/>
          <p:cNvPicPr/>
          <p:nvPr/>
        </p:nvPicPr>
        <p:blipFill>
          <a:blip r:embed="rId3"/>
          <a:stretch/>
        </p:blipFill>
        <p:spPr>
          <a:xfrm>
            <a:off x="4788000" y="3138480"/>
            <a:ext cx="403200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&amp;SHcy;&amp;acy;&amp;bcy;&amp;lcy;&amp;ocy;&amp;ncy; &quot;&amp;Rcy;&amp;acy;&amp;dcy;&amp;ucy;&amp;g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2266920" y="4762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Упражнения в равнове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J:\Новая папка11\P1100266.JPG"/>
          <p:cNvPicPr/>
          <p:nvPr/>
        </p:nvPicPr>
        <p:blipFill>
          <a:blip r:embed="rId2"/>
          <a:stretch/>
        </p:blipFill>
        <p:spPr>
          <a:xfrm>
            <a:off x="539640" y="263700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www.maaam.ru/upload/blogs/c5ec7ec2d1908ac7d9ba2cd71edfdd30.jpg.jpg"/>
          <p:cNvPicPr/>
          <p:nvPr/>
        </p:nvPicPr>
        <p:blipFill>
          <a:blip r:embed="rId3"/>
          <a:stretch/>
        </p:blipFill>
        <p:spPr>
          <a:xfrm>
            <a:off x="4788000" y="1628640"/>
            <a:ext cx="3960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&amp;SHcy;&amp;acy;&amp;bcy;&amp;lcy;&amp;ocy;&amp;ncy; &quot;&amp;Rcy;&amp;acy;&amp;dcy;&amp;ucy;&amp;g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3059280" y="549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ет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http://www.maaam.ru/upload/blogs/4dae6c9d146cf6ad31159061d69758a7.jpg.jpg"/>
          <p:cNvPicPr/>
          <p:nvPr/>
        </p:nvPicPr>
        <p:blipFill>
          <a:blip r:embed="rId2"/>
          <a:stretch/>
        </p:blipFill>
        <p:spPr>
          <a:xfrm>
            <a:off x="1979640" y="1844640"/>
            <a:ext cx="53053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&amp;SHcy;&amp;acy;&amp;bcy;&amp;lcy;&amp;ocy;&amp;ncy; &quot;&amp;Rcy;&amp;acy;&amp;dcy;&amp;ucy;&amp;g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2771640" y="47628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ыж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http://www.maaam.ru/upload/blogs/1f802609b2b20a5c0066a5bbf17926a8.jpg.jpg"/>
          <p:cNvPicPr/>
          <p:nvPr/>
        </p:nvPicPr>
        <p:blipFill>
          <a:blip r:embed="rId2"/>
          <a:stretch/>
        </p:blipFill>
        <p:spPr>
          <a:xfrm>
            <a:off x="468360" y="1700280"/>
            <a:ext cx="403236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http://www.maaam.ru/upload/blogs/ba01350d8b1c230e29cba7be35396c5c.jpg.jpg"/>
          <p:cNvPicPr/>
          <p:nvPr/>
        </p:nvPicPr>
        <p:blipFill>
          <a:blip r:embed="rId3"/>
          <a:stretch/>
        </p:blipFill>
        <p:spPr>
          <a:xfrm>
            <a:off x="4572000" y="2997360"/>
            <a:ext cx="427032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&amp;SHcy;&amp;acy;&amp;bcy;&amp;lcy;&amp;ocy;&amp;ncy; &quot;&amp;Rcy;&amp;acy;&amp;dcy;&amp;ucy;&amp;g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D:\гРАМОТЫ\35282-016-020-sert.jpg"/>
          <p:cNvPicPr/>
          <p:nvPr/>
        </p:nvPicPr>
        <p:blipFill>
          <a:blip r:embed="rId2"/>
          <a:stretch/>
        </p:blipFill>
        <p:spPr>
          <a:xfrm>
            <a:off x="5508720" y="1641600"/>
            <a:ext cx="3095640" cy="437976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1619280" y="189000"/>
            <a:ext cx="705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504d"/>
                </a:solidFill>
                <a:latin typeface="Arial"/>
              </a:rPr>
              <a:t>Опыт раб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504d"/>
                </a:solidFill>
                <a:latin typeface="Arial"/>
              </a:rPr>
              <a:t>обобщен в Блоге на с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http://www.maaam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5" descr=""/>
          <p:cNvPicPr/>
          <p:nvPr/>
        </p:nvPicPr>
        <p:blipFill>
          <a:blip r:embed="rId3"/>
          <a:stretch/>
        </p:blipFill>
        <p:spPr>
          <a:xfrm>
            <a:off x="684360" y="2060640"/>
            <a:ext cx="4464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&amp;SHcy;&amp;acy;&amp;bcy;&amp;lcy;&amp;ocy;&amp;ncy; &quot;&amp;Rcy;&amp;acy;&amp;dcy;&amp;ucy;&amp;g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J:\DCIM\110_PANA\P1100906.JPG"/>
          <p:cNvPicPr/>
          <p:nvPr/>
        </p:nvPicPr>
        <p:blipFill>
          <a:blip r:embed="rId2"/>
          <a:stretch/>
        </p:blipFill>
        <p:spPr>
          <a:xfrm>
            <a:off x="1395360" y="1908000"/>
            <a:ext cx="6316560" cy="350532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1835280" y="404640"/>
            <a:ext cx="68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Стендовая информ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для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4:59:22Z</dcterms:created>
  <dc:creator>Никольская ЛГ</dc:creator>
  <dc:description/>
  <dc:language>en-US</dc:language>
  <cp:lastModifiedBy>Admin</cp:lastModifiedBy>
  <dcterms:modified xsi:type="dcterms:W3CDTF">2013-04-21T15:28:31Z</dcterms:modified>
  <cp:revision>36</cp:revision>
  <dc:subject>Использование модуля "Ромашка" в НОД физкультурой</dc:subject>
  <dc:title>Модуль РОМАШКА</dc:title>
</cp:coreProperties>
</file>