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CD12-3EF4-48AB-A69B-21EF7366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CA9-DE70-43F1-9340-9CEAF043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9EA-6667-4A1C-8C1C-3FB67A8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FD0-78C7-4F87-AEDD-75B19DF8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4A7-2DD7-4A9A-91E6-2F448CC5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D070-7281-4088-8D76-42FB039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4500-3931-41F2-A00D-287E16C3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46BB-E70A-4FDA-8BD9-CA9CE76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7254-5627-4E01-8A18-01B9A6D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2518-054D-4710-ABE1-CE69F7C4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2A04-923C-45E5-8E06-EA5F673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55C-0CCB-4CDB-9DCF-D298F49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48C3-E1CF-4EDF-B84F-DAF12F6C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9226-A34C-4D6D-BC90-7D3413B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E72E-3881-4C31-B5EC-6EB71FE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83EC-C689-46BC-ACF9-427A94F2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1E23-475A-4C99-98AD-075D569FB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D6C-A89F-4387-9D3F-712513AC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604-F8A9-4EB3-8327-7F361E42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D40-5284-411A-9B03-6AEB7A52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48C-72AF-434D-8F4B-198D6257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94D-E9F9-453E-9DB2-C90808C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5E3-8772-4874-909F-F69D9CB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162-06FA-4AA7-8A69-99EBF286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FEF0-64B3-42E6-ACEF-8CB509E5A2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2A57-FC0D-4D16-9B6D-395248F5E1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Ученик года- 2011</a:t>
            </a:r>
            <a:br>
              <a:rPr sz="2400"/>
            </a:br>
            <a:br>
              <a:rPr sz="2400"/>
            </a:b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Визитная карточка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вилова Тама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а 11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Кипчаковской С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Мне не забыть никогда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4859280" y="4005360"/>
            <a:ext cx="3610080" cy="2130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160720" cy="24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4"/>
          <a:stretch/>
        </p:blipFill>
        <p:spPr>
          <a:xfrm>
            <a:off x="1042920" y="1700280"/>
            <a:ext cx="3960720" cy="2449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На пороге новой жизни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годня самая главная цель в моей жизни – успешно сдать ЕГЭ и поступить в ву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а пороге новой жизни я понимаю, что это не последняя задача, которую придется решить. Впереди много испытаний. Но я справлюсь, потому что мои учителя научили меня ни при каких условиях не сдаваться, смело преодолевать все препятств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859280" y="2852640"/>
            <a:ext cx="3086280" cy="374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897280" cy="2129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Моё увлечение</a:t>
            </a:r>
            <a:br>
              <a:rPr sz="3600"/>
            </a:b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Запомните меня такой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ерский талант рос во мне незаметно, сначала меня, как и многих других, ставили на стул и просили прочитать наизусть стихотворение, затем начали давать небольшие роли в детских праздни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редней школе принимала активное участие в подготовке и проведении всех инсценировок, приготовляемых к различным классным и общешкольным праздникам. Самое яркое воспоминание – это инсценировка басен И.А. Крылова в 5 классе. Я участвовала в инсценировке басни «Зеркало и обезьяна», дебютировала в роли Обезья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1380960" cy="2128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6443640" y="2276640"/>
            <a:ext cx="2448000" cy="37814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Аншлаг! Аншлаг!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3216240" cy="2128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3186360" cy="2130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3319560" cy="2160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3924360" y="3864600"/>
            <a:ext cx="49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же запомнилась игра КВН о вредных привычках, в рамках которой наш 6 класс представил инсценировку о вреде ку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7 классе приняла участие в районном конкурсе пожарных  «Чтоб не ссориться с огне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анном учебном году успешно справилась с ролью старухи Шапокляк и принцессы из сказки С.Я. Маршака «12 месяцев», стала «актрисой» школьного теа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В начале всех начал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538440" cy="4411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 января 1994 года… В первый месяц нового года родился новый человек, начался отсчет для нов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т одно событие за другим, завертела жизнь, закружила, и вдруг остановка… 11 класс… Хочется оглянуться, что-то вспомнить, перелистать семейный и классный фотоальбом, хочется без остановки слушать воспом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хочется слышать новое слово – было, было… Не хочется верить, что все прошл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Я - Мотовилова Тама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только человек начинает чувствовать самого себя, он узнает, как его зовут. С какой радостью он сообщает всем родным, близким и просто прохожим, кто он!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Я – Мотовилова Тамара!» - с гордостью чеканила я свое имя, когда была еще совсем крохой. И не было ничего отраднее тогда, чем признание всеми, что я -  Тома, Томочка, Тамар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3838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СЕМЬ + Я = СЕМЬ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457200" y="1716120"/>
            <a:ext cx="2386080" cy="213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44760" cy="21286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4000320"/>
            <a:ext cx="7931160" cy="21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меня большая, дружная семья, в которой царит любовь и взаимопонимание. Конечно, бывают моменты, когда мы ссоримся. Но эти минуты не столь значительны в наших отношениях. Главное – чувство необходимости в друг друге, ощущение радости от общения, понимание и сочувствие близкого тебе человека. Вот что ценно для членов моей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215604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Я старшая, а значит, главная!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467160" cy="441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40384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 Black"/>
              </a:rPr>
              <a:t>В начале жизни школу помню я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594240" cy="3422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00 год – новая страница в моей биографии. Я – ученица Ибердской начальной школы и снова с гордостью всем сообщаю: «Я – Мотовилова Тамара!» Чудесные годы. Хотелось всё познать, хотелось доказать, что Тома, Томочка, Тамара выросла и способна на много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Ой, как страшно…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и года, пролетев незаметно, оставили только радужные воспоминания в моём сердце. Сожаление о быстротечности событий сменило желание найти новых друзей, испытать новые впечат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лагодарность и любовь к моей первой учительнице – два главных чувства, которые я постигла в эти годы, - навсегда останутся со мн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7451640" y="4005360"/>
            <a:ext cx="1511280" cy="2128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270972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Школа – мой дом родно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3745080" cy="2129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170080" cy="21290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422100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Я всегда мечтала о сестренке… И вот у меня она появилась. Нистратова Наташка. Такая веселая и активная,  умная и надежная. Такая другая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вот с остальными одноклассниками не сразу удалось подружиться. Зато сейчас я очень по ним скучаю. Сашка, Димка, Лена… Как жаль, что вы не с нами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 Black"/>
              </a:rPr>
              <a:t>Осенний марафон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684600" cy="45021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енний марафон, стартовавший в 2004 году, скоро окончи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ки, перемены, классные часы, кружки, олимпиады, соревнования, праздники – все останется позади, но не будет забыт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24:53Z</dcterms:created>
  <dc:creator>***</dc:creator>
  <dc:description/>
  <dc:language>en-US</dc:language>
  <cp:lastModifiedBy>user</cp:lastModifiedBy>
  <dcterms:modified xsi:type="dcterms:W3CDTF">2013-05-02T12:14:25Z</dcterms:modified>
  <cp:revision>6</cp:revision>
  <dc:subject/>
  <dc:title>Слайд 1</dc:title>
</cp:coreProperties>
</file>