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EEE-BCF3-413A-96CA-133DC431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A5D-F308-40BD-96AF-2CF2548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F68-5EFB-49C9-8194-F22E9D13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71A-4206-4D45-A9BD-A674F88C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8D2A-702D-4372-9A94-9C5C73D6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2C98-C8AF-4903-AB5E-46DE66F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3731-64EC-4DE4-99C1-AE9EBF84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AE84-ED69-4864-8ED1-27DE531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AF68-ABB6-415C-8A8E-DE05DA8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2F76-EB98-4578-AD65-D0A41699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E6A-F1EB-4BCC-903B-38B09D8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668-0574-477E-8260-4C658F0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8F5-F92D-46BA-A51C-8243E03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EC99-132B-4E5C-A8A9-56AB537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760C-D82A-42F6-AD6C-08534A3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E36-2C3E-4031-A3F2-2A8E2983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3491-B91C-4EF3-BEC6-EF6C9B4B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9B4-0454-4011-9AF4-92026A31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933-0993-4571-8764-69EECC5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B38-C7C9-4FFD-8953-95F02DFD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624-0B8C-4846-A751-7D39D0C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2EA-795F-401E-A646-B925EBE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AC3-4D89-4B38-83E4-A07D2C0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A37-F065-44E2-A188-BA0AE5D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20C7-C85F-4202-92FB-28BBDD6C4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5357-8965-483D-80E7-F19DF9F707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ченик года- 2011</a:t>
            </a:r>
            <a:br>
              <a:rPr sz="2400"/>
            </a:br>
            <a:br>
              <a:rPr sz="2400"/>
            </a:b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Визитная карточк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вилова Тама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11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Кипчаковской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Мне не забыть никогда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610080" cy="2130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160720" cy="24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3960720" cy="2449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На пороге новой жизни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годня самая главная цель в моей жизни – успешно сдать ЕГЭ и поступить в ву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 пороге новой жизни я понимаю, что это не последняя задача, которую придется решить. Впереди много испытаний. Но я справлюсь, потому что мои учителя научили меня ни при каких условиях не сдаваться, смело преодолевать все препят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086280" cy="374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897280" cy="212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Моё увлечение</a:t>
            </a:r>
            <a:br>
              <a:rPr sz="3600"/>
            </a:b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Запомните меня такой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ерский талант рос во мне незаметно, сначала меня, как и многих других, ставили на стул и просили прочитать наизусть стихотворение, затем начали давать небольшие роли в детских празд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й школе принимала активное участие в подготовке и проведении всех инсценировок, приготовляемых к различным классным и общешкольным праздникам. Самое яркое воспоминание – это инсценировка басен И.А. Крылова в 5 классе. Я участвовала в инсценировке басни «Зеркало и обезьяна», дебютировала в роли Обезь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1380960" cy="21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443640" y="2276640"/>
            <a:ext cx="2448000" cy="3781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Аншлаг! Аншлаг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216240" cy="2128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186360" cy="2130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319560" cy="2160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3924360" y="3864600"/>
            <a:ext cx="49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запомнилась игра КВН о вредных привычках, в рамках которой наш 6 класс представил инсценировку о вреде ку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7 классе приняла участие в районном конкурсе пожарных  «Чтоб не ссориться с огне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анном учебном году успешно справилась с ролью старухи Шапокляк и принцессы из сказки С.Я. Маршака «12 месяцев», стала «актрисой» школьного теа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В начале всех начал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538440" cy="4411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января 1994 года… В первый месяц нового года родился новый человек, начался отсчет для нов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о событие за другим, завертела жизнь, закружила, и вдруг остановка… 11 класс… Хочется оглянуться, что-то вспомнить, перелистать семейный и классный фотоальбом, хочется без остановки слушать вос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хочется слышать новое слово – было, было… Не хочется верить, что все прош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Я - Мотовилова Тама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только человек начинает чувствовать самого себя, он узнает, как его зовут. С какой радостью он сообщает всем родным, близким и просто прохожим, кто он!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Я – Мотовилова Тамара!» - с гордостью чеканила я свое имя, когда была еще совсем крохой. И не было ничего отраднее тогда, чем признание всеми, что я -  Тома, Томочка, Там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838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СЕМЬ + Я = СЕМЬ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457200" y="1716120"/>
            <a:ext cx="2386080" cy="213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44760" cy="2128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4000320"/>
            <a:ext cx="793116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меня большая, дружная семья, в которой царит любовь и взаимопонимание. Конечно, бывают моменты, когда мы ссоримся. Но эти минуты не столь значительны в наших отношениях. Главное – чувство необходимости в друг друге, ощущение радости от общения, понимание и сочувствие близкого тебе человека. Вот что ценно для членов моей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215604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Я старшая, а значит, главная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467160" cy="441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40384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В начале жизни школу помню я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594240" cy="3422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00 год – новая страница в моей биографии. Я – ученица Ибердской начальной школы и снова с гордостью всем сообщаю: «Я – Мотовилова Тамара!» Чудесные годы. Хотелось всё познать, хотелось доказать, что Тома, Томочка, Тамара выросла и способна на много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Ой, как страшно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 года, пролетев незаметно, оставили только радужные воспоминания в моём сердце. Сожаление о быстротечности событий сменило желание найти новых друзей, испытать новые впечат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лагодарность и любовь к моей первой учительнице – два главных чувства, которые я постигла в эти годы, - навсегда останутся со м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7451640" y="4005360"/>
            <a:ext cx="1511280" cy="21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270972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Школа – мой дом родно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3745080" cy="212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170080" cy="2129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422100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всегда мечтала о сестренке… И вот у меня она появилась. Нистратова Наташка. Такая веселая и активная,  умная и надежная. Такая другая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вот с остальными одноклассниками не сразу удалось подружиться. Зато сейчас я очень по ним скучаю. Сашка, Димка, Лена… Как жаль, что вы не с нам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Осенний марафон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684600" cy="45021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енний марафон, стартовавший в 2004 году, скоро окончи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ки, перемены, классные часы, кружки, олимпиады, соревнования, праздники – все останется позади, но не будет забы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24:53Z</dcterms:created>
  <dc:creator>***</dc:creator>
  <dc:description/>
  <dc:language>en-US</dc:language>
  <cp:lastModifiedBy>user</cp:lastModifiedBy>
  <dcterms:modified xsi:type="dcterms:W3CDTF">2013-05-02T12:14:25Z</dcterms:modified>
  <cp:revision>6</cp:revision>
  <dc:subject/>
  <dc:title>Слайд 1</dc:title>
</cp:coreProperties>
</file>