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32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8.jpeg" ContentType="image/jpeg"/>
  <Override PartName="/ppt/media/image34.jpeg" ContentType="image/jpeg"/>
  <Override PartName="/ppt/media/image7.jpeg" ContentType="image/jpeg"/>
  <Override PartName="/ppt/media/image38.jpeg" ContentType="image/jpeg"/>
  <Override PartName="/ppt/media/image12.jpeg" ContentType="image/jpeg"/>
  <Override PartName="/ppt/media/image29.jpeg" ContentType="image/jpeg"/>
  <Override PartName="/ppt/media/image13.jpeg" ContentType="image/jpe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35.jpeg" ContentType="image/jpeg"/>
  <Override PartName="/ppt/media/image10.png" ContentType="image/png"/>
  <Override PartName="/ppt/media/image27.jpeg" ContentType="image/jpeg"/>
  <Override PartName="/ppt/media/image5.jpeg" ContentType="image/jpeg"/>
  <Override PartName="/ppt/media/image26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11.jpeg" ContentType="image/jpeg"/>
  <Override PartName="/ppt/media/image1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E25882-A76B-414E-9056-751776454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1FDA47-5246-43A0-B941-2759A2550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FBB3B6-3EFC-48C2-BC86-68308AA87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79153C-8845-4A57-9BF4-C3F73E663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4FF1A-9967-41E9-A2A7-C7B80B609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C67FB-53A9-4CBF-8ACB-BA117C653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135DC-35E6-4515-9B0E-5AD339208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BF3EF-9B40-486C-91FD-BF3E392BD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2821D-6DF1-4960-94EE-F0F6C2AE5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029F6-45CF-492B-A589-49749BA2B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68D54-8DA1-4A14-B6B4-D075CE015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137FB9-C4BB-4AC2-921C-E85BC3BCD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09449-2B35-4AD2-BC1C-F5ED267A5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B611F-C5CE-45F1-B4B3-11869065A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4AD76-0E66-4373-A5D8-D6406C91B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D5DE7-8D89-43AB-90AA-641EFFF87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4A48C-D718-4E57-969B-31E18BDD7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977B57-48FC-49A5-B970-23F3BC871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FF71C9-DD66-4DAA-BE37-5D8EBC68A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F6BC21-19D8-44F0-882B-F32C12CCC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C72479-6529-4808-9D17-EB6A37AF0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9C101D-0BFB-4DA7-AA12-FD4D82F21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F13BBC-4762-4490-A8FF-B5088FCA6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4C5A8B-F645-4741-B9E7-A83B6EB44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5618C-BE3F-4395-9C7B-DC8E996B60E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0671C-77D6-4FED-8CDD-81F5EA8C72B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image" Target="../media/image24.jpeg"/><Relationship Id="rId8" Type="http://schemas.openxmlformats.org/officeDocument/2006/relationships/image" Target="../media/image25.jpeg"/><Relationship Id="rId9" Type="http://schemas.openxmlformats.org/officeDocument/2006/relationships/slideLayout" Target="../slideLayouts/slideLayout1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26.jpeg"/><Relationship Id="rId6" Type="http://schemas.openxmlformats.org/officeDocument/2006/relationships/image" Target="../media/image27.jpeg"/><Relationship Id="rId7" Type="http://schemas.openxmlformats.org/officeDocument/2006/relationships/image" Target="../media/image28.jpeg"/><Relationship Id="rId8" Type="http://schemas.openxmlformats.org/officeDocument/2006/relationships/image" Target="../media/image29.jpeg"/><Relationship Id="rId9" Type="http://schemas.openxmlformats.org/officeDocument/2006/relationships/slideLayout" Target="../slideLayouts/slideLayout1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image" Target="../media/image34.jpeg"/><Relationship Id="rId6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35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8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86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692000" y="620640"/>
            <a:ext cx="699444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900000" y="404640"/>
            <a:ext cx="7272360" cy="61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68360" y="549360"/>
            <a:ext cx="8229600" cy="53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Задачи урок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углубить (расширить) знания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формировать умения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воспитывать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51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620640"/>
            <a:ext cx="8229600" cy="524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За 3  дня до урока срезали  ветку герани с листьями  и поместили  её в колбу  наполненную водой комнатной температуры. Уровень воды отметили  полоской цветной бумаги. На поверхность воды налили  слой масла. Прибор с растением взвесили на весах. Он весил </a:t>
            </a:r>
            <a:r>
              <a:rPr b="1" lang="en-US" sz="2400" spc="-1" strike="noStrike">
                <a:solidFill>
                  <a:srgbClr val="cc3300"/>
                </a:solidFill>
                <a:latin typeface="Garamond"/>
              </a:rPr>
              <a:t>142 гр.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Повторное взвешивание провели  перед уроко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Прибор стал весит </a:t>
            </a:r>
            <a:r>
              <a:rPr b="1" lang="en-US" sz="2400" spc="-1" strike="noStrike">
                <a:solidFill>
                  <a:srgbClr val="cc3300"/>
                </a:solidFill>
                <a:latin typeface="Garamond"/>
              </a:rPr>
              <a:t>135 г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Какой процесс,  происходящий в листьях растений,  вы наблюдает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С какой целью на поверхность воды налили масло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Почему колба с веточкой герани через три дня  стала весить меньш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7667640" y="5373720"/>
            <a:ext cx="1146240" cy="125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7164360" y="4221000"/>
            <a:ext cx="1433520" cy="140364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 txBox="1"/>
          <p:nvPr/>
        </p:nvSpPr>
        <p:spPr>
          <a:xfrm>
            <a:off x="1116000" y="1413000"/>
            <a:ext cx="6912000" cy="25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00"/>
                </a:solidFill>
                <a:latin typeface="Monotype Corsiva"/>
              </a:rPr>
              <a:t>Транспирация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6600"/>
              </a:solidFill>
              <a:latin typeface="Monotype Corsiva"/>
              <a:ea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70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907920"/>
            <a:ext cx="8229600" cy="49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1403280" y="1700280"/>
            <a:ext cx="2381400" cy="255276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2"/>
          <a:stretch/>
        </p:blipFill>
        <p:spPr>
          <a:xfrm>
            <a:off x="4284720" y="2781360"/>
            <a:ext cx="436248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1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4140360" y="692280"/>
            <a:ext cx="4133520" cy="215244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611280" y="1628640"/>
            <a:ext cx="3456000" cy="4023000"/>
          </a:xfrm>
          <a:prstGeom prst="rect">
            <a:avLst/>
          </a:prstGeom>
          <a:ln w="0">
            <a:noFill/>
          </a:ln>
        </p:spPr>
      </p:pic>
      <p:pic>
        <p:nvPicPr>
          <p:cNvPr id="260" name="rg_hi" descr=""/>
          <p:cNvPicPr/>
          <p:nvPr/>
        </p:nvPicPr>
        <p:blipFill>
          <a:blip r:embed="rId3"/>
          <a:stretch/>
        </p:blipFill>
        <p:spPr>
          <a:xfrm>
            <a:off x="5364000" y="3357720"/>
            <a:ext cx="2808360" cy="21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51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1979640" y="620640"/>
            <a:ext cx="5472000" cy="59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1872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7200" y="836280"/>
            <a:ext cx="4038480" cy="30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Листья бу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3851280" y="764640"/>
            <a:ext cx="4835520" cy="23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Лист капус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7200" y="3499920"/>
            <a:ext cx="4038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Лист кукуруз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500720" y="3429000"/>
            <a:ext cx="418608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Лист берёз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&amp;lcy;&amp;icy;&amp;scy;&amp;tcy;&amp;softcy;&amp;yacy; &amp;bcy;&amp;ucy;&amp;kcy;&amp;acy; &amp;mcy;&amp;ocy;&amp;dcy;&amp;iecy;&amp;lcy;&amp;softcy;"/>
          <p:cNvPicPr/>
          <p:nvPr/>
        </p:nvPicPr>
        <p:blipFill>
          <a:blip r:embed="rId1"/>
          <a:stretch/>
        </p:blipFill>
        <p:spPr>
          <a:xfrm>
            <a:off x="468360" y="1341360"/>
            <a:ext cx="2881440" cy="201636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Savoy &amp;lcy;&amp;icy;&amp;scy;&amp;tcy;&amp;softcy;&amp;iecy;&amp;vcy; &amp;kcy;&amp;acy;&amp;pcy;&amp;ucy;&amp;scy;&amp;tcy;&amp;ycy; &amp;zcy;&amp;rcy;&amp;iecy;&amp;lcy;&amp;ycy;&amp;jcy; &amp;Scy;&amp;tcy;&amp;ocy;&amp;kcy;&amp;ocy;&amp;vcy;&amp;ocy;&amp;iecy; &amp;Icy;&amp;zcy;&amp;ocy;&amp;bcy;&amp;rcy;&amp;acy;&amp;zhcy;&amp;iecy;&amp;ncy;&amp;icy;&amp;iecy; RF - &amp;icy;&amp;zcy;&amp;ocy;&amp;bcy;&amp;rcy;&amp;acy;&amp;zhcy;&amp;iecy;&amp;ncy;&amp;icy;&amp;iecy;: 12141716"/>
          <p:cNvPicPr/>
          <p:nvPr/>
        </p:nvPicPr>
        <p:blipFill>
          <a:blip r:embed="rId2"/>
          <a:stretch/>
        </p:blipFill>
        <p:spPr>
          <a:xfrm>
            <a:off x="6156360" y="260280"/>
            <a:ext cx="2521080" cy="309744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&amp;Lcy;&amp;icy;&amp;scy;&amp;tcy;&amp;softcy;&amp;yacy; &amp;kcy;&amp;ucy;&amp;kcy;&amp;ucy;&amp;rcy;&amp;ucy;&amp;zcy;&amp;ycy; &amp;icy; &amp;ncy;&amp;iecy;&amp;bcy;&amp;ocy;"/>
          <p:cNvPicPr/>
          <p:nvPr/>
        </p:nvPicPr>
        <p:blipFill>
          <a:blip r:embed="rId3"/>
          <a:stretch/>
        </p:blipFill>
        <p:spPr>
          <a:xfrm>
            <a:off x="539640" y="4005360"/>
            <a:ext cx="2448000" cy="263196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&amp;bcy;&amp;iecy;&amp;rcy;&amp;iecy;&amp;zcy;&amp;ycy;"/>
          <p:cNvPicPr/>
          <p:nvPr/>
        </p:nvPicPr>
        <p:blipFill>
          <a:blip r:embed="rId4"/>
          <a:stretch/>
        </p:blipFill>
        <p:spPr>
          <a:xfrm>
            <a:off x="4788000" y="4005360"/>
            <a:ext cx="2519280" cy="25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70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620640"/>
            <a:ext cx="8229600" cy="524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Garamond"/>
              </a:rPr>
              <a:t>Проблема 1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Garamond"/>
              </a:rPr>
              <a:t> 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Учёные измерили температура листа, испаряющего воду и не испаряющего воду. В результате они выяснили, что температура испаряющего воду лист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на </a:t>
            </a:r>
            <a:r>
              <a:rPr b="0" i="1" lang="en-US" sz="3200" spc="-1" strike="noStrike">
                <a:solidFill>
                  <a:srgbClr val="cc3300"/>
                </a:solidFill>
                <a:latin typeface="Times New Roman"/>
              </a:rPr>
              <a:t>7 градусов ниже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чем не испаряющего.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Какой вывод можно сделать из этого исследования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7596360" y="5157720"/>
            <a:ext cx="1217520" cy="14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68000" y="980640"/>
            <a:ext cx="821844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Проблема 2.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3200"/>
            </a:b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Влажность воздуха изменяется в течение дня, недели, лета. Как влияет изменение влажности воздуха на испарение воды растением? В каких условиях интенсивность испарения выше: при высокой температуре или низкой влажност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6948360" y="4869000"/>
            <a:ext cx="1649520" cy="15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250920" y="2332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691920"/>
            <a:ext cx="8229600" cy="51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Проблема 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Как вы думаете, что произойдёт, если лист покрыть маслянистым веществом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Проблема 4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У какого растения – кактуса или водяной лилии можно ожидать больше устьиц? Почему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7093080" y="5300640"/>
            <a:ext cx="1504800" cy="11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483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-5788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alifornian FB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fornian FB"/>
              </a:rPr>
              <a:t>Основная часть стебля, состоящая из сосудов и механической ткан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alifornian FB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fornian FB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fornian FB"/>
              </a:rPr>
              <a:t>Процесс расщепления органических веществ и выделения энергии при участии кислород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alifornian FB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fornian FB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fornian FB"/>
              </a:rPr>
              <a:t>Какой газ поглощается живыми организмами в процессе дыхания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alifornian FB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fornian FB"/>
              </a:rPr>
              <a:t>Сосуды, приносящие кровь в сердц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alifornian FB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fornian FB"/>
              </a:rPr>
              <a:t>Органоиды  клетки, в которых  протекает процесс фотосинтез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alifornian FB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fornian FB"/>
              </a:rPr>
              <a:t>Органы дыхания, имеющие вид ячеистых мешков, пронизанных множеством кровеносных сосуд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alifornian FB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fornian FB"/>
              </a:rPr>
              <a:t>Процесс получения организмом питательных веществ и энерг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alifornian FB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fornian FB"/>
              </a:rPr>
              <a:t>Органы дыхания насекомы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Californian FB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fornian FB"/>
              </a:rPr>
              <a:t>Сосуды, выносящие кровь из сердц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68360" y="160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204640"/>
            <a:ext cx="8229600" cy="36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Каково значение испарения воды для жизни растения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6372360" y="4724280"/>
            <a:ext cx="1649160" cy="15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151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457200" y="1981080"/>
            <a:ext cx="4038480" cy="1866960"/>
          </a:xfrm>
          <a:prstGeom prst="rect">
            <a:avLst/>
          </a:prstGeom>
          <a:ln w="0">
            <a:noFill/>
          </a:ln>
        </p:spPr>
      </p:pic>
      <p:pic>
        <p:nvPicPr>
          <p:cNvPr id="285" name="" descr=""/>
          <p:cNvPicPr/>
          <p:nvPr/>
        </p:nvPicPr>
        <p:blipFill>
          <a:blip r:embed="rId2"/>
          <a:stretch/>
        </p:blipFill>
        <p:spPr>
          <a:xfrm>
            <a:off x="4648320" y="1981080"/>
            <a:ext cx="4038480" cy="1866960"/>
          </a:xfrm>
          <a:prstGeom prst="rect">
            <a:avLst/>
          </a:prstGeom>
          <a:ln w="0">
            <a:noFill/>
          </a:ln>
        </p:spPr>
      </p:pic>
      <p:pic>
        <p:nvPicPr>
          <p:cNvPr id="286" name="" descr=""/>
          <p:cNvPicPr/>
          <p:nvPr/>
        </p:nvPicPr>
        <p:blipFill>
          <a:blip r:embed="rId3"/>
          <a:stretch/>
        </p:blipFill>
        <p:spPr>
          <a:xfrm>
            <a:off x="457200" y="4000320"/>
            <a:ext cx="4038480" cy="1866600"/>
          </a:xfrm>
          <a:prstGeom prst="rect">
            <a:avLst/>
          </a:prstGeom>
          <a:ln w="0">
            <a:noFill/>
          </a:ln>
        </p:spPr>
      </p:pic>
      <p:pic>
        <p:nvPicPr>
          <p:cNvPr id="287" name="" descr=""/>
          <p:cNvPicPr/>
          <p:nvPr/>
        </p:nvPicPr>
        <p:blipFill>
          <a:blip r:embed="rId4"/>
          <a:stretch/>
        </p:blipFill>
        <p:spPr>
          <a:xfrm>
            <a:off x="4648320" y="4000320"/>
            <a:ext cx="4038480" cy="1866600"/>
          </a:xfrm>
          <a:prstGeom prst="rect">
            <a:avLst/>
          </a:prstGeom>
          <a:ln w="0">
            <a:noFill/>
          </a:ln>
        </p:spPr>
      </p:pic>
      <p:pic>
        <p:nvPicPr>
          <p:cNvPr id="288" name="" descr=""/>
          <p:cNvPicPr/>
          <p:nvPr/>
        </p:nvPicPr>
        <p:blipFill>
          <a:blip r:embed="rId5"/>
          <a:stretch/>
        </p:blipFill>
        <p:spPr>
          <a:xfrm>
            <a:off x="250920" y="836640"/>
            <a:ext cx="4362480" cy="290520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6"/>
          <a:stretch/>
        </p:blipFill>
        <p:spPr>
          <a:xfrm>
            <a:off x="4788000" y="3645000"/>
            <a:ext cx="4002120" cy="2905200"/>
          </a:xfrm>
          <a:prstGeom prst="rect">
            <a:avLst/>
          </a:prstGeom>
          <a:ln w="0">
            <a:noFill/>
          </a:ln>
        </p:spPr>
      </p:pic>
      <p:pic>
        <p:nvPicPr>
          <p:cNvPr id="290" name="" descr=""/>
          <p:cNvPicPr/>
          <p:nvPr/>
        </p:nvPicPr>
        <p:blipFill>
          <a:blip r:embed="rId7"/>
          <a:stretch/>
        </p:blipFill>
        <p:spPr>
          <a:xfrm>
            <a:off x="684360" y="3933720"/>
            <a:ext cx="3816360" cy="2519640"/>
          </a:xfrm>
          <a:prstGeom prst="rect">
            <a:avLst/>
          </a:prstGeom>
          <a:ln w="0">
            <a:noFill/>
          </a:ln>
        </p:spPr>
      </p:pic>
      <p:pic>
        <p:nvPicPr>
          <p:cNvPr id="291" name="" descr=""/>
          <p:cNvPicPr/>
          <p:nvPr/>
        </p:nvPicPr>
        <p:blipFill>
          <a:blip r:embed="rId8"/>
          <a:stretch/>
        </p:blipFill>
        <p:spPr>
          <a:xfrm>
            <a:off x="4859280" y="836640"/>
            <a:ext cx="380988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151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1"/>
          <a:stretch/>
        </p:blipFill>
        <p:spPr>
          <a:xfrm>
            <a:off x="457200" y="1981080"/>
            <a:ext cx="4038480" cy="186696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2"/>
          <a:stretch/>
        </p:blipFill>
        <p:spPr>
          <a:xfrm>
            <a:off x="4648320" y="1981080"/>
            <a:ext cx="4038480" cy="186696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/>
          <p:cNvPicPr/>
          <p:nvPr/>
        </p:nvPicPr>
        <p:blipFill>
          <a:blip r:embed="rId3"/>
          <a:stretch/>
        </p:blipFill>
        <p:spPr>
          <a:xfrm>
            <a:off x="457200" y="4000320"/>
            <a:ext cx="4038480" cy="186660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/>
          <p:cNvPicPr/>
          <p:nvPr/>
        </p:nvPicPr>
        <p:blipFill>
          <a:blip r:embed="rId4"/>
          <a:stretch/>
        </p:blipFill>
        <p:spPr>
          <a:xfrm>
            <a:off x="4648320" y="4000320"/>
            <a:ext cx="4038480" cy="186660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"/>
          <p:cNvPicPr/>
          <p:nvPr/>
        </p:nvPicPr>
        <p:blipFill>
          <a:blip r:embed="rId5"/>
          <a:stretch/>
        </p:blipFill>
        <p:spPr>
          <a:xfrm>
            <a:off x="1042920" y="1125360"/>
            <a:ext cx="3506760" cy="3024360"/>
          </a:xfrm>
          <a:prstGeom prst="rect">
            <a:avLst/>
          </a:prstGeom>
          <a:ln w="0">
            <a:noFill/>
          </a:ln>
        </p:spPr>
      </p:pic>
      <p:pic>
        <p:nvPicPr>
          <p:cNvPr id="298" name="" descr=""/>
          <p:cNvPicPr/>
          <p:nvPr/>
        </p:nvPicPr>
        <p:blipFill>
          <a:blip r:embed="rId6"/>
          <a:stretch/>
        </p:blipFill>
        <p:spPr>
          <a:xfrm>
            <a:off x="4859280" y="765000"/>
            <a:ext cx="3311640" cy="248148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7"/>
          <a:stretch/>
        </p:blipFill>
        <p:spPr>
          <a:xfrm>
            <a:off x="539640" y="3357720"/>
            <a:ext cx="3961080" cy="2879640"/>
          </a:xfrm>
          <a:prstGeom prst="rect">
            <a:avLst/>
          </a:prstGeom>
          <a:ln w="0">
            <a:noFill/>
          </a:ln>
        </p:spPr>
      </p:pic>
      <p:pic>
        <p:nvPicPr>
          <p:cNvPr id="300" name="" descr=""/>
          <p:cNvPicPr/>
          <p:nvPr/>
        </p:nvPicPr>
        <p:blipFill>
          <a:blip r:embed="rId8"/>
          <a:stretch/>
        </p:blipFill>
        <p:spPr>
          <a:xfrm>
            <a:off x="5003640" y="3362400"/>
            <a:ext cx="3529080" cy="286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644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764640"/>
            <a:ext cx="8229600" cy="510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tretch/>
        </p:blipFill>
        <p:spPr>
          <a:xfrm>
            <a:off x="250920" y="765000"/>
            <a:ext cx="2879640" cy="302436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/>
          <p:cNvPicPr/>
          <p:nvPr/>
        </p:nvPicPr>
        <p:blipFill>
          <a:blip r:embed="rId2"/>
          <a:stretch/>
        </p:blipFill>
        <p:spPr>
          <a:xfrm>
            <a:off x="5076720" y="3213000"/>
            <a:ext cx="3498840" cy="327672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"/>
          <p:cNvPicPr/>
          <p:nvPr/>
        </p:nvPicPr>
        <p:blipFill>
          <a:blip r:embed="rId3"/>
          <a:stretch/>
        </p:blipFill>
        <p:spPr>
          <a:xfrm>
            <a:off x="3419640" y="476280"/>
            <a:ext cx="1761840" cy="2590920"/>
          </a:xfrm>
          <a:prstGeom prst="rect">
            <a:avLst/>
          </a:prstGeom>
          <a:ln w="0">
            <a:noFill/>
          </a:ln>
        </p:spPr>
      </p:pic>
      <p:pic>
        <p:nvPicPr>
          <p:cNvPr id="306" name="" descr=""/>
          <p:cNvPicPr/>
          <p:nvPr/>
        </p:nvPicPr>
        <p:blipFill>
          <a:blip r:embed="rId4"/>
          <a:stretch/>
        </p:blipFill>
        <p:spPr>
          <a:xfrm>
            <a:off x="5651640" y="1125360"/>
            <a:ext cx="2543040" cy="180036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"/>
          <p:cNvPicPr/>
          <p:nvPr/>
        </p:nvPicPr>
        <p:blipFill>
          <a:blip r:embed="rId5"/>
          <a:stretch/>
        </p:blipFill>
        <p:spPr>
          <a:xfrm>
            <a:off x="1332000" y="3357720"/>
            <a:ext cx="295092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151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457200" y="764640"/>
            <a:ext cx="4038480" cy="56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" descr=""/>
          <p:cNvPicPr/>
          <p:nvPr/>
        </p:nvPicPr>
        <p:blipFill>
          <a:blip r:embed="rId1"/>
          <a:stretch/>
        </p:blipFill>
        <p:spPr>
          <a:xfrm>
            <a:off x="4648320" y="4000320"/>
            <a:ext cx="4038480" cy="1866600"/>
          </a:xfrm>
          <a:prstGeom prst="rect">
            <a:avLst/>
          </a:prstGeom>
          <a:ln w="0">
            <a:noFill/>
          </a:ln>
        </p:spPr>
      </p:pic>
      <p:pic>
        <p:nvPicPr>
          <p:cNvPr id="311" name="" descr="&amp;Vcy;&amp;ycy;&amp;dcy;&amp;iecy;&amp;lcy;&amp;icy;&amp;tcy;&amp;iecy;&amp;lcy;&amp;softcy;&amp;ncy;&amp;acy;&amp;yacy; &amp;scy;&amp;icy;&amp;scy;&amp;tcy;&amp;iecy;&amp;mcy;&amp;acy;."/>
          <p:cNvPicPr/>
          <p:nvPr/>
        </p:nvPicPr>
        <p:blipFill>
          <a:blip r:embed="rId2"/>
          <a:stretch/>
        </p:blipFill>
        <p:spPr>
          <a:xfrm>
            <a:off x="5867280" y="981000"/>
            <a:ext cx="3024360" cy="2654280"/>
          </a:xfrm>
          <a:prstGeom prst="rect">
            <a:avLst/>
          </a:prstGeom>
          <a:ln w="0">
            <a:noFill/>
          </a:ln>
        </p:spPr>
      </p:pic>
      <p:pic>
        <p:nvPicPr>
          <p:cNvPr id="312" name="" descr="&amp;Vcy;&amp;ycy;&amp;dcy;&amp;iecy;&amp;lcy;&amp;icy;&amp;tcy;&amp;iecy;&amp;lcy;&amp;softcy;&amp;ncy;&amp;acy;&amp;yacy; &amp;scy;&amp;icy;&amp;scy;&amp;tcy;&amp;iecy;&amp;mcy;&amp;acy;."/>
          <p:cNvPicPr/>
          <p:nvPr/>
        </p:nvPicPr>
        <p:blipFill>
          <a:blip r:embed="rId3"/>
          <a:stretch/>
        </p:blipFill>
        <p:spPr>
          <a:xfrm>
            <a:off x="4788000" y="3500280"/>
            <a:ext cx="3095640" cy="267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13" name=""/>
          <p:cNvGraphicFramePr/>
          <p:nvPr/>
        </p:nvGraphicFramePr>
        <p:xfrm>
          <a:off x="324000" y="765000"/>
          <a:ext cx="4824360" cy="4679640"/>
        </p:xfrm>
        <a:graphic>
          <a:graphicData uri="http://schemas.openxmlformats.org/drawingml/2006/table">
            <a:tbl>
              <a:tblPr/>
              <a:tblGrid>
                <a:gridCol w="4537080"/>
                <a:gridCol w="287280"/>
              </a:tblGrid>
              <a:tr h="9572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нылая пора! Очей очарованье!</a:t>
                      </a:r>
                      <a:br>
                        <a:rPr sz="2000"/>
                      </a:b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ятна мне твоя прощальная краса -Люблю я пышное природы увяданье,</a:t>
                      </a:r>
                      <a:br>
                        <a:rPr sz="2000"/>
                      </a:b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 багрец и в золото одетые леса,</a:t>
                      </a:r>
                      <a:br>
                        <a:rPr sz="2000"/>
                      </a:b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                       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ушкин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А.С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ес, точно терем расписной,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иловый, золотой, багряный,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еселой, пестрою стеной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тоит над светлою поляной.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      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. Буни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22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43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457200" y="1844640"/>
            <a:ext cx="4038480" cy="40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Последний лист на ветке голой</a:t>
            </a: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Серьгою бронзовой повис, </a:t>
            </a: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И ждет, когда зимой суровой</a:t>
            </a: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Его сорвет и бросит вниз.</a:t>
            </a: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Упрямый лист, и над тобою</a:t>
            </a: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Закон суровый в мире есть:</a:t>
            </a: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Что отцвело своей весною,</a:t>
            </a: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Тому еще не раз зацвесть.</a:t>
            </a: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                   (М. Ковалевский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" descr=""/>
          <p:cNvPicPr/>
          <p:nvPr/>
        </p:nvPicPr>
        <p:blipFill>
          <a:blip r:embed="rId1"/>
          <a:stretch/>
        </p:blipFill>
        <p:spPr>
          <a:xfrm>
            <a:off x="4427640" y="1484280"/>
            <a:ext cx="4244760" cy="395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70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83664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Если листья березы осенью начнут желтеть с верхушки, то следующая весна будет ранняя, а если снизу – то поздня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Листья осины лежат на земле кверху лицом – зима будет холодная, кверху изнанкой – тепла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Прежде времени лист опадает – к долгой зим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Пока лист с вишневых деревьев не опал, сколько бы снегу не выпало, оттепель его сгони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151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83664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« Не от добра дерево лист роняет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826920" y="2565360"/>
            <a:ext cx="3448080" cy="2801880"/>
          </a:xfrm>
          <a:prstGeom prst="rect">
            <a:avLst/>
          </a:prstGeom>
          <a:ln w="0">
            <a:noFill/>
          </a:ln>
        </p:spPr>
      </p:pic>
      <p:pic>
        <p:nvPicPr>
          <p:cNvPr id="322" name="" descr=""/>
          <p:cNvPicPr/>
          <p:nvPr/>
        </p:nvPicPr>
        <p:blipFill>
          <a:blip r:embed="rId2"/>
          <a:stretch/>
        </p:blipFill>
        <p:spPr>
          <a:xfrm>
            <a:off x="3348000" y="4581360"/>
            <a:ext cx="2664000" cy="2005200"/>
          </a:xfrm>
          <a:prstGeom prst="rect">
            <a:avLst/>
          </a:prstGeom>
          <a:ln w="0">
            <a:noFill/>
          </a:ln>
        </p:spPr>
      </p:pic>
      <p:pic>
        <p:nvPicPr>
          <p:cNvPr id="323" name="" descr=""/>
          <p:cNvPicPr/>
          <p:nvPr/>
        </p:nvPicPr>
        <p:blipFill>
          <a:blip r:embed="rId3"/>
          <a:stretch/>
        </p:blipFill>
        <p:spPr>
          <a:xfrm>
            <a:off x="5076720" y="2637000"/>
            <a:ext cx="3167280" cy="23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51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83664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00"/>
                </a:solidFill>
                <a:latin typeface="Times New Roman"/>
              </a:rPr>
              <a:t>Листопад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это естественное отделение листа от стебля. В листьях накапливаются ненужные  и даже вредные вещества. Они удаляются из растения в процессе сбрасывания листьев. А нужные вещества оттекают в другие органы, где используются или накапливаются в запасающих тканях. Перед листопадом листья теряют зелёный цвет, т.к. хлорофилл разрушается, и становятся видны другие красящие вещества – пигменты жёлтого и оранжевого цвет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151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620640"/>
            <a:ext cx="8229600" cy="524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Что такое листопад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Укажите причины листопад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Какие вещества содержатся в опавших листьях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Почему перед листопадом листья теряют зелёный цве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Почему изменяется окраска листьев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Являются ли опавшие листья ценным удобрением? Почем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Каково значение листопад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73040" y="436680"/>
            <a:ext cx="82137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68000" y="404640"/>
            <a:ext cx="7931160" cy="6453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700360" y="620640"/>
            <a:ext cx="647640" cy="5047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348000" y="620640"/>
            <a:ext cx="576360" cy="5047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924360" y="620640"/>
            <a:ext cx="503280" cy="5047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427640" y="620640"/>
            <a:ext cx="504720" cy="5047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932360" y="620640"/>
            <a:ext cx="576360" cy="5047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508720" y="620640"/>
            <a:ext cx="503280" cy="5047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093080" y="620640"/>
            <a:ext cx="574560" cy="5047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012000" y="620640"/>
            <a:ext cx="504720" cy="5047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516720" y="620640"/>
            <a:ext cx="576360" cy="5047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924360" y="1125360"/>
            <a:ext cx="503280" cy="503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427640" y="1125360"/>
            <a:ext cx="504720" cy="503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932360" y="1125360"/>
            <a:ext cx="576360" cy="503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508720" y="1125360"/>
            <a:ext cx="503280" cy="503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012000" y="1125360"/>
            <a:ext cx="576000" cy="503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516720" y="1125360"/>
            <a:ext cx="576360" cy="503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093080" y="1125360"/>
            <a:ext cx="574560" cy="503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427640" y="1628640"/>
            <a:ext cx="504720" cy="576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924360" y="1628640"/>
            <a:ext cx="503280" cy="5050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48000" y="1628640"/>
            <a:ext cx="576360" cy="5050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843280" y="1628640"/>
            <a:ext cx="504720" cy="5050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68360" y="1628640"/>
            <a:ext cx="574920" cy="5050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979640" y="1628640"/>
            <a:ext cx="360360" cy="5050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403280" y="1628640"/>
            <a:ext cx="576360" cy="5050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900000" y="1628640"/>
            <a:ext cx="576360" cy="5050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24360" y="2133720"/>
            <a:ext cx="503280" cy="5745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427640" y="2133720"/>
            <a:ext cx="504720" cy="503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932360" y="2133720"/>
            <a:ext cx="431640" cy="503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364000" y="2133720"/>
            <a:ext cx="503280" cy="503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924360" y="2637000"/>
            <a:ext cx="503280" cy="5047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427640" y="2637000"/>
            <a:ext cx="504720" cy="5047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932360" y="2637000"/>
            <a:ext cx="503280" cy="5047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435640" y="2637000"/>
            <a:ext cx="431640" cy="5047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867280" y="2637000"/>
            <a:ext cx="576360" cy="5047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348000" y="2637000"/>
            <a:ext cx="576360" cy="5047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843280" y="2637000"/>
            <a:ext cx="504720" cy="5047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340000" y="2637000"/>
            <a:ext cx="503280" cy="576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835280" y="2637000"/>
            <a:ext cx="504720" cy="5047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403280" y="2637000"/>
            <a:ext cx="432000" cy="5047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427640" y="3141720"/>
            <a:ext cx="504720" cy="4316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924360" y="3141720"/>
            <a:ext cx="503280" cy="4316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348000" y="3141720"/>
            <a:ext cx="576360" cy="503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843280" y="3141720"/>
            <a:ext cx="504720" cy="4316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340000" y="3141720"/>
            <a:ext cx="503280" cy="4316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835280" y="3141720"/>
            <a:ext cx="504720" cy="4316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427640" y="3573360"/>
            <a:ext cx="504720" cy="5050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932360" y="3573360"/>
            <a:ext cx="503280" cy="503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435640" y="3573360"/>
            <a:ext cx="576360" cy="503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924360" y="3573360"/>
            <a:ext cx="503280" cy="503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348000" y="3573360"/>
            <a:ext cx="574560" cy="503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843280" y="3573360"/>
            <a:ext cx="503280" cy="503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340000" y="3573360"/>
            <a:ext cx="503280" cy="503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427640" y="4076640"/>
            <a:ext cx="504720" cy="432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924360" y="4076640"/>
            <a:ext cx="503280" cy="432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348000" y="4076640"/>
            <a:ext cx="576360" cy="432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843280" y="4076640"/>
            <a:ext cx="504720" cy="432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268360" y="4076640"/>
            <a:ext cx="574920" cy="432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835280" y="4076640"/>
            <a:ext cx="504720" cy="432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427640" y="4508640"/>
            <a:ext cx="504720" cy="5047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932360" y="4508640"/>
            <a:ext cx="576360" cy="5047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508720" y="4508640"/>
            <a:ext cx="576000" cy="5047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084720" y="4508640"/>
            <a:ext cx="503280" cy="5047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924360" y="4508640"/>
            <a:ext cx="503280" cy="5047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348000" y="4508640"/>
            <a:ext cx="576360" cy="5047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843280" y="4508640"/>
            <a:ext cx="504720" cy="5047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443640" y="2637000"/>
            <a:ext cx="504720" cy="5047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70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1476360" y="1557360"/>
            <a:ext cx="6353280" cy="3024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00"/>
                </a:solidFill>
                <a:latin typeface="Garamond"/>
              </a:rPr>
              <a:t>Спасибо за урок!</a:t>
            </a:r>
            <a:endParaRPr b="1" lang="en-US" sz="6600" spc="1" strike="noStrike">
              <a:ln w="9360">
                <a:solidFill>
                  <a:srgbClr val="000000"/>
                </a:solidFill>
                <a:miter/>
              </a:ln>
              <a:solidFill>
                <a:srgbClr val="006600"/>
              </a:solidFill>
              <a:latin typeface="Garamond"/>
              <a:ea typeface="Garamond"/>
            </a:endParaRPr>
          </a:p>
        </p:txBody>
      </p:sp>
      <p:pic>
        <p:nvPicPr>
          <p:cNvPr id="330" name="" descr=""/>
          <p:cNvPicPr/>
          <p:nvPr/>
        </p:nvPicPr>
        <p:blipFill>
          <a:blip r:embed="rId1"/>
          <a:stretch/>
        </p:blipFill>
        <p:spPr>
          <a:xfrm>
            <a:off x="2411280" y="2276640"/>
            <a:ext cx="428652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92240"/>
            <a:ext cx="81453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404640"/>
            <a:ext cx="8229600" cy="54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Garamond"/>
              </a:rPr>
              <a:t>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627280" y="1916280"/>
            <a:ext cx="3457440" cy="244944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Garamond"/>
              </a:rPr>
              <a:t>Живой организ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87640" y="2133720"/>
            <a:ext cx="72072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2124000" y="4076280"/>
            <a:ext cx="144000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4138200" y="1700280"/>
            <a:ext cx="180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4211640" y="407628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900000" y="907920"/>
            <a:ext cx="2303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Garamond"/>
              </a:rPr>
              <a:t>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050920" y="3716280"/>
            <a:ext cx="122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95280" y="4437000"/>
            <a:ext cx="1944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55640" y="5373720"/>
            <a:ext cx="33116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80000" y="907920"/>
            <a:ext cx="1008000" cy="6494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в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9280" y="1341360"/>
            <a:ext cx="2737080" cy="8636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Times New Roman"/>
              </a:rPr>
              <a:t>минеральные со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79280" y="3284640"/>
            <a:ext cx="1944720" cy="7207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витами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50920" y="4724280"/>
            <a:ext cx="1944720" cy="576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кислор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835280" y="5445000"/>
            <a:ext cx="3744720" cy="8636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Times New Roman"/>
              </a:rPr>
              <a:t>органические веще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443640" y="1484280"/>
            <a:ext cx="2232000" cy="7207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00"/>
                </a:solidFill>
                <a:latin typeface="Times New Roman"/>
              </a:rPr>
              <a:t>кислор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516720" y="2565360"/>
            <a:ext cx="2627280" cy="719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00"/>
                </a:solidFill>
                <a:latin typeface="Times New Roman"/>
              </a:rPr>
              <a:t>Углекислый га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300720" y="549360"/>
            <a:ext cx="1224000" cy="576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00"/>
                </a:solidFill>
                <a:latin typeface="Times New Roman"/>
              </a:rPr>
              <a:t>во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940360" y="3789360"/>
            <a:ext cx="2952720" cy="503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00"/>
                </a:solidFill>
                <a:latin typeface="Times New Roman"/>
              </a:rPr>
              <a:t>Ядовитые веще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084720" y="4653000"/>
            <a:ext cx="2808360" cy="6476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00"/>
                </a:solidFill>
                <a:latin typeface="Times New Roman"/>
              </a:rPr>
              <a:t>Минеральные со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5003640" y="836640"/>
            <a:ext cx="1440000" cy="14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5148360" y="1988640"/>
            <a:ext cx="136836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219640" y="299736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364000" y="3573360"/>
            <a:ext cx="72072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932360" y="3716280"/>
            <a:ext cx="1295280" cy="158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012000" y="5516640"/>
            <a:ext cx="2736720" cy="7207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00"/>
                </a:solidFill>
                <a:latin typeface="Times New Roman"/>
              </a:rPr>
              <a:t>экскремен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Garamond"/>
              </a:rPr>
              <a:t>выведение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692360" y="2205000"/>
            <a:ext cx="5688000" cy="21607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Garamond"/>
              </a:rPr>
              <a:t>Выделени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940360" y="800640"/>
            <a:ext cx="23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Garamond"/>
              </a:rPr>
              <a:t>с пищей</a:t>
            </a:r>
            <a:r>
              <a:rPr b="0" i="1" lang="en-US" sz="32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43360" y="5698080"/>
            <a:ext cx="324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Garamond"/>
              </a:rPr>
              <a:t>поступивши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300720" y="1143000"/>
            <a:ext cx="244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Garamond"/>
              </a:rPr>
              <a:t>организм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667640" y="2763000"/>
            <a:ext cx="122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Garamond"/>
              </a:rPr>
              <a:t>ил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900000" y="1809000"/>
            <a:ext cx="6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Garamond"/>
              </a:rPr>
              <a:t>в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651640" y="5240160"/>
            <a:ext cx="3492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Garamond"/>
              </a:rPr>
              <a:t>образовавшихся</a:t>
            </a:r>
            <a:r>
              <a:rPr b="0" i="1" lang="en-US" sz="32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211640" y="5696640"/>
            <a:ext cx="19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Garamond"/>
              </a:rPr>
              <a:t>ядов</a:t>
            </a:r>
            <a:r>
              <a:rPr b="0" i="1" lang="en-US" sz="32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24000" y="2770200"/>
            <a:ext cx="136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Garamond"/>
              </a:rPr>
              <a:t>соле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804000" y="3716280"/>
            <a:ext cx="18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Garamond"/>
              </a:rPr>
              <a:t>вод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95280" y="427284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Garamond"/>
              </a:rPr>
              <a:t>избытк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908000" y="689760"/>
            <a:ext cx="453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Garamond"/>
              </a:rPr>
              <a:t>обмена вещест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203640" y="4360680"/>
            <a:ext cx="4032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Garamond"/>
              </a:rPr>
              <a:t>конечных продуктов</a:t>
            </a:r>
            <a:r>
              <a:rPr b="0" i="1" lang="en-US" sz="32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132000" y="1438920"/>
            <a:ext cx="288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Garamond"/>
              </a:rPr>
              <a:t>организм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812000" y="4545720"/>
            <a:ext cx="8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Garamond"/>
              </a:rPr>
              <a:t>из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151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990800"/>
            <a:ext cx="8229600" cy="27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7d"/>
                </a:solidFill>
                <a:latin typeface="Garamond"/>
              </a:rPr>
              <a:t>Выделени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выведение из организма  конечных продуктов обмена веществ, избытка воды, солей, ядов, образовавшихся в организме или поступивших с пищ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659640" y="4797360"/>
            <a:ext cx="112392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1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2060640"/>
            <a:ext cx="8229600" cy="38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Есть ли у растений специальные органы выделения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Как происходит выделение ненужных веществ у растений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7093080" y="549360"/>
            <a:ext cx="1649160" cy="161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73040" y="408600"/>
            <a:ext cx="82137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83664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29" name=""/>
          <p:cNvSpPr/>
          <p:nvPr/>
        </p:nvSpPr>
        <p:spPr>
          <a:xfrm>
            <a:off x="2268360" y="2205000"/>
            <a:ext cx="5759640" cy="187164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Garamond"/>
              </a:rPr>
              <a:t>Способы выделения у расте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84360" y="1844640"/>
            <a:ext cx="1800000" cy="719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780000" y="1052640"/>
            <a:ext cx="1873080" cy="7207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635280" y="4292640"/>
            <a:ext cx="1944720" cy="6490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300720" y="5013360"/>
            <a:ext cx="2303640" cy="7207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877080" y="1557360"/>
            <a:ext cx="1944720" cy="6476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826920" y="5084640"/>
            <a:ext cx="2160720" cy="6494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151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il_fi" descr=""/>
          <p:cNvPicPr/>
          <p:nvPr/>
        </p:nvPicPr>
        <p:blipFill>
          <a:blip r:embed="rId1"/>
          <a:stretch/>
        </p:blipFill>
        <p:spPr>
          <a:xfrm>
            <a:off x="395280" y="549360"/>
            <a:ext cx="2798640" cy="186696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&amp;Vcy;&amp;ycy;&amp;dcy;&amp;iecy;&amp;lcy;&amp;icy;&amp;tcy;&amp;iecy;&amp;lcy;&amp;softcy;&amp;ncy;&amp;acy;&amp;yacy; &amp;scy;&amp;icy;&amp;scy;&amp;tcy;&amp;iecy;&amp;mcy;&amp;acy;."/>
          <p:cNvPicPr/>
          <p:nvPr/>
        </p:nvPicPr>
        <p:blipFill>
          <a:blip r:embed="rId2"/>
          <a:stretch/>
        </p:blipFill>
        <p:spPr>
          <a:xfrm>
            <a:off x="826920" y="2637000"/>
            <a:ext cx="2095560" cy="157140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3"/>
          <a:stretch/>
        </p:blipFill>
        <p:spPr>
          <a:xfrm>
            <a:off x="3492360" y="476280"/>
            <a:ext cx="2559240" cy="331308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4"/>
          <a:stretch/>
        </p:blipFill>
        <p:spPr>
          <a:xfrm>
            <a:off x="6084720" y="3257640"/>
            <a:ext cx="2857680" cy="360036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5"/>
          <a:stretch/>
        </p:blipFill>
        <p:spPr>
          <a:xfrm>
            <a:off x="3492360" y="4076640"/>
            <a:ext cx="2376720" cy="2087640"/>
          </a:xfrm>
          <a:prstGeom prst="rect">
            <a:avLst/>
          </a:prstGeom>
          <a:ln w="0">
            <a:noFill/>
          </a:ln>
        </p:spPr>
      </p:pic>
      <p:pic>
        <p:nvPicPr>
          <p:cNvPr id="242" name="rg_hi" descr=""/>
          <p:cNvPicPr/>
          <p:nvPr/>
        </p:nvPicPr>
        <p:blipFill>
          <a:blip r:embed="rId6"/>
          <a:stretch/>
        </p:blipFill>
        <p:spPr>
          <a:xfrm>
            <a:off x="6084720" y="907920"/>
            <a:ext cx="2881440" cy="237672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7"/>
          <a:stretch/>
        </p:blipFill>
        <p:spPr>
          <a:xfrm>
            <a:off x="6012000" y="2636640"/>
            <a:ext cx="4038480" cy="1866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8"/>
          <a:stretch/>
        </p:blipFill>
        <p:spPr>
          <a:xfrm>
            <a:off x="539640" y="4869000"/>
            <a:ext cx="2247840" cy="150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4T12:45:10Z</dcterms:created>
  <dc:creator>Администратор</dc:creator>
  <dc:description/>
  <dc:language>en-US</dc:language>
  <cp:lastModifiedBy>Администратор</cp:lastModifiedBy>
  <dcterms:modified xsi:type="dcterms:W3CDTF">2013-01-29T15:33:27Z</dcterms:modified>
  <cp:revision>7</cp:revision>
  <dc:subject/>
  <dc:title>Слайд 1</dc:title>
</cp:coreProperties>
</file>