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1812-5E72-42C7-8554-6434565D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D544-A6DC-45ED-8744-9A5C78E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FC0A-8612-4C66-A513-7CF87BDC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7B1C-0D27-4A35-9A57-ABD4BE14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47F-39C6-44F4-BF0A-63A379A9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938E-F644-4B0A-BFBA-A791A87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6773-68A7-493B-80B2-740994E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DD5-CECE-4F9F-858B-87E60E7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5B4-77A8-4619-9652-900DCB48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7411-75BE-4913-B70A-7C47CA31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6A6D-8189-43BB-8AAA-7A78C7D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C601-86B3-4B8E-AC0D-F267AFD8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B0E-0AA6-4233-B95D-C23ED9E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0A70-BFA1-4A1A-8E81-430F81AC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ACD6-B1E3-4A88-84A5-37DE678A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8473-5E87-40A0-99DE-761E4495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2A04-FCF2-4D7B-8FC2-6E7B5062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E10A-A019-471A-BE8E-0A0832C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B20B-3EDF-4EEA-A7CD-B62E18B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9257-3E97-4596-A9F0-783B1743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5121-783E-4170-9E1B-7B8D25B2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5A60-9DFC-4317-B233-DC4542E5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6B9C-71F4-4C21-926A-314B321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D77E-F536-4BD1-8D7F-7314791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2810-69AC-448C-9D60-641194992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EBB-0C58-4590-84B7-974B946B0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620640"/>
            <a:ext cx="6994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72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углубить (расширить) зн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формировать ум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воспиты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а 3  дня до урока срезали  ветку герани с листьями  и поместили  её в колбу  наполненную водой комнатной температуры. Уровень воды отметили  полоской цветной бумаги. На поверхность воды налили  слой масла. Прибор с растением взвесили на весах. Он весил </a:t>
            </a:r>
            <a:r>
              <a:rPr b="1" lang="en-US" sz="2400" spc="-1" strike="noStrike">
                <a:solidFill>
                  <a:srgbClr val="cc3300"/>
                </a:solidFill>
                <a:latin typeface="Garamond"/>
              </a:rPr>
              <a:t>142 гр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Повторное взвешивание провели  перед ур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рибор стал весит </a:t>
            </a:r>
            <a:r>
              <a:rPr b="1" lang="en-US" sz="2400" spc="-1" strike="noStrike">
                <a:solidFill>
                  <a:srgbClr val="cc3300"/>
                </a:solidFill>
                <a:latin typeface="Garamond"/>
              </a:rPr>
              <a:t>135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акой процесс,  происходящий в листьях растений,  вы наблюд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 какой целью на поверхность воды налили ма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чему колба с веточкой герани через три дня  стала весить мен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1146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164360" y="4221000"/>
            <a:ext cx="1433520" cy="1403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16000" y="1413000"/>
            <a:ext cx="6912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Monotype Corsiva"/>
              </a:rPr>
              <a:t>Транспираци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381400" cy="2552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362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133520" cy="2152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456000" cy="4023000"/>
          </a:xfrm>
          <a:prstGeom prst="rect">
            <a:avLst/>
          </a:prstGeom>
          <a:ln w="0">
            <a:noFill/>
          </a:ln>
        </p:spPr>
      </p:pic>
      <p:pic>
        <p:nvPicPr>
          <p:cNvPr id="260" name="rg_hi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80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472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836280"/>
            <a:ext cx="403848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ья 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51280" y="764640"/>
            <a:ext cx="4835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 капу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3499920"/>
            <a:ext cx="4038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 кукур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00720" y="3429000"/>
            <a:ext cx="418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 берё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&amp;lcy;&amp;icy;&amp;scy;&amp;tcy;&amp;softcy;&amp;yacy; &amp;bcy;&amp;ucy;&amp;kcy;&amp;acy; &amp;mcy;&amp;ocy;&amp;dcy;&amp;iecy;&amp;lcy;&amp;softcy;"/>
          <p:cNvPicPr/>
          <p:nvPr/>
        </p:nvPicPr>
        <p:blipFill>
          <a:blip r:embed="rId1"/>
          <a:stretch/>
        </p:blipFill>
        <p:spPr>
          <a:xfrm>
            <a:off x="468360" y="1341360"/>
            <a:ext cx="2881440" cy="2016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avoy &amp;lcy;&amp;icy;&amp;scy;&amp;tcy;&amp;softcy;&amp;iecy;&amp;vcy; &amp;kcy;&amp;acy;&amp;pcy;&amp;ucy;&amp;scy;&amp;tcy;&amp;ycy; &amp;zcy;&amp;rcy;&amp;iecy;&amp;lcy;&amp;ycy;&amp;jcy; &amp;Scy;&amp;tcy;&amp;ocy;&amp;kcy;&amp;ocy;&amp;vcy;&amp;ocy;&amp;iecy; &amp;Icy;&amp;zcy;&amp;ocy;&amp;bcy;&amp;rcy;&amp;acy;&amp;zhcy;&amp;iecy;&amp;ncy;&amp;icy;&amp;iecy; RF - &amp;icy;&amp;zcy;&amp;ocy;&amp;bcy;&amp;rcy;&amp;acy;&amp;zhcy;&amp;iecy;&amp;ncy;&amp;icy;&amp;iecy;: 12141716"/>
          <p:cNvPicPr/>
          <p:nvPr/>
        </p:nvPicPr>
        <p:blipFill>
          <a:blip r:embed="rId2"/>
          <a:stretch/>
        </p:blipFill>
        <p:spPr>
          <a:xfrm>
            <a:off x="6156360" y="260280"/>
            <a:ext cx="2521080" cy="3097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&amp;Lcy;&amp;icy;&amp;scy;&amp;tcy;&amp;softcy;&amp;yacy; &amp;kcy;&amp;ucy;&amp;kcy;&amp;ucy;&amp;rcy;&amp;ucy;&amp;zcy;&amp;ycy; &amp;icy; &amp;ncy;&amp;iecy;&amp;bcy;&amp;ocy;"/>
          <p:cNvPicPr/>
          <p:nvPr/>
        </p:nvPicPr>
        <p:blipFill>
          <a:blip r:embed="rId3"/>
          <a:stretch/>
        </p:blipFill>
        <p:spPr>
          <a:xfrm>
            <a:off x="539640" y="4005360"/>
            <a:ext cx="2448000" cy="263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&amp;bcy;&amp;iecy;&amp;rcy;&amp;iecy;&amp;zcy;&amp;ycy;"/>
          <p:cNvPicPr/>
          <p:nvPr/>
        </p:nvPicPr>
        <p:blipFill>
          <a:blip r:embed="rId4"/>
          <a:stretch/>
        </p:blipFill>
        <p:spPr>
          <a:xfrm>
            <a:off x="4788000" y="4005360"/>
            <a:ext cx="2519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Проблема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чёные измерили температура листа, испаряющего воду и не испаряющего воду. В результате они выяснили, что температура испаряющего воду ли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7 градусов ниже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чем не испаряющего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акой вывод можно сделать из этого исследов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12175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блема 2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Влажность воздуха изменяется в течение дня, недели, лета. Как влияет изменение влажности воздуха на испарение воды растением? В каких условиях интенсивность испарения выше: при высокой температуре или низкой влаж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649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3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облем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ак вы думаете, что произойдёт, если лист покрыть маслянистым веществ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блема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 какого растения – кактуса или водяной лилии можно ожидать больше устьиц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5048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8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сновная часть стебля, состоящая из сосудов и механической тк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Процесс расщепления органических веществ и выделения энергии при участии кисл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Какой газ поглощается живыми организмами в процессе дых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Сосуды, приносящие кровь в серд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рганоиды  клетки, в которых  протекает процесс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рганы дыхания, имеющие вид ячеистых мешков, пронизанных множеством кровеносных сосу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Процесс получения организмом питательных веществ и энер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рганы дыхания насеко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Сосуды, выносящие кровь из серд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6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ково значение испарения воды для жизни раст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372360" y="4724280"/>
            <a:ext cx="16491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720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64832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4362480" cy="2905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4788000" y="3645000"/>
            <a:ext cx="4002120" cy="2905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684360" y="3933720"/>
            <a:ext cx="3816360" cy="2519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4859280" y="836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64832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042920" y="1125360"/>
            <a:ext cx="3506760" cy="3024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4859280" y="765000"/>
            <a:ext cx="3311640" cy="2481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539640" y="3357720"/>
            <a:ext cx="3961080" cy="2879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5003640" y="3362400"/>
            <a:ext cx="35290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4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879640" cy="3024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498840" cy="3276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419640" y="476280"/>
            <a:ext cx="1761840" cy="2590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651640" y="112536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1332000" y="3357720"/>
            <a:ext cx="2950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764640"/>
            <a:ext cx="4038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4832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&amp;Vcy;&amp;ycy;&amp;dcy;&amp;iecy;&amp;lcy;&amp;icy;&amp;tcy;&amp;iecy;&amp;lcy;&amp;softcy;&amp;ncy;&amp;acy;&amp;yacy; &amp;scy;&amp;icy;&amp;scy;&amp;tcy;&amp;iecy;&amp;mcy;&amp;acy;."/>
          <p:cNvPicPr/>
          <p:nvPr/>
        </p:nvPicPr>
        <p:blipFill>
          <a:blip r:embed="rId2"/>
          <a:stretch/>
        </p:blipFill>
        <p:spPr>
          <a:xfrm>
            <a:off x="5867280" y="981000"/>
            <a:ext cx="3024360" cy="2654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&amp;Vcy;&amp;ycy;&amp;dcy;&amp;iecy;&amp;lcy;&amp;icy;&amp;tcy;&amp;iecy;&amp;lcy;&amp;softcy;&amp;ncy;&amp;acy;&amp;yacy; &amp;scy;&amp;icy;&amp;scy;&amp;tcy;&amp;iecy;&amp;mcy;&amp;acy;."/>
          <p:cNvPicPr/>
          <p:nvPr/>
        </p:nvPicPr>
        <p:blipFill>
          <a:blip r:embed="rId3"/>
          <a:stretch/>
        </p:blipFill>
        <p:spPr>
          <a:xfrm>
            <a:off x="4788000" y="3500280"/>
            <a:ext cx="3095640" cy="267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324000" y="765000"/>
          <a:ext cx="4824360" cy="4679640"/>
        </p:xfrm>
        <a:graphic>
          <a:graphicData uri="http://schemas.openxmlformats.org/drawingml/2006/table">
            <a:tbl>
              <a:tblPr/>
              <a:tblGrid>
                <a:gridCol w="4537080"/>
                <a:gridCol w="287280"/>
              </a:tblGrid>
              <a:tr h="95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ылая пора! Очей очарованье!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ятна мне твоя прощальная краса -Люблю я пышное природы увяданье,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багрец и в золото одетые леса,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шкин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, точно терем расписно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ловый, золотой, багряны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елой, пестрою сте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т над светлою поляной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 Бу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844640"/>
            <a:ext cx="403848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следний лист на ветке голо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рьгою бронзовой повис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ждет, когда зимой сурово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го сорвет и бросит вниз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прямый лист, и над тобою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 суровый в мире есть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Что отцвело своей весною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му еще не раз зацвесть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(М. Ковалевск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2447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сли листья березы осенью начнут желтеть с верхушки, то следующая весна будет ранняя, а если снизу – то поздня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стья осины лежат на земле кверху лицом – зима будет холодная, кверху изнанкой – теп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жде времени лист опадает – к долгой з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ка лист с вишневых деревьев не опал, сколько бы снегу не выпало, оттепель его сгон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« Не от добра дерево лист роня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448080" cy="28018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2664000" cy="2005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16728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Листопа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это естественное отделение листа от стебля. В листьях накапливаются ненужные  и даже вредные вещества. Они удаляются из растения в процессе сбрасывания листьев. А нужные вещества оттекают в другие органы, где используются или накапливаются в запасающих тканях. Перед листопадом листья теряют зелёный цвет, т.к. хлорофилл разрушается, и становятся видны другие красящие вещества – пигменты жёлтого и оранжевого ц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Что такое листопа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кажите причины листоп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акие вещества содержатся в опавших листь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очему перед листопадом листья теряют зелёный ц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очему изменяется окраска лист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Являются ли опавшие листья ценным удобрением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аково значение листоп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3040" y="436680"/>
            <a:ext cx="8213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7931160" cy="645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620640"/>
            <a:ext cx="64764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620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620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620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620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620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620640"/>
            <a:ext cx="5745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620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620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1125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125360"/>
            <a:ext cx="504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12536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125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125360"/>
            <a:ext cx="57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112536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125360"/>
            <a:ext cx="5745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628640"/>
            <a:ext cx="50472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1628640"/>
            <a:ext cx="50328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1628640"/>
            <a:ext cx="576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628640"/>
            <a:ext cx="50472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1628640"/>
            <a:ext cx="57492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628640"/>
            <a:ext cx="360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1628640"/>
            <a:ext cx="576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628640"/>
            <a:ext cx="576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2133720"/>
            <a:ext cx="5032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2133720"/>
            <a:ext cx="504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133720"/>
            <a:ext cx="431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213372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63700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63700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2637000"/>
            <a:ext cx="43164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263700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63700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2637000"/>
            <a:ext cx="503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637000"/>
            <a:ext cx="4320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141720"/>
            <a:ext cx="50472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141720"/>
            <a:ext cx="50328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14172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3141720"/>
            <a:ext cx="50472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141720"/>
            <a:ext cx="50328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3141720"/>
            <a:ext cx="50472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573360"/>
            <a:ext cx="50472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357336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3573360"/>
            <a:ext cx="5745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4076640"/>
            <a:ext cx="504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4076640"/>
            <a:ext cx="50328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4076640"/>
            <a:ext cx="576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4076640"/>
            <a:ext cx="504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076640"/>
            <a:ext cx="574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4076640"/>
            <a:ext cx="504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4508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508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08720" y="4508640"/>
            <a:ext cx="5760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4508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4508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508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4508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76360" y="1557360"/>
            <a:ext cx="63532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aramond"/>
              </a:rPr>
              <a:t>Спасибо за урок!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aramond"/>
              <a:ea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145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1916280"/>
            <a:ext cx="3457440" cy="2449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Живой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21337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24000" y="407628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8200" y="1700280"/>
            <a:ext cx="18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11640" y="407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90792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371628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437000"/>
            <a:ext cx="19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373720"/>
            <a:ext cx="33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907920"/>
            <a:ext cx="1008000" cy="64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341360"/>
            <a:ext cx="27370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минеральные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284640"/>
            <a:ext cx="1944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4724280"/>
            <a:ext cx="194472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5445000"/>
            <a:ext cx="37447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1484280"/>
            <a:ext cx="223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2565360"/>
            <a:ext cx="262728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Углекисл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549360"/>
            <a:ext cx="1224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789360"/>
            <a:ext cx="2952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Ядовит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4653000"/>
            <a:ext cx="2808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Минеральные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03640" y="83664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48360" y="1988640"/>
            <a:ext cx="1368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29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3573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3716280"/>
            <a:ext cx="1295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516640"/>
            <a:ext cx="2736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экскр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выведение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2205000"/>
            <a:ext cx="5688000" cy="216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Garamond"/>
              </a:rPr>
              <a:t>Вы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80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 пищей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360" y="569808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поступи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1143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рганиз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27630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80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524016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бразовавшихся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569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ядов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7702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о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4000" y="3716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42728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избы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68976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бмена ве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436068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конечных продуктов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4389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12000" y="4545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7d"/>
                </a:solidFill>
                <a:latin typeface="Garamond"/>
              </a:rPr>
              <a:t>Выде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ыведение из организма  конечных продуктов обмена веществ, избытка воды, солей, ядов, образовавшихся в организме или поступивших с пищ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Есть ли у растений специальные органы выдел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к происходит выделение ненужных веществ у раст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64916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3040" y="408600"/>
            <a:ext cx="8213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"/>
          <p:cNvSpPr/>
          <p:nvPr/>
        </p:nvSpPr>
        <p:spPr>
          <a:xfrm>
            <a:off x="2268360" y="2205000"/>
            <a:ext cx="575964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aramond"/>
              </a:rPr>
              <a:t>Способы выделения у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1844640"/>
            <a:ext cx="1800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1052640"/>
            <a:ext cx="1873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4292640"/>
            <a:ext cx="1944720" cy="64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5013360"/>
            <a:ext cx="2303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1557360"/>
            <a:ext cx="19447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5084640"/>
            <a:ext cx="2160720" cy="64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l_fi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798640" cy="1866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&amp;Vcy;&amp;ycy;&amp;dcy;&amp;iecy;&amp;lcy;&amp;icy;&amp;tcy;&amp;iecy;&amp;lcy;&amp;softcy;&amp;ncy;&amp;acy;&amp;yacy; &amp;scy;&amp;icy;&amp;scy;&amp;tcy;&amp;iecy;&amp;mcy;&amp;acy;."/>
          <p:cNvPicPr/>
          <p:nvPr/>
        </p:nvPicPr>
        <p:blipFill>
          <a:blip r:embed="rId2"/>
          <a:stretch/>
        </p:blipFill>
        <p:spPr>
          <a:xfrm>
            <a:off x="826920" y="263700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492360" y="476280"/>
            <a:ext cx="2559240" cy="331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84720" y="3257640"/>
            <a:ext cx="28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492360" y="4076640"/>
            <a:ext cx="237672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rg_hi" descr=""/>
          <p:cNvPicPr/>
          <p:nvPr/>
        </p:nvPicPr>
        <p:blipFill>
          <a:blip r:embed="rId6"/>
          <a:stretch/>
        </p:blipFill>
        <p:spPr>
          <a:xfrm>
            <a:off x="6084720" y="907920"/>
            <a:ext cx="288144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012000" y="263664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539640" y="4869000"/>
            <a:ext cx="2247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2:45:10Z</dcterms:created>
  <dc:creator>Администратор</dc:creator>
  <dc:description/>
  <dc:language>en-US</dc:language>
  <cp:lastModifiedBy>Администратор</cp:lastModifiedBy>
  <dcterms:modified xsi:type="dcterms:W3CDTF">2013-01-29T15:33:27Z</dcterms:modified>
  <cp:revision>7</cp:revision>
  <dc:subject/>
  <dc:title>Слайд 1</dc:title>
</cp:coreProperties>
</file>