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346-135E-48DE-B489-97C7CD66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C07-CBFC-40FC-9525-7F7097ED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B11-C6D9-43DE-908D-BC2558DE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64A-404F-44A6-A98A-13242559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DA7-4276-4EAE-9EC9-C2354D76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6E6-F6C7-45A8-8E68-19052D62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659-C480-44FF-AEB5-7EF50C69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A88-47B0-4B6E-AE58-8BCE4213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6FE-5500-4F39-93D2-06B62A51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124-6C6C-4FBD-AD5B-7D24B440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DF0-E6EF-4E58-A6D6-41FFEFE7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BD8-D8AA-4432-92F0-45D8D236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D0CD-91DC-47D2-90DC-28F69EF02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63700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ль игровых ситуаций в развитии образно-художественного мышления ученика на начальном этапе обу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«Штор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вежеет ветер, меркнет ночь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 море злей и злей бурли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 пена плещет на гранит 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о прянет, то отхлынет проч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сё раздражительней бурун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го шипучая вол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ак тяжела и так плотна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ак будто в берег бьёт чугу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. Ф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евёт гроза, дымятся туч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д тёмной бездною морско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 хлещут пеною кипуче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олпяся, волны меж соб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круг скал огнистой лентой вьётс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чальной молнии змея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тихий тревожный рой мятётся 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 здесь стою недвижим 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. Лермон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епродукции картин Айвазовск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Среди волн» 1898г.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Девятый вал» 1850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Текст 2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3792600" cy="2506680"/>
          </a:xfrm>
          <a:prstGeom prst="rect">
            <a:avLst/>
          </a:prstGeom>
          <a:ln w="0">
            <a:noFill/>
          </a:ln>
        </p:spPr>
      </p:pic>
      <p:pic>
        <p:nvPicPr>
          <p:cNvPr id="66" name="Текст 2" descr=""/>
          <p:cNvPicPr/>
          <p:nvPr/>
        </p:nvPicPr>
        <p:blipFill>
          <a:blip r:embed="rId3"/>
          <a:stretch/>
        </p:blipFill>
        <p:spPr>
          <a:xfrm>
            <a:off x="4643280" y="3860640"/>
            <a:ext cx="380700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915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южетно-ролевая игра характеризуется тем, что через сюжетно ролевую ситуацию происходит своеобразное вживание ребенка в художественный мир произвед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бязательные компоненты сюжетно- ролевой игр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юж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о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оображаемая ситуа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Текст 2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6213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ллиди «Танец гноми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ля наполнения игры интересным содержанием анализируем произведения литературы, живописи, музы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атериал для слушан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усоргский «Картинки с выставки» «Гном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ойко «Веселый гн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Текст 2" descr=""/>
          <p:cNvPicPr/>
          <p:nvPr/>
        </p:nvPicPr>
        <p:blipFill>
          <a:blip r:embed="rId2"/>
          <a:stretch/>
        </p:blipFill>
        <p:spPr>
          <a:xfrm>
            <a:off x="4427640" y="1197000"/>
            <a:ext cx="45781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ллиди «Танец гноми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На опушке старый дом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В нём живёт весёлый 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гном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Иногда он так хохочет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Словно где-то грянул гром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ак увидит всё большое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Рассмеётся:"Что такое?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Я такого не видал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Потому что ростом мал"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нём обычно гном играет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Ночью звёзды зажигает-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ля него это пустяк!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Вот так гном !Какой чудак!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Лес- одна его семья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Звери- лучшие друзья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Вот бы мне с ним подружиться!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Может, гномом стану я?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Текст 2" descr=""/>
          <p:cNvPicPr/>
          <p:nvPr/>
        </p:nvPicPr>
        <p:blipFill>
          <a:blip r:embed="rId2"/>
          <a:stretch/>
        </p:blipFill>
        <p:spPr>
          <a:xfrm>
            <a:off x="5580000" y="1484280"/>
            <a:ext cx="2195640" cy="2263680"/>
          </a:xfrm>
          <a:prstGeom prst="rect">
            <a:avLst/>
          </a:prstGeom>
          <a:ln w="0">
            <a:noFill/>
          </a:ln>
        </p:spPr>
      </p:pic>
      <p:pic>
        <p:nvPicPr>
          <p:cNvPr id="77" name="Текст 2" descr=""/>
          <p:cNvPicPr/>
          <p:nvPr/>
        </p:nvPicPr>
        <p:blipFill>
          <a:blip r:embed="rId3"/>
          <a:stretch/>
        </p:blipFill>
        <p:spPr>
          <a:xfrm>
            <a:off x="5581800" y="3979800"/>
            <a:ext cx="23209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ллиди «Танец гноми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ть на свете гномики, гномики, гномики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роят они домики, домики, домики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д землей они живу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 танцуют, и поют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чиняют сказки нам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 своим друзья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Текст 2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002120" cy="3537000"/>
          </a:xfrm>
          <a:prstGeom prst="rect">
            <a:avLst/>
          </a:prstGeom>
          <a:ln w="0">
            <a:noFill/>
          </a:ln>
        </p:spPr>
      </p:pic>
      <p:pic>
        <p:nvPicPr>
          <p:cNvPr id="81" name="Текст 2" descr=""/>
          <p:cNvPicPr/>
          <p:nvPr/>
        </p:nvPicPr>
        <p:blipFill>
          <a:blip r:embed="rId3"/>
          <a:stretch/>
        </p:blipFill>
        <p:spPr>
          <a:xfrm>
            <a:off x="1403280" y="5229360"/>
            <a:ext cx="38102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612720" y="188640"/>
            <a:ext cx="92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ллиди «Колду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ктивизируем фантазию, т.е. раскрываем образ при помощи музыкальных интонаций, штрихов, динамики, темповых ремар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атериал для слуш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виридов «Колдун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линка «Руслан и Людмила» «Марш Черномор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Текст 2" descr=""/>
          <p:cNvPicPr/>
          <p:nvPr/>
        </p:nvPicPr>
        <p:blipFill>
          <a:blip r:embed="rId2"/>
          <a:stretch/>
        </p:blipFill>
        <p:spPr>
          <a:xfrm>
            <a:off x="4211640" y="1052640"/>
            <a:ext cx="4235400" cy="5459400"/>
          </a:xfrm>
          <a:prstGeom prst="rect">
            <a:avLst/>
          </a:prstGeom>
          <a:ln w="0">
            <a:noFill/>
          </a:ln>
        </p:spPr>
      </p:pic>
      <p:pic>
        <p:nvPicPr>
          <p:cNvPr id="85" name="Текст 2" descr=""/>
          <p:cNvPicPr/>
          <p:nvPr/>
        </p:nvPicPr>
        <p:blipFill>
          <a:blip r:embed="rId3"/>
          <a:stretch/>
        </p:blipFill>
        <p:spPr>
          <a:xfrm>
            <a:off x="6595920" y="4797360"/>
            <a:ext cx="25480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«Без игры нет и не может быть полноценного умственного развития. 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Игра – это огромное светлое окно, через которое в духовный мир ребенка вливается живительный поток представлений, понятий об окружающем мир.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ИГРА – это искра, зажигающая огонек пытливости и любознательности»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ухомлинский В.А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Игра- путь детей к познанию мира, в котором они живут и который призваны измени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551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М. Горь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и основные функции игрового общения на уроках в музыкальной школ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ние содружественное, т.е. воспитывающее у детей навыки общения и умение координировать свое поведение в соответствии с нормами и правил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ние творческое, т.е. развивающее способность продуктивно реагировать на нестандартные ситуации и самостоятельно моделировать 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ние на языке образов в большей степени, чем на языке понятий, т.е. развивающее эмоционально-образную сферу мышления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гра на уроке может быть двух тип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блемно-моделирующая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55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южетно- ролевая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Текст 2" descr=""/>
          <p:cNvPicPr/>
          <p:nvPr/>
        </p:nvPicPr>
        <p:blipFill>
          <a:blip r:embed="rId2"/>
          <a:stretch/>
        </p:blipFill>
        <p:spPr>
          <a:xfrm>
            <a:off x="755640" y="3716280"/>
            <a:ext cx="79074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облемно-моделирующая игра характеризуется тем, что в ней происходит игровая деформация структуры художественного произведения, с тем, чтобы выявить специфическую роль конкретных исполнительских средств, а так же предложить ребенку нестандартную ситуацию, требующую самостоятельного реш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блемно- моделирующая иг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19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ончате «Прелюд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ьзуемые формы игровых ситуац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гадать произведение по ритму и продолжить его исполнение на инструмен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а по кругу (по фразам, по предложениям учитель- учени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ркальное исполнение (со сменой рол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Текст 2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41558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полнение произведения, но с другим названи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менение названия произведения влечет за собой изменени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р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аракт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инам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м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чества зву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Текст 2" descr=""/>
          <p:cNvPicPr/>
          <p:nvPr/>
        </p:nvPicPr>
        <p:blipFill>
          <a:blip r:embed="rId2"/>
          <a:stretch/>
        </p:blipFill>
        <p:spPr>
          <a:xfrm>
            <a:off x="4500720" y="1844640"/>
            <a:ext cx="4294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Облака, плывущие в небесах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бла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лывут по небу облака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кользят бесшумно над землею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ечет небесная река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ливаясь с дымкой голубо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ад горизонтом путь далек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ростор от края и до края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А облака себе плывут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перед, усталости не зн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ак невесомы и легки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зменчивы, непостоянны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ричудливые облака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орой бывают очень стран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а них внимательно взгляни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друг там увидишь необычный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ля взора образ…Там, вдал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сть целый мир, он безграничны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Зайди в тот мир хотя б на миг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ам ничего не беспокоит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Забудь земную суету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снова сказка дверь откроет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Репродукции картин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Куинджи «Обла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аснецов «Обла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Текст 2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840120" cy="2762280"/>
          </a:xfrm>
          <a:prstGeom prst="rect">
            <a:avLst/>
          </a:prstGeom>
          <a:ln w="0">
            <a:noFill/>
          </a:ln>
        </p:spPr>
      </p:pic>
      <p:pic>
        <p:nvPicPr>
          <p:cNvPr id="62" name="Текст 2" descr=""/>
          <p:cNvPicPr/>
          <p:nvPr/>
        </p:nvPicPr>
        <p:blipFill>
          <a:blip r:embed="rId3"/>
          <a:stretch/>
        </p:blipFill>
        <p:spPr>
          <a:xfrm>
            <a:off x="4788000" y="4149720"/>
            <a:ext cx="387180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Microlab</cp:lastModifiedBy>
  <dcterms:modified xsi:type="dcterms:W3CDTF">2013-02-06T23:35:21Z</dcterms:modified>
  <cp:revision>12</cp:revision>
  <dc:subject/>
  <dc:title>Презентация PowerPoint</dc:title>
</cp:coreProperties>
</file>