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4.gif" ContentType="image/gif"/>
  <Override PartName="/ppt/media/image34.gif" ContentType="image/gif"/>
  <Override PartName="/ppt/media/image24.wmf" ContentType="image/x-wmf"/>
  <Override PartName="/ppt/media/image22.gif" ContentType="image/gif"/>
  <Override PartName="/ppt/media/image21.jpeg" ContentType="image/jpeg"/>
  <Override PartName="/ppt/media/image6.gif" ContentType="image/gif"/>
  <Override PartName="/ppt/media/image32.wmf" ContentType="image/x-wmf"/>
  <Override PartName="/ppt/media/image36.gif" ContentType="image/gif"/>
  <Override PartName="/ppt/media/image17.png" ContentType="image/png"/>
  <Override PartName="/ppt/media/image20.wmf" ContentType="image/x-wmf"/>
  <Override PartName="/ppt/media/image10.jpeg" ContentType="image/jpeg"/>
  <Override PartName="/ppt/media/image35.jpeg" ContentType="image/jpeg"/>
  <Override PartName="/ppt/media/image8.gif" ContentType="image/gif"/>
  <Override PartName="/ppt/media/image19.wmf" ContentType="image/x-wmf"/>
  <Override PartName="/ppt/media/image12.jpeg" ContentType="image/jpeg"/>
  <Override PartName="/ppt/media/image7.gif" ContentType="image/gif"/>
  <Override PartName="/ppt/media/image29.jpeg" ContentType="image/jpeg"/>
  <Override PartName="/ppt/media/image33.wmf" ContentType="image/x-wmf"/>
  <Override PartName="/ppt/media/image30.jpeg" ContentType="image/jpeg"/>
  <Override PartName="/ppt/media/image13.jpeg" ContentType="image/jpeg"/>
  <Override PartName="/ppt/media/image40.jpeg" ContentType="image/jpeg"/>
  <Override PartName="/ppt/media/image9.png" ContentType="image/png"/>
  <Override PartName="/ppt/media/image37.png" ContentType="image/png"/>
  <Override PartName="/ppt/media/image39.jpeg" ContentType="image/jpeg"/>
  <Override PartName="/ppt/media/image38.jpeg" ContentType="image/jpeg"/>
  <Override PartName="/ppt/media/image31.wmf" ContentType="image/x-wmf"/>
  <Override PartName="/ppt/media/image5.gif" ContentType="image/gif"/>
  <Override PartName="/ppt/media/image11.jpeg" ContentType="image/jpeg"/>
  <Override PartName="/ppt/media/image41.jpeg" ContentType="image/jpeg"/>
  <Override PartName="/ppt/media/image14.jpeg" ContentType="image/jpeg"/>
  <Override PartName="/ppt/media/image15.wmf" ContentType="image/x-wmf"/>
  <Override PartName="/ppt/media/image3.png" ContentType="image/png"/>
  <Override PartName="/ppt/media/image26.png" ContentType="image/png"/>
  <Override PartName="/ppt/media/image18.wmf" ContentType="image/x-wmf"/>
  <Override PartName="/ppt/media/image2.jpeg" ContentType="image/jpeg"/>
  <Override PartName="/ppt/media/image25.wmf" ContentType="image/x-wmf"/>
  <Override PartName="/ppt/media/image1.png" ContentType="image/png"/>
  <Override PartName="/ppt/media/image23.gif" ContentType="image/gif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9F84-4879-428B-87D9-F3B3D437F4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1350-F97A-411F-80F4-2AF15BF93B2D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F506-4863-4CE8-B191-83AF43940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BC81-642E-41D1-A43E-CD5D2D8A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3B2B-2A06-46DA-BF07-877A07A1B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EEDD-74BD-4DE3-9D61-5B67EDF5A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62E0-63C2-419C-BB2E-593BA0DAC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28D4-D038-4556-8E17-A2E889AC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730D-3A44-4C61-B096-1BBCB9CD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8038-2CB4-4A0B-AC4F-9371FAA9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32E0-488D-444A-B88C-7A631218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E473-C5C8-4D34-8FA8-55B6A0D9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B0EC-F69A-4575-B9B7-AA407814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B6C9-7BF5-4233-8E0C-EA9A893A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09C6-ADD7-43DE-979B-8FCC2EF6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DE8F-390E-4704-B718-FA9D3F3A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6495-5B40-4C70-8B5C-1BDCB2AC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D779-EB8D-4E15-89C0-9B7D0A71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9B6C-A1E2-49E5-ABE5-6B8E0E0DA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0607-D069-4C70-A2C1-086F40DD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0F9D-4612-447E-9D28-468AB26B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893E-7363-465B-8FBF-47D35570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FC55-9369-4B4C-AC2B-80C1956D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BBE6-DCAC-4880-897F-1EAC0B5A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255A-A9AD-4046-8E1F-F76844F9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E574-33C9-4555-BEE6-B1B0DBFD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FD14-8A52-48FD-9546-0A5F5602519D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767B-E17A-444F-81DD-24BDCDE4CA3F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jpeg"/><Relationship Id="rId7" Type="http://schemas.openxmlformats.org/officeDocument/2006/relationships/image" Target="../media/image22.gi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jpeg"/><Relationship Id="rId7" Type="http://schemas.openxmlformats.org/officeDocument/2006/relationships/image" Target="../media/image22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Презентация к уроку окружающего мира: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« Что такое здоровье»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1 класс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УМК  «Начальная школа 21 век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724280" y="48002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Подготовила : учитель начальных классов Мельник Л.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«Движение - жизнь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5410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лодым я говорю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 здоровьем дружен спорт!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адион, бассейн и корт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л, каток – везде всем рады.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 старание в награду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анут мышцы ваши тверды,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удут кубки и рекорд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7467480" y="2362320"/>
            <a:ext cx="1524240" cy="14256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7467480" y="2362320"/>
            <a:ext cx="1524240" cy="14256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7162920" y="5410080"/>
            <a:ext cx="1568160" cy="12668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6705720" y="3886200"/>
            <a:ext cx="1684080" cy="12193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5"/>
          <a:stretch/>
        </p:blipFill>
        <p:spPr>
          <a:xfrm>
            <a:off x="5943600" y="1752480"/>
            <a:ext cx="1698480" cy="18288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6"/>
          <a:stretch/>
        </p:blipFill>
        <p:spPr>
          <a:xfrm>
            <a:off x="5029200" y="5105520"/>
            <a:ext cx="1924200" cy="15397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7"/>
          <a:stretch/>
        </p:blipFill>
        <p:spPr>
          <a:xfrm>
            <a:off x="7162920" y="-228600"/>
            <a:ext cx="144756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015400" cy="914400"/>
          </a:xfrm>
          <a:prstGeom prst="rect">
            <a:avLst/>
          </a:prstGeom>
          <a:solidFill>
            <a:srgbClr val="a5eff9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ecff"/>
                </a:solidFill>
                <a:latin typeface="Times New Roman"/>
              </a:rPr>
              <a:t>«Кто спортом занимается, </a:t>
            </a:r>
            <a:br>
              <a:rPr sz="3400"/>
            </a:br>
            <a:r>
              <a:rPr b="1" lang="en-US" sz="3400" spc="-1" strike="noStrike">
                <a:solidFill>
                  <a:srgbClr val="ccecff"/>
                </a:solidFill>
                <a:latin typeface="Times New Roman"/>
              </a:rPr>
              <a:t>                        тот силы набирается»</a:t>
            </a:r>
            <a:endParaRPr b="0" lang="en-US" sz="3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1720" y="1674360"/>
            <a:ext cx="7632720" cy="4116600"/>
          </a:xfrm>
          <a:prstGeom prst="rect">
            <a:avLst/>
          </a:prstGeom>
          <a:solidFill>
            <a:srgbClr val="a5eff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Спорт нам плечи расправляет,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Силу, ловкость нам дает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Он нам мышцы развивает,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На рекорды нас зовет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1523880" cy="16002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4800600" y="4419720"/>
            <a:ext cx="1488960" cy="17524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6705720" y="2286000"/>
            <a:ext cx="2057400" cy="16747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6781680" y="4267080"/>
            <a:ext cx="144792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385120" cy="5176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700" spc="-1" strike="noStrike" u="sng">
                <a:solidFill>
                  <a:srgbClr val="cc3399"/>
                </a:solidFill>
                <a:uFillTx/>
                <a:latin typeface="Times New Roman"/>
              </a:rPr>
              <a:t>Секреты закаливания:</a:t>
            </a:r>
            <a:endParaRPr b="0" lang="en-US" sz="47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rcRect l="36252" t="15181" r="35334" b="49010"/>
          <a:stretch/>
        </p:blipFill>
        <p:spPr>
          <a:xfrm>
            <a:off x="6019920" y="3581280"/>
            <a:ext cx="2971800" cy="30481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838080" y="1980720"/>
            <a:ext cx="5791320" cy="41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тром - бег и душ бодрящий, Как для взрослых, настоящий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 ночь окна открывать, Свежим воздухом дышать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оги мыть водой холодной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 тогда микроб голодный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ас во век не одолеет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Меню Карлсон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1. Торт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2. Лимонад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3. Чипсы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4. Варенье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5. Кока-кола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670040" y="1557360"/>
            <a:ext cx="2685960" cy="37432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26622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990099"/>
                </a:solidFill>
                <a:uFillTx/>
                <a:latin typeface="Arial"/>
              </a:rPr>
              <a:t>Правильное питание: разнообразное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046160" y="1951200"/>
            <a:ext cx="3451320" cy="3827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4352760" y="1951200"/>
            <a:ext cx="3600720" cy="38271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6622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543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ccecff"/>
                </a:solidFill>
                <a:latin typeface="Times New Roman"/>
              </a:rPr>
              <a:t>Полезные и вредные продукты:</a:t>
            </a:r>
            <a:endParaRPr b="0" lang="en-US" sz="4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4267080" y="1143000"/>
            <a:ext cx="2305080" cy="14479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6781680" y="2590920"/>
            <a:ext cx="2001960" cy="17827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5029200" y="5013360"/>
            <a:ext cx="1736640" cy="18446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52280" y="136944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Надо кушать помидоры,</a:t>
            </a:r>
            <a:br>
              <a:rPr sz="2400"/>
            </a:b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Фрукты, овощи, лимоны,</a:t>
            </a:r>
            <a:br>
              <a:rPr sz="2400"/>
            </a:b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Кашу – утром, суп – в обед,</a:t>
            </a:r>
            <a:br>
              <a:rPr sz="2400"/>
            </a:b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А на ужин – винегрет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362320" y="3121920"/>
            <a:ext cx="487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Ну, а если свой обед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Ты начнешь с кулька конфет,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Жвачкой импортной закусишь,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Шоколадом подсластишь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4950720"/>
            <a:ext cx="449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b6b99"/>
                </a:solidFill>
                <a:latin typeface="Times New Roman"/>
              </a:rPr>
              <a:t>То тогда наверняка</a:t>
            </a:r>
            <a:br>
              <a:rPr sz="2400"/>
            </a:br>
            <a:r>
              <a:rPr b="1" lang="en-US" sz="2400" spc="-1" strike="noStrike">
                <a:solidFill>
                  <a:srgbClr val="6b6b99"/>
                </a:solidFill>
                <a:latin typeface="Times New Roman"/>
              </a:rPr>
              <a:t>Ваши спутники всегда -</a:t>
            </a:r>
            <a:br>
              <a:rPr sz="2400"/>
            </a:br>
            <a:r>
              <a:rPr b="1" lang="en-US" sz="2400" spc="-1" strike="noStrike">
                <a:solidFill>
                  <a:srgbClr val="6b6b99"/>
                </a:solidFill>
                <a:latin typeface="Times New Roman"/>
              </a:rPr>
              <a:t>Близорукость, бледный вид</a:t>
            </a:r>
            <a:br>
              <a:rPr sz="2400"/>
            </a:br>
            <a:r>
              <a:rPr b="1" lang="en-US" sz="2400" spc="-1" strike="noStrike">
                <a:solidFill>
                  <a:srgbClr val="6b6b99"/>
                </a:solidFill>
                <a:latin typeface="Times New Roman"/>
              </a:rPr>
              <a:t>И неважный аппетит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352680" y="3805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6600"/>
                </a:solidFill>
                <a:uFillTx/>
                <a:latin typeface="Times New Roman"/>
              </a:rPr>
              <a:t>«Соблюдай режим труда и быта, и будет здоровье крепче гранита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09680" y="2057040"/>
            <a:ext cx="693432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Кто жить умеет по часам и ценит каждый час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Того не надо по утрам будить по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десять раз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И он не станет говорить, что лень ему вставать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Зарядку делать, руки мыть и застилать кровать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Успеет он одеться в срок, умыться и поесть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И раньше, чем звенит звонок, за парту в школе сесть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0" y="5105520"/>
            <a:ext cx="213372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ff"/>
                </a:solidFill>
                <a:latin typeface="Times New Roman"/>
              </a:rPr>
              <a:t>«Кто табачное зелье любит, </a:t>
            </a:r>
            <a:br>
              <a:rPr sz="4000"/>
            </a:br>
            <a:r>
              <a:rPr b="1" lang="en-US" sz="4000" spc="-1" strike="noStrike">
                <a:solidFill>
                  <a:srgbClr val="9900ff"/>
                </a:solidFill>
                <a:latin typeface="Times New Roman"/>
              </a:rPr>
              <a:t>                      тот сам себя и губит!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8280" y="2050920"/>
            <a:ext cx="5505480" cy="40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Сигареты — никотин,</a:t>
            </a:r>
            <a:br>
              <a:rPr sz="2800"/>
            </a:b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ВРАГ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всему номер один!</a:t>
            </a:r>
            <a:br>
              <a:rPr sz="2800"/>
            </a:b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Курят, что аж дым столбом!</a:t>
            </a:r>
            <a:br>
              <a:rPr sz="2800"/>
            </a:b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Отравляют табаком,</a:t>
            </a:r>
            <a:br>
              <a:rPr sz="2800"/>
            </a:b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Не заботясь о здоровье —</a:t>
            </a:r>
            <a:br>
              <a:rPr sz="2800"/>
            </a:b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Ни о своем, ни о чужом</a:t>
            </a:r>
            <a:r>
              <a:rPr b="0" lang="en-US" sz="2800" spc="-1" strike="noStrike">
                <a:solidFill>
                  <a:srgbClr val="00808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410080" y="2057400"/>
            <a:ext cx="31291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Пословицы о здоровь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Болен лечись, а здоров – берегись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Быстрого и ловкого болезнь не догонит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Здоровье не купишь, его разум дарит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Чистая вода  - для хвори беда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5400" y="379440"/>
            <a:ext cx="2555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ecff"/>
                </a:solidFill>
                <a:latin typeface="Times New Roman"/>
              </a:rPr>
              <a:t>Вывод:</a:t>
            </a: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2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4100" spc="-1" strike="noStrike">
                <a:solidFill>
                  <a:srgbClr val="eaeaea"/>
                </a:solidFill>
                <a:latin typeface="Times New Roman"/>
              </a:rPr>
              <a:t>З</a:t>
            </a:r>
            <a:r>
              <a:rPr b="1" lang="en-US" sz="4100" spc="-1" strike="noStrike">
                <a:solidFill>
                  <a:srgbClr val="eaeaea"/>
                </a:solidFill>
                <a:latin typeface="Times New Roman"/>
              </a:rPr>
              <a:t>доровье человека – жизненно важная ценность, оно складывается из многих взаимосвязанных друг с другом компонентов.</a:t>
            </a:r>
            <a:endParaRPr b="0" lang="en-US" sz="41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90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0" y="6669000"/>
            <a:ext cx="9144000" cy="18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7772400" cy="27064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172200" y="6858000"/>
            <a:ext cx="4044960" cy="7761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aeaea"/>
                </a:solidFill>
                <a:latin typeface="Arial"/>
              </a:rPr>
              <a:t>   </a:t>
            </a:r>
            <a:endParaRPr b="0" lang="en-US" sz="3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18840" y="348840"/>
            <a:ext cx="7899480" cy="10666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ccecff"/>
                </a:solidFill>
                <a:latin typeface="Times New Roman"/>
              </a:rPr>
              <a:t>Компоненты здоровья:</a:t>
            </a:r>
            <a:endParaRPr b="0" lang="en-US" sz="5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718200" y="1802520"/>
            <a:ext cx="7743240" cy="4091760"/>
            <a:chOff x="718200" y="1802520"/>
            <a:chExt cx="7743240" cy="4091760"/>
          </a:xfrm>
        </p:grpSpPr>
        <p:sp>
          <p:nvSpPr>
            <p:cNvPr id="308" name="_s69637"/>
            <p:cNvSpPr/>
            <p:nvPr/>
          </p:nvSpPr>
          <p:spPr>
            <a:xfrm flipV="1">
              <a:off x="4587840" y="2863440"/>
              <a:ext cx="0" cy="532440"/>
            </a:xfrm>
            <a:prstGeom prst="line">
              <a:avLst/>
            </a:prstGeom>
            <a:ln w="28440">
              <a:solidFill>
                <a:srgbClr val="6b6b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9" name="_s69638"/>
            <p:cNvSpPr/>
            <p:nvPr/>
          </p:nvSpPr>
          <p:spPr>
            <a:xfrm>
              <a:off x="3602520" y="1802520"/>
              <a:ext cx="1974600" cy="10630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eaeaea"/>
              </a:solidFill>
              <a:miter/>
            </a:ln>
            <a:effectLst>
              <a:outerShdw dist="141999" dir="1590005" blurRad="0" rotWithShape="0">
                <a:srgbClr val="5454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6600"/>
                  </a:solidFill>
                  <a:latin typeface="Times New Roman"/>
                </a:rPr>
                <a:t>Движение</a:t>
              </a:r>
              <a:endParaRPr b="0" lang="en-US" sz="3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0" name="_s69639"/>
            <p:cNvSpPr/>
            <p:nvPr/>
          </p:nvSpPr>
          <p:spPr>
            <a:xfrm flipV="1">
              <a:off x="5358240" y="3263040"/>
              <a:ext cx="772560" cy="331560"/>
            </a:xfrm>
            <a:prstGeom prst="line">
              <a:avLst/>
            </a:prstGeom>
            <a:ln w="28440">
              <a:solidFill>
                <a:srgbClr val="6b6b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1" name="_s69640"/>
            <p:cNvSpPr/>
            <p:nvPr/>
          </p:nvSpPr>
          <p:spPr>
            <a:xfrm>
              <a:off x="5915520" y="2401560"/>
              <a:ext cx="1974600" cy="106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eaeaea"/>
              </a:solidFill>
              <a:miter/>
            </a:ln>
            <a:effectLst>
              <a:outerShdw dist="141999" dir="1590005" blurRad="0" rotWithShape="0">
                <a:srgbClr val="5454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6600"/>
                  </a:solidFill>
                  <a:latin typeface="Times New Roman"/>
                </a:rPr>
                <a:t>Положительные </a:t>
              </a:r>
              <a:endParaRPr b="0" lang="en-US" sz="21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6600"/>
                  </a:solidFill>
                  <a:latin typeface="Times New Roman"/>
                </a:rPr>
                <a:t>эмоции</a:t>
              </a:r>
              <a:endParaRPr b="0" lang="en-US" sz="21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2" name="_s69641"/>
            <p:cNvSpPr/>
            <p:nvPr/>
          </p:nvSpPr>
          <p:spPr>
            <a:xfrm>
              <a:off x="5550120" y="4043160"/>
              <a:ext cx="961200" cy="119160"/>
            </a:xfrm>
            <a:prstGeom prst="line">
              <a:avLst/>
            </a:prstGeom>
            <a:ln w="28440">
              <a:solidFill>
                <a:srgbClr val="6b6b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3" name="_s69642"/>
            <p:cNvSpPr/>
            <p:nvPr/>
          </p:nvSpPr>
          <p:spPr>
            <a:xfrm>
              <a:off x="6487560" y="3748320"/>
              <a:ext cx="1973880" cy="106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eaeaea"/>
              </a:solidFill>
              <a:miter/>
            </a:ln>
            <a:effectLst>
              <a:outerShdw dist="141999" dir="1590005" blurRad="0" rotWithShape="0">
                <a:srgbClr val="5454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6600"/>
                  </a:solidFill>
                  <a:latin typeface="Times New Roman"/>
                </a:rPr>
                <a:t>Отказ от вредных </a:t>
              </a:r>
              <a:endParaRPr b="0" lang="en-US" sz="17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6600"/>
                  </a:solidFill>
                  <a:latin typeface="Times New Roman"/>
                </a:rPr>
                <a:t>привычек</a:t>
              </a:r>
              <a:endParaRPr b="0" lang="en-US" sz="17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4" name="_s69643"/>
            <p:cNvSpPr/>
            <p:nvPr/>
          </p:nvSpPr>
          <p:spPr>
            <a:xfrm>
              <a:off x="5016240" y="4402440"/>
              <a:ext cx="427320" cy="480600"/>
            </a:xfrm>
            <a:prstGeom prst="line">
              <a:avLst/>
            </a:prstGeom>
            <a:ln w="28440">
              <a:solidFill>
                <a:srgbClr val="6b6b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5" name="_s69644"/>
            <p:cNvSpPr/>
            <p:nvPr/>
          </p:nvSpPr>
          <p:spPr>
            <a:xfrm>
              <a:off x="4888800" y="4830120"/>
              <a:ext cx="1974600" cy="106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eaeaea"/>
              </a:solidFill>
              <a:miter/>
            </a:ln>
            <a:effectLst>
              <a:outerShdw dist="141999" dir="1590005" blurRad="0" rotWithShape="0">
                <a:srgbClr val="5454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6600"/>
                  </a:solidFill>
                  <a:latin typeface="Times New Roman"/>
                </a:rPr>
                <a:t>Рациональное </a:t>
              </a:r>
              <a:endParaRPr b="0" lang="en-US" sz="21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6600"/>
                  </a:solidFill>
                  <a:latin typeface="Times New Roman"/>
                </a:rPr>
                <a:t>питание</a:t>
              </a:r>
              <a:endParaRPr b="0" lang="en-US" sz="21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6" name="_s69645"/>
            <p:cNvSpPr/>
            <p:nvPr/>
          </p:nvSpPr>
          <p:spPr>
            <a:xfrm flipH="1">
              <a:off x="3732840" y="4402440"/>
              <a:ext cx="431280" cy="480600"/>
            </a:xfrm>
            <a:prstGeom prst="line">
              <a:avLst/>
            </a:prstGeom>
            <a:ln w="28440">
              <a:solidFill>
                <a:srgbClr val="6b6b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7" name="_s69646"/>
            <p:cNvSpPr/>
            <p:nvPr/>
          </p:nvSpPr>
          <p:spPr>
            <a:xfrm>
              <a:off x="2322720" y="4831560"/>
              <a:ext cx="1974600" cy="10627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eaeaea"/>
              </a:solidFill>
              <a:miter/>
            </a:ln>
            <a:effectLst>
              <a:outerShdw dist="141999" dir="1590005" blurRad="0" rotWithShape="0">
                <a:srgbClr val="5454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6600"/>
                  </a:solidFill>
                  <a:latin typeface="Times New Roman"/>
                </a:rPr>
                <a:t>Закаливание и </a:t>
              </a:r>
              <a:endParaRPr b="0" lang="en-US" sz="21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6600"/>
                  </a:solidFill>
                  <a:latin typeface="Times New Roman"/>
                </a:rPr>
                <a:t>оздоровление</a:t>
              </a:r>
              <a:endParaRPr b="0" lang="en-US" sz="21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8" name="_s69647"/>
            <p:cNvSpPr/>
            <p:nvPr/>
          </p:nvSpPr>
          <p:spPr>
            <a:xfrm flipH="1">
              <a:off x="2664720" y="4043160"/>
              <a:ext cx="965160" cy="119160"/>
            </a:xfrm>
            <a:prstGeom prst="line">
              <a:avLst/>
            </a:prstGeom>
            <a:ln w="28440">
              <a:solidFill>
                <a:srgbClr val="6b6b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9" name="_s69648"/>
            <p:cNvSpPr/>
            <p:nvPr/>
          </p:nvSpPr>
          <p:spPr>
            <a:xfrm>
              <a:off x="718200" y="3751920"/>
              <a:ext cx="1973880" cy="10627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eaeaea"/>
              </a:solidFill>
              <a:miter/>
            </a:ln>
            <a:effectLst>
              <a:outerShdw dist="141999" dir="1590005" blurRad="0" rotWithShape="0">
                <a:srgbClr val="5454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Чистота тела, жилища,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продуктов питания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0" name="_s69649"/>
            <p:cNvSpPr/>
            <p:nvPr/>
          </p:nvSpPr>
          <p:spPr>
            <a:xfrm flipH="1" flipV="1">
              <a:off x="3044880" y="3263040"/>
              <a:ext cx="776520" cy="331560"/>
            </a:xfrm>
            <a:prstGeom prst="line">
              <a:avLst/>
            </a:prstGeom>
            <a:ln w="28440">
              <a:solidFill>
                <a:srgbClr val="6b6b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1" name="_s69650"/>
            <p:cNvSpPr/>
            <p:nvPr/>
          </p:nvSpPr>
          <p:spPr>
            <a:xfrm>
              <a:off x="1286280" y="2403360"/>
              <a:ext cx="1973880" cy="10627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eaeaea"/>
              </a:solidFill>
              <a:miter/>
            </a:ln>
            <a:effectLst>
              <a:outerShdw dist="141999" dir="1590005" blurRad="0" rotWithShape="0">
                <a:srgbClr val="5454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6600"/>
                  </a:solidFill>
                  <a:latin typeface="Times New Roman"/>
                </a:rPr>
                <a:t>Режим дня</a:t>
              </a:r>
              <a:endParaRPr b="0" lang="en-US" sz="3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2" name="_s69651"/>
            <p:cNvSpPr/>
            <p:nvPr/>
          </p:nvSpPr>
          <p:spPr>
            <a:xfrm>
              <a:off x="3602520" y="3396600"/>
              <a:ext cx="1974600" cy="106272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eaeaea"/>
              </a:solidFill>
              <a:miter/>
            </a:ln>
            <a:effectLst>
              <a:outerShdw dist="141999" dir="1590005" blurRad="0" rotWithShape="0">
                <a:srgbClr val="99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ЗДОРОВЬЕ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27360" y="272520"/>
            <a:ext cx="5559120" cy="1143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33"/>
                </a:solidFill>
                <a:uFillTx/>
                <a:latin typeface="Arial Unicode MS"/>
              </a:rPr>
              <a:t>Я здоровье сберегу, </a:t>
            </a:r>
            <a:br>
              <a:rPr sz="4400"/>
            </a:br>
            <a:r>
              <a:rPr b="1" lang="en-US" sz="4400" spc="-1" strike="noStrike" u="sng">
                <a:solidFill>
                  <a:srgbClr val="ff9933"/>
                </a:solidFill>
                <a:uFillTx/>
                <a:latin typeface="Arial Unicode MS"/>
              </a:rPr>
              <a:t>Сам себе я помогу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 rot="21053400">
            <a:off x="706320" y="1839960"/>
            <a:ext cx="3886200" cy="26431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352760" y="1697040"/>
            <a:ext cx="3961080" cy="257652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 rot="21171600">
            <a:off x="1020600" y="4003200"/>
            <a:ext cx="3483000" cy="22179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 rot="378600">
            <a:off x="4355640" y="4046400"/>
            <a:ext cx="366408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79640" y="558720"/>
            <a:ext cx="642456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ccecff"/>
                </a:solidFill>
                <a:uFillTx/>
                <a:latin typeface="Georgia"/>
              </a:rPr>
              <a:t>Вопросы, на которые предстоит найти ответы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6840" y="2209320"/>
            <a:ext cx="85345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-487440" algn="ctr">
              <a:lnSpc>
                <a:spcPct val="8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Georgia"/>
              </a:rPr>
              <a:t>Что такое здоровье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87440" indent="-487440" algn="ctr">
              <a:lnSpc>
                <a:spcPct val="8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87440" indent="-4874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Georgia"/>
              </a:rPr>
              <a:t>2) Какие помощники, сохраняющие здоровье, существуют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87440" indent="-4874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87440" indent="-4874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Georgia"/>
              </a:rPr>
              <a:t>3) Что необходимо делать, чтобы прожить здоровым и счастливым  много лет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Рисунок 13" descr="00046824.jpg"/>
          <p:cNvPicPr/>
          <p:nvPr/>
        </p:nvPicPr>
        <p:blipFill>
          <a:blip r:embed="rId1"/>
          <a:stretch/>
        </p:blipFill>
        <p:spPr>
          <a:xfrm>
            <a:off x="-252360" y="0"/>
            <a:ext cx="9715320" cy="700092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4" descr="Незнайка_2"/>
          <p:cNvPicPr/>
          <p:nvPr/>
        </p:nvPicPr>
        <p:blipFill>
          <a:blip r:embed="rId2"/>
          <a:stretch/>
        </p:blipFill>
        <p:spPr>
          <a:xfrm>
            <a:off x="142920" y="5000760"/>
            <a:ext cx="1000080" cy="164304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19" descr="15345.gif"/>
          <p:cNvPicPr/>
          <p:nvPr/>
        </p:nvPicPr>
        <p:blipFill>
          <a:blip r:embed="rId3"/>
          <a:stretch/>
        </p:blipFill>
        <p:spPr>
          <a:xfrm>
            <a:off x="3143160" y="4857840"/>
            <a:ext cx="914400" cy="182880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20" descr="15367.gif"/>
          <p:cNvPicPr/>
          <p:nvPr/>
        </p:nvPicPr>
        <p:blipFill>
          <a:blip r:embed="rId4"/>
          <a:stretch/>
        </p:blipFill>
        <p:spPr>
          <a:xfrm>
            <a:off x="6429240" y="5072040"/>
            <a:ext cx="1030320" cy="155268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21" descr="15710.gif"/>
          <p:cNvPicPr/>
          <p:nvPr/>
        </p:nvPicPr>
        <p:blipFill>
          <a:blip r:embed="rId5"/>
          <a:stretch/>
        </p:blipFill>
        <p:spPr>
          <a:xfrm>
            <a:off x="1714680" y="5072040"/>
            <a:ext cx="961920" cy="160020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22" descr="26848.gif"/>
          <p:cNvPicPr/>
          <p:nvPr/>
        </p:nvPicPr>
        <p:blipFill>
          <a:blip r:embed="rId6"/>
          <a:stretch/>
        </p:blipFill>
        <p:spPr>
          <a:xfrm>
            <a:off x="7929720" y="5143680"/>
            <a:ext cx="1071360" cy="146196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23" descr="16283.gif"/>
          <p:cNvPicPr/>
          <p:nvPr/>
        </p:nvPicPr>
        <p:blipFill>
          <a:blip r:embed="rId7"/>
          <a:stretch/>
        </p:blipFill>
        <p:spPr>
          <a:xfrm>
            <a:off x="4714920" y="5572080"/>
            <a:ext cx="1401840" cy="1071720"/>
          </a:xfrm>
          <a:prstGeom prst="rect">
            <a:avLst/>
          </a:prstGeom>
          <a:ln w="0">
            <a:noFill/>
          </a:ln>
        </p:spPr>
      </p:pic>
      <p:grpSp>
        <p:nvGrpSpPr>
          <p:cNvPr id="232" name="Двойная волна 15"/>
          <p:cNvGrpSpPr/>
          <p:nvPr/>
        </p:nvGrpSpPr>
        <p:grpSpPr>
          <a:xfrm>
            <a:off x="658800" y="109440"/>
            <a:ext cx="8326440" cy="1536840"/>
            <a:chOff x="658800" y="109440"/>
            <a:chExt cx="8326440" cy="1536840"/>
          </a:xfrm>
        </p:grpSpPr>
        <p:pic>
          <p:nvPicPr>
            <p:cNvPr id="233" name="Двойная волна 15" descr=""/>
            <p:cNvPicPr/>
            <p:nvPr/>
          </p:nvPicPr>
          <p:blipFill>
            <a:blip r:embed="rId8"/>
            <a:stretch/>
          </p:blipFill>
          <p:spPr>
            <a:xfrm>
              <a:off x="658800" y="109440"/>
              <a:ext cx="83264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785880" y="374760"/>
              <a:ext cx="80722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c00000"/>
                  </a:solidFill>
                  <a:latin typeface="Book Antiqua"/>
                </a:rPr>
                <a:t>город  </a:t>
              </a:r>
              <a:r>
                <a:rPr b="1" lang="en-US" sz="4800" spc="-1" strike="noStrike">
                  <a:solidFill>
                    <a:srgbClr val="c00000"/>
                  </a:solidFill>
                  <a:latin typeface="Book Antiqua"/>
                </a:rPr>
                <a:t>ЗДОРОВЕЙСК</a:t>
              </a:r>
              <a:endParaRPr b="0" lang="en-US" sz="4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086600" y="1447920"/>
            <a:ext cx="1295280" cy="25905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1066680" y="4724280"/>
            <a:ext cx="965160" cy="14479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2362320" y="4572000"/>
            <a:ext cx="965160" cy="1447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3733920" y="4800600"/>
            <a:ext cx="914400" cy="13716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5181480" y="4648320"/>
            <a:ext cx="957240" cy="1277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6"/>
          <a:stretch/>
        </p:blipFill>
        <p:spPr>
          <a:xfrm>
            <a:off x="6477120" y="4724280"/>
            <a:ext cx="1203120" cy="14400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762120" y="1676520"/>
            <a:ext cx="64767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Я открою семь секретов,</a:t>
            </a:r>
            <a:br>
              <a:rPr sz="4000"/>
            </a:b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  Как здоровье сохранить.</a:t>
            </a:r>
            <a:br>
              <a:rPr sz="4000"/>
            </a:b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Выполняя все секреты,</a:t>
            </a:r>
            <a:br>
              <a:rPr sz="4000"/>
            </a:b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    Без болезней будем жить.</a:t>
            </a:r>
            <a:br>
              <a:rPr sz="4000"/>
            </a:b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52d2c"/>
                </a:solidFill>
                <a:latin typeface="Times New Roman"/>
              </a:rPr>
              <a:t>Секреты здоровь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752480" y="609480"/>
            <a:ext cx="6934320" cy="54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Здравствуйте! Добрая ласковость 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                                   </a:t>
            </a: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слов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Стерлась на нет в ежедневном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                                 </a:t>
            </a: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привет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Здравствуйте! Это же - будьте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                                 </a:t>
            </a: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здоровы,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Это же - дольше живите на свете.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                                     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ffcc00"/>
                </a:solidFill>
                <a:latin typeface="Times New Roman"/>
              </a:rPr>
              <a:t>                                   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  </a:t>
            </a:r>
            <a:r>
              <a:rPr b="0" i="1" lang="en-US" sz="3200" spc="-1" strike="noStrike">
                <a:solidFill>
                  <a:srgbClr val="ffcc00"/>
                </a:solidFill>
                <a:latin typeface="Comic Sans MS"/>
              </a:rPr>
              <a:t>Е. Шевелёва</a:t>
            </a:r>
            <a:r>
              <a:rPr b="0" lang="en-US" sz="35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98440"/>
            <a:ext cx="822636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«Чистота – залог здоровья!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Каждый раз перед едой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Нужно фрукты мыть водой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Чтобы быть здоровым, сильным,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Мой лицо и руки с мылом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Будь аккуратен, забудь лень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Чисти зубы каждый день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7010280" y="4419720"/>
            <a:ext cx="2340000" cy="232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«Движение - жизнь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5410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лодым я говорю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 здоровьем дружен спорт!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адион, бассейн и корт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л, каток – везде всем рады.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 старание в награду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анут мышцы ваши тверды,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удут кубки и рекорд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7467480" y="2362320"/>
            <a:ext cx="1524240" cy="14256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2362320"/>
            <a:ext cx="1524240" cy="14256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7162920" y="5410080"/>
            <a:ext cx="1568160" cy="12668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6705720" y="3886200"/>
            <a:ext cx="1684080" cy="12193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5"/>
          <a:stretch/>
        </p:blipFill>
        <p:spPr>
          <a:xfrm>
            <a:off x="5943600" y="1752480"/>
            <a:ext cx="1698480" cy="18288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6"/>
          <a:stretch/>
        </p:blipFill>
        <p:spPr>
          <a:xfrm>
            <a:off x="5029200" y="5105520"/>
            <a:ext cx="1924200" cy="15397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7"/>
          <a:stretch/>
        </p:blipFill>
        <p:spPr>
          <a:xfrm>
            <a:off x="7162920" y="-228600"/>
            <a:ext cx="144756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-420120"/>
            <a:ext cx="7792920" cy="7034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848720" y="601992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2208600"/>
            <a:ext cx="8305560" cy="3506040"/>
          </a:xfrm>
          <a:prstGeom prst="rect">
            <a:avLst/>
          </a:prstGeom>
          <a:solidFill>
            <a:srgbClr val="5454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ff"/>
                </a:solidFill>
                <a:latin typeface="Arial"/>
              </a:rPr>
              <a:t>Если хочешь быть сильным – бегай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Arial"/>
              </a:rPr>
              <a:t>если хочешь быть красивым – бегай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Arial"/>
              </a:rPr>
              <a:t>хочешь быть умным – бегай.»</a:t>
            </a:r>
            <a:r>
              <a:rPr b="1" lang="en-US" sz="3200" spc="-1" strike="noStrike">
                <a:solidFill>
                  <a:srgbClr val="3a14d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5-02T11:26:2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