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4.gif" ContentType="image/gif"/>
  <Override PartName="/ppt/media/image34.gif" ContentType="image/gif"/>
  <Override PartName="/ppt/media/image24.wmf" ContentType="image/x-wmf"/>
  <Override PartName="/ppt/media/image22.gif" ContentType="image/gif"/>
  <Override PartName="/ppt/media/image21.jpeg" ContentType="image/jpeg"/>
  <Override PartName="/ppt/media/image6.gif" ContentType="image/gif"/>
  <Override PartName="/ppt/media/image32.wmf" ContentType="image/x-wmf"/>
  <Override PartName="/ppt/media/image36.gif" ContentType="image/gif"/>
  <Override PartName="/ppt/media/image17.png" ContentType="image/png"/>
  <Override PartName="/ppt/media/image20.wmf" ContentType="image/x-wmf"/>
  <Override PartName="/ppt/media/image10.jpeg" ContentType="image/jpeg"/>
  <Override PartName="/ppt/media/image35.jpeg" ContentType="image/jpeg"/>
  <Override PartName="/ppt/media/image8.gif" ContentType="image/gif"/>
  <Override PartName="/ppt/media/image19.wmf" ContentType="image/x-wmf"/>
  <Override PartName="/ppt/media/image12.jpeg" ContentType="image/jpeg"/>
  <Override PartName="/ppt/media/image7.gif" ContentType="image/gif"/>
  <Override PartName="/ppt/media/image29.jpeg" ContentType="image/jpeg"/>
  <Override PartName="/ppt/media/image33.wmf" ContentType="image/x-wmf"/>
  <Override PartName="/ppt/media/image30.jpeg" ContentType="image/jpeg"/>
  <Override PartName="/ppt/media/image13.jpeg" ContentType="image/jpeg"/>
  <Override PartName="/ppt/media/image40.jpeg" ContentType="image/jpeg"/>
  <Override PartName="/ppt/media/image9.png" ContentType="image/png"/>
  <Override PartName="/ppt/media/image37.png" ContentType="image/png"/>
  <Override PartName="/ppt/media/image39.jpeg" ContentType="image/jpeg"/>
  <Override PartName="/ppt/media/image38.jpeg" ContentType="image/jpeg"/>
  <Override PartName="/ppt/media/image31.wmf" ContentType="image/x-wmf"/>
  <Override PartName="/ppt/media/image5.gif" ContentType="image/gif"/>
  <Override PartName="/ppt/media/image11.jpeg" ContentType="image/jpeg"/>
  <Override PartName="/ppt/media/image41.jpeg" ContentType="image/jpeg"/>
  <Override PartName="/ppt/media/image14.jpeg" ContentType="image/jpeg"/>
  <Override PartName="/ppt/media/image15.wmf" ContentType="image/x-wmf"/>
  <Override PartName="/ppt/media/image3.png" ContentType="image/png"/>
  <Override PartName="/ppt/media/image26.png" ContentType="image/png"/>
  <Override PartName="/ppt/media/image18.wmf" ContentType="image/x-wmf"/>
  <Override PartName="/ppt/media/image2.jpeg" ContentType="image/jpeg"/>
  <Override PartName="/ppt/media/image25.wmf" ContentType="image/x-wmf"/>
  <Override PartName="/ppt/media/image1.png" ContentType="image/png"/>
  <Override PartName="/ppt/media/image23.gif" ContentType="image/gif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9D2B-4584-407B-8955-B7F94B4140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F34C-A089-42F5-BF12-BA831446F1E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705-98EE-4455-AC81-55391430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EA9C-B7A4-43C5-8852-B2A1B178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D18-39AC-40E9-8515-6473C9B0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FF18-5684-468F-896C-F3CDA819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5799-D2AC-4253-BEA1-1BEAC474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4C62-BFA5-44CF-8964-23B190B6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60EB-3E3A-4ABB-812E-1DDCA17D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BBE3-33C4-4637-9F59-96631CB9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D2E4-F1FF-4ABB-9AC4-78CB3419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DE48-0C7A-40DD-95F2-2C61428A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B44F-67B6-49CF-BAD8-324CC184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E8C-6D4F-4E7D-97BF-52988118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039E-69B6-4D0D-B8A9-7759EC1C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FECB-B642-45B2-8490-7CB51BB2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5477-C006-48F2-B63D-938D8AA0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3569-CCCF-4EF9-B5BD-672034B9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2489-7865-404A-B0B9-DAFBC285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4B3-41AE-4173-ABA3-CE4E9EFE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B22-6FEB-43A1-9BCD-F4B53C43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711-D1B5-4A65-B866-7B3F363D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45B-D6EB-43AB-A9E8-20DB22D8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E8C-77DF-4F01-B740-1A644BC8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7F0-F137-4559-9C53-7299DEE1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DA3-2C43-4F02-A953-FCF81BB4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FEEF-BD57-4227-AF52-85814A1FCFB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4335-79A0-4579-AB3B-862913A42A6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jpe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jpe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резентация к уроку окружающего мира: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« Что такое здоровье»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1 класс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УМК  «Начальная школа 21 век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724280" y="4800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Подготовила : учитель начальных классов Мельник Л.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«Движение - жизнь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лодым я говорю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 здоровьем дружен спорт!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дион, бассейн и корт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л, каток – везде всем рады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 старание в награду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нут мышцы ваши тверды,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т кубки и рекорд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467480" y="2362320"/>
            <a:ext cx="1524240" cy="1425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7467480" y="2362320"/>
            <a:ext cx="1524240" cy="14256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162920" y="5410080"/>
            <a:ext cx="1568160" cy="1266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6705720" y="3886200"/>
            <a:ext cx="1684080" cy="12193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5943600" y="1752480"/>
            <a:ext cx="1698480" cy="18288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5029200" y="5105520"/>
            <a:ext cx="1924200" cy="1539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7162920" y="-228600"/>
            <a:ext cx="144756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015400" cy="914400"/>
          </a:xfrm>
          <a:prstGeom prst="rect">
            <a:avLst/>
          </a:prstGeom>
          <a:solidFill>
            <a:srgbClr val="a5eff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ecff"/>
                </a:solidFill>
                <a:latin typeface="Times New Roman"/>
              </a:rPr>
              <a:t>«Кто спортом занимается, </a:t>
            </a:r>
            <a:br>
              <a:rPr sz="3400"/>
            </a:br>
            <a:r>
              <a:rPr b="1" lang="en-US" sz="3400" spc="-1" strike="noStrike">
                <a:solidFill>
                  <a:srgbClr val="ccecff"/>
                </a:solidFill>
                <a:latin typeface="Times New Roman"/>
              </a:rPr>
              <a:t>                        тот силы набирается»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1720" y="1674360"/>
            <a:ext cx="7632720" cy="4116600"/>
          </a:xfrm>
          <a:prstGeom prst="rect">
            <a:avLst/>
          </a:prstGeom>
          <a:solidFill>
            <a:srgbClr val="a5eff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Спорт нам плечи расправляет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Силу, ловкость нам дает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Он нам мышцы развивает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На рекорды нас зовет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800600" y="4419720"/>
            <a:ext cx="1488960" cy="1752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705720" y="2286000"/>
            <a:ext cx="2057400" cy="167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781680" y="4267080"/>
            <a:ext cx="144792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385120" cy="517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700" spc="-1" strike="noStrike" u="sng">
                <a:solidFill>
                  <a:srgbClr val="cc3399"/>
                </a:solidFill>
                <a:uFillTx/>
                <a:latin typeface="Times New Roman"/>
              </a:rPr>
              <a:t>Секреты закаливания:</a:t>
            </a:r>
            <a:endParaRPr b="0" lang="en-US" sz="4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36252" t="15181" r="35334" b="49010"/>
          <a:stretch/>
        </p:blipFill>
        <p:spPr>
          <a:xfrm>
            <a:off x="6019920" y="3581280"/>
            <a:ext cx="2971800" cy="30481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838080" y="1980720"/>
            <a:ext cx="579132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тром - бег и душ бодрящий, Как для взрослых, настоящий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ночь окна открывать, Свежим воздухом дышать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оги мыть водой холодной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тогда микроб голодны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ас во век не одолеет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ecff"/>
                </a:solidFill>
                <a:latin typeface="Arial"/>
              </a:rPr>
              <a:t>Меню Карлсон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1. Тор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2. Лимона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3. Чипс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4. Варень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5. Кока-кол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670040" y="1557360"/>
            <a:ext cx="2685960" cy="3743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662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990099"/>
                </a:solidFill>
                <a:uFillTx/>
                <a:latin typeface="Arial"/>
              </a:rPr>
              <a:t>Правильное питание: разнообразно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046160" y="1951200"/>
            <a:ext cx="3451320" cy="3827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4352760" y="1951200"/>
            <a:ext cx="3600720" cy="3827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662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543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ccecff"/>
                </a:solidFill>
                <a:latin typeface="Times New Roman"/>
              </a:rPr>
              <a:t>Полезные и вредные продукты: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2305080" cy="1447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2001960" cy="17827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5029200" y="5013360"/>
            <a:ext cx="1736640" cy="1844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52280" y="13694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Надо кушать помидоры,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Фрукты, овощи, лимоны,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Кашу – утром, суп – в обед,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А на ужин – винегре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362320" y="312192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Ну, а если свой обед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Ты начнешь с кулька конфет,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Жвачкой импортной закусишь,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Шоколадом подсластишь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49507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6b99"/>
                </a:solidFill>
                <a:latin typeface="Times New Roman"/>
              </a:rPr>
              <a:t>То тогда наверняка</a:t>
            </a:r>
            <a:br>
              <a:rPr sz="2400"/>
            </a:br>
            <a:r>
              <a:rPr b="1" lang="en-US" sz="2400" spc="-1" strike="noStrike">
                <a:solidFill>
                  <a:srgbClr val="6b6b99"/>
                </a:solidFill>
                <a:latin typeface="Times New Roman"/>
              </a:rPr>
              <a:t>Ваши спутники всегда -</a:t>
            </a:r>
            <a:br>
              <a:rPr sz="2400"/>
            </a:br>
            <a:r>
              <a:rPr b="1" lang="en-US" sz="2400" spc="-1" strike="noStrike">
                <a:solidFill>
                  <a:srgbClr val="6b6b99"/>
                </a:solidFill>
                <a:latin typeface="Times New Roman"/>
              </a:rPr>
              <a:t>Близорукость, бледный вид</a:t>
            </a:r>
            <a:br>
              <a:rPr sz="2400"/>
            </a:br>
            <a:r>
              <a:rPr b="1" lang="en-US" sz="2400" spc="-1" strike="noStrike">
                <a:solidFill>
                  <a:srgbClr val="6b6b99"/>
                </a:solidFill>
                <a:latin typeface="Times New Roman"/>
              </a:rPr>
              <a:t>И неважный аппети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«Соблюдай режим труда и быта, и будет здоровье крепче гранита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693432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Кто жить умеет по часам и ценит каждый час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Того не надо по утрам будить по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десять раз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И он не станет говорить, что лень ему вставать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Зарядку делать, руки мыть и застилать крова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Успеет он одеться в срок, умыться и поесть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И раньше, чем звенит звонок, за парту в школе сесть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5105520"/>
            <a:ext cx="21337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ff"/>
                </a:solidFill>
                <a:latin typeface="Times New Roman"/>
              </a:rPr>
              <a:t>«Кто табачное зелье любит, </a:t>
            </a:r>
            <a:br>
              <a:rPr sz="4000"/>
            </a:br>
            <a:r>
              <a:rPr b="1" lang="en-US" sz="4000" spc="-1" strike="noStrike">
                <a:solidFill>
                  <a:srgbClr val="9900ff"/>
                </a:solidFill>
                <a:latin typeface="Times New Roman"/>
              </a:rPr>
              <a:t>                      тот сам себя и губит!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8280" y="2050920"/>
            <a:ext cx="5505480" cy="40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Сигареты — никотин,</a:t>
            </a:r>
            <a:br>
              <a:rPr sz="2800"/>
            </a:b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ВРАГ</a:t>
            </a: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всему номер один!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Курят, что аж дым столбом!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Отравляют табаком,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Не заботясь о здоровье —</a:t>
            </a:r>
            <a:br>
              <a:rPr sz="2800"/>
            </a:b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Ни о своем, ни о чужом</a:t>
            </a:r>
            <a:r>
              <a:rPr b="0" lang="en-US" sz="2800" spc="-1" strike="noStrike">
                <a:solidFill>
                  <a:srgbClr val="00808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31291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Пословицы о здоровь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Болен лечись, а здоров – берегись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Быстрого и ловкого болезнь не догонит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Здоровье не купишь, его разум дарит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Чистая вода  - для хвори беда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379440"/>
            <a:ext cx="2555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ecff"/>
                </a:solidFill>
                <a:latin typeface="Times New Roman"/>
              </a:rPr>
              <a:t>Вывод: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2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100" spc="-1" strike="noStrike">
                <a:solidFill>
                  <a:srgbClr val="eaeaea"/>
                </a:solidFill>
                <a:latin typeface="Times New Roman"/>
              </a:rPr>
              <a:t>З</a:t>
            </a:r>
            <a:r>
              <a:rPr b="1" lang="en-US" sz="4100" spc="-1" strike="noStrike">
                <a:solidFill>
                  <a:srgbClr val="eaeaea"/>
                </a:solidFill>
                <a:latin typeface="Times New Roman"/>
              </a:rPr>
              <a:t>доровье человека – жизненно важная ценность, оно складывается из многих взаимосвязанных друг с другом компонентов.</a:t>
            </a:r>
            <a:endParaRPr b="0" lang="en-US" sz="41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7772400" cy="27064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172200" y="6858000"/>
            <a:ext cx="4044960" cy="776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3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8840" y="348840"/>
            <a:ext cx="7899480" cy="10666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ccecff"/>
                </a:solidFill>
                <a:latin typeface="Times New Roman"/>
              </a:rPr>
              <a:t>Компоненты здоровья:</a:t>
            </a:r>
            <a:endParaRPr b="0" lang="en-US" sz="5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18200" y="1802520"/>
            <a:ext cx="7743240" cy="4091760"/>
            <a:chOff x="718200" y="1802520"/>
            <a:chExt cx="7743240" cy="4091760"/>
          </a:xfrm>
        </p:grpSpPr>
        <p:sp>
          <p:nvSpPr>
            <p:cNvPr id="308" name="_s69637"/>
            <p:cNvSpPr/>
            <p:nvPr/>
          </p:nvSpPr>
          <p:spPr>
            <a:xfrm flipV="1">
              <a:off x="4587840" y="2863440"/>
              <a:ext cx="0" cy="532440"/>
            </a:xfrm>
            <a:prstGeom prst="line">
              <a:avLst/>
            </a:prstGeom>
            <a:ln w="28440">
              <a:solidFill>
                <a:srgbClr val="6b6b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9" name="_s69638"/>
            <p:cNvSpPr/>
            <p:nvPr/>
          </p:nvSpPr>
          <p:spPr>
            <a:xfrm>
              <a:off x="3602520" y="1802520"/>
              <a:ext cx="1974600" cy="106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6600"/>
                  </a:solidFill>
                  <a:latin typeface="Times New Roman"/>
                </a:rPr>
                <a:t>Движение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0" name="_s69639"/>
            <p:cNvSpPr/>
            <p:nvPr/>
          </p:nvSpPr>
          <p:spPr>
            <a:xfrm flipV="1">
              <a:off x="5358240" y="3263040"/>
              <a:ext cx="772560" cy="331560"/>
            </a:xfrm>
            <a:prstGeom prst="line">
              <a:avLst/>
            </a:prstGeom>
            <a:ln w="28440">
              <a:solidFill>
                <a:srgbClr val="6b6b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1" name="_s69640"/>
            <p:cNvSpPr/>
            <p:nvPr/>
          </p:nvSpPr>
          <p:spPr>
            <a:xfrm>
              <a:off x="5915520" y="2401560"/>
              <a:ext cx="1974600" cy="106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Times New Roman"/>
                </a:rPr>
                <a:t>Положительные 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Times New Roman"/>
                </a:rPr>
                <a:t>эмоции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2" name="_s69641"/>
            <p:cNvSpPr/>
            <p:nvPr/>
          </p:nvSpPr>
          <p:spPr>
            <a:xfrm>
              <a:off x="5550120" y="4043160"/>
              <a:ext cx="961200" cy="119160"/>
            </a:xfrm>
            <a:prstGeom prst="line">
              <a:avLst/>
            </a:prstGeom>
            <a:ln w="28440">
              <a:solidFill>
                <a:srgbClr val="6b6b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3" name="_s69642"/>
            <p:cNvSpPr/>
            <p:nvPr/>
          </p:nvSpPr>
          <p:spPr>
            <a:xfrm>
              <a:off x="6487560" y="3748320"/>
              <a:ext cx="1973880" cy="106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6600"/>
                  </a:solidFill>
                  <a:latin typeface="Times New Roman"/>
                </a:rPr>
                <a:t>Отказ от вредных 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6600"/>
                  </a:solidFill>
                  <a:latin typeface="Times New Roman"/>
                </a:rPr>
                <a:t>привычек</a:t>
              </a:r>
              <a:endParaRPr b="0" lang="en-US" sz="17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4" name="_s69643"/>
            <p:cNvSpPr/>
            <p:nvPr/>
          </p:nvSpPr>
          <p:spPr>
            <a:xfrm>
              <a:off x="5016240" y="4402440"/>
              <a:ext cx="427320" cy="480600"/>
            </a:xfrm>
            <a:prstGeom prst="line">
              <a:avLst/>
            </a:prstGeom>
            <a:ln w="28440">
              <a:solidFill>
                <a:srgbClr val="6b6b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5" name="_s69644"/>
            <p:cNvSpPr/>
            <p:nvPr/>
          </p:nvSpPr>
          <p:spPr>
            <a:xfrm>
              <a:off x="4888800" y="4830120"/>
              <a:ext cx="1974600" cy="106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Times New Roman"/>
                </a:rPr>
                <a:t>Рациональное 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Times New Roman"/>
                </a:rPr>
                <a:t>питание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6" name="_s69645"/>
            <p:cNvSpPr/>
            <p:nvPr/>
          </p:nvSpPr>
          <p:spPr>
            <a:xfrm flipH="1">
              <a:off x="3732840" y="4402440"/>
              <a:ext cx="431280" cy="480600"/>
            </a:xfrm>
            <a:prstGeom prst="line">
              <a:avLst/>
            </a:prstGeom>
            <a:ln w="28440">
              <a:solidFill>
                <a:srgbClr val="6b6b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7" name="_s69646"/>
            <p:cNvSpPr/>
            <p:nvPr/>
          </p:nvSpPr>
          <p:spPr>
            <a:xfrm>
              <a:off x="2322720" y="4831560"/>
              <a:ext cx="1974600" cy="1062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Times New Roman"/>
                </a:rPr>
                <a:t>Закаливание и 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00"/>
                  </a:solidFill>
                  <a:latin typeface="Times New Roman"/>
                </a:rPr>
                <a:t>оздоровление</a:t>
              </a:r>
              <a:endParaRPr b="0" lang="en-US" sz="21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8" name="_s69647"/>
            <p:cNvSpPr/>
            <p:nvPr/>
          </p:nvSpPr>
          <p:spPr>
            <a:xfrm flipH="1">
              <a:off x="2664720" y="4043160"/>
              <a:ext cx="965160" cy="119160"/>
            </a:xfrm>
            <a:prstGeom prst="line">
              <a:avLst/>
            </a:prstGeom>
            <a:ln w="28440">
              <a:solidFill>
                <a:srgbClr val="6b6b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9" name="_s69648"/>
            <p:cNvSpPr/>
            <p:nvPr/>
          </p:nvSpPr>
          <p:spPr>
            <a:xfrm>
              <a:off x="718200" y="3751920"/>
              <a:ext cx="1973880" cy="1062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Чистота тела, жилища,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продуктов питания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_s69649"/>
            <p:cNvSpPr/>
            <p:nvPr/>
          </p:nvSpPr>
          <p:spPr>
            <a:xfrm flipH="1" flipV="1">
              <a:off x="3044880" y="3263040"/>
              <a:ext cx="776520" cy="331560"/>
            </a:xfrm>
            <a:prstGeom prst="line">
              <a:avLst/>
            </a:prstGeom>
            <a:ln w="28440">
              <a:solidFill>
                <a:srgbClr val="6b6b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1" name="_s69650"/>
            <p:cNvSpPr/>
            <p:nvPr/>
          </p:nvSpPr>
          <p:spPr>
            <a:xfrm>
              <a:off x="1286280" y="2403360"/>
              <a:ext cx="1973880" cy="1062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54547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6600"/>
                  </a:solidFill>
                  <a:latin typeface="Times New Roman"/>
                </a:rPr>
                <a:t>Режим дня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2" name="_s69651"/>
            <p:cNvSpPr/>
            <p:nvPr/>
          </p:nvSpPr>
          <p:spPr>
            <a:xfrm>
              <a:off x="3602520" y="3396600"/>
              <a:ext cx="1974600" cy="10627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eaeaea"/>
              </a:solidFill>
              <a:miter/>
            </a:ln>
            <a:effectLst>
              <a:outerShdw dist="141999" dir="1590005" blurRad="0" rotWithShape="0">
                <a:srgbClr val="99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ЗДОРОВЬЕ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7360" y="272520"/>
            <a:ext cx="5559120" cy="1143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33"/>
                </a:solidFill>
                <a:uFillTx/>
                <a:latin typeface="Arial Unicode MS"/>
              </a:rPr>
              <a:t>Я здоровье сберегу, </a:t>
            </a:r>
            <a:br>
              <a:rPr sz="4400"/>
            </a:br>
            <a:r>
              <a:rPr b="1" lang="en-US" sz="4400" spc="-1" strike="noStrike" u="sng">
                <a:solidFill>
                  <a:srgbClr val="ff9933"/>
                </a:solidFill>
                <a:uFillTx/>
                <a:latin typeface="Arial Unicode MS"/>
              </a:rPr>
              <a:t>Сам себе я помогу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 rot="21053400">
            <a:off x="706320" y="1839960"/>
            <a:ext cx="3886200" cy="26431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352760" y="1697040"/>
            <a:ext cx="3961080" cy="25765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 rot="21171600">
            <a:off x="1020600" y="4003200"/>
            <a:ext cx="3483000" cy="22179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 rot="378600">
            <a:off x="4355640" y="4046400"/>
            <a:ext cx="36640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640" y="558720"/>
            <a:ext cx="642456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ccecff"/>
                </a:solidFill>
                <a:uFillTx/>
                <a:latin typeface="Georgia"/>
              </a:rPr>
              <a:t>Вопросы, на которые предстоит найти ответ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220932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 algn="ctr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Georgia"/>
              </a:rPr>
              <a:t>Что такое здоровье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Georgia"/>
              </a:rPr>
              <a:t>2) Какие помощники, сохраняющие здоровье, существуют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487440" indent="-4874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Georgia"/>
              </a:rPr>
              <a:t>3) Что необходимо делать, чтобы прожить здоровым и счастливым  много лет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3" descr="00046824.jpg"/>
          <p:cNvPicPr/>
          <p:nvPr/>
        </p:nvPicPr>
        <p:blipFill>
          <a:blip r:embed="rId1"/>
          <a:stretch/>
        </p:blipFill>
        <p:spPr>
          <a:xfrm>
            <a:off x="-252360" y="0"/>
            <a:ext cx="9715320" cy="70009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4" descr="Незнайка_2"/>
          <p:cNvPicPr/>
          <p:nvPr/>
        </p:nvPicPr>
        <p:blipFill>
          <a:blip r:embed="rId2"/>
          <a:stretch/>
        </p:blipFill>
        <p:spPr>
          <a:xfrm>
            <a:off x="142920" y="5000760"/>
            <a:ext cx="1000080" cy="164304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19" descr="15345.gif"/>
          <p:cNvPicPr/>
          <p:nvPr/>
        </p:nvPicPr>
        <p:blipFill>
          <a:blip r:embed="rId3"/>
          <a:stretch/>
        </p:blipFill>
        <p:spPr>
          <a:xfrm>
            <a:off x="3143160" y="485784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0" descr="15367.gif"/>
          <p:cNvPicPr/>
          <p:nvPr/>
        </p:nvPicPr>
        <p:blipFill>
          <a:blip r:embed="rId4"/>
          <a:stretch/>
        </p:blipFill>
        <p:spPr>
          <a:xfrm>
            <a:off x="6429240" y="5072040"/>
            <a:ext cx="1030320" cy="15526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1" descr="15710.gif"/>
          <p:cNvPicPr/>
          <p:nvPr/>
        </p:nvPicPr>
        <p:blipFill>
          <a:blip r:embed="rId5"/>
          <a:stretch/>
        </p:blipFill>
        <p:spPr>
          <a:xfrm>
            <a:off x="1714680" y="5072040"/>
            <a:ext cx="961920" cy="16002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2" descr="26848.gif"/>
          <p:cNvPicPr/>
          <p:nvPr/>
        </p:nvPicPr>
        <p:blipFill>
          <a:blip r:embed="rId6"/>
          <a:stretch/>
        </p:blipFill>
        <p:spPr>
          <a:xfrm>
            <a:off x="7929720" y="5143680"/>
            <a:ext cx="1071360" cy="14619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23" descr="16283.gif"/>
          <p:cNvPicPr/>
          <p:nvPr/>
        </p:nvPicPr>
        <p:blipFill>
          <a:blip r:embed="rId7"/>
          <a:stretch/>
        </p:blipFill>
        <p:spPr>
          <a:xfrm>
            <a:off x="4714920" y="5572080"/>
            <a:ext cx="1401840" cy="1071720"/>
          </a:xfrm>
          <a:prstGeom prst="rect">
            <a:avLst/>
          </a:prstGeom>
          <a:ln w="0">
            <a:noFill/>
          </a:ln>
        </p:spPr>
      </p:pic>
      <p:grpSp>
        <p:nvGrpSpPr>
          <p:cNvPr id="232" name="Двойная волна 15"/>
          <p:cNvGrpSpPr/>
          <p:nvPr/>
        </p:nvGrpSpPr>
        <p:grpSpPr>
          <a:xfrm>
            <a:off x="658800" y="109440"/>
            <a:ext cx="8326440" cy="1536840"/>
            <a:chOff x="658800" y="109440"/>
            <a:chExt cx="8326440" cy="1536840"/>
          </a:xfrm>
        </p:grpSpPr>
        <p:pic>
          <p:nvPicPr>
            <p:cNvPr id="233" name="Двойная волна 15" descr=""/>
            <p:cNvPicPr/>
            <p:nvPr/>
          </p:nvPicPr>
          <p:blipFill>
            <a:blip r:embed="rId8"/>
            <a:stretch/>
          </p:blipFill>
          <p:spPr>
            <a:xfrm>
              <a:off x="658800" y="109440"/>
              <a:ext cx="83264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85880" y="374760"/>
              <a:ext cx="80722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c00000"/>
                  </a:solidFill>
                  <a:latin typeface="Book Antiqua"/>
                </a:rPr>
                <a:t>город  </a:t>
              </a:r>
              <a:r>
                <a:rPr b="1" lang="en-US" sz="4800" spc="-1" strike="noStrike">
                  <a:solidFill>
                    <a:srgbClr val="c00000"/>
                  </a:solidFill>
                  <a:latin typeface="Book Antiqua"/>
                </a:rPr>
                <a:t>ЗДОРОВЕЙСК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086600" y="1447920"/>
            <a:ext cx="1295280" cy="2590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965160" cy="1447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965160" cy="1447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3733920" y="480060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5181480" y="4648320"/>
            <a:ext cx="957240" cy="1277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6477120" y="4724280"/>
            <a:ext cx="120312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62120" y="1676520"/>
            <a:ext cx="647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Я открою семь секретов,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Как здоровье сохранить.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Выполняя все секреты,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   Без болезней будем жить.</a:t>
            </a:r>
            <a:br>
              <a:rPr sz="4000"/>
            </a:b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52d2c"/>
                </a:solidFill>
                <a:latin typeface="Times New Roman"/>
              </a:rPr>
              <a:t>Секреты здоровь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52480" y="609480"/>
            <a:ext cx="693432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Здравствуйте! Добрая ласковость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                                  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слов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Стерлась на нет в ежедневном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                                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привет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Здравствуйте! Это же - будьте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                                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здоровы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Это же - дольше живите на свете.</a:t>
            </a: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                                     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cc00"/>
                </a:solidFill>
                <a:latin typeface="Times New Roman"/>
              </a:rPr>
              <a:t>                                   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  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Е. Шевелёва</a:t>
            </a:r>
            <a:r>
              <a:rPr b="0" lang="en-US" sz="35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98440"/>
            <a:ext cx="82263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«Чистота – залог здоровья!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Каждый раз перед едой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Нужно фрукты мыть водой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Чтобы быть здоровым, сильным,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Мой лицо и руки с мылом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Будь аккуратен, забудь лень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Чисти зубы каждый день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010280" y="4419720"/>
            <a:ext cx="2340000" cy="23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«Движение - жизнь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лодым я говорю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 здоровьем дружен спорт!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дион, бассейн и корт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л, каток – везде всем рады.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 старание в награду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нут мышцы ваши тверды,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т кубки и рекорд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467480" y="2362320"/>
            <a:ext cx="1524240" cy="1425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2362320"/>
            <a:ext cx="1524240" cy="14256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7162920" y="5410080"/>
            <a:ext cx="1568160" cy="12668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6705720" y="3886200"/>
            <a:ext cx="1684080" cy="12193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5943600" y="1752480"/>
            <a:ext cx="1698480" cy="1828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029200" y="5105520"/>
            <a:ext cx="1924200" cy="1539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7162920" y="-228600"/>
            <a:ext cx="144756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-420120"/>
            <a:ext cx="7792920" cy="703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848720" y="601992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2208600"/>
            <a:ext cx="8305560" cy="3506040"/>
          </a:xfrm>
          <a:prstGeom prst="rect">
            <a:avLst/>
          </a:prstGeom>
          <a:solidFill>
            <a:srgbClr val="545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Если хочешь быть сильным – бегай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если хочешь быть красивым – бегай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хочешь быть умным – бегай.»</a:t>
            </a:r>
            <a:r>
              <a:rPr b="1" lang="en-US" sz="3200" spc="-1" strike="noStrike">
                <a:solidFill>
                  <a:srgbClr val="3a14d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5-02T11:26:2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