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104-7AD2-4E1F-A8BD-4F0AA8C7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5EF-EE2D-423F-AD7B-3A74027F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6D2-4380-4B52-A8CB-BF75B56F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AAD-F5D1-4A49-A9CE-8E670D34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93A-83F1-4939-B92D-D19A525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0DE-0E31-41C7-8DA6-7D8486B5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99D-CFF0-4A61-B5A5-F385B83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37EE-526B-44DC-BE0D-3E13205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F73B-3533-45AA-AA4D-6050DA65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111-0834-48E0-8EB5-5DB8AB0F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BD1-EB69-4C9A-BB04-078E6AD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D88A-D726-47AA-8038-A47D3D6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00EA-9010-42D4-8DD4-3D511D350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763120" cy="4952880"/>
          </a:xfrm>
          <a:custGeom>
            <a:avLst/>
            <a:gdLst>
              <a:gd name="textAreaLeft" fmla="*/ 0 w 8763120"/>
              <a:gd name="textAreaRight" fmla="*/ 8763480 w 8763120"/>
              <a:gd name="textAreaTop" fmla="*/ 641880 h 4952880"/>
              <a:gd name="textAreaBottom" fmla="*/ 4311000 h 4952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12600">
            <a:solidFill>
              <a:srgbClr val="b2b2b2"/>
            </a:solidFill>
            <a:miter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1600200"/>
            <a:ext cx="8915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оспитание в многодетной семь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581280" cy="312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45720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Дети сильнее объединяют супругов, они являются результатом их любви. Рождение каждого следующего ребенка означает для родителей не только новые заботы, но и новый уровень взаимоотношений друг с друг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00400" y="2498760"/>
            <a:ext cx="5486400" cy="21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 rot="10800000">
            <a:off x="380160" y="6125400"/>
            <a:ext cx="12193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 rot="10786200">
            <a:off x="279360" y="207360"/>
            <a:ext cx="8339040" cy="3601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Много детей в семье - это своего рода долгосрочный депозит, который отдаст свои большие проценты в старости. Как часто мы сейчас встречаем несчастных стариков, у которых и есть где-то сын или дочь, но они далеко, или отношения не сложились. А ведь это ужасно - доживать свой век в одиночестве, когда особенно нужна помощь и поддержка близкого человека. Часто при живых детях старики оказываются в домах престарелых. А вот в семьях, где много детей, родители, как правило счастливы и ухожены в старости. Ведь наверняка кто-то живёт рядом, и поссориться со всеми сразу с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Что может быть лучше и трогательнее встречающих тебя с работы, смеющихся и любящих деток. Родители, испытавшие такое счастье, не променяют его ни на какие другие ц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476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629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6600"/>
                </a:solidFill>
                <a:latin typeface="Arial"/>
              </a:rPr>
              <a:t>В многодетной семье родился 108 вну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В семье новокузнецкой многодетной династии Шаповалов родился 108 внук. Имя ему дали Марк. Основатель династии 75-летний Алексей Павлович имеет восемь правнуков - шесть девочек и двое мальчиков. Почти все члены семьи живут в одном селе Бунгур под Новокузнецком, образуя извилистую улиц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00"/>
                </a:solidFill>
                <a:latin typeface="Arial"/>
              </a:rPr>
              <a:t>Под дедушкиным руководством сыновья и внуки работают на полях, запасают на зиму сено, пасут коров, ухаживают за мелкой скотиной – ведь у всех здесь свое хозяйство. А секретом своего здоровья и энергии старший Шаповалов считает - работу на свежем воздухе и продукты, выращенные своими руками: молоко, сметану, яйцо, ов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2643b" descr="Фото новости В многодетной семье родился 108 внук"/>
          <p:cNvPicPr/>
          <p:nvPr/>
        </p:nvPicPr>
        <p:blipFill>
          <a:blip r:embed="rId1"/>
          <a:stretch/>
        </p:blipFill>
        <p:spPr>
          <a:xfrm>
            <a:off x="152280" y="1219320"/>
            <a:ext cx="4876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По статистике ООН Россия приговорена к вымиранию. Через полвека население России сократится на 30 миллионов человек и станет на 40% меньше, чем теперь. Цифра может быть вдвое больше, если власти продолжат проводить неэффективную демографическую политик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Можно рассчитывать лишь на небольшое повышение рождаемости в ближайшие три-четыре года, но затем всё станет как прежде.  Если не стимулировать рождение трех-четырех детей, не освободить молодые семьи от уплаты налогов, то к 2050 году население России может уменьшиться не на 30 млн. А если при этом стимулировать миграцию, то к 2080 году в России будут жить всего 60 млн. человек, из которых 60% - чужестранцы и их внуки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457200"/>
            <a:ext cx="7696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В Толковом словаре Владимира Даля на слово труд есть пример: «Родильница в труде, в трудах, в муках». Связанность значения труда и родовых мук есть почти во всех языках Европы, начиная с латыни: laboro utero – ‘труждаюсь чревом’. И есть ли в жизни женщины иной труд, который мог бы быть более напряженным, более близким и началу и концу самой жизни, который заставлял бы испытывать паче естественную боль и оборачиваться безмерной благодарностью? Воспитание начинается потом, а вначале должен появиться на свет его предмет и цел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8769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два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человек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крико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звещает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мир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свое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рождени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начинаются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ступк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начинается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ведение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Человек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степенно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открывает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мир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познает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его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разумо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  <a:ea typeface="Times New Roman"/>
              </a:rPr>
              <a:t>сердцем</a:t>
            </a:r>
            <a:r>
              <a:rPr b="0" lang="en-US" sz="2400" spc="-1" strike="noStrike">
                <a:solidFill>
                  <a:srgbClr val="996600"/>
                </a:solidFill>
                <a:latin typeface="Castellar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У людей в жизни бывают разные ценности. Есть люди, для которых – главная ценность - красивая беззаботная жизнь, а есть такие, которые больше всего на свете любят детей. Они любят слышать их голоса, их смех, видеть их улыбки, решать их проблемы, и чувствовать их любовь. Простым людям решиться иметь большое количество детей, не так легко. Слишком велика ответственность, слишком велики нагрузки. Неудивительно, что в нашем обществе к многодетным семьям зачастую относятся с большой настороженностью: «что это за ненормальные, которые в наших условиях решаются на рождение 3-х и более детей»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Дети, начав свою жизнь вполне беспомощными существами, так много получают от родителей, что последние естественно порождают в них чувства благодарности, любви и своего рода гордости своими отцом и матер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03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290196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От того, как строятся отношения в семье, какие ценности, интересы выдвигаются у ее старших представителей на первый план, зависит, какими вырастут дети.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15000" y="45720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Родители - первые воспитатели - имеют самое сильное влияние на детей. Еще Ж.-Ж. Руссо утверждал, что каждый последующий воспитатель оказывает на ребенка меньше влияния, чем предыдущий. Родители являются предыдущими по отношению ко всем остальным; воспитателю детского сада, учителю начальных классов и учителям-предметникам. Им самой природой отдано преимущество в воспитании детей. Обеспечение семейного воспитания, его содержательные и организационные аспекты являются вечной и очень ответственной задачей челов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1911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В здоровых семьях родители и дети связаны естественными повседневными контактами. Это такое тесное общение между ними, в результате которого возникает душевное единение, согласованность основных жизненных устремлений и действ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198108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791320" y="3276720"/>
            <a:ext cx="2666880" cy="3276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Испокон веков, в нашей стране сильны были традиции </a:t>
            </a:r>
            <a:r>
              <a:rPr b="0" i="1" lang="en-US" sz="2000" spc="-1" strike="noStrike">
                <a:solidFill>
                  <a:srgbClr val="996600"/>
                </a:solidFill>
                <a:latin typeface="Arial"/>
              </a:rPr>
              <a:t>многодетной семьи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. И крепкие крестьянские и купеческие семьи, и дворянские роды старались иметь множество насле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.ws</cp:lastModifiedBy>
  <dcterms:modified xsi:type="dcterms:W3CDTF">2013-05-02T15:29:5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