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B83E-958B-4C2C-AD2C-6F513904F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CBAD-F9D6-4088-B667-A344475A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9021-1D78-4D35-BF0F-98DCF851B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9C1C-81BE-406D-8224-DCA7A13EC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0A6E-EEA3-43B4-998B-1A17DA26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AFB6-0E4D-45BC-85D0-43E60E4C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BA69-E1CE-4E3D-85B2-33053533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CE2A-DCAB-495E-A320-033BB92F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CDEF-9816-401C-B8B4-EBF8DAC5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2ADA-4629-4AEE-9E13-483EB595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F258-1AF1-465B-ADD3-CDD54356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D9E1-2BCE-4B0B-9C94-CD1D9027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8F80-6D42-44C1-82C9-695C78243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28600"/>
            <a:ext cx="8763120" cy="4952880"/>
          </a:xfrm>
          <a:custGeom>
            <a:avLst/>
            <a:gdLst>
              <a:gd name="textAreaLeft" fmla="*/ 0 w 8763120"/>
              <a:gd name="textAreaRight" fmla="*/ 8763480 w 8763120"/>
              <a:gd name="textAreaTop" fmla="*/ 641880 h 4952880"/>
              <a:gd name="textAreaBottom" fmla="*/ 4311000 h 49528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8000"/>
          </a:solidFill>
          <a:ln w="12600">
            <a:solidFill>
              <a:srgbClr val="b2b2b2"/>
            </a:solidFill>
            <a:miter/>
          </a:ln>
          <a:effectLst>
            <a:outerShdw dist="153753" dir="2700000" blurRad="0" rotWithShape="0">
              <a:srgbClr val="875b0d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" y="1600200"/>
            <a:ext cx="89154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оспитание в многодетной семье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3124080" cy="3048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800600" y="1066680"/>
            <a:ext cx="3581280" cy="31244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6840" y="4572000"/>
            <a:ext cx="8381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Дети сильнее объединяют супругов, они являются результатом их любви. Рождение каждого следующего ребенка означает для родителей не только новые заботы, но и новый уровень взаимоотношений друг с друг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200400" y="2498760"/>
            <a:ext cx="5486400" cy="214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 rot="10800000">
            <a:off x="380160" y="6125400"/>
            <a:ext cx="1219320" cy="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720" bIns="27720"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 rot="10786200">
            <a:off x="279360" y="207360"/>
            <a:ext cx="8339040" cy="3601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Много детей в семье - это своего рода долгосрочный депозит, который отдаст свои большие проценты в старости. Как часто мы сейчас встречаем несчастных стариков, у которых и есть где-то сын или дочь, но они далеко, или отношения не сложились. А ведь это ужасно - доживать свой век в одиночестве, когда особенно нужна помощь и поддержка близкого человека. Часто при живых детях старики оказываются в домах престарелых. А вот в семьях, где много детей, родители, как правило счастливы и ухожены в старости. Ведь наверняка кто-то живёт рядом, и поссориться со всеми сразу слож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80880" y="4191120"/>
            <a:ext cx="2819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9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Что может быть лучше и трогательнее встречающих тебя с работы, смеющихся и любящих деток. Родители, испытавшие такое счастье, не променяют его ни на какие другие ц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5867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4767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66294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6600"/>
                </a:solidFill>
                <a:latin typeface="Arial"/>
              </a:rPr>
              <a:t>В многодетной семье родился 108 внук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990720"/>
            <a:ext cx="4038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1800" spc="-1" strike="noStrike">
                <a:solidFill>
                  <a:srgbClr val="996600"/>
                </a:solidFill>
                <a:latin typeface="Arial"/>
              </a:rPr>
              <a:t>В семье новокузнецкой многодетной династии Шаповалов родился 108 внук. Имя ему дали Марк. Основатель династии 75-летний Алексей Павлович имеет восемь правнуков - шесть девочек и двое мальчиков. Почти все члены семьи живут в одном селе Бунгур под Новокузнецком, образуя извилистую улиц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00"/>
                </a:solidFill>
                <a:latin typeface="Arial"/>
              </a:rPr>
              <a:t>Под дедушкиным руководством сыновья и внуки работают на полях, запасают на зиму сено, пасут коров, ухаживают за мелкой скотиной – ведь у всех здесь свое хозяйство. А секретом своего здоровья и энергии старший Шаповалов считает - работу на свежем воздухе и продукты, выращенные своими руками: молоко, сметану, яйцо, ов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2643b" descr="Фото новости В многодетной семье родился 108 внук"/>
          <p:cNvPicPr/>
          <p:nvPr/>
        </p:nvPicPr>
        <p:blipFill>
          <a:blip r:embed="rId1"/>
          <a:stretch/>
        </p:blipFill>
        <p:spPr>
          <a:xfrm>
            <a:off x="152280" y="1219320"/>
            <a:ext cx="4876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По статистике ООН Россия приговорена к вымиранию. Через полвека население России сократится на 30 миллионов человек и станет на 40% меньше, чем теперь. Цифра может быть вдвое больше, если власти продолжат проводить неэффективную демографическую политику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Можно рассчитывать лишь на небольшое повышение рождаемости в ближайшие три-четыре года, но затем всё станет как прежде.  Если не стимулировать рождение трех-четырех детей, не освободить молодые семьи от уплаты налогов, то к 2050 году население России может уменьшиться не на 30 млн. А если при этом стимулировать миграцию, то к 2080 году в России будут жить всего 60 млн. человек, из которых 60% - чужестранцы и их внуки.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90720" y="457200"/>
            <a:ext cx="76960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996600"/>
                </a:solidFill>
                <a:latin typeface="Arial"/>
              </a:rPr>
              <a:t>В Толковом словаре Владимира Даля на слово труд есть пример: «Родильница в труде, в трудах, в муках». Связанность значения труда и родовых мук есть почти во всех языках Европы, начиная с латыни: laboro utero – ‘труждаюсь чревом’. И есть ли в жизни женщины иной труд, который мог бы быть более напряженным, более близким и началу и концу самой жизни, который заставлял бы испытывать паче естественную боль и оборачиваться безмерной благодарностью? Воспитание начинается потом, а вначале должен появиться на свет его предмет и цел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14440" y="228600"/>
            <a:ext cx="48769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  <a:ea typeface="Times New Roman"/>
              </a:rPr>
              <a:t>Едва</a:t>
            </a:r>
            <a:r>
              <a:rPr b="0" lang="en-US" sz="2400" spc="-1" strike="noStrike">
                <a:solidFill>
                  <a:srgbClr val="996600"/>
                </a:solidFill>
                <a:latin typeface="Castella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  <a:ea typeface="Times New Roman"/>
              </a:rPr>
              <a:t>человек</a:t>
            </a:r>
            <a:r>
              <a:rPr b="0" lang="en-US" sz="2400" spc="-1" strike="noStrike">
                <a:solidFill>
                  <a:srgbClr val="996600"/>
                </a:solidFill>
                <a:latin typeface="Castella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  <a:ea typeface="Times New Roman"/>
              </a:rPr>
              <a:t>криком</a:t>
            </a:r>
            <a:r>
              <a:rPr b="0" lang="en-US" sz="2400" spc="-1" strike="noStrike">
                <a:solidFill>
                  <a:srgbClr val="996600"/>
                </a:solidFill>
                <a:latin typeface="Castella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  <a:ea typeface="Times New Roman"/>
              </a:rPr>
              <a:t>извещает</a:t>
            </a:r>
            <a:r>
              <a:rPr b="0" lang="en-US" sz="2400" spc="-1" strike="noStrike">
                <a:solidFill>
                  <a:srgbClr val="996600"/>
                </a:solidFill>
                <a:latin typeface="Castella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  <a:ea typeface="Times New Roman"/>
              </a:rPr>
              <a:t>мир</a:t>
            </a:r>
            <a:r>
              <a:rPr b="0" lang="en-US" sz="2400" spc="-1" strike="noStrike">
                <a:solidFill>
                  <a:srgbClr val="996600"/>
                </a:solidFill>
                <a:latin typeface="Castella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996600"/>
                </a:solidFill>
                <a:latin typeface="Castella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  <a:ea typeface="Times New Roman"/>
              </a:rPr>
              <a:t>своем</a:t>
            </a:r>
            <a:r>
              <a:rPr b="0" lang="en-US" sz="2400" spc="-1" strike="noStrike">
                <a:solidFill>
                  <a:srgbClr val="996600"/>
                </a:solidFill>
                <a:latin typeface="Castella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  <a:ea typeface="Times New Roman"/>
              </a:rPr>
              <a:t>рождении</a:t>
            </a:r>
            <a:r>
              <a:rPr b="0" lang="en-US" sz="2400" spc="-1" strike="noStrike">
                <a:solidFill>
                  <a:srgbClr val="996600"/>
                </a:solidFill>
                <a:latin typeface="Castellar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  <a:ea typeface="Times New Roman"/>
              </a:rPr>
              <a:t>начинаются</a:t>
            </a:r>
            <a:r>
              <a:rPr b="0" lang="en-US" sz="2400" spc="-1" strike="noStrike">
                <a:solidFill>
                  <a:srgbClr val="996600"/>
                </a:solidFill>
                <a:latin typeface="Castella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  <a:ea typeface="Times New Roman"/>
              </a:rPr>
              <a:t>его</a:t>
            </a:r>
            <a:r>
              <a:rPr b="0" lang="en-US" sz="2400" spc="-1" strike="noStrike">
                <a:solidFill>
                  <a:srgbClr val="996600"/>
                </a:solidFill>
                <a:latin typeface="Castella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  <a:ea typeface="Times New Roman"/>
              </a:rPr>
              <a:t>поступки</a:t>
            </a:r>
            <a:r>
              <a:rPr b="0" lang="en-US" sz="2400" spc="-1" strike="noStrike">
                <a:solidFill>
                  <a:srgbClr val="996600"/>
                </a:solidFill>
                <a:latin typeface="Castellar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  <a:ea typeface="Times New Roman"/>
              </a:rPr>
              <a:t>начинается</a:t>
            </a:r>
            <a:r>
              <a:rPr b="0" lang="en-US" sz="2400" spc="-1" strike="noStrike">
                <a:solidFill>
                  <a:srgbClr val="996600"/>
                </a:solidFill>
                <a:latin typeface="Castella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  <a:ea typeface="Times New Roman"/>
              </a:rPr>
              <a:t>его</a:t>
            </a:r>
            <a:r>
              <a:rPr b="0" lang="en-US" sz="2400" spc="-1" strike="noStrike">
                <a:solidFill>
                  <a:srgbClr val="996600"/>
                </a:solidFill>
                <a:latin typeface="Castella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  <a:ea typeface="Times New Roman"/>
              </a:rPr>
              <a:t>поведение</a:t>
            </a:r>
            <a:r>
              <a:rPr b="0" lang="en-US" sz="2400" spc="-1" strike="noStrike">
                <a:solidFill>
                  <a:srgbClr val="996600"/>
                </a:solidFill>
                <a:latin typeface="Castellar"/>
                <a:ea typeface="Times New Roman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996600"/>
                </a:solidFill>
                <a:latin typeface="Arial"/>
                <a:ea typeface="Times New Roman"/>
              </a:rPr>
              <a:t>Человек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  <a:ea typeface="Times New Roman"/>
              </a:rPr>
              <a:t>постепенно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  <a:ea typeface="Times New Roman"/>
              </a:rPr>
              <a:t>открывает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  <a:ea typeface="Times New Roman"/>
              </a:rPr>
              <a:t>мир</a:t>
            </a:r>
            <a:r>
              <a:rPr b="0" lang="en-US" sz="2400" spc="-1" strike="noStrike">
                <a:solidFill>
                  <a:srgbClr val="996600"/>
                </a:solidFill>
                <a:latin typeface="Castellar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  <a:ea typeface="Times New Roman"/>
              </a:rPr>
              <a:t>познает</a:t>
            </a:r>
            <a:r>
              <a:rPr b="0" lang="en-US" sz="2400" spc="-1" strike="noStrike">
                <a:solidFill>
                  <a:srgbClr val="996600"/>
                </a:solidFill>
                <a:latin typeface="Castella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  <a:ea typeface="Times New Roman"/>
              </a:rPr>
              <a:t>его</a:t>
            </a:r>
            <a:r>
              <a:rPr b="0" lang="en-US" sz="2400" spc="-1" strike="noStrike">
                <a:solidFill>
                  <a:srgbClr val="996600"/>
                </a:solidFill>
                <a:latin typeface="Castella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  <a:ea typeface="Times New Roman"/>
              </a:rPr>
              <a:t>разумом</a:t>
            </a:r>
            <a:r>
              <a:rPr b="0" lang="en-US" sz="2400" spc="-1" strike="noStrike">
                <a:solidFill>
                  <a:srgbClr val="996600"/>
                </a:solidFill>
                <a:latin typeface="Castella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996600"/>
                </a:solidFill>
                <a:latin typeface="Castella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  <a:ea typeface="Times New Roman"/>
              </a:rPr>
              <a:t>сердцем</a:t>
            </a:r>
            <a:r>
              <a:rPr b="0" lang="en-US" sz="2400" spc="-1" strike="noStrike">
                <a:solidFill>
                  <a:srgbClr val="996600"/>
                </a:solidFill>
                <a:latin typeface="Castellar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2666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У людей в жизни бывают разные ценности. Есть люди, для которых – главная ценность - красивая беззаботная жизнь, а есть такие, которые больше всего на свете любят детей. Они любят слышать их голоса, их смех, видеть их улыбки, решать их проблемы, и чувствовать их любовь. Простым людям решиться иметь большое количество детей, не так легко. Слишком велика ответственность, слишком велики нагрузки. Неудивительно, что в нашем обществе к многодетным семьям зачастую относятся с большой настороженностью: «что это за ненормальные, которые в наших условиях решаются на рождение 3-х и более детей»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47960" y="152352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Дети, начав свою жизнь вполне беспомощными существами, так много получают от родителей, что последние естественно порождают в них чувства благодарности, любви и своего рода гордости своими отцом и матер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40388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2901960" cy="2185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От того, как строятся отношения в семье, какие ценности, интересы выдвигаются у ее старших представителей на первый план, зависит, какими вырастут дети.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743200" y="2514600"/>
            <a:ext cx="3276720" cy="266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715000" y="457200"/>
            <a:ext cx="31240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Родители - первые воспитатели - имеют самое сильное влияние на детей. Еще Ж.-Ж. Руссо утверждал, что каждый последующий воспитатель оказывает на ребенка меньше влияния, чем предыдущий. Родители являются предыдущими по отношению ко всем остальным; воспитателю детского сада, учителю начальных классов и учителям-предметникам. Им самой природой отдано преимущество в воспитании детей. Обеспечение семейного воспитания, его содержательные и организационные аспекты являются вечной и очень ответственной задачей человеч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419112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В здоровых семьях родители и дети связаны естественными повседневными контактами. Это такое тесное общение между ними, в результате которого возникает душевное единение, согласованность основных жизненных устремлений и действ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48320" y="1447920"/>
            <a:ext cx="40384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1981080" cy="2133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411480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429000" y="2514600"/>
            <a:ext cx="1981080" cy="1905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5791320" y="3276720"/>
            <a:ext cx="2666880" cy="32763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Испокон веков, в нашей стране сильны были традиции </a:t>
            </a:r>
            <a:r>
              <a:rPr b="0" i="1" lang="en-US" sz="2000" spc="-1" strike="noStrike">
                <a:solidFill>
                  <a:srgbClr val="996600"/>
                </a:solidFill>
                <a:latin typeface="Arial"/>
              </a:rPr>
              <a:t>многодетной семьи</a:t>
            </a: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. И крепкие крестьянские и купеческие семьи, и дворянские роды старались иметь множество наслед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Treme.ws</cp:lastModifiedBy>
  <dcterms:modified xsi:type="dcterms:W3CDTF">2013-05-02T15:29:52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