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6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273D-5166-4DCA-A3DA-270DFE66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7D5D-9414-412A-B62F-2C790C1D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13BE-6E18-44FE-880F-DE310459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78AA-9EBD-4B3E-A3D1-22DC7391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755D-63BB-4D18-ACC7-B2A29FFE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6945-5B0A-4BA0-BBCC-EFB7B2AA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825B-73B9-46C0-BEAE-C92E2CCD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94D7-3738-4CF7-AE0A-5636260B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E460-D940-4E64-9554-02882AB9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AFBD-99E7-47A2-9B56-54951351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A6F1-84B2-4441-AFFC-51FA2AA7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8903-EF5A-4587-9A08-5F36BE29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7541-60CD-4CAD-8CC4-B87227A5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263B-996E-423D-B54E-5E950636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C96B-EF9C-414C-B664-D718A81C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7429-E5E6-407C-9217-E2E3C93B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4CC7-800E-49E3-8BE0-C724CC7C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EBB60-1F16-4347-9465-A93AC2DB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1E0BD-B0E3-416B-8922-9C808111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CA3D4-5ECB-43C5-89F5-DC76F018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E0B17-1C2F-4ADF-B06A-A963334B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62F7F-3E23-47A0-82D7-61A36117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483B-657F-4E67-8E6E-9965FAA3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0DF00-2CE4-4CDF-9ABD-67A2E151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5F47F-2E33-441F-9F90-BE3E31A3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6970F-BACB-481D-8FD2-527C3BAF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32F6C-096C-40A7-9E8C-176451D0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89FC1-BB8B-432D-928F-19A3134E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AC6B3-664E-4B90-99FE-5FEC97F1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21CB5-FFCD-43E1-B097-08C6CD442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3E783-70C1-40EA-9E3A-010CCB46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E36CA-71C3-4AFF-BF52-341319EC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37D2E-AA94-486F-8BC2-65748384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A6E0-4614-4763-A422-44CB6B0A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24375-E4DF-4F8F-B3AD-C21C1770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9B595-EF35-4494-B1CE-3B51F4DE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B9CEB-085D-459C-91F6-DD56C431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27C51-F773-4773-AA9C-892C363B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62B94-E0AE-4CDE-B9FE-9CF674A1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7F454-3D9B-462E-80C9-2957C28D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0395A-19A7-4759-BD0F-B686888B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40D80-7CCF-4141-B9B5-DA442C28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6D051-7474-4D95-A333-AE04CDBC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85C82-9EDB-4DB6-A7D2-0E5B4800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00F9-99B4-482A-8243-97B7A866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9D783-E1C7-401D-80C5-E9D421FF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8E52C-B755-4B7E-A5AD-8AD1207F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0CF1A-7019-4093-97A8-4C54125B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512BB-7E00-4B6F-AC8E-C0B8CD82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16242-1D09-4875-8D32-EAB307CC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46EDB-A964-44CB-A94F-6D064C24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06CB7-1554-4624-9BEC-8BD1CAA1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EB9AF-46BC-4B6F-BEDD-6794EAA3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90C39-B5FC-44E4-AA20-4E19A346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20EC0-678E-4707-9DC3-D4D1EB72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574A-07F4-47A6-BF10-880066EA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418FA-B32A-49B7-AD69-18FEFFDB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C8E7-18B8-4E8D-BB67-F79B4C18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6FD0-6C95-40EE-8C8C-A4A7605D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8261-5B57-4722-8B0C-8697C4FE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D84F-6DF4-47FD-ACF1-CAEEC6BB9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43F8-53B8-45D3-8027-EC89FFF73C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FFFF-57E3-4BA8-8F61-C02CED25D21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26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27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30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DE26-7957-4798-96D4-7E17273944F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74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7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7697-0782-473A-A0CA-29CEAD41053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Все хорошо в природе, но вода – красота всей природы»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. Аксаков</a:t>
            </a:r>
            <a:br>
              <a:rPr sz="1600"/>
            </a:br>
            <a:br>
              <a:rPr sz="1600"/>
            </a:br>
            <a:br>
              <a:rPr sz="1000"/>
            </a:br>
            <a:br>
              <a:rPr sz="10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ма проекта: Геоэкологический мониторинг своего населенного пун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ff"/>
                </a:solidFill>
                <a:latin typeface="Vladimir Script"/>
              </a:rPr>
              <a:t>                     </a:t>
            </a:r>
            <a:r>
              <a:rPr b="1" i="1" lang="ru-RU" sz="2800" spc="-1" strike="noStrike">
                <a:solidFill>
                  <a:srgbClr val="00ffff"/>
                </a:solidFill>
                <a:latin typeface="Arial"/>
              </a:rPr>
              <a:t>Творческое назв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i="1" lang="ru-RU" sz="4400" spc="-1" strike="noStrike">
                <a:solidFill>
                  <a:srgbClr val="00ffff"/>
                </a:solidFill>
                <a:latin typeface="Arial"/>
              </a:rPr>
              <a:t>Челновая, Челновая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i="1" lang="ru-RU" sz="4400" spc="-1" strike="noStrike">
                <a:solidFill>
                  <a:srgbClr val="00ffff"/>
                </a:solidFill>
                <a:latin typeface="Arial"/>
              </a:rPr>
              <a:t>речка сердцу дорога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Автор: Головина Н. П., учитель географии                        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ffff"/>
                </a:solidFill>
                <a:latin typeface="Arial"/>
              </a:rPr>
              <a:t>МБОУ Сосновская СОШ №1 р. п. Сосно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 rot="10800000">
            <a:off x="324000" y="620280"/>
            <a:ext cx="8642160" cy="5832720"/>
          </a:xfrm>
          <a:prstGeom prst="verticalScroll">
            <a:avLst>
              <a:gd name="adj" fmla="val 17777"/>
            </a:avLst>
          </a:prstGeom>
          <a:solidFill>
            <a:srgbClr val="ccecff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Аннотация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03280" y="1628280"/>
            <a:ext cx="61214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еализуется в рамках учебного курса «Геоэкология Тамбовской области». Рассчитан на 8  часов учебного времени.  Ориентирован на учащихся 8  класса. Проект позволяет развить коммуникативные навыки учащихся; умение обрабатывать информацию полученную из различных источников и в ходе выполнения исследовательских рабо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659640" y="4653000"/>
            <a:ext cx="79200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ЦЕЛЬ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6920" y="2707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Исследовать экологическое состояние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ре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ЗАДАЧИ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Формирование умения работать в группах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Формирование навыков поисково – исследовательского характер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Формировать умения применять новые компьютерные технологии для  проведения, обработки и представления результат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50920" y="260280"/>
            <a:ext cx="8675640" cy="6219720"/>
          </a:xfrm>
          <a:prstGeom prst="horizontalScroll">
            <a:avLst>
              <a:gd name="adj" fmla="val 9342"/>
            </a:avLst>
          </a:prstGeom>
          <a:solidFill>
            <a:srgbClr val="99ccff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АПЫ И СРОКИ ПР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♦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озговой штурм» (выбор творческого названия проекта, выдвижение гипотезы, формирование тем исследований учащихся) – 1 у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групп для проведения исследований, обсуждение плана работы учащихся. – 1 у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ыполнению заданий. – 2 – 3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♦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учащимися презентации по отчету о проделанной работе – 2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♦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 полученных результатов. – 1 у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5904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387000" y="480240"/>
            <a:ext cx="8371800" cy="5207760"/>
            <a:chOff x="387000" y="480240"/>
            <a:chExt cx="8371800" cy="5207760"/>
          </a:xfrm>
        </p:grpSpPr>
        <p:sp>
          <p:nvSpPr>
            <p:cNvPr id="235" name="_s55341"/>
            <p:cNvSpPr/>
            <p:nvPr/>
          </p:nvSpPr>
          <p:spPr>
            <a:xfrm flipV="1">
              <a:off x="4570200" y="1879920"/>
              <a:ext cx="0" cy="705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_s55323"/>
            <p:cNvSpPr/>
            <p:nvPr/>
          </p:nvSpPr>
          <p:spPr>
            <a:xfrm>
              <a:off x="3485880" y="480240"/>
              <a:ext cx="2171520" cy="1401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ЕБ - САЙТ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_s55340"/>
            <p:cNvSpPr/>
            <p:nvPr/>
          </p:nvSpPr>
          <p:spPr>
            <a:xfrm flipV="1">
              <a:off x="5600880" y="2850120"/>
              <a:ext cx="1040040" cy="217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_s55315"/>
            <p:cNvSpPr/>
            <p:nvPr/>
          </p:nvSpPr>
          <p:spPr>
            <a:xfrm>
              <a:off x="6587280" y="1934640"/>
              <a:ext cx="2171520" cy="1401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ЕЗЕНТАЦИ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_s55339"/>
            <p:cNvSpPr/>
            <p:nvPr/>
          </p:nvSpPr>
          <p:spPr>
            <a:xfrm>
              <a:off x="5206320" y="3848760"/>
              <a:ext cx="643320" cy="572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_s55321"/>
            <p:cNvSpPr/>
            <p:nvPr/>
          </p:nvSpPr>
          <p:spPr>
            <a:xfrm>
              <a:off x="5402160" y="4286520"/>
              <a:ext cx="2171520" cy="1401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УБЛИКАЦИ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_s55338"/>
            <p:cNvSpPr/>
            <p:nvPr/>
          </p:nvSpPr>
          <p:spPr>
            <a:xfrm flipH="1">
              <a:off x="3289680" y="3848760"/>
              <a:ext cx="643320" cy="572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_s55319"/>
            <p:cNvSpPr/>
            <p:nvPr/>
          </p:nvSpPr>
          <p:spPr>
            <a:xfrm>
              <a:off x="1569240" y="4286520"/>
              <a:ext cx="2171520" cy="1401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РИТЕРИИ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ЦЕНИВАНИ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_s55337"/>
            <p:cNvSpPr/>
            <p:nvPr/>
          </p:nvSpPr>
          <p:spPr>
            <a:xfrm flipH="1" flipV="1">
              <a:off x="2499480" y="2850120"/>
              <a:ext cx="1042560" cy="217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_s55317"/>
            <p:cNvSpPr/>
            <p:nvPr/>
          </p:nvSpPr>
          <p:spPr>
            <a:xfrm>
              <a:off x="387000" y="1934640"/>
              <a:ext cx="2171520" cy="1401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ДИДАКТИЧЕСКИЙ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АТЕРИАЛ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_s55314"/>
            <p:cNvSpPr/>
            <p:nvPr/>
          </p:nvSpPr>
          <p:spPr>
            <a:xfrm>
              <a:off x="3485880" y="2585880"/>
              <a:ext cx="2171520" cy="1401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УМК</a:t>
              </a:r>
              <a:endParaRPr b="0" lang="en-US" sz="5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>
            <a:lum contrast="-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ТЕМЫ ИССЛЕДОВАНИЙ УЧАЩИХ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●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Географическое по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●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Историческая справ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●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Гидрологические измерения ре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●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Изучение ПК бере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●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Экологические проблемы и методы их изме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Информационные ресурс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лас Тамбовской обла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убровин О. И., Петухов Б. Е. Геоэкология Тамбовской области. Учебное пособие для учащихся 8-х классов. Тамбов. ООО «Издательство Юлис», 2006. – 96с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урнал «География в школе»,Малышева Г. А. Изучение водных ресурсов своей местности на экскурсии, №6 2005, стр. 57-58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рода и ландшафты Притамбовья. /Н. И. Дудник, А. И. Нестеров, А. В. Еремин и др. – Воронеж, 1986. – 228 с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и Тамбовской област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. Под редакцией Н. И. Дудника. Тамбов, 1991. – 48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16:36:02Z</dcterms:created>
  <dc:creator>Владелец</dc:creator>
  <dc:description/>
  <dc:language>en-US</dc:language>
  <cp:lastModifiedBy>Loner-XP</cp:lastModifiedBy>
  <dcterms:modified xsi:type="dcterms:W3CDTF">2013-05-02T17:43:44Z</dcterms:modified>
  <cp:revision>25</cp:revision>
  <dc:subject/>
  <dc:title>Тема проекта: геоэкологический мониторинг своего населенного пункта.     Творческое название:   «Челновая, Челновая – речка сердцу дорогая.»                                            Автор: Головина Н.П. учитель географии МОУ          Сосновская  СОШ №1 р. п. Сосновка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