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802-E1EB-431E-A856-6DE03559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67A-B230-4FEF-BB81-3AED7A5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EDB-1777-4CCE-BD5B-C4549600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8B9-9938-4E1F-AC92-6380B9AC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AD2D-F2D7-4DD6-A45A-344E78A3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84F3-8610-4C84-AA22-5A448E64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8A1B-D5FF-417D-B388-D575FB2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D651-F183-4BCF-870F-06C26545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8617-3AAF-4ACA-B26C-434DE12B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AFE3-A0F0-4C82-BB5D-B8F6DEE4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6033-D416-4B49-9463-467AFA57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0DD-239A-4122-B956-6F1F0723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A1AF-4FBC-4721-B932-A9D816C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1D8A-03CE-474B-B531-1E5ADE8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CA4C-DBEB-4091-AE77-9DA8EED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1092-B6FA-4010-92A5-37031A55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6435-5719-4905-861F-12F2968B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A1ED-1E38-484D-A400-5AE113EA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0C99-128F-4BC8-B61E-D3812B7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D13B-6DBB-468F-8743-09CB1F4F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999F-5A07-4BBD-889B-58FBD59E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B5B5-C938-4DEC-ABB2-878E5187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523-2275-4390-AE4B-64B35E04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3D1B-FE4E-46EB-BF44-535202E3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6A3F-7D3B-490E-B3D2-652E500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3B02-1D5B-4F6C-9679-DD6FD41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3794-41B7-4F03-8EAF-271783A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9E50-526B-45D6-81CC-197DCAA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7312-68BE-4953-B953-98337722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4570-639B-4DDE-9748-A007C5A1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A52F-4D10-483B-8EA0-0BE86AF8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E26D-D92C-4FEE-9F49-B8B77C2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51B4-5A34-40B6-8CCB-6D6F6E6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08A-BCA4-4C59-B63D-19F1AB60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0603-BD1A-4F12-BB76-D262D0CC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AFB8-6AE6-48EC-B0C4-D22333C2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4A56-1DF2-4A4D-8435-213A92B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72F4-582D-457E-A3E8-0A368EC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36A5B-DFBC-45B8-BF60-E82D640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39A4-A7EE-47F7-90C2-B5534DF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2E19-AD36-4F67-BC91-5B39E627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5A60-A9A8-4E52-B005-77900AEB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5DD5-49E8-4AF7-8CE0-BD2720D5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C2BE-22E8-47BC-B1A8-37D3C876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224-DC2C-40D3-976B-30C024A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B76B-286E-4C04-BBC3-AC7B523B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AC15-3C6D-4ED3-8B58-0198771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84FF-013D-4387-9C51-B8586612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D6CE-D346-46CE-ABB2-6BFC1EE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A7CB-2213-44C3-807E-EA30E91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24F18-BE0A-4249-AFF9-4E7205F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4F7C-8DF8-49B9-A048-A8F57CC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76322-D7BF-4F1D-9B48-5D63ADB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17D5-BD27-475D-BA0C-C423E157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295C3-0D4A-4DC0-8EEB-6E3AB874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DED-1719-4886-8658-B3F3D69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F26C-CC12-4915-BE5B-59C6C2C9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4FF-4D60-42F4-BC8D-527E764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0E0-CD00-4D5D-AF2D-A8CB76E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125-E635-4F00-955D-4CD452E0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F03-2709-42AD-B157-0A0330F5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2C2-9145-4898-9A52-5BA4FBA1F1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975C-DE4A-46CB-BD06-B8F1D05D7B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722-F190-404E-BAE4-7497AC371B0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7A30-58B0-4F4F-A18A-20F0878B372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се хорошо в природе, но вода – красота всей природы»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 Аксаков</a:t>
            </a:r>
            <a:br>
              <a:rPr sz="1600"/>
            </a:b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проекта: Геоэкологический мониторинг своего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ladimir Script"/>
              </a:rPr>
              <a:t>                    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Творческо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Челновая, Челнова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речка сердцу дорог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Автор: Головина Н. П., учитель географии                       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МБОУ Сосновская СОШ №1 р. п. Сос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rot="10800000">
            <a:off x="324000" y="620280"/>
            <a:ext cx="8642160" cy="5832720"/>
          </a:xfrm>
          <a:prstGeom prst="verticalScroll">
            <a:avLst>
              <a:gd name="adj" fmla="val 17777"/>
            </a:avLst>
          </a:prstGeom>
          <a:solidFill>
            <a:srgbClr val="ccec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Аннот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6121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ализуется в рамках учебного курса «Геоэкология Тамбовской области». Рассчитан на 8  часов учебного времени.  Ориентирован на учащихся 8  класса. Проект позволяет развить коммуникативные навыки учащихся; умение обрабатывать информацию полученную из различных источников и в ходе выполнения исследовательских раб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792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следовать экологическое состояние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умения работать в группа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навыков поисково – исследовательского характе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ть умения применять новые компьютерные технологии для  проведения, обработки и представления результа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260280"/>
            <a:ext cx="8675640" cy="6219720"/>
          </a:xfrm>
          <a:prstGeom prst="horizontalScroll">
            <a:avLst>
              <a:gd name="adj" fmla="val 9342"/>
            </a:avLst>
          </a:prstGeom>
          <a:solidFill>
            <a:srgbClr val="99cc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И СРОКИ 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зговой штурм» (выбор творческого названия проекта, выдвижение гипотезы, формирование тем исследований учащихся) –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групп для проведения исследований, обсуждение плана работы учащихся. –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полнению заданий. – 2 – 3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учащимися презентации по отчету о проделанной работе – 2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полученных результатов. –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904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7000" y="480240"/>
            <a:ext cx="8371800" cy="5207760"/>
            <a:chOff x="387000" y="480240"/>
            <a:chExt cx="8371800" cy="5207760"/>
          </a:xfrm>
        </p:grpSpPr>
        <p:sp>
          <p:nvSpPr>
            <p:cNvPr id="235" name="_s55341"/>
            <p:cNvSpPr/>
            <p:nvPr/>
          </p:nvSpPr>
          <p:spPr>
            <a:xfrm flipV="1">
              <a:off x="4570200" y="1879920"/>
              <a:ext cx="0" cy="705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_s55323"/>
            <p:cNvSpPr/>
            <p:nvPr/>
          </p:nvSpPr>
          <p:spPr>
            <a:xfrm>
              <a:off x="3485880" y="480240"/>
              <a:ext cx="2171520" cy="140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ЕБ - САЙ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_s55340"/>
            <p:cNvSpPr/>
            <p:nvPr/>
          </p:nvSpPr>
          <p:spPr>
            <a:xfrm flipV="1">
              <a:off x="5600880" y="2850120"/>
              <a:ext cx="1040040" cy="217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_s55315"/>
            <p:cNvSpPr/>
            <p:nvPr/>
          </p:nvSpPr>
          <p:spPr>
            <a:xfrm>
              <a:off x="6587280" y="1934640"/>
              <a:ext cx="2171520" cy="140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ЗЕНТАЦ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_s55339"/>
            <p:cNvSpPr/>
            <p:nvPr/>
          </p:nvSpPr>
          <p:spPr>
            <a:xfrm>
              <a:off x="5206320" y="3848760"/>
              <a:ext cx="643320" cy="572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_s55321"/>
            <p:cNvSpPr/>
            <p:nvPr/>
          </p:nvSpPr>
          <p:spPr>
            <a:xfrm>
              <a:off x="5402160" y="4286520"/>
              <a:ext cx="2171520" cy="1401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УБЛИКАЦ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_s55338"/>
            <p:cNvSpPr/>
            <p:nvPr/>
          </p:nvSpPr>
          <p:spPr>
            <a:xfrm flipH="1">
              <a:off x="3289680" y="3848760"/>
              <a:ext cx="643320" cy="572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_s55319"/>
            <p:cNvSpPr/>
            <p:nvPr/>
          </p:nvSpPr>
          <p:spPr>
            <a:xfrm>
              <a:off x="1569240" y="4286520"/>
              <a:ext cx="2171520" cy="1401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ТЕРИ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ЦЕНИВ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_s55337"/>
            <p:cNvSpPr/>
            <p:nvPr/>
          </p:nvSpPr>
          <p:spPr>
            <a:xfrm flipH="1" flipV="1">
              <a:off x="2499480" y="2850120"/>
              <a:ext cx="1042560" cy="217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_s55317"/>
            <p:cNvSpPr/>
            <p:nvPr/>
          </p:nvSpPr>
          <p:spPr>
            <a:xfrm>
              <a:off x="387000" y="1934640"/>
              <a:ext cx="2171520" cy="1401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ИДАКТИЧЕСКИЙ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ТЕРИАЛ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_s55314"/>
            <p:cNvSpPr/>
            <p:nvPr/>
          </p:nvSpPr>
          <p:spPr>
            <a:xfrm>
              <a:off x="3485880" y="2585880"/>
              <a:ext cx="2171520" cy="1401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УМК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ТЕМЫ ИССЛЕДОВАНИЙ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сторическая спра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Гидрологические измерения ре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зучение ПК бере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Экологические проблемы и методы их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лас Тамбовской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бровин О. И., Петухов Б. Е. Геоэкология Тамбовской области. Учебное пособие для учащихся 8-х классов. Тамбов. ООО «Издательство Юлис», 2006. – 96с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 «География в школе»,Малышева Г. А. Изучение водных ресурсов своей местности на экскурсии, №6 2005, стр. 57-58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рода и ландшафты Притамбовья. /Н. И. Дудник, А. И. Нестеров, А. В. Еремин и др. – Воронеж, 1986. – 228 с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 Тамбов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. Под редакцией Н. И. Дудника. Тамбов, 1991. – 48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6:36:02Z</dcterms:created>
  <dc:creator>Владелец</dc:creator>
  <dc:description/>
  <dc:language>en-US</dc:language>
  <cp:lastModifiedBy>Loner-XP</cp:lastModifiedBy>
  <dcterms:modified xsi:type="dcterms:W3CDTF">2013-05-02T17:43:44Z</dcterms:modified>
  <cp:revision>25</cp:revision>
  <dc:subject/>
  <dc:title>Тема проекта: геоэкологический мониторинг своего населенного пункта.     Творческое название:   «Челновая, Челновая – речка сердцу дорогая.»                                            Автор: Головина Н.П. учитель географии МОУ          Сосновская  СОШ №1 р. п. Сосновка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